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2FC1-B4A4-4F9C-860F-F1D9533E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B3C-70AE-498A-AE4A-45FA479B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7CA6-5A08-4638-84C5-204D15BB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D0D-0AED-4DF1-9D01-7BAE86E4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F17B-E670-4A54-B30D-F42A6EC1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381A-4AC3-46D0-8E9A-97053E20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62C-E2F8-4768-A62F-C4F3F4DA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3CBD-C741-43C2-9659-7DBDFE47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9C4-0215-41B9-9094-92CCFE99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B42-0EDF-49BD-B4E1-F5136B83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43A-1E18-4853-9F63-BE8CE735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A5B-8E19-48DC-859F-57973F91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748D2-6685-4EE0-BFAB-42568B73BE7D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Ю Лермонтов «Бородин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выполнил ученик 5 «А» кл. Калугов Ник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4862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-15840"/>
            <a:ext cx="828036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92720" y="692280"/>
            <a:ext cx="3672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.И. Кутузов, командующий русской арм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2840" y="620640"/>
            <a:ext cx="47210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33130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56360" y="1600200"/>
            <a:ext cx="25192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оле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48974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257040"/>
            <a:ext cx="4608720" cy="59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24000" y="1600200"/>
            <a:ext cx="34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от нашли большое по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разгуляться где на вол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роили ред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наших ушки на макушк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ть утро, осветило пуш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леса синие верхушк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анцузы тут как т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4681800" cy="532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687708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ловарная рабо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2637000"/>
            <a:ext cx="39560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1349"/>
              </a:spcBef>
              <a:buClr>
                <a:srgbClr val="009999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 u="sng">
                <a:solidFill>
                  <a:srgbClr val="ccccff"/>
                </a:solidFill>
                <a:uFillTx/>
                <a:latin typeface="Arial"/>
              </a:rPr>
              <a:t>Реду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349"/>
              </a:spcBef>
              <a:buClr>
                <a:srgbClr val="009999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 u="sng">
                <a:solidFill>
                  <a:srgbClr val="ccccff"/>
                </a:solidFill>
                <a:uFillTx/>
                <a:latin typeface="Arial"/>
              </a:rPr>
              <a:t>Лаф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349"/>
              </a:spcBef>
              <a:buClr>
                <a:srgbClr val="009999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 u="sng">
                <a:solidFill>
                  <a:srgbClr val="ccccff"/>
                </a:solidFill>
                <a:uFillTx/>
                <a:latin typeface="Arial"/>
              </a:rPr>
              <a:t>Бива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8000" y="1916280"/>
            <a:ext cx="3898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1349"/>
              </a:spcBef>
              <a:buClr>
                <a:srgbClr val="009999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 u="sng">
                <a:solidFill>
                  <a:srgbClr val="ccccff"/>
                </a:solidFill>
                <a:uFillTx/>
                <a:latin typeface="Arial"/>
              </a:rPr>
              <a:t>Киве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349"/>
              </a:spcBef>
              <a:buClr>
                <a:srgbClr val="009999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 u="sng">
                <a:solidFill>
                  <a:srgbClr val="ccccff"/>
                </a:solidFill>
                <a:uFillTx/>
                <a:latin typeface="Arial"/>
              </a:rPr>
              <a:t>Ул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349"/>
              </a:spcBef>
              <a:buClr>
                <a:srgbClr val="009999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 u="sng">
                <a:solidFill>
                  <a:srgbClr val="ccccff"/>
                </a:solidFill>
                <a:uFillTx/>
                <a:latin typeface="Arial"/>
              </a:rPr>
              <a:t>Драгу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03480" y="0"/>
            <a:ext cx="5289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0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4:07:23Z</dcterms:created>
  <dc:creator>СЕРГЕЙ</dc:creator>
  <dc:description/>
  <dc:language>en-US</dc:language>
  <cp:lastModifiedBy>СЕРГЕЙ</cp:lastModifiedBy>
  <dcterms:modified xsi:type="dcterms:W3CDTF">2010-05-07T08:51:04Z</dcterms:modified>
  <cp:revision>4</cp:revision>
  <dc:subject/>
  <dc:title>Слайд 1</dc:title>
</cp:coreProperties>
</file>