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BB8A-5006-4A60-9E68-EAE12154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137C-7178-403C-8B72-95F02B46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DEE-9221-466A-B8B9-29CC84E5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F7A-930E-4C1A-A81A-88FAB967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BF4-38AF-4A36-9611-CB19CB8B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8859-7CB6-467F-AFB4-1CA243BA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73A-41FB-40F0-989E-BF4B7304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621-B807-44D5-854E-C7A400A3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A30-B15E-47A6-9ABC-755DAD25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AC09-5186-4C55-AC45-0163FEC1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0B4-3EF2-49F5-9571-8D4423BA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F760-5819-4955-ABDA-4D31AAD5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2367C-C068-4FA5-966B-27E9BDBA11A4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Ю Лермонтов «Бородин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выполнил ученик 5 «А» кл. Калугов Ник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03640" y="0"/>
            <a:ext cx="4862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-15840"/>
            <a:ext cx="828036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92720" y="692280"/>
            <a:ext cx="3672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.И. Кутузов, командующий русской арм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2840" y="620640"/>
            <a:ext cx="47210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33130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56360" y="1600200"/>
            <a:ext cx="25192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оле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489744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257040"/>
            <a:ext cx="4608720" cy="59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24000" y="1600200"/>
            <a:ext cx="34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от нашли большое по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разгуляться где на вол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роили ред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наших ушки на макушк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ть утро, осветило пуш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леса синие верхушк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анцузы тут как т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4681800" cy="532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687708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ловарная рабо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2637000"/>
            <a:ext cx="395604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1349"/>
              </a:spcBef>
              <a:buClr>
                <a:srgbClr val="009999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 u="sng">
                <a:solidFill>
                  <a:srgbClr val="ccccff"/>
                </a:solidFill>
                <a:uFillTx/>
                <a:latin typeface="Arial"/>
              </a:rPr>
              <a:t>Реду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349"/>
              </a:spcBef>
              <a:buClr>
                <a:srgbClr val="009999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 u="sng">
                <a:solidFill>
                  <a:srgbClr val="ccccff"/>
                </a:solidFill>
                <a:uFillTx/>
                <a:latin typeface="Arial"/>
              </a:rPr>
              <a:t>Лаф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349"/>
              </a:spcBef>
              <a:buClr>
                <a:srgbClr val="009999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 u="sng">
                <a:solidFill>
                  <a:srgbClr val="ccccff"/>
                </a:solidFill>
                <a:uFillTx/>
                <a:latin typeface="Arial"/>
              </a:rPr>
              <a:t>Бива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8000" y="1916280"/>
            <a:ext cx="3898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1349"/>
              </a:spcBef>
              <a:buClr>
                <a:srgbClr val="009999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 u="sng">
                <a:solidFill>
                  <a:srgbClr val="ccccff"/>
                </a:solidFill>
                <a:uFillTx/>
                <a:latin typeface="Arial"/>
              </a:rPr>
              <a:t>Киве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349"/>
              </a:spcBef>
              <a:buClr>
                <a:srgbClr val="009999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 u="sng">
                <a:solidFill>
                  <a:srgbClr val="ccccff"/>
                </a:solidFill>
                <a:uFillTx/>
                <a:latin typeface="Arial"/>
              </a:rPr>
              <a:t>Ул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349"/>
              </a:spcBef>
              <a:buClr>
                <a:srgbClr val="009999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 u="sng">
                <a:solidFill>
                  <a:srgbClr val="ccccff"/>
                </a:solidFill>
                <a:uFillTx/>
                <a:latin typeface="Arial"/>
              </a:rPr>
              <a:t>Драгу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03480" y="0"/>
            <a:ext cx="5289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0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4:07:23Z</dcterms:created>
  <dc:creator>СЕРГЕЙ</dc:creator>
  <dc:description/>
  <dc:language>en-US</dc:language>
  <cp:lastModifiedBy>СЕРГЕЙ</cp:lastModifiedBy>
  <dcterms:modified xsi:type="dcterms:W3CDTF">2010-05-07T08:51:04Z</dcterms:modified>
  <cp:revision>4</cp:revision>
  <dc:subject/>
  <dc:title>Слайд 1</dc:title>
</cp:coreProperties>
</file>