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192-A325-4505-83AC-AD5FC340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8F8-82A7-4A7D-94BC-36F4BA08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3C2-5370-41AE-9A5C-49348478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AEC-6BBF-4094-A088-1D0C9A2E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08E-DB94-4CB2-8478-23CFDFA6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16D-FE58-4857-A912-C06011B6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7A8-AB5D-47A2-AA04-A3E8E900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9FE-5518-4988-86F3-DAAC7E90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141-9AD2-41FF-ADF4-1C9F49D0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0F2-0EF9-4948-BF3C-DA0A44D7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1F6-20D1-4966-99DF-CC6E8AE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D97-A897-4E8B-AFDD-CA3D414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92FC-C32F-4A8D-9CB6-0EE4E7D5A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838080" y="380880"/>
            <a:ext cx="769644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ование влия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ксикантов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активность фермен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примере уреаз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38080" y="3581280"/>
            <a:ext cx="77724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32000" indent="-3132000">
              <a:spcBef>
                <a:spcPts val="15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у выполнила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ульгина Дарья,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8 класса Б                 МСОШ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: ПУЗЫРЁВА М.Д., учитель химии МСОШ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32000" indent="-3132000" algn="ctr">
              <a:spcBef>
                <a:spcPts val="125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дагачи, 201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10"/>
          <p:cNvSpPr/>
          <p:nvPr/>
        </p:nvSpPr>
        <p:spPr>
          <a:xfrm>
            <a:off x="5367240" y="418140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5532480" y="4071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3789360" y="41990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973680" y="40892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332320" y="36752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5332320" y="315900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5316480" y="26049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3827520" y="3186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3"/>
          <p:cNvSpPr/>
          <p:nvPr/>
        </p:nvSpPr>
        <p:spPr>
          <a:xfrm>
            <a:off x="3807000" y="26240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990720" y="52196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1168560" y="5105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952560" y="5715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896160" y="41911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3833640" y="366228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1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3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0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5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2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171360" y="143496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6"/>
          <p:cNvSpPr/>
          <p:nvPr/>
        </p:nvSpPr>
        <p:spPr>
          <a:xfrm>
            <a:off x="171360" y="1434960"/>
            <a:ext cx="157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1295280"/>
          <a:ext cx="7924680" cy="3276720"/>
        </p:xfrm>
        <a:graphic>
          <a:graphicData uri="http://schemas.openxmlformats.org/drawingml/2006/table">
            <a:tbl>
              <a:tblPr/>
              <a:tblGrid>
                <a:gridCol w="1981080"/>
                <a:gridCol w="1979640"/>
                <a:gridCol w="1981080"/>
                <a:gridCol w="198288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центрация токсик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Нитрат кадмия   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Cd(NO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Ацетат свинца     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Pb(CH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COO)</a:t>
                      </a:r>
                      <a:r>
                        <a:rPr b="1" lang="en-US" sz="2000" spc="-1" strike="noStrike" baseline="-30000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трольная про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tangle 167"/>
          <p:cNvSpPr/>
          <p:nvPr/>
        </p:nvSpPr>
        <p:spPr>
          <a:xfrm>
            <a:off x="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1"/>
          <p:cNvSpPr/>
          <p:nvPr/>
        </p:nvSpPr>
        <p:spPr>
          <a:xfrm>
            <a:off x="380880" y="23004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зучение влияния солей тяжелых металлов на активность уреазы показало следующи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4"/>
          <p:cNvSpPr/>
          <p:nvPr/>
        </p:nvSpPr>
        <p:spPr>
          <a:xfrm>
            <a:off x="7085160" y="4073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6"/>
          <p:cNvSpPr/>
          <p:nvPr/>
        </p:nvSpPr>
        <p:spPr>
          <a:xfrm>
            <a:off x="6834240" y="36846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7"/>
          <p:cNvSpPr/>
          <p:nvPr/>
        </p:nvSpPr>
        <p:spPr>
          <a:xfrm>
            <a:off x="7008840" y="3581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8"/>
          <p:cNvSpPr/>
          <p:nvPr/>
        </p:nvSpPr>
        <p:spPr>
          <a:xfrm>
            <a:off x="6834240" y="31687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9"/>
          <p:cNvSpPr/>
          <p:nvPr/>
        </p:nvSpPr>
        <p:spPr>
          <a:xfrm>
            <a:off x="7012080" y="306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0"/>
          <p:cNvSpPr/>
          <p:nvPr/>
        </p:nvSpPr>
        <p:spPr>
          <a:xfrm>
            <a:off x="6818400" y="26146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1"/>
          <p:cNvSpPr/>
          <p:nvPr/>
        </p:nvSpPr>
        <p:spPr>
          <a:xfrm>
            <a:off x="6997680" y="2506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8"/>
          <p:cNvSpPr/>
          <p:nvPr/>
        </p:nvSpPr>
        <p:spPr>
          <a:xfrm>
            <a:off x="533520" y="4952880"/>
            <a:ext cx="8610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22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- появляется розовая окраска,  реагент  не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222222"/>
                </a:solidFill>
                <a:latin typeface="Arial"/>
              </a:rPr>
              <a:t>- розовая окраска не появляется, реагент 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304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Изучение влияния фенола на активность уреазы показало следующие 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6486480" y="26193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6649920" y="2494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6489720" y="32860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6664320" y="3181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6477120" y="39528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6651720" y="38498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464160" y="464976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638760" y="4541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284720" y="266688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4297320" y="327672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4284720" y="39625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284720" y="468324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449600" y="45720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9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1427040" y="2136600"/>
            <a:ext cx="2097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1523880"/>
          <a:ext cx="6934320" cy="3506760"/>
        </p:xfrm>
        <a:graphic>
          <a:graphicData uri="http://schemas.openxmlformats.org/drawingml/2006/table">
            <a:tbl>
              <a:tblPr/>
              <a:tblGrid>
                <a:gridCol w="2309760"/>
                <a:gridCol w="2313000"/>
                <a:gridCol w="2311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центрация токсик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Фен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Контрольная про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0,5 моль</a:t>
                      </a:r>
                      <a:r>
                        <a:rPr b="1" lang="en-US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222222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ль/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22"/>
          <p:cNvSpPr/>
          <p:nvPr/>
        </p:nvSpPr>
        <p:spPr>
          <a:xfrm>
            <a:off x="685800" y="5257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является розовая окраска,  реагент  не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озовая окраска не появляется, реагент  ингибирует фер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3"/>
          <p:cNvSpPr/>
          <p:nvPr/>
        </p:nvSpPr>
        <p:spPr>
          <a:xfrm>
            <a:off x="914400" y="5435640"/>
            <a:ext cx="3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4"/>
          <p:cNvSpPr/>
          <p:nvPr/>
        </p:nvSpPr>
        <p:spPr>
          <a:xfrm>
            <a:off x="109224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5"/>
          <p:cNvSpPr/>
          <p:nvPr/>
        </p:nvSpPr>
        <p:spPr>
          <a:xfrm>
            <a:off x="932040" y="571500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143000" y="76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8380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ент уреаза, биологический катализатор разложения мочевины на аммиак и углекислый газ, содержится в семенах арбузов и кабач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Метод тестирования выделяющегося аммиака фенолфталеином при разложении мочевины подтвердил активность фермента уреазы в исследуемых образ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ли тяжелых металлов (нитрат кадмия и ацетат свинца) подавляют активность уреазы  (ингибируют фермент) даже в самых небольших концент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Фенол подавляет  активность уреазы  (ингибирует     фермент) даже в самых небольших концент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80880" y="838080"/>
            <a:ext cx="8763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ая концентрация ацетата свинца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Минимальная концентрация нитрата кадмия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 Минимальная концентрация фенола, при которой не происходит подавление активности уреазы (ингибирования фермента), равна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ь/ли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09480" y="152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762120" y="3049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DSC02146"/>
          <p:cNvPicPr/>
          <p:nvPr/>
        </p:nvPicPr>
        <p:blipFill>
          <a:blip r:embed="rId1"/>
          <a:srcRect l="0" t="11580" r="0" b="0"/>
          <a:stretch/>
        </p:blipFill>
        <p:spPr>
          <a:xfrm>
            <a:off x="990720" y="1676520"/>
            <a:ext cx="7238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600200" y="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4920" y="397440"/>
            <a:ext cx="8686800" cy="62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а работа посвящается изучению влияния различных антропогенных факторов на живой организм, в частности на белки, в том числе и на ферменты.    Уреаза - (от новолат. urea - мочевина), карбамид-амидогидролаза, фермент класса  гидролаз. Уреаза  играет важную роль в круговороте азота 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ироде, разлагая выделяемую животными мочевину на углекислый газ C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аммиак N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оследний используется почвенными бактериями для биосинтеза бел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упая в биосферу, тяжелые металлы активно включаются в различные миграционные циклы эко- и геосистем и представляют потенциальную опасность для всего жив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инец и все его соединения ядовиты. Попадая в клетки, свинец, как и многие другие тяжелые металлы, дезактивирует ферменты. Кадмий считается токсичнее свинца и отнесен Всемирной организацией здравоохранения к числу наиболее опасных для человека веществ. Не менее опасны эти металлы и для растен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нольные соединения представляют особую опасность для окружающей среды из-за широкой распространенности, высокой концентрации и токс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838080" y="38088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85800" y="2286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облема дан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38080" y="99072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 данного исследования заключается в определении влияния токсикантов на ферменты, а также определение минимальной  концентрации токсиканта, при которой не происходит ингибирование фер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belok1"/>
          <p:cNvPicPr/>
          <p:nvPr/>
        </p:nvPicPr>
        <p:blipFill>
          <a:blip r:embed="rId1"/>
          <a:stretch/>
        </p:blipFill>
        <p:spPr>
          <a:xfrm>
            <a:off x="533520" y="3516480"/>
            <a:ext cx="3276360" cy="296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pic4"/>
          <p:cNvPicPr/>
          <p:nvPr/>
        </p:nvPicPr>
        <p:blipFill>
          <a:blip r:embed="rId2"/>
          <a:stretch/>
        </p:blipFill>
        <p:spPr>
          <a:xfrm>
            <a:off x="5451480" y="2666880"/>
            <a:ext cx="2735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066680" y="4572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295280" y="6397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Объект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7621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ом исследования является фермент уреаза, извлеченный  из арбузных семечек   и  семечек каба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828800" y="3276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14400" y="3994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влияние солей тяжелых металлов и фенола на активность ферментов на примере фермента уре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990720" y="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дачи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04920" y="542880"/>
            <a:ext cx="84582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ить фермент уреазу из арбузных семечек и семечек кабачка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ить активность выделенного фермента методом тестирования выделяющегося аммиака фенолфталеин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влияние солей тяжёлых металлов (ацетата свинц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нитрата кадм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 на активность уре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ить влияние фенола на активность уреа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ь минимальную концентрацию ацетата свинца, нитрата кадмия и фенола, при которых  не происходит ингибирование фермента уре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228600" y="1522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етод определения активности уреаз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4920" y="685800"/>
            <a:ext cx="8839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определения активности уреазы основан на тестировании выделяющегося аммиака фенолфталеином. Наглядность данного опыта обеспечивается быстрым появлением интенсивной розовой окраски индикатор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DSC02139"/>
          <p:cNvPicPr/>
          <p:nvPr/>
        </p:nvPicPr>
        <p:blipFill>
          <a:blip r:embed="rId1"/>
          <a:srcRect l="26317" t="10175" r="26317" b="28074"/>
          <a:stretch/>
        </p:blipFill>
        <p:spPr>
          <a:xfrm>
            <a:off x="2514600" y="2598840"/>
            <a:ext cx="42670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SC02140"/>
          <p:cNvPicPr/>
          <p:nvPr/>
        </p:nvPicPr>
        <p:blipFill>
          <a:blip r:embed="rId1"/>
          <a:srcRect l="18311" t="0" r="4226" b="24884"/>
          <a:stretch/>
        </p:blipFill>
        <p:spPr>
          <a:xfrm>
            <a:off x="152280" y="360360"/>
            <a:ext cx="3581640" cy="31449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2280" y="351756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ученный  экстракт слила  в пробирку и использовала  для проведения опы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определения активности уреазы в арбузных семечках взяла 2 мл суспензии ферментативного препарата, добавила 1 мл воды, встряхнула и добавила  2 мл раствора мочевины. Затем в пробирку добавила  2-3 капли спиртового раствора фенолфталеина, оставила при комнатной температуре на 3-5 мин. Появление малиново-розовой окраски указало на наличие в семечках активной уреаз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809880" y="139680"/>
            <a:ext cx="5791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проведения эксперимента  использовала  уреазу арбузных семечек. В них активность этого фермента сохраняется в течение      трех лет. Также были  взяты семечки кабачка, в них активность уреазы сохраняется в течение одного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чистила  3-4 арбузных семечка от кожуры и растерла  ядра в ступке          с 10 мл во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0" y="0"/>
            <a:ext cx="91440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учение влияния солей тяжелых      металлов на активность уреаз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токсиканта  использовала растворы ацетатa свинца Pb(CH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O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нитрата кадмия Cd(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различных концентрациях (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). Опыт проводила   по методике, предложенной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90720" y="28954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учение влияния фенола на активность уреа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80880" y="390528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роведения опыта  приготовила  0,5 М раствор фенола. Для этого 4,7 г фенола разбавила  10 мл воды. Исследование влияния фенола различных концентраций (0,5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оль/л) проводила  с добавлением разных объемов исходного раствора фенола (0,5 моль/л) в опытные пробирки.                       В контрольную пробирку - 1 мл 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066680" y="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езультаты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-76320" y="1523880"/>
            <a:ext cx="3276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Исследование кабачковых  семечек показало наличие в них фермента уреазы, активность фермента была высокой, так как малиново-розовая окраска появилась через 2 мин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DSC02145"/>
          <p:cNvPicPr/>
          <p:nvPr/>
        </p:nvPicPr>
        <p:blipFill>
          <a:blip r:embed="rId1"/>
          <a:stretch/>
        </p:blipFill>
        <p:spPr>
          <a:xfrm>
            <a:off x="3124080" y="2152800"/>
            <a:ext cx="5943600" cy="4628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-76320" y="380880"/>
            <a:ext cx="8839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арбузных семечек показало наличие в них фермента уреазы. Активность фермента была высокой, так как малиново-розовая окраска появилась через 1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</cp:lastModifiedBy>
  <dcterms:modified xsi:type="dcterms:W3CDTF">2012-07-19T10:42:4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