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419-86CA-449A-B7EC-83739843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69C-7495-497A-A74A-ECA4D2F7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313-578B-4773-AA54-7B8E8DFA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8F5-108F-4BEA-BFCA-39E50451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169E-F89E-49D6-8AF3-B88F27DB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8302-23E2-4280-8832-CAC12D00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94F-EC4F-4038-A30A-FBF7C0AB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20AE-8D29-414F-AB3B-A26D40E9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8F95-0263-47F8-9D80-222D4B7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1C48-743E-4FC2-BEC4-3B9CDA9F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6FB3-B1E4-4938-94DF-EF81F6E9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53C-3CD4-4402-A4BD-49ED1B65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B5CC-896A-4098-BA31-C19DC5F7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8BFE-8966-49E6-80B9-FCE31F6C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7951-EE6E-4F0F-A433-008C6F04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6EF5-7BA4-4774-AEF8-A8C1E7CF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1D47-CE7E-46B7-BA12-D1FBD89F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59130-1F37-418F-B658-92BB2165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8F35B-DD2B-4A77-84D0-63DF67BB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37EFD-7AC5-47C7-A9F7-86A04AC0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C2334-711D-4FFF-95BC-8E089716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3501C-84D3-43DC-9EB0-523E53EA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014-365E-4F52-9DC9-4F6FE753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561D2E-C0AE-440B-8890-821ECC16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FEB18-EA89-462A-8B68-8A62FA8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6C948-B12D-44E0-BE15-E25F05B8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86449-E321-484C-9140-4A42504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8D1CC-87C7-4222-A40A-5F69D07D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6E3BA-5BF2-4990-9E80-E5D3B6BD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2888F-56A3-4630-9E0E-9429F5B1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312-CBC9-4620-88DC-0A128C60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69C-684B-47C8-9AF8-0FB38E7E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5DB-00F3-4297-A8CD-5579815F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160-F33B-43AB-BE64-5EE09246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3A6-292B-46CC-8A10-DA67F4C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5F0-0E71-4172-AC2C-0F6B4433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7B2C-D018-4B0B-99D5-88EFC4CC02DE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9E29-3F0A-4B7F-84F5-7CDEEC2F71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Устимкина Л.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5CD7-02FA-4C27-AD5D-3A0CD4761756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e9"/>
                </a:solidFill>
                <a:latin typeface="Times New Roman"/>
              </a:rPr>
              <a:t>Логические законы и правила преобразования логических выражени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простить: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79480" y="28018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55960" y="2565360"/>
            <a:ext cx="78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По закону дистрибутивности вынесем 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за скобки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502200" y="3141720"/>
            <a:ext cx="29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=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300720" y="314172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  </a:t>
            </a:r>
            <a:r>
              <a:rPr b="1" lang="en-US" sz="3200" spc="-1" strike="noStrike">
                <a:solidFill>
                  <a:srgbClr val="b00c27"/>
                </a:solidFill>
                <a:latin typeface="Symbol"/>
                <a:ea typeface="Symbol"/>
              </a:rPr>
              <a:t></a:t>
            </a: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812000" y="3141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687480" y="3141720"/>
            <a:ext cx="24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c27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b00c27"/>
                </a:solidFill>
                <a:latin typeface="Symbol"/>
                <a:ea typeface="Symbol"/>
              </a:rPr>
              <a:t>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(В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)=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395280" y="4221000"/>
            <a:ext cx="7772400" cy="587520"/>
          </a:xfrm>
          <a:prstGeom prst="rect">
            <a:avLst/>
          </a:prstGeom>
          <a:solidFill>
            <a:srgbClr val="ffffe9"/>
          </a:solidFill>
          <a:ln w="25560">
            <a:solidFill>
              <a:srgbClr val="001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простить: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В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)&amp;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В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395280" y="5084640"/>
            <a:ext cx="7772400" cy="587520"/>
          </a:xfrm>
          <a:prstGeom prst="rect">
            <a:avLst/>
          </a:prstGeom>
          <a:solidFill>
            <a:srgbClr val="ffffe9"/>
          </a:solidFill>
          <a:ln w="25560">
            <a:solidFill>
              <a:srgbClr val="001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простить: </a:t>
            </a:r>
            <a:r>
              <a:rPr b="1" lang="ru-RU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Y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7A73-0C77-4262-BA2C-DFD1EB5DD649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00040" y="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= (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A v B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)→ (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B v C</a:t>
            </a: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14200" y="1571760"/>
            <a:ext cx="8715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Избавимся от импликации и отрицания. Воспользуемся 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  <a:ea typeface="Arial"/>
              </a:rPr>
              <a:t>¬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A→B)=A&amp; ¬ B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. Получится: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vB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→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vC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)=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vB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&amp;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vC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)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закон двойного отрицания, получим:</a:t>
            </a:r>
            <a:br>
              <a:rPr sz="2000"/>
            </a:b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 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В) &amp;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¬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(В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С)) =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 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В) &amp;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 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С)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правило дистрибутивности 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(A∙B) +(A∙C) = A∙(B+C)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. Получим: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В)&amp; (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 v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С)=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(AvB)&amp;Bv(AvB)&amp;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закон коммутативности 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A&amp;B=B&amp;A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 и дистрибутивности (16). Получим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(AvB)&amp;Bv(AvB)&amp;C = A&amp;BvB&amp;BvA&amp;CvB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(А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&amp; A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) и получим: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&amp;BvB&amp;BvA&amp;CvB&amp;C= A&amp;BvBvA&amp;CvB&amp;C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(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(A&amp;B) v(A&amp;C) = A&amp;(BvC)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), т.е. вынесем за скобки В.</a:t>
            </a:r>
            <a:br>
              <a:rPr sz="2000"/>
            </a:b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олучим: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A&amp;BvBvA&amp;CvB&amp;C= B&amp; (Av1)vA&amp;CvB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(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v 1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). Получим: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&amp; (Av1) vA&amp;CvB&amp;C= BvA&amp;CvB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ереставим местами слагаемые, сгруппируем и вынесем  В за скобки. Получим: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BvA&amp;CvB&amp;C = B&amp; (1vC)vA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457200" indent="-457200" algn="just">
              <a:buClr>
                <a:srgbClr val="0026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Применим (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v 1</a:t>
            </a:r>
            <a:r>
              <a:rPr b="0" lang="ru-RU" sz="2000" spc="-1" strike="noStrike">
                <a:solidFill>
                  <a:srgbClr val="ff505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264c"/>
                </a:solidFill>
                <a:latin typeface="Times New Roman"/>
              </a:rPr>
              <a:t> ) и получим ответ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B&amp;(1vC)vA&amp;C=BvA&amp;C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Прямая соединительная линия 6"/>
          <p:cNvSpPr/>
          <p:nvPr/>
        </p:nvSpPr>
        <p:spPr>
          <a:xfrm>
            <a:off x="5000760" y="785880"/>
            <a:ext cx="857160" cy="144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Прямая соединительная линия 8"/>
          <p:cNvSpPr/>
          <p:nvPr/>
        </p:nvSpPr>
        <p:spPr>
          <a:xfrm>
            <a:off x="3714840" y="571680"/>
            <a:ext cx="2143080" cy="1440"/>
          </a:xfrm>
          <a:prstGeom prst="line">
            <a:avLst/>
          </a:prstGeom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5328-BD23-455B-A3DF-4870C68DD90D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39640" y="692280"/>
            <a:ext cx="799308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Закрепление изученного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598bbd"/>
                </a:solidFill>
                <a:uFillTx/>
                <a:latin typeface="Times New Roman"/>
                <a:hlinkClick r:id="rId1" action="ppaction://hlinksldjump"/>
              </a:rPr>
              <a:t>№1</a:t>
            </a:r>
            <a:r>
              <a:rPr b="0" lang="en-US" sz="3600" spc="-1" strike="noStrike" u="sng">
                <a:solidFill>
                  <a:srgbClr val="598bbd"/>
                </a:solidFill>
                <a:uFillTx/>
                <a:latin typeface="Times New Roman"/>
                <a:hlinkClick r:id="rId2" action="ppaction://hlinksldjump"/>
              </a:rPr>
              <a:t>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= ¬ (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v ¬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vC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 (A→B) v (B→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 A&amp;CvĀ&amp;C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v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Bv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vAvBvC</a:t>
            </a:r>
            <a:br>
              <a:rPr sz="4400"/>
            </a:b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71680" y="4071960"/>
            <a:ext cx="60004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598bbd"/>
                </a:solidFill>
                <a:uFillTx/>
                <a:latin typeface="Times New Roman"/>
                <a:hlinkClick r:id="rId3" action="ppaction://hlinksldjump"/>
              </a:rPr>
              <a:t>№2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Упростите выражение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= ¬(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Yv 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¬(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)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 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X&amp;¬ (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YvX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 = (XvZ) &amp; (Xv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Z) &amp; (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YvZ)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8887-D018-4C38-B112-9719AACCE1FA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43000" y="421488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Ответы к № 2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 ¬(X&amp;Yv ¬(X&amp;Y)) = 0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&amp;¬ (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vX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 (XvZ) &amp; (Xv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Z) &amp; (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vZ) =X&amp;(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YvZ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71720" y="1714680"/>
            <a:ext cx="50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Ответы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264c"/>
                </a:solidFill>
                <a:latin typeface="Times New Roman"/>
              </a:rPr>
              <a:t>к № 1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 ¬ (A&amp;B) v ¬ (BvC) =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= (A→B) v (B→A) = 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 A&amp;CvĀ&amp;C=C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F =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v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Bv</a:t>
            </a:r>
            <a:r>
              <a:rPr b="0" lang="en-US" sz="2400" spc="-1" strike="noStrike">
                <a:solidFill>
                  <a:srgbClr val="00264c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vAvBvC=1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Стрелка влево 6">
            <a:hlinkClick r:id="rId1" action="ppaction://hlinksldjump"/>
          </p:cNvPr>
          <p:cNvSpPr/>
          <p:nvPr/>
        </p:nvSpPr>
        <p:spPr>
          <a:xfrm>
            <a:off x="5357880" y="6000840"/>
            <a:ext cx="1214280" cy="642960"/>
          </a:xfrm>
          <a:prstGeom prst="lef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001334"/>
              </a:gs>
              <a:gs pos="100000">
                <a:srgbClr val="001d49"/>
              </a:gs>
            </a:gsLst>
            <a:lin ang="16200000"/>
          </a:gradFill>
          <a:ln w="9360">
            <a:solidFill>
              <a:srgbClr val="001e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32C3-41CC-4B81-A9F6-EF5F47C6FA04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71640" y="33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ДОМАШНЯЯ РАБОТ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143000" y="1714680"/>
            <a:ext cx="7632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Упростите логические выражения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Х&amp;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X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&amp;1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= не (Х и (не Х и не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Y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)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= B&amp;(AvA&amp;B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0&amp;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Xv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0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= не Х или (не (Х и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Y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и не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Y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)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= (AvC)&amp;(AvC)&amp;(BvC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0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vX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&amp;1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= не Х и (не(не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Y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 или Х)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Calibri"/>
              </a:rPr>
              <a:t>F=A&amp;B v A&amp;Bv A&amp;BvB&amp;C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357120" y="1878840"/>
            <a:ext cx="87868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- )       </a:t>
            </a:r>
            <a:r>
              <a:rPr b="0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 радостное лицо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- (       </a:t>
            </a:r>
            <a:r>
              <a:rPr b="0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 грустное лицо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; - )       </a:t>
            </a:r>
            <a:r>
              <a:rPr b="0" lang="ru-RU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 подмигивающая улыбка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: 0 )      </a:t>
            </a:r>
            <a:r>
              <a:rPr b="0" lang="en-US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 клоун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492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8:-)       </a:t>
            </a:r>
            <a:r>
              <a:rPr b="0" lang="en-US" sz="4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маленькая девочка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83" name="Прямоугольник 2" descr=""/>
          <p:cNvPicPr/>
          <p:nvPr/>
        </p:nvPicPr>
        <p:blipFill>
          <a:blip r:embed="rId1"/>
          <a:stretch/>
        </p:blipFill>
        <p:spPr>
          <a:xfrm>
            <a:off x="2054160" y="19080"/>
            <a:ext cx="534672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1" descr=""/>
          <p:cNvPicPr/>
          <p:nvPr/>
        </p:nvPicPr>
        <p:blipFill>
          <a:blip r:embed="rId2"/>
          <a:stretch/>
        </p:blipFill>
        <p:spPr>
          <a:xfrm>
            <a:off x="109440" y="324000"/>
            <a:ext cx="8967960" cy="610056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2" descr=""/>
          <p:cNvPicPr/>
          <p:nvPr/>
        </p:nvPicPr>
        <p:blipFill>
          <a:blip r:embed="rId3"/>
          <a:stretch/>
        </p:blipFill>
        <p:spPr>
          <a:xfrm>
            <a:off x="3693960" y="1262160"/>
            <a:ext cx="1968480" cy="109692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3" descr=""/>
          <p:cNvPicPr/>
          <p:nvPr/>
        </p:nvPicPr>
        <p:blipFill>
          <a:blip r:embed="rId4"/>
          <a:stretch/>
        </p:blipFill>
        <p:spPr>
          <a:xfrm>
            <a:off x="5979960" y="2475000"/>
            <a:ext cx="1756080" cy="109692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4" descr=""/>
          <p:cNvPicPr/>
          <p:nvPr/>
        </p:nvPicPr>
        <p:blipFill>
          <a:blip r:embed="rId5"/>
          <a:stretch/>
        </p:blipFill>
        <p:spPr>
          <a:xfrm>
            <a:off x="5413320" y="3975120"/>
            <a:ext cx="188280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5" descr=""/>
          <p:cNvPicPr/>
          <p:nvPr/>
        </p:nvPicPr>
        <p:blipFill>
          <a:blip r:embed="rId6"/>
          <a:stretch/>
        </p:blipFill>
        <p:spPr>
          <a:xfrm>
            <a:off x="7699320" y="5546880"/>
            <a:ext cx="1755720" cy="109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Основные законы формальной логик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3527280" cy="4969080"/>
          </a:xfrm>
          <a:prstGeom prst="rect">
            <a:avLst/>
          </a:prstGeom>
          <a:noFill/>
          <a:ln w="12600">
            <a:solidFill>
              <a:srgbClr val="00264c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64c"/>
                </a:solidFill>
                <a:latin typeface="Times New Roman"/>
              </a:rPr>
              <a:t>Закон тождеств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 = 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64c"/>
                </a:solidFill>
                <a:latin typeface="Times New Roman"/>
              </a:rPr>
              <a:t>Закон непротиворечия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</a:t>
            </a:r>
            <a:r>
              <a:rPr b="1" lang="en-US" sz="2600" spc="-1" strike="noStrike">
                <a:solidFill>
                  <a:srgbClr val="b00c27"/>
                </a:solidFill>
                <a:latin typeface="Times New Roman"/>
              </a:rPr>
              <a:t>&amp;</a:t>
            </a:r>
            <a:r>
              <a:rPr b="1" lang="en-US" sz="2600" spc="-1" strike="noStrike">
                <a:solidFill>
                  <a:srgbClr val="b00c27"/>
                </a:solidFill>
                <a:latin typeface="Symbol"/>
                <a:ea typeface="Symbol"/>
              </a:rPr>
              <a:t></a:t>
            </a:r>
            <a:r>
              <a:rPr b="1" lang="en-US" sz="2600" spc="-1" strike="noStrike">
                <a:solidFill>
                  <a:srgbClr val="b00c27"/>
                </a:solidFill>
                <a:latin typeface="Times New Roman"/>
              </a:rPr>
              <a:t>A=0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64c"/>
                </a:solidFill>
                <a:latin typeface="Times New Roman"/>
              </a:rPr>
              <a:t>Закон исключения третьего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</a:t>
            </a:r>
            <a:r>
              <a:rPr b="1" lang="ru-RU" sz="2600" spc="-1" strike="noStrike">
                <a:solidFill>
                  <a:srgbClr val="b00c27"/>
                </a:solidFill>
                <a:latin typeface="Symbol"/>
                <a:ea typeface="Symbol"/>
              </a:rPr>
              <a:t></a:t>
            </a: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=1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64c"/>
                </a:solidFill>
                <a:latin typeface="Times New Roman"/>
              </a:rPr>
              <a:t>Закон двойного отрицания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00c27"/>
                </a:solidFill>
                <a:latin typeface="Symbol"/>
                <a:ea typeface="Symbol"/>
              </a:rPr>
              <a:t></a:t>
            </a:r>
            <a:r>
              <a:rPr b="1" lang="ru-RU" sz="2600" spc="-1" strike="noStrike">
                <a:solidFill>
                  <a:srgbClr val="b00c27"/>
                </a:solidFill>
                <a:latin typeface="Times New Roman"/>
              </a:rPr>
              <a:t>А=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700280"/>
            <a:ext cx="44956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В процессе рассуждения нельзя подменять одно понятие другим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Не могут быть одновременно истинными суждение и его отрицание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Высказывание может быть либо истинным либо ложным, третьего не дано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64c"/>
                </a:solidFill>
                <a:latin typeface="Times New Roman"/>
              </a:rPr>
              <a:t>Если отрицать дважды некоторое суждение, то получается исходное суждение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Свойства констан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0=1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264c"/>
                </a:solidFill>
                <a:latin typeface="Symbol"/>
                <a:ea typeface="Symbol"/>
              </a:rPr>
              <a:t>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1=0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0=А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&amp;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0=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А</a:t>
            </a:r>
            <a:r>
              <a:rPr b="1" lang="en-US" sz="4400" spc="-1" strike="noStrike">
                <a:solidFill>
                  <a:srgbClr val="00264c"/>
                </a:solidFill>
                <a:latin typeface="Times New Roman"/>
              </a:rPr>
              <a:t>&amp;1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=А</a:t>
            </a:r>
            <a:r>
              <a:rPr b="1" lang="ru-RU" sz="44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Законы алгебры логик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91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Идемпотент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=А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А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=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Коммутатив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=В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А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=В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Ассоциатив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В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)= 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(В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)= (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Законы алгебры логики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Дистрибутивност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В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)= 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(A</a:t>
            </a:r>
            <a:r>
              <a:rPr b="1" lang="en-US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В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С)= (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(A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Поглощение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=А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В)=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Законы де Моргана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)=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А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en-US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(А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)=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1" lang="ru-RU" sz="3200" spc="-1" strike="noStrike">
                <a:solidFill>
                  <a:srgbClr val="4135e1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3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9E0E-5823-49CF-BD40-EAF2C89A0DA8}" type="slidenum">
              <a:rPr b="0" lang="ru-R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64c"/>
                </a:solidFill>
                <a:latin typeface="Arial"/>
                <a:ea typeface="Arial"/>
              </a:rPr>
              <a:t>Огастес де МОРГАН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8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04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214200" y="194940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Морган Огастес (Августус) де (27.6.1806-18.3. 1871)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</a:t>
            </a:r>
            <a:r>
              <a:rPr b="0" lang="en-US" sz="1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64c"/>
                </a:solidFill>
                <a:latin typeface="Times New Roman"/>
              </a:rPr>
              <a:t>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Правила замены операций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Импликаци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В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В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= 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B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Эквивалентност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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В = (А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&amp;B)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A&amp; </a:t>
            </a:r>
            <a:r>
              <a:rPr b="0" lang="en-US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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В = (А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)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A </a:t>
            </a:r>
            <a:r>
              <a:rPr b="1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B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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В = (А </a:t>
            </a:r>
            <a:r>
              <a:rPr b="0" lang="ru-RU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4135e1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) </a:t>
            </a:r>
            <a:r>
              <a:rPr b="1" lang="en-US" sz="3200" spc="-1" strike="noStrike">
                <a:solidFill>
                  <a:srgbClr val="4135e1"/>
                </a:solidFill>
                <a:latin typeface="Times New Roman"/>
              </a:rPr>
              <a:t>&amp; (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B </a:t>
            </a:r>
            <a:r>
              <a:rPr b="0" lang="en-US" sz="3200" spc="-1" strike="noStrike">
                <a:solidFill>
                  <a:srgbClr val="4135e1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4135e1"/>
                </a:solidFill>
                <a:latin typeface="Times New Roman"/>
              </a:rPr>
              <a:t> A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</a:rPr>
              <a:t>Упрощение сложных высказываний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- это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замена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их на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равносильные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 на основе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законов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64c"/>
                </a:solidFill>
                <a:latin typeface="Times New Roman"/>
              </a:rPr>
              <a:t>алгебры высказываний с с целью получения высказываний более </a:t>
            </a:r>
            <a:r>
              <a:rPr b="1" lang="ru-RU" sz="3200" spc="-1" strike="noStrike">
                <a:solidFill>
                  <a:srgbClr val="00264c"/>
                </a:solidFill>
                <a:latin typeface="Times New Roman"/>
              </a:rPr>
              <a:t>простой формы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</a:rPr>
              <a:t>Основные приемы замен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80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X=X</a:t>
            </a:r>
            <a:r>
              <a:rPr b="1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Symbol"/>
                <a:ea typeface="Symbol"/>
              </a:rPr>
              <a:t>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X=X</a:t>
            </a:r>
            <a:r>
              <a:rPr b="1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264c"/>
                </a:solidFill>
                <a:latin typeface="Symbol"/>
                <a:ea typeface="Symbol"/>
              </a:rPr>
              <a:t>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1=А </a:t>
            </a:r>
            <a:r>
              <a:rPr b="1" lang="en-US" sz="2800" spc="-1" strike="noStrike">
                <a:solidFill>
                  <a:srgbClr val="b00c27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b00c27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0=В </a:t>
            </a:r>
            <a:r>
              <a:rPr b="1" lang="ru-RU" sz="2800" spc="-1" strike="noStrike">
                <a:solidFill>
                  <a:srgbClr val="b00c27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b00c27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b00c27"/>
                </a:solidFill>
                <a:latin typeface="Times New Roman"/>
              </a:rPr>
              <a:t> 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Z=Z </a:t>
            </a:r>
            <a:r>
              <a:rPr b="1" lang="en-US" sz="2800" spc="-1" strike="noStrike">
                <a:solidFill>
                  <a:srgbClr val="4071a2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Z </a:t>
            </a:r>
            <a:r>
              <a:rPr b="1" lang="en-US" sz="2800" spc="-1" strike="noStrike">
                <a:solidFill>
                  <a:srgbClr val="4071a2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 Z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C=C </a:t>
            </a:r>
            <a:r>
              <a:rPr b="1" lang="en-US" sz="2800" spc="-1" strike="noStrike">
                <a:solidFill>
                  <a:srgbClr val="4071a2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C </a:t>
            </a:r>
            <a:r>
              <a:rPr b="1" lang="en-US" sz="2800" spc="-1" strike="noStrike">
                <a:solidFill>
                  <a:srgbClr val="4071a2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4071a2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Е= </a:t>
            </a:r>
            <a:r>
              <a:rPr b="1" lang="ru-RU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808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008080"/>
                </a:solidFill>
                <a:latin typeface="Times New Roman"/>
              </a:rPr>
              <a:t>Е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86080" y="1928520"/>
            <a:ext cx="54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64c"/>
                </a:solidFill>
                <a:latin typeface="Times New Roman"/>
              </a:rPr>
              <a:t>По свойствам констант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00c2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c27"/>
                </a:solidFill>
                <a:latin typeface="Times New Roman"/>
              </a:rPr>
              <a:t>По закону исключения третьего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00c27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c27"/>
                </a:solidFill>
                <a:latin typeface="Times New Roman"/>
              </a:rPr>
              <a:t>По закону непротиворечия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По закону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71a2"/>
                </a:solidFill>
                <a:latin typeface="Times New Roman"/>
              </a:rPr>
              <a:t>идемпотентности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b00c27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8080"/>
                </a:solidFill>
                <a:latin typeface="Times New Roman"/>
              </a:rPr>
              <a:t>По закону двойного отрицания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26:24Z</dcterms:created>
  <dc:creator>Неизвестный</dc:creator>
  <dc:description/>
  <dc:language>en-US</dc:language>
  <cp:lastModifiedBy>Учитель</cp:lastModifiedBy>
  <dcterms:modified xsi:type="dcterms:W3CDTF">2012-02-03T10:38:50Z</dcterms:modified>
  <cp:revision>29</cp:revision>
  <dc:subject/>
  <dc:title>Законы логики</dc:title>
</cp:coreProperties>
</file>