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039-26EC-4AA9-A07A-15413D9DB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F612-66EE-4786-99AC-095D5D538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832F-F73B-4BAE-909B-D685005D1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50E-2910-4523-9F6D-773F12C1F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те потренируемся в проектировании и урока в 1-ом классе. Какие задания будет выбирать учитель, если его цель – формирование познавательных УУД, а если коммуникатив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преобразовать задание на второй странице в личностные, коммуникактивные, организацио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3B37-7DF2-4FC1-BBB1-C5935AC93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E20-AAF2-4639-BB1C-BB42EDFA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D7A-E466-4352-BF78-62D8E9C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5B8-F77E-481E-ADAE-B78B8F4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839-74C0-455A-ADFF-BFC1FF65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CF6-F70C-4D3F-A996-836B325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C83-F267-46BD-B311-523561DB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4A9-67DA-4816-BCCD-E202C24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8D7-996D-4FC9-924C-33CFF9DD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925-4954-463D-8502-5435E3B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1F2-30D5-49E8-8694-5C3FE35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2A6-568D-409A-BE6E-929D46B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374-DB38-4F89-B89D-9CF2297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05C9-B1A2-4EAA-9C15-775DFB568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2200" y="2282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Современным детям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современное образование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 примере Образовательной системы 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Школа 2100»)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1051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хрушев Александр Александрович, вице-президент ОС «Школа 2100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илов Дмитрий Даимович, координатор истории и общество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емлёва Ирина Игоревна, старший методист УМЦ «Школа 2100», автор учеб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va-2"/>
          <p:cNvPicPr/>
          <p:nvPr/>
        </p:nvPicPr>
        <p:blipFill>
          <a:blip r:embed="rId1"/>
          <a:stretch/>
        </p:blipFill>
        <p:spPr>
          <a:xfrm>
            <a:off x="0" y="2882880"/>
            <a:ext cx="1676520" cy="189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773840" y="2882880"/>
            <a:ext cx="13366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33520"/>
            <a:ext cx="895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качества вы хотите видеть у своего ребёнка на выходе из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9400" y="1935000"/>
            <a:ext cx="1730520" cy="347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166920" y="2362320"/>
            <a:ext cx="12528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0" y="-7632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ель образования глазами роди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324000" y="5589720"/>
            <a:ext cx="990360" cy="99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1476360" y="5445000"/>
            <a:ext cx="7086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йте свои ответы на этот вопрос (1,5 минуты), а потом включите микрофон. Мы попросим одну или несколько подключённых к нам аудиторий озвучить свои ответы (напишите также ваше мнение в «чате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качества вы хотите видеть у своего ребёнка на выходе из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828800"/>
            <a:ext cx="3124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Умение ставить цель и добиваться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к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063960" y="180504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943600" y="18478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мение ориентировать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мостоятельно добывать и применять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ть заботиться о других, быть достойным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здоров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9241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(с 2011 г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20097000">
            <a:off x="-75960" y="1447560"/>
            <a:ext cx="2971800" cy="1447560"/>
          </a:xfrm>
          <a:prstGeom prst="leftArrow">
            <a:avLst>
              <a:gd name="adj1" fmla="val 50000"/>
              <a:gd name="adj2" fmla="val 51324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7476800">
            <a:off x="838080" y="2214000"/>
            <a:ext cx="3276360" cy="1447920"/>
          </a:xfrm>
          <a:prstGeom prst="leftArrow">
            <a:avLst>
              <a:gd name="adj1" fmla="val 50000"/>
              <a:gd name="adj2" fmla="val 565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 flipH="1" rot="1611000">
            <a:off x="6195960" y="1577880"/>
            <a:ext cx="3024360" cy="1447920"/>
          </a:xfrm>
          <a:prstGeom prst="leftArrow">
            <a:avLst>
              <a:gd name="adj1" fmla="val 50000"/>
              <a:gd name="adj2" fmla="val 52219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 flipH="1" rot="4269000">
            <a:off x="4468680" y="2564640"/>
            <a:ext cx="4091400" cy="1447560"/>
          </a:xfrm>
          <a:prstGeom prst="leftArrow">
            <a:avLst>
              <a:gd name="adj1" fmla="val 50000"/>
              <a:gd name="adj2" fmla="val 7066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p001"/>
          <p:cNvPicPr/>
          <p:nvPr/>
        </p:nvPicPr>
        <p:blipFill>
          <a:blip r:embed="rId1"/>
          <a:stretch/>
        </p:blipFill>
        <p:spPr>
          <a:xfrm>
            <a:off x="3048120" y="3473280"/>
            <a:ext cx="2590560" cy="2013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243000" y="609588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ОБРАЗОВАТЕЛЬНЫЕ ВОЗДЕЙСТВИЯ НА УЧЕ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Я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РАЗОВАТЕЛЬ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РЕ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2362320" y="5486400"/>
            <a:ext cx="685800" cy="4572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 flipV="1">
            <a:off x="5638320" y="5486400"/>
            <a:ext cx="685800" cy="53352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H="1" flipV="1">
            <a:off x="2438280" y="3123720"/>
            <a:ext cx="533520" cy="3812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76320"/>
            <a:ext cx="914400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Й ОБРАЗОВАТЕЛЬНЫЙ РЕЗУЛЬТ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 flipV="1">
            <a:off x="4267080" y="5410080"/>
            <a:ext cx="0" cy="6098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6320" y="2525760"/>
            <a:ext cx="251460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ЧНОС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мение оценивать свои и чужие поступки, стремление к созидате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495680" y="914400"/>
            <a:ext cx="289584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ЗНА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мение добывать, преобразовывать и представлять информацию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019920" y="2590920"/>
            <a:ext cx="304776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ОММУНИКА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Умение донести свою позицию, понять других, договориться, чтобы сделать что-то сообщ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600200" y="91440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ГУЛЯ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Умение организовывать свои дела: ставить цель, планировать, получать и оценивать результ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0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905120" cy="142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"/>
          <p:cNvPicPr/>
          <p:nvPr/>
        </p:nvPicPr>
        <p:blipFill>
          <a:blip r:embed="rId3"/>
          <a:stretch/>
        </p:blipFill>
        <p:spPr>
          <a:xfrm>
            <a:off x="312840" y="4297320"/>
            <a:ext cx="1135080" cy="1494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2"/>
          <p:cNvGrpSpPr/>
          <p:nvPr/>
        </p:nvGrpSpPr>
        <p:grpSpPr>
          <a:xfrm>
            <a:off x="6400800" y="4038480"/>
            <a:ext cx="4105080" cy="1989360"/>
            <a:chOff x="6400800" y="4038480"/>
            <a:chExt cx="4105080" cy="1989360"/>
          </a:xfrm>
        </p:grpSpPr>
        <p:pic>
          <p:nvPicPr>
            <p:cNvPr id="83" name="Picture 23" descr=""/>
            <p:cNvPicPr/>
            <p:nvPr/>
          </p:nvPicPr>
          <p:blipFill>
            <a:blip r:embed="rId4"/>
            <a:stretch/>
          </p:blipFill>
          <p:spPr>
            <a:xfrm>
              <a:off x="6442560" y="4038480"/>
              <a:ext cx="4063320" cy="19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24"/>
            <p:cNvSpPr/>
            <p:nvPr/>
          </p:nvSpPr>
          <p:spPr>
            <a:xfrm>
              <a:off x="6400800" y="4038480"/>
              <a:ext cx="85428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8635320" y="4038480"/>
              <a:ext cx="187056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6" descr=""/>
          <p:cNvPicPr/>
          <p:nvPr/>
        </p:nvPicPr>
        <p:blipFill>
          <a:blip r:embed="rId5"/>
          <a:stretch/>
        </p:blipFill>
        <p:spPr>
          <a:xfrm>
            <a:off x="431640" y="914400"/>
            <a:ext cx="1320840" cy="1504800"/>
          </a:xfrm>
          <a:prstGeom prst="rect">
            <a:avLst/>
          </a:prstGeom>
          <a:ln w="0">
            <a:noFill/>
          </a:ln>
        </p:spPr>
      </p:pic>
      <p:sp>
        <p:nvSpPr>
          <p:cNvPr id="87" name="Line 12"/>
          <p:cNvSpPr/>
          <p:nvPr/>
        </p:nvSpPr>
        <p:spPr>
          <a:xfrm flipH="1" flipV="1">
            <a:off x="3276360" y="2666520"/>
            <a:ext cx="533160" cy="685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5029200" y="2590920"/>
            <a:ext cx="304920" cy="7617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5715000" y="3048120"/>
            <a:ext cx="533520" cy="3808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3886200" cy="23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 мы учим: пример «хитрого» задания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кружающий мир 2 кл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156200" y="1600200"/>
            <a:ext cx="4987800" cy="28195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2346480" y="2109960"/>
            <a:ext cx="2006280" cy="8046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2346480" y="2193840"/>
            <a:ext cx="1927080" cy="7984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2498760" y="2803680"/>
            <a:ext cx="1854000" cy="80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61760" y="4571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кст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 от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о ес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мё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457200"/>
            <a:ext cx="800100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ивные задания требу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йствий по ана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тановление аналогий составляет основу всякого объяснения. Мы полагаем, что объяснение состоялось, если нам удалось продемонстрировать сходство нуждающегося в объяснении объекта с чем-то уже знакомым. …Аналогия крайне полезна, ибо способствует не только пониманию, но и предсказани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нс Селье, основатель учения о стр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457200"/>
            <a:ext cx="9144000" cy="5715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ядок выполнения продуктивного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мысл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ние (что надо сделать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ужную информацию (текст, рис.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ю в соответствии с заданием (найти причину, выделить главное, дать оценку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формулирова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сл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т, используя слова: «я считаю, что …, потому что, во-первых…, во-вторых… и т.д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ть полный от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ассказ), не рассчитывая на наводящие вопросы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C1A-19C1-4476-9DCA-2B8A7F862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093680"/>
            <a:ext cx="4459320" cy="5764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10240" y="0"/>
            <a:ext cx="83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ые задания обеспеч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едметные результаты (ОМ, 1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rcRect l="0" t="1313" r="0" b="0"/>
          <a:stretch/>
        </p:blipFill>
        <p:spPr>
          <a:xfrm>
            <a:off x="4572000" y="1197000"/>
            <a:ext cx="434340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508760" y="1076400"/>
            <a:ext cx="279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1840" y="6143760"/>
            <a:ext cx="240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724360" y="1671480"/>
            <a:ext cx="2873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969520" y="3962520"/>
            <a:ext cx="18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75200" y="3187800"/>
            <a:ext cx="47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облемный вопрос и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1"/>
          <p:cNvCxnSpPr/>
          <p:nvPr/>
        </p:nvCxnSpPr>
        <p:spPr>
          <a:xfrm flipH="1">
            <a:off x="409320" y="1498680"/>
            <a:ext cx="10864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2"/>
          <p:cNvCxnSpPr>
            <a:stCxn id="104" idx="1"/>
          </p:cNvCxnSpPr>
          <p:nvPr/>
        </p:nvCxnSpPr>
        <p:spPr>
          <a:xfrm flipH="1" flipV="1">
            <a:off x="1796760" y="6323760"/>
            <a:ext cx="2473920" cy="5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 flipH="1">
            <a:off x="710640" y="3610080"/>
            <a:ext cx="121320" cy="162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9"/>
          <p:cNvCxnSpPr/>
          <p:nvPr/>
        </p:nvCxnSpPr>
        <p:spPr>
          <a:xfrm flipH="1">
            <a:off x="4933080" y="4324320"/>
            <a:ext cx="102636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21"/>
          <p:cNvCxnSpPr/>
          <p:nvPr/>
        </p:nvCxnSpPr>
        <p:spPr>
          <a:xfrm flipH="1" flipV="1">
            <a:off x="4872960" y="1540800"/>
            <a:ext cx="842040" cy="13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до и как не надо вести себя с ребё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2971800"/>
            <a:ext cx="388620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00b05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ебе зад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ты собираешься делать домашню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ы будешь решать задач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ты можешь найти подсказ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2971800"/>
            <a:ext cx="403848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ОДИТЕЛЬСКИЙ КОНТРО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ты не можешь сам спра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но приходится отложить свои дела и заниматься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, как надо, и мотай на 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"/>
          <p:cNvSpPr/>
          <p:nvPr/>
        </p:nvSpPr>
        <p:spPr>
          <a:xfrm>
            <a:off x="4648320" y="2971800"/>
            <a:ext cx="403848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"/>
          <p:cNvSpPr/>
          <p:nvPr/>
        </p:nvSpPr>
        <p:spPr>
          <a:xfrm flipH="1">
            <a:off x="4648320" y="2971800"/>
            <a:ext cx="403848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D3C4-3E46-4580-9528-0221CA9C2E3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97080" y="-360"/>
            <a:ext cx="88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ем я могу помочь своему ребён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:\Ира\ВСЕ МАТЕРИАЛЫ\картинки\читает6.jpg"/>
          <p:cNvPicPr/>
          <p:nvPr/>
        </p:nvPicPr>
        <p:blipFill>
          <a:blip r:embed="rId1"/>
          <a:stretch/>
        </p:blipFill>
        <p:spPr>
          <a:xfrm>
            <a:off x="6324480" y="41544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0"/>
          <p:cNvSpPr/>
          <p:nvPr/>
        </p:nvSpPr>
        <p:spPr>
          <a:xfrm>
            <a:off x="304920" y="2057400"/>
            <a:ext cx="358128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 можно и нужно разв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4343400" y="3048120"/>
            <a:ext cx="4191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ые и грамотные у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5105520" y="4572000"/>
            <a:ext cx="3581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еркивайте хоро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457200" y="3352680"/>
            <a:ext cx="358128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йте характер вашего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7"/>
          <p:cNvSpPr/>
          <p:nvPr/>
        </p:nvSpPr>
        <p:spPr>
          <a:xfrm>
            <a:off x="304920" y="4648320"/>
            <a:ext cx="4267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ети взрослеют в свой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8"/>
          <p:cNvSpPr/>
          <p:nvPr/>
        </p:nvSpPr>
        <p:spPr>
          <a:xfrm>
            <a:off x="5078520" y="2384280"/>
            <a:ext cx="3886200" cy="2438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родителя похожа на роль проводника в горах. Не подталкивайте своего маленького альпиниста вверх пинками и криками. Но всё же укажите ему путь к верш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9"/>
          <p:cNvSpPr/>
          <p:nvPr/>
        </p:nvSpPr>
        <p:spPr>
          <a:xfrm>
            <a:off x="4067280" y="1916280"/>
            <a:ext cx="4724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е разумные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20"/>
          <p:cNvSpPr/>
          <p:nvPr/>
        </p:nvSpPr>
        <p:spPr>
          <a:xfrm>
            <a:off x="2590920" y="1447920"/>
            <a:ext cx="4038480" cy="3657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лжны иметь возможность  исследовать и учиться на собственном опыте, следовательно, не устанавливайте излишних зап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2771640" y="1844640"/>
            <a:ext cx="449604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держания здорового баланса  ежедневной критики должно быть в 3 раза меньше позитивных действий, особенно физических проявлений ласки и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2124000" y="206064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 только гл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ь пальчик на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ись к… (слову, абзацу, предлож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 медленнее (быстр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и ещё раз текст и найд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6"/>
          <p:cNvSpPr/>
          <p:nvPr/>
        </p:nvSpPr>
        <p:spPr>
          <a:xfrm>
            <a:off x="2987640" y="2421000"/>
            <a:ext cx="2895480" cy="14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ёнок должен знать, где заканчиваются его права и начинаются права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396252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пехов вам в вашем нелёгком деле воспитания современных детей!</a:t>
            </a:r>
            <a:br>
              <a:rPr sz="36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hool2100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362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0:16:42Z</dcterms:created>
  <dc:creator>Nik</dc:creator>
  <dc:description/>
  <dc:language>en-US</dc:language>
  <cp:lastModifiedBy>Сивирчукова</cp:lastModifiedBy>
  <dcterms:modified xsi:type="dcterms:W3CDTF">2012-07-20T12:37:14Z</dcterms:modified>
  <cp:revision>36</cp:revision>
  <dc:subject/>
  <dc:title>Современным детям современное образование  (На примере Образовательной системы   «Школа 2100»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