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EC7-3266-4A33-8E69-A0C58A5E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015-B150-455E-A42E-79CEFC33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117-6234-4DCA-A5F2-A0602051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621-2220-4D88-B834-C104A493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913-6A33-462D-A852-C032A48B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DF8-D499-4085-990D-7FB567D3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102-E8D6-4226-AD76-6430AECD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575-FA8A-49A3-88AC-46356556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6BA-A45C-417A-A345-122DFE54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E8C-44B1-4C41-87E3-26F57A0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96A-6C57-4B64-BAF2-B8ED821F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DE7-6959-443D-9D7E-03DA03D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7071-C3F8-416A-B3FD-F3207FF33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18.xml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slide" Target="slide25.xml"/><Relationship Id="rId7" Type="http://schemas.openxmlformats.org/officeDocument/2006/relationships/slide" Target="slide19.xml"/><Relationship Id="rId8" Type="http://schemas.openxmlformats.org/officeDocument/2006/relationships/slide" Target="slide12.xml"/><Relationship Id="rId9" Type="http://schemas.openxmlformats.org/officeDocument/2006/relationships/slide" Target="slide6.xml"/><Relationship Id="rId10" Type="http://schemas.openxmlformats.org/officeDocument/2006/relationships/slide" Target="slide27.xml"/><Relationship Id="rId11" Type="http://schemas.openxmlformats.org/officeDocument/2006/relationships/slide" Target="slide20.xml"/><Relationship Id="rId12" Type="http://schemas.openxmlformats.org/officeDocument/2006/relationships/slide" Target="slide14.xml"/><Relationship Id="rId13" Type="http://schemas.openxmlformats.org/officeDocument/2006/relationships/slide" Target="slide8.xml"/><Relationship Id="rId14" Type="http://schemas.openxmlformats.org/officeDocument/2006/relationships/slide" Target="slide28.xml"/><Relationship Id="rId15" Type="http://schemas.openxmlformats.org/officeDocument/2006/relationships/slide" Target="slide22.xml"/><Relationship Id="rId16" Type="http://schemas.openxmlformats.org/officeDocument/2006/relationships/slide" Target="slide15.xml"/><Relationship Id="rId17" Type="http://schemas.openxmlformats.org/officeDocument/2006/relationships/slide" Target="slide9.xml"/><Relationship Id="rId18" Type="http://schemas.openxmlformats.org/officeDocument/2006/relationships/slide" Target="slide23.xml"/><Relationship Id="rId19" Type="http://schemas.openxmlformats.org/officeDocument/2006/relationships/slide" Target="slide17.xml"/><Relationship Id="rId20" Type="http://schemas.openxmlformats.org/officeDocument/2006/relationships/slide" Target="slide10.xml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907920"/>
            <a:ext cx="576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haroni"/>
              </a:rPr>
              <a:t>Членистоногие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3213000"/>
            <a:ext cx="46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воя иг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зовите предков членистоногих живот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5805360"/>
            <a:ext cx="48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евние свободноживущие примитивные многощетинковые черв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то из перечисленных животных относится к группе низших ракообразных: рак, краб, циклоп, креве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58770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акую функцию выполняют брюшные конечности ракообраз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5950080"/>
            <a:ext cx="43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ыхательную, органов совокуп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7640" y="1988640"/>
            <a:ext cx="64090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опрос - аукцио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43640" y="3716280"/>
            <a:ext cx="18781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ем питается речной р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5877000"/>
            <a:ext cx="431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ее мелкие животные или разлагающиеся органические оста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Где зимуют ра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5229360"/>
            <a:ext cx="662328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ой своего местожительства они не меняют, а просто опускаются значительно глубже, туда, где вода не замерзает. С поздней осени до ранней весны раки ведут малоактивный образ жизни, отсиживаясь в укрытиях по 20 часов в сут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6336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Своя иг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77080" y="2924280"/>
            <a:ext cx="14922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то такое фас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877000"/>
            <a:ext cx="51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лкий глазок сложного глаза ракообраз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Счастливый случа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34128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7" dur="1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" dur="1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колько пар ходильных ног у пау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587700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В игре участвуют три команды, отвечает команда, капитан которой первым поднимает руку после вопроса ведуще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При правильном ответе  на счёт команды записывается соответствующее число балл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При неправильном ответе  команда штрафуется на соответствующее число б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Кот в мешке»</a:t>
            </a:r>
            <a:r>
              <a:rPr b="0" lang="en-US" sz="2200" spc="-1" strike="noStrike">
                <a:solidFill>
                  <a:srgbClr val="800080"/>
                </a:solidFill>
                <a:latin typeface="Calibri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передает право ответа одной из команд-соперниц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Вопрос - аукцион»</a:t>
            </a:r>
            <a:r>
              <a:rPr b="0" i="1" lang="en-US" sz="2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назначает любую цену за вопрос, но не ниже номинальной и не выше суммы баллов, имеющейся на счету коман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Своя игра»</a:t>
            </a:r>
            <a:r>
              <a:rPr b="0" i="1" lang="en-US" sz="2200" spc="-1" strike="noStrike">
                <a:solidFill>
                  <a:srgbClr val="800080"/>
                </a:solidFill>
                <a:latin typeface="Calibri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имеет право увеличить или уменьшить цену вопроса по своему усмотр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Счастливый случай»</a:t>
            </a:r>
            <a:r>
              <a:rPr b="0" i="1" lang="en-US" sz="2200" spc="-1" strike="noStrike">
                <a:solidFill>
                  <a:srgbClr val="800080"/>
                </a:solidFill>
                <a:latin typeface="Calibri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получает указанную на табло сумму б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Несчастный случай»</a:t>
            </a:r>
            <a:r>
              <a:rPr b="0" i="1" lang="en-US" sz="2200" spc="-1" strike="noStrike">
                <a:solidFill>
                  <a:srgbClr val="800080"/>
                </a:solidFill>
                <a:latin typeface="Calibri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получает указанную на табло сумму б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чему паук начинает поедать свою жертву лишь спустя час после того, как её убива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229360"/>
            <a:ext cx="511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рыснутый в тело жертвы яд убивает жертву и действует как пищеварительный сок. Паук ждёт, когда закончится переварива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61930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6887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ычеркните букву в названии рычажного инструмента – узнаете название животного из класса паукообраз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5877000"/>
            <a:ext cx="51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щи - кле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Наблюдение за поведением паука показывает, что от выскакивает из своего укрытия и стремительно направляется к мухе, попавшей в паутину, только в том случае, если там находится муха средней величины; если попадает малая муха, то паук часто не обращает на неё внимания. Каким образом паук узнаёт о величине своей жертв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5445000"/>
            <a:ext cx="5112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ук с помощью особых чувствительных органов на лапках воспринимает колебания паутины и по их силе узнаёт, какой величины муха попалась в его с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Несчастный случа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2982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колько пар ног имеет майский жу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950080"/>
            <a:ext cx="266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57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опрос - аукцио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588000" y="3933720"/>
            <a:ext cx="16858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аким словом одинаково названы жук семейства пластинчатоусых, птица отряда удодов и млекопитающее отряда непарнокопыт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5877000"/>
            <a:ext cx="30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сор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агад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ос долог, голос тонок, летит – пищит, сядет – молчит. Кто его убьет – свою кровь проль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5950080"/>
            <a:ext cx="29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51850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воя иг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989760" y="549360"/>
            <a:ext cx="14922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рвый раун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28764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то из беспозвоночных животных проявляет строительный инстин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5877000"/>
            <a:ext cx="51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чёлы, осы, муравь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 зебрах водятся полосатые блох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5877000"/>
            <a:ext cx="51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 Африке водятся мухи - людо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5661000"/>
            <a:ext cx="5112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. Личинки африканских мух  тумбу проникают глубоко под кожу человека, образуя открытые мучительные 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ожьи коровки кусаются когда рассерж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4032360" y="5589720"/>
            <a:ext cx="5111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божьим коровкам досаждают, из их суставов сочится кровеобразная  едкая жидкость, раздражающая кож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абочки живут всего один д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5661000"/>
            <a:ext cx="5111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. Некоторые бабочки живут по многу месяцев, перезимовывая или улетая в далёкие кр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секомые – наездники катаются верхом на термитах – солдати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5589720"/>
            <a:ext cx="5111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да. Африканский наездник ездит на голове термита – солдатика и поедает его пищ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торой раун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28764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каком насекомом идёт реч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7280" y="620640"/>
            <a:ext cx="7428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 легенда говорит, будто они посланы на Землю великим духом в наказание за гнусные сплетни какой-то ба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от сахалинское племя айнов родословную этих насекомых толковало так. На горе среди племени жил громадный одноглазый людоед. Самый смелый айн отважился на схватку со страшилищем и сумел вонзить стрелу в его глаз. Чтобы от душегуба ничего не осталось, сжег тело и развеял пепел. К несчастью, пепел кровожадного тирана превратился в них. Но айны мудро рассудили: «Лучше всё же страдать от них, чем иметь среди своего народа одноглазого людоеда». Право, лучше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5589720"/>
            <a:ext cx="511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а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8360" y="551664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551664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вда 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551664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551664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551664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740720" y="551664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1592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ленистоног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кообраз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278136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укообраз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414972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1497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278136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141300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59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41497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278136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141300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1159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41497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278136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141300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1159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14972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278136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141300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1592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740720" y="41497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278136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7740720" y="141300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7740720" y="1159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Тип объединяет ряд классов, среди которых  наиболее известны три. Назовите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877000"/>
            <a:ext cx="494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кообразные, Паукообразные, Насеком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ленистоногие – наиболее богатый группами тип животных. Сколько видов включает этот тип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8770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ыше 1,5 мл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84000" y="2420640"/>
            <a:ext cx="45356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6887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ленистоногие – двусторонне-симметричные животные, тело их в большинстве случаев состоит их трёх отделов – головы, груди, брюшка. У представителей каких классов членистоногих тело состоит из двух отделов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5661000"/>
            <a:ext cx="28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кообразные. Паукообраз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ленистоногие имеют наружный скелет. Каким веществом он образован и какие свойства придают скеле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5300640"/>
            <a:ext cx="489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тинизированная кутику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аёт скелету прочность, твёрдость и лёгкость одновремен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4:54:35Z</dcterms:created>
  <dc:creator>хосе</dc:creator>
  <dc:description>http://aida.ucoz.ru</dc:description>
  <dc:language>en-US</dc:language>
  <cp:lastModifiedBy>User</cp:lastModifiedBy>
  <dcterms:modified xsi:type="dcterms:W3CDTF">2012-03-13T16:37:44Z</dcterms:modified>
  <cp:revision>11</cp:revision>
  <dc:subject/>
  <dc:title>Слайд 1</dc:title>
</cp:coreProperties>
</file>