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gif" ContentType="image/gif"/>
  <Override PartName="/ppt/media/image8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1FCA-0C66-4415-AFC0-82E748794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581A-D5DF-4CFE-9455-947EED55D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A870-89B6-4E20-9939-866226DC0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C16A-D0FE-4A0C-99D2-4977D1DE0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F83E-DB39-4B38-8BE2-A6DF756F9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7B5B-8FDD-4A4A-A725-BD46A8FAC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B1CA-1CB8-44BB-AFCD-4F863AD3B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9B1C-5EEB-4CCC-9A56-AFC098D3C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BC3B-FC11-4A64-B322-69FDEBD85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42B4-9E86-4B5F-A7AA-2CF3628D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67FF-DF8D-416F-B569-1292EE70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B7D6-EAA0-4FC6-A1A1-C3A8FE99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BA9F8-1338-4B49-8964-86466911D3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4.xml"/><Relationship Id="rId3" Type="http://schemas.openxmlformats.org/officeDocument/2006/relationships/slide" Target="slide18.xml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slide" Target="slide25.xml"/><Relationship Id="rId7" Type="http://schemas.openxmlformats.org/officeDocument/2006/relationships/slide" Target="slide19.xml"/><Relationship Id="rId8" Type="http://schemas.openxmlformats.org/officeDocument/2006/relationships/slide" Target="slide12.xml"/><Relationship Id="rId9" Type="http://schemas.openxmlformats.org/officeDocument/2006/relationships/slide" Target="slide6.xml"/><Relationship Id="rId10" Type="http://schemas.openxmlformats.org/officeDocument/2006/relationships/slide" Target="slide27.xml"/><Relationship Id="rId11" Type="http://schemas.openxmlformats.org/officeDocument/2006/relationships/slide" Target="slide20.xml"/><Relationship Id="rId12" Type="http://schemas.openxmlformats.org/officeDocument/2006/relationships/slide" Target="slide14.xml"/><Relationship Id="rId13" Type="http://schemas.openxmlformats.org/officeDocument/2006/relationships/slide" Target="slide8.xml"/><Relationship Id="rId14" Type="http://schemas.openxmlformats.org/officeDocument/2006/relationships/slide" Target="slide28.xml"/><Relationship Id="rId15" Type="http://schemas.openxmlformats.org/officeDocument/2006/relationships/slide" Target="slide22.xml"/><Relationship Id="rId16" Type="http://schemas.openxmlformats.org/officeDocument/2006/relationships/slide" Target="slide15.xml"/><Relationship Id="rId17" Type="http://schemas.openxmlformats.org/officeDocument/2006/relationships/slide" Target="slide9.xml"/><Relationship Id="rId18" Type="http://schemas.openxmlformats.org/officeDocument/2006/relationships/slide" Target="slide23.xml"/><Relationship Id="rId19" Type="http://schemas.openxmlformats.org/officeDocument/2006/relationships/slide" Target="slide17.xml"/><Relationship Id="rId20" Type="http://schemas.openxmlformats.org/officeDocument/2006/relationships/slide" Target="slide10.xml"/><Relationship Id="rId2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10920" y="907920"/>
            <a:ext cx="57610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haroni"/>
              </a:rPr>
              <a:t>Членистоногие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492000" y="3213000"/>
            <a:ext cx="4681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Своя игр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0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Назовите предков членистоногих животн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>
            <a:off x="3924360" y="5805360"/>
            <a:ext cx="4824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ревние свободноживущие примитивные многощетинковые черв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>
            <a:hlinkClick r:id="rId2" action="ppaction://hlinksldjump"/>
          </p:cNvPr>
          <p:cNvSpPr/>
          <p:nvPr/>
        </p:nvSpPr>
        <p:spPr>
          <a:xfrm>
            <a:off x="971640" y="55897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Calibri"/>
              </a:rPr>
              <a:t>10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Кто из перечисленных животных относится к группе низших ракообразных: рак, краб, циклоп, кревет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5219640" y="5877000"/>
            <a:ext cx="2808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икло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>
            <a:hlinkClick r:id="rId2" action="ppaction://hlinksldjump"/>
          </p:cNvPr>
          <p:cNvSpPr/>
          <p:nvPr/>
        </p:nvSpPr>
        <p:spPr>
          <a:xfrm>
            <a:off x="971640" y="55897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Calibri"/>
              </a:rPr>
              <a:t>20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Какую функцию выполняют брюшные конечности ракообразных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4500720" y="5950080"/>
            <a:ext cx="4319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ыхательную, органов совокупл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>
            <a:hlinkClick r:id="rId2" action="ppaction://hlinksldjump"/>
          </p:cNvPr>
          <p:cNvSpPr/>
          <p:nvPr/>
        </p:nvSpPr>
        <p:spPr>
          <a:xfrm>
            <a:off x="971640" y="55897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Calibri"/>
              </a:rPr>
              <a:t>30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907640" y="1988640"/>
            <a:ext cx="6409080" cy="19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Вопрос - аукцион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443640" y="3716280"/>
            <a:ext cx="1878120" cy="23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Calibri"/>
              </a:rPr>
              <a:t>30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Чем питается речной рак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4356000" y="5877000"/>
            <a:ext cx="4319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олее мелкие животные или разлагающиеся органические остат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>
            <a:hlinkClick r:id="rId2" action="ppaction://hlinksldjump"/>
          </p:cNvPr>
          <p:cNvSpPr/>
          <p:nvPr/>
        </p:nvSpPr>
        <p:spPr>
          <a:xfrm>
            <a:off x="971640" y="55897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Calibri"/>
              </a:rPr>
              <a:t>40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Где зимуют рак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/>
          <p:nvPr/>
        </p:nvSpPr>
        <p:spPr>
          <a:xfrm>
            <a:off x="2268360" y="5229360"/>
            <a:ext cx="6623280" cy="10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имой своего местожительства они не меняют, а просто опускаются значительно глубже, туда, где вода не замерзает. С поздней осени до ранней весны раки ведут малоактивный образ жизни, отсиживаясь в укрытиях по 20 часов в сутк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971640" y="55897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Calibri"/>
              </a:rPr>
              <a:t>50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47640" y="1699920"/>
            <a:ext cx="6336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Своя игр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77080" y="2924280"/>
            <a:ext cx="149220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Calibri"/>
              </a:rPr>
              <a:t>50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Что такое фасет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3348000" y="5877000"/>
            <a:ext cx="5111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лкий глазок сложного глаза ракообразны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>
            <a:hlinkClick r:id="rId2" action="ppaction://hlinksldjump"/>
          </p:cNvPr>
          <p:cNvSpPr/>
          <p:nvPr/>
        </p:nvSpPr>
        <p:spPr>
          <a:xfrm>
            <a:off x="971640" y="55897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10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Счастливый случай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971640" y="55897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3419640" y="2708280"/>
            <a:ext cx="341280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1500" autoRev="1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77" dur="1500" autoRev="1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8" dur="1500" autoRev="1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20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Сколько пар ходильных ног у паук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/>
          <p:nvPr/>
        </p:nvSpPr>
        <p:spPr>
          <a:xfrm>
            <a:off x="6443640" y="5877000"/>
            <a:ext cx="1871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>
            <a:hlinkClick r:id="rId2" action="ppaction://hlinksldjump"/>
          </p:cNvPr>
          <p:cNvSpPr/>
          <p:nvPr/>
        </p:nvSpPr>
        <p:spPr>
          <a:xfrm>
            <a:off x="971640" y="55897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равила иг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В игре участвуют три команды, отвечает команда, капитан которой первым поднимает руку после вопроса ведущего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При правильном ответе  на счёт команды записывается соответствующее число баллов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При неправильном ответе  команда штрафуется на соответствующее число балло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cc0000"/>
                </a:solidFill>
                <a:latin typeface="Calibri"/>
              </a:rPr>
              <a:t>Сектор «Кот в мешке»</a:t>
            </a:r>
            <a:r>
              <a:rPr b="0" lang="en-US" sz="2200" spc="-1" strike="noStrike">
                <a:solidFill>
                  <a:srgbClr val="800080"/>
                </a:solidFill>
                <a:latin typeface="Calibri"/>
              </a:rPr>
              <a:t> -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команда передает право ответа одной из команд-соперниц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cc0000"/>
                </a:solidFill>
                <a:latin typeface="Calibri"/>
              </a:rPr>
              <a:t>Сектор «Вопрос - аукцион»</a:t>
            </a:r>
            <a:r>
              <a:rPr b="0" i="1" lang="en-US" sz="2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0" i="1" lang="en-US" sz="2200" spc="-1" strike="noStrike">
                <a:solidFill>
                  <a:srgbClr val="800080"/>
                </a:solidFill>
                <a:latin typeface="Calibri"/>
              </a:rPr>
              <a:t>-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команда назначает любую цену за вопрос, но не ниже номинальной и не выше суммы баллов, имеющейся на счету команд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cc0000"/>
                </a:solidFill>
                <a:latin typeface="Calibri"/>
              </a:rPr>
              <a:t>Сектор «Своя игра»</a:t>
            </a:r>
            <a:r>
              <a:rPr b="0" i="1" lang="en-US" sz="2200" spc="-1" strike="noStrike">
                <a:solidFill>
                  <a:srgbClr val="800080"/>
                </a:solidFill>
                <a:latin typeface="Calibri"/>
              </a:rPr>
              <a:t> -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команда имеет право увеличить или уменьшить цену вопроса по своему усмотрению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cc0000"/>
                </a:solidFill>
                <a:latin typeface="Calibri"/>
              </a:rPr>
              <a:t>Сектор «Счастливый случай»</a:t>
            </a:r>
            <a:r>
              <a:rPr b="0" i="1" lang="en-US" sz="2200" spc="-1" strike="noStrike">
                <a:solidFill>
                  <a:srgbClr val="800080"/>
                </a:solidFill>
                <a:latin typeface="Calibri"/>
              </a:rPr>
              <a:t> -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команда получает указанную на табло сумму балло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cc0000"/>
                </a:solidFill>
                <a:latin typeface="Calibri"/>
              </a:rPr>
              <a:t>Сектор «Несчастный случай»</a:t>
            </a:r>
            <a:r>
              <a:rPr b="0" i="1" lang="en-US" sz="2200" spc="-1" strike="noStrike">
                <a:solidFill>
                  <a:srgbClr val="800080"/>
                </a:solidFill>
                <a:latin typeface="Calibri"/>
              </a:rPr>
              <a:t> -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команда получает указанную на табло сумму балло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30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Почему паук начинает поедать свою жертву лишь спустя час после того, как её убивает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/>
          <p:nvPr/>
        </p:nvSpPr>
        <p:spPr>
          <a:xfrm>
            <a:off x="3708360" y="5229360"/>
            <a:ext cx="51116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прыснутый в тело жертвы яд убивает жертву и действует как пищеварительный сок. Паук ждёт, когда закончится переваривани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>
            <a:hlinkClick r:id="rId2" action="ppaction://hlinksldjump"/>
          </p:cNvPr>
          <p:cNvSpPr/>
          <p:nvPr/>
        </p:nvSpPr>
        <p:spPr>
          <a:xfrm>
            <a:off x="971640" y="55897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40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47280" y="2276280"/>
            <a:ext cx="619308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Кот в мешк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236000" y="404640"/>
            <a:ext cx="168876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40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Вычеркните букву в названии рычажного инструмента – узнаете название животного из класса паукообразны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/>
          <p:nvPr/>
        </p:nvSpPr>
        <p:spPr>
          <a:xfrm>
            <a:off x="3348000" y="5877000"/>
            <a:ext cx="5111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лещи - кле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>
            <a:hlinkClick r:id="rId2" action="ppaction://hlinksldjump"/>
          </p:cNvPr>
          <p:cNvSpPr/>
          <p:nvPr/>
        </p:nvSpPr>
        <p:spPr>
          <a:xfrm>
            <a:off x="971640" y="55897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50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Наблюдение за поведением паука показывает, что от выскакивает из своего укрытия и стремительно направляется к мухе, попавшей в паутину, только в том случае, если там находится муха средней величины; если попадает малая муха, то паук часто не обращает на неё внимания. Каким образом паук узнаёт о величине своей жертвы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/>
          <p:nvPr/>
        </p:nvSpPr>
        <p:spPr>
          <a:xfrm>
            <a:off x="3635280" y="5445000"/>
            <a:ext cx="5112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ук с помощью особых чувствительных органов на лапках воспринимает колебания паутины и по их силе узнаёт, какой величины муха попалась в его сеть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>
            <a:hlinkClick r:id="rId2" action="ppaction://hlinksldjump"/>
          </p:cNvPr>
          <p:cNvSpPr/>
          <p:nvPr/>
        </p:nvSpPr>
        <p:spPr>
          <a:xfrm>
            <a:off x="971640" y="55897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Calibri"/>
              </a:rPr>
              <a:t>10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Несчастный случай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>
            <a:hlinkClick r:id="rId2" action="ppaction://hlinksldjump"/>
          </p:cNvPr>
          <p:cNvSpPr/>
          <p:nvPr/>
        </p:nvSpPr>
        <p:spPr>
          <a:xfrm>
            <a:off x="971640" y="55897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3276720" y="3284640"/>
            <a:ext cx="29829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animClr clrSpc="rgb">
                                      <p:cBhvr>
                                        <p:cTn id="11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11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Calibri"/>
              </a:rPr>
              <a:t>20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Сколько пар ног имеет майский жук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/>
          <p:nvPr/>
        </p:nvSpPr>
        <p:spPr>
          <a:xfrm>
            <a:off x="5867280" y="5950080"/>
            <a:ext cx="2664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>
            <a:hlinkClick r:id="rId2" action="ppaction://hlinksldjump"/>
          </p:cNvPr>
          <p:cNvSpPr/>
          <p:nvPr/>
        </p:nvSpPr>
        <p:spPr>
          <a:xfrm>
            <a:off x="971640" y="55897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Calibri"/>
              </a:rPr>
              <a:t>30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42920" y="2133720"/>
            <a:ext cx="7570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Вопрос - аукцион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588000" y="3933720"/>
            <a:ext cx="16858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Calibri"/>
              </a:rPr>
              <a:t>30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Каким словом одинаково названы жук семейства пластинчатоусых, птица отряда удодов и млекопитающее отряда непарнокопытных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/>
          <p:nvPr/>
        </p:nvSpPr>
        <p:spPr>
          <a:xfrm>
            <a:off x="5076720" y="5877000"/>
            <a:ext cx="3095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соро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>
            <a:hlinkClick r:id="rId2" action="ppaction://hlinksldjump"/>
          </p:cNvPr>
          <p:cNvSpPr/>
          <p:nvPr/>
        </p:nvSpPr>
        <p:spPr>
          <a:xfrm>
            <a:off x="971640" y="55897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Calibri"/>
              </a:rPr>
              <a:t>40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Загад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Нос долог, голос тонок, летит – пищит, сядет – молчит. Кто его убьет – свою кровь прольё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5950080"/>
            <a:ext cx="2952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ма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>
            <a:hlinkClick r:id="rId2" action="ppaction://hlinksldjump"/>
          </p:cNvPr>
          <p:cNvSpPr/>
          <p:nvPr/>
        </p:nvSpPr>
        <p:spPr>
          <a:xfrm>
            <a:off x="971640" y="55897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Calibri"/>
              </a:rPr>
              <a:t>50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050560" y="2133360"/>
            <a:ext cx="518508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Своя игр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989760" y="549360"/>
            <a:ext cx="149220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ервый раунд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203640" y="1268280"/>
            <a:ext cx="2876400" cy="51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Calibri"/>
              </a:rPr>
              <a:t>50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Кто из беспозвоночных животных проявляет строительный инстинк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/>
          <p:nvPr/>
        </p:nvSpPr>
        <p:spPr>
          <a:xfrm>
            <a:off x="3348000" y="5877000"/>
            <a:ext cx="5111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чёлы, осы, муравь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>
            <a:hlinkClick r:id="rId2" action="ppaction://hlinksldjump"/>
          </p:cNvPr>
          <p:cNvSpPr/>
          <p:nvPr/>
        </p:nvSpPr>
        <p:spPr>
          <a:xfrm>
            <a:off x="971640" y="55897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alibri"/>
              </a:rPr>
              <a:t>10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На зебрах водятся полосатые блох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/>
          <p:nvPr/>
        </p:nvSpPr>
        <p:spPr>
          <a:xfrm>
            <a:off x="3348000" y="5877000"/>
            <a:ext cx="5111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/>
          <p:nvPr/>
        </p:nvSpPr>
        <p:spPr>
          <a:xfrm>
            <a:off x="971640" y="55897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alibri"/>
              </a:rPr>
              <a:t>20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В Африке водятся мухи - людое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/>
          <p:nvPr/>
        </p:nvSpPr>
        <p:spPr>
          <a:xfrm>
            <a:off x="3492360" y="5661000"/>
            <a:ext cx="5112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. Личинки африканских мух  тумбу проникают глубоко под кожу человека, образуя открытые мучительные ран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/>
          <p:nvPr/>
        </p:nvSpPr>
        <p:spPr>
          <a:xfrm>
            <a:off x="971640" y="55897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alibri"/>
              </a:rPr>
              <a:t>30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Божьи коровки кусаются когда рассерже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/>
          <p:nvPr/>
        </p:nvSpPr>
        <p:spPr>
          <a:xfrm>
            <a:off x="4032360" y="5589720"/>
            <a:ext cx="51116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гда божьим коровкам досаждают, из их суставов сочится кровеобразная  едкая жидкость, раздражающая кож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/>
          <p:nvPr/>
        </p:nvSpPr>
        <p:spPr>
          <a:xfrm>
            <a:off x="971640" y="55897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alibri"/>
              </a:rPr>
              <a:t>40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Бабочки живут всего один ден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/>
          <p:nvPr/>
        </p:nvSpPr>
        <p:spPr>
          <a:xfrm>
            <a:off x="3348000" y="5661000"/>
            <a:ext cx="51116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. Некоторые бабочки живут по многу месяцев, перезимовывая или улетая в далёкие кра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/>
          <p:nvPr/>
        </p:nvSpPr>
        <p:spPr>
          <a:xfrm>
            <a:off x="971640" y="55897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alibri"/>
              </a:rPr>
              <a:t>50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Насекомые – наездники катаются верхом на термитах – солдатик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/>
          <p:nvPr/>
        </p:nvSpPr>
        <p:spPr>
          <a:xfrm>
            <a:off x="3419640" y="5589720"/>
            <a:ext cx="51116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авда. Африканский наездник ездит на голове термита – солдатика и поедает его пищ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/>
          <p:nvPr/>
        </p:nvSpPr>
        <p:spPr>
          <a:xfrm>
            <a:off x="971640" y="55897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Второй раунд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3203640" y="1268280"/>
            <a:ext cx="2876400" cy="51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 каком насекомом идёт реч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/>
          <p:nvPr/>
        </p:nvSpPr>
        <p:spPr>
          <a:xfrm>
            <a:off x="971640" y="55897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187280" y="620640"/>
            <a:ext cx="74282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дна легенда говорит, будто они посланы на Землю великим духом в наказание за гнусные сплетни какой-то баб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 вот сахалинское племя айнов родословную этих насекомых толковало так. На горе среди племени жил громадный одноглазый людоед. Самый смелый айн отважился на схватку со страшилищем и сумел вонзить стрелу в его глаз. Чтобы от душегуба ничего не осталось, сжег тело и развеял пепел. К несчастью, пепел кровожадного тирана превратился в них. Но айны мудро рассудили: «Лучше всё же страдать от них, чем иметь среди своего народа одноглазого людоеда». Право, лучше!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/>
          <p:nvPr/>
        </p:nvSpPr>
        <p:spPr>
          <a:xfrm>
            <a:off x="3635280" y="5589720"/>
            <a:ext cx="511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мар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68360" y="5516640"/>
            <a:ext cx="1297080" cy="1224000"/>
          </a:xfrm>
          <a:prstGeom prst="rect">
            <a:avLst/>
          </a:prstGeom>
          <a:solidFill>
            <a:srgbClr val="e6f3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108000" y="5516640"/>
            <a:ext cx="2050920" cy="1224000"/>
          </a:xfrm>
          <a:prstGeom prst="rect">
            <a:avLst/>
          </a:prstGeom>
          <a:solidFill>
            <a:srgbClr val="92f4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авда л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5516640"/>
            <a:ext cx="1297080" cy="1224000"/>
          </a:xfrm>
          <a:prstGeom prst="rect">
            <a:avLst/>
          </a:prstGeom>
          <a:solidFill>
            <a:srgbClr val="e6f3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5003640" y="5516640"/>
            <a:ext cx="1297080" cy="1224000"/>
          </a:xfrm>
          <a:prstGeom prst="rect">
            <a:avLst/>
          </a:prstGeom>
          <a:solidFill>
            <a:srgbClr val="e6f3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6372360" y="5516640"/>
            <a:ext cx="1296720" cy="1224000"/>
          </a:xfrm>
          <a:prstGeom prst="rect">
            <a:avLst/>
          </a:prstGeom>
          <a:solidFill>
            <a:srgbClr val="e6f3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7740720" y="5516640"/>
            <a:ext cx="1297080" cy="1224000"/>
          </a:xfrm>
          <a:prstGeom prst="rect">
            <a:avLst/>
          </a:prstGeom>
          <a:solidFill>
            <a:srgbClr val="e6f3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108000" y="115920"/>
            <a:ext cx="2050920" cy="1224000"/>
          </a:xfrm>
          <a:prstGeom prst="rect">
            <a:avLst/>
          </a:prstGeom>
          <a:solidFill>
            <a:srgbClr val="92f4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Членистоноги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1413000"/>
            <a:ext cx="2050920" cy="1224000"/>
          </a:xfrm>
          <a:prstGeom prst="rect">
            <a:avLst/>
          </a:prstGeom>
          <a:solidFill>
            <a:srgbClr val="92f4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кообразны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108000" y="2781360"/>
            <a:ext cx="2050920" cy="1224000"/>
          </a:xfrm>
          <a:prstGeom prst="rect">
            <a:avLst/>
          </a:prstGeom>
          <a:solidFill>
            <a:srgbClr val="92f4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аукообразны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4149720"/>
            <a:ext cx="2050920" cy="1224000"/>
          </a:xfrm>
          <a:prstGeom prst="rect">
            <a:avLst/>
          </a:prstGeom>
          <a:solidFill>
            <a:srgbClr val="92f4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секом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149720"/>
            <a:ext cx="1297080" cy="1224000"/>
          </a:xfrm>
          <a:prstGeom prst="rect">
            <a:avLst/>
          </a:prstGeom>
          <a:solidFill>
            <a:srgbClr val="e6f3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2268360" y="2781360"/>
            <a:ext cx="1297080" cy="1224000"/>
          </a:xfrm>
          <a:prstGeom prst="rect">
            <a:avLst/>
          </a:prstGeom>
          <a:solidFill>
            <a:srgbClr val="e6f3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2268360" y="1413000"/>
            <a:ext cx="1297080" cy="1224000"/>
          </a:xfrm>
          <a:prstGeom prst="rect">
            <a:avLst/>
          </a:prstGeom>
          <a:solidFill>
            <a:srgbClr val="e6f3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5920"/>
            <a:ext cx="1297080" cy="1224000"/>
          </a:xfrm>
          <a:prstGeom prst="rect">
            <a:avLst/>
          </a:prstGeom>
          <a:solidFill>
            <a:srgbClr val="e6f3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/>
          <p:nvPr/>
        </p:nvSpPr>
        <p:spPr>
          <a:xfrm>
            <a:off x="3635280" y="4149720"/>
            <a:ext cx="1297080" cy="1224000"/>
          </a:xfrm>
          <a:prstGeom prst="rect">
            <a:avLst/>
          </a:prstGeom>
          <a:solidFill>
            <a:srgbClr val="e6f3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3635280" y="2781360"/>
            <a:ext cx="1297080" cy="1224000"/>
          </a:xfrm>
          <a:prstGeom prst="rect">
            <a:avLst/>
          </a:prstGeom>
          <a:solidFill>
            <a:srgbClr val="e6f3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3635280" y="1413000"/>
            <a:ext cx="1297080" cy="1224000"/>
          </a:xfrm>
          <a:prstGeom prst="rect">
            <a:avLst/>
          </a:prstGeom>
          <a:solidFill>
            <a:srgbClr val="e6f3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115920"/>
            <a:ext cx="1297080" cy="1224000"/>
          </a:xfrm>
          <a:prstGeom prst="rect">
            <a:avLst/>
          </a:prstGeom>
          <a:solidFill>
            <a:srgbClr val="e6f3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00ff"/>
                </a:solidFill>
                <a:uFillTx/>
                <a:latin typeface="Arial"/>
                <a:hlinkClick r:id="rId9" action="ppaction://hlinksldjump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5003640" y="4149720"/>
            <a:ext cx="1297080" cy="1224000"/>
          </a:xfrm>
          <a:prstGeom prst="rect">
            <a:avLst/>
          </a:prstGeom>
          <a:solidFill>
            <a:srgbClr val="e6f3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00ff"/>
                </a:solidFill>
                <a:uFillTx/>
                <a:latin typeface="Arial"/>
                <a:hlinkClick r:id="rId10" action="ppaction://hlinksldjump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5003640" y="2781360"/>
            <a:ext cx="1297080" cy="1224000"/>
          </a:xfrm>
          <a:prstGeom prst="rect">
            <a:avLst/>
          </a:prstGeom>
          <a:solidFill>
            <a:srgbClr val="e6f3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00ff"/>
                </a:solidFill>
                <a:uFillTx/>
                <a:latin typeface="Arial"/>
                <a:hlinkClick r:id="rId11" action="ppaction://hlinksldjump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5003640" y="1413000"/>
            <a:ext cx="1297080" cy="1224000"/>
          </a:xfrm>
          <a:prstGeom prst="rect">
            <a:avLst/>
          </a:prstGeom>
          <a:solidFill>
            <a:srgbClr val="e6f3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00ff"/>
                </a:solidFill>
                <a:uFillTx/>
                <a:latin typeface="Arial"/>
                <a:hlinkClick r:id="rId12" action="ppaction://hlinksldjump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5003640" y="115920"/>
            <a:ext cx="1297080" cy="1224000"/>
          </a:xfrm>
          <a:prstGeom prst="rect">
            <a:avLst/>
          </a:prstGeom>
          <a:solidFill>
            <a:srgbClr val="e6f3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00ff"/>
                </a:solidFill>
                <a:uFillTx/>
                <a:latin typeface="Arial"/>
                <a:hlinkClick r:id="rId13" action="ppaction://hlinksldjump"/>
              </a:rPr>
              <a:t>30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4149720"/>
            <a:ext cx="1296720" cy="1224000"/>
          </a:xfrm>
          <a:prstGeom prst="rect">
            <a:avLst/>
          </a:prstGeom>
          <a:solidFill>
            <a:srgbClr val="e6f3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00ff"/>
                </a:solidFill>
                <a:uFillTx/>
                <a:latin typeface="Arial"/>
                <a:hlinkClick r:id="rId14" action="ppaction://hlinksldjump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6372360" y="2781360"/>
            <a:ext cx="1296720" cy="1224000"/>
          </a:xfrm>
          <a:prstGeom prst="rect">
            <a:avLst/>
          </a:prstGeom>
          <a:solidFill>
            <a:srgbClr val="e6f3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00ff"/>
                </a:solidFill>
                <a:uFillTx/>
                <a:latin typeface="Arial"/>
                <a:hlinkClick r:id="rId15" action="ppaction://hlinksldjump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6372360" y="1413000"/>
            <a:ext cx="1296720" cy="1224000"/>
          </a:xfrm>
          <a:prstGeom prst="rect">
            <a:avLst/>
          </a:prstGeom>
          <a:solidFill>
            <a:srgbClr val="e6f3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00ff"/>
                </a:solidFill>
                <a:uFillTx/>
                <a:latin typeface="Arial"/>
                <a:hlinkClick r:id="rId16" action="ppaction://hlinksldjump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/>
          <p:nvPr/>
        </p:nvSpPr>
        <p:spPr>
          <a:xfrm>
            <a:off x="6372360" y="115920"/>
            <a:ext cx="1296720" cy="1224000"/>
          </a:xfrm>
          <a:prstGeom prst="rect">
            <a:avLst/>
          </a:prstGeom>
          <a:solidFill>
            <a:srgbClr val="e6f3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00ff"/>
                </a:solidFill>
                <a:uFillTx/>
                <a:latin typeface="Arial"/>
                <a:hlinkClick r:id="rId17" action="ppaction://hlinksldjump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/>
          <p:nvPr/>
        </p:nvSpPr>
        <p:spPr>
          <a:xfrm>
            <a:off x="7740720" y="4149720"/>
            <a:ext cx="1297080" cy="1224000"/>
          </a:xfrm>
          <a:prstGeom prst="rect">
            <a:avLst/>
          </a:prstGeom>
          <a:solidFill>
            <a:srgbClr val="e6f3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/>
          <p:nvPr/>
        </p:nvSpPr>
        <p:spPr>
          <a:xfrm>
            <a:off x="7740720" y="2781360"/>
            <a:ext cx="1297080" cy="1224000"/>
          </a:xfrm>
          <a:prstGeom prst="rect">
            <a:avLst/>
          </a:prstGeom>
          <a:solidFill>
            <a:srgbClr val="e6f3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00ff"/>
                </a:solidFill>
                <a:uFillTx/>
                <a:latin typeface="Arial"/>
                <a:hlinkClick r:id="rId18" action="ppaction://hlinksldjump"/>
              </a:rPr>
              <a:t>50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/>
          <p:nvPr/>
        </p:nvSpPr>
        <p:spPr>
          <a:xfrm>
            <a:off x="7740720" y="1413000"/>
            <a:ext cx="1297080" cy="1224000"/>
          </a:xfrm>
          <a:prstGeom prst="rect">
            <a:avLst/>
          </a:prstGeom>
          <a:solidFill>
            <a:srgbClr val="e6f3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00ff"/>
                </a:solidFill>
                <a:uFillTx/>
                <a:latin typeface="Arial"/>
                <a:hlinkClick r:id="rId19" action="ppaction://hlinksldjump"/>
              </a:rPr>
              <a:t>50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/>
          <p:nvPr/>
        </p:nvSpPr>
        <p:spPr>
          <a:xfrm>
            <a:off x="7740720" y="115920"/>
            <a:ext cx="1297080" cy="1224000"/>
          </a:xfrm>
          <a:prstGeom prst="rect">
            <a:avLst/>
          </a:prstGeom>
          <a:solidFill>
            <a:srgbClr val="e6f3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00ff"/>
                </a:solidFill>
                <a:uFillTx/>
                <a:latin typeface="Arial"/>
                <a:hlinkClick r:id="rId20" action="ppaction://hlinksldjump"/>
              </a:rPr>
              <a:t>50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6165720"/>
            <a:ext cx="576360" cy="503280"/>
          </a:xfrm>
          <a:custGeom>
            <a:avLst/>
            <a:gdLst>
              <a:gd name="textAreaLeft" fmla="*/ 131400 w 576360"/>
              <a:gd name="textAreaRight" fmla="*/ 444960 w 576360"/>
              <a:gd name="textAreaTop" fmla="*/ 114840 h 503280"/>
              <a:gd name="textAreaBottom" fmla="*/ 3884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0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Тип объединяет ряд классов, среди которых  наиболее известны три. Назовите и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/>
          <p:nvPr/>
        </p:nvSpPr>
        <p:spPr>
          <a:xfrm>
            <a:off x="3924360" y="5877000"/>
            <a:ext cx="4941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кообразные, Паукообразные, Насекомы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>
            <a:hlinkClick r:id="rId2" action="ppaction://hlinksldjump"/>
          </p:cNvPr>
          <p:cNvSpPr/>
          <p:nvPr/>
        </p:nvSpPr>
        <p:spPr>
          <a:xfrm>
            <a:off x="971640" y="55897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0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Членистоногие – наиболее богатый группами тип животных. Сколько видов включает этот тип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877000"/>
            <a:ext cx="2808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выше 1,5 мл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>
            <a:hlinkClick r:id="rId2" action="ppaction://hlinksldjump"/>
          </p:cNvPr>
          <p:cNvSpPr/>
          <p:nvPr/>
        </p:nvSpPr>
        <p:spPr>
          <a:xfrm>
            <a:off x="971640" y="55897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0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484000" y="2420640"/>
            <a:ext cx="453564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Кот в мешк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7236000" y="404640"/>
            <a:ext cx="168876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0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Членистоногие – двусторонне-симметричные животные, тело их в большинстве случаев состоит их трёх отделов – головы, груди, брюшка. У представителей каких классов членистоногих тело состоит из двух отделов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/>
          <p:nvPr/>
        </p:nvSpPr>
        <p:spPr>
          <a:xfrm>
            <a:off x="5148360" y="5661000"/>
            <a:ext cx="2808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кообразные. Паукообразны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>
            <a:hlinkClick r:id="rId2" action="ppaction://hlinksldjump"/>
          </p:cNvPr>
          <p:cNvSpPr/>
          <p:nvPr/>
        </p:nvSpPr>
        <p:spPr>
          <a:xfrm>
            <a:off x="971640" y="55897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0 б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Членистоногие имеют наружный скелет. Каким веществом он образован и какие свойства придают скелет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3780000" y="5300640"/>
            <a:ext cx="48956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итинизированная кутикул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даёт скелету прочность, твёрдость и лёгкость одновременн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>
            <a:hlinkClick r:id="rId2" action="ppaction://hlinksldjump"/>
          </p:cNvPr>
          <p:cNvSpPr/>
          <p:nvPr/>
        </p:nvSpPr>
        <p:spPr>
          <a:xfrm>
            <a:off x="971640" y="55897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7T04:54:35Z</dcterms:created>
  <dc:creator>хосе</dc:creator>
  <dc:description>http://aida.ucoz.ru</dc:description>
  <dc:language>en-US</dc:language>
  <cp:lastModifiedBy>User</cp:lastModifiedBy>
  <dcterms:modified xsi:type="dcterms:W3CDTF">2012-03-13T16:37:44Z</dcterms:modified>
  <cp:revision>11</cp:revision>
  <dc:subject/>
  <dc:title>Слайд 1</dc:title>
</cp:coreProperties>
</file>