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F56-B7D2-47CB-A2E3-DC74830A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69E-1DCB-4F2A-8EC8-E02FE04D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7AE-C9C2-4EAD-A752-BE35DAF0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026-0D33-4244-A9A1-D5A665BA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974-B139-41C2-8608-1F53015E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FC8F-442D-4625-8A87-CBB93CEC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E7EC-9683-4DC7-A3A9-C6893388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B68C-4FB4-4395-BB0D-790A7316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61A-2DD2-407A-8778-1EEA8C76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790-390C-48C0-9A21-96991512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754C-C41E-4919-A7C2-234E7BE8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95A-CEB9-4904-BC11-B6717A0E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D0FF-DC74-4914-98CE-CA645BA8F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9.pn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ackgrounds_100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116000" y="1052640"/>
            <a:ext cx="72010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Попробу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разгадай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260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У ОО «Полтавская школа-интерн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5300640"/>
            <a:ext cx="5616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олни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йко Илья, учащийся 9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мырёва Т.В., 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4292640"/>
            <a:ext cx="5616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тоговая работа по т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Эффекты анимации в презент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факультатив «Информатик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63640" y="5445000"/>
            <a:ext cx="216072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апив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3068640"/>
            <a:ext cx="23767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отн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51280" y="2781360"/>
            <a:ext cx="1655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ба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732720" y="2637000"/>
            <a:ext cx="158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ршин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03640" y="907920"/>
            <a:ext cx="324000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уравьед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309000">
            <a:off x="5796000" y="4508640"/>
            <a:ext cx="187164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рук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3" name="Group 9"/>
          <p:cNvGrpSpPr/>
          <p:nvPr/>
        </p:nvGrpSpPr>
        <p:grpSpPr>
          <a:xfrm>
            <a:off x="1476360" y="5084640"/>
            <a:ext cx="2879640" cy="1295640"/>
            <a:chOff x="1476360" y="5084640"/>
            <a:chExt cx="2879640" cy="1295640"/>
          </a:xfrm>
        </p:grpSpPr>
        <p:grpSp>
          <p:nvGrpSpPr>
            <p:cNvPr id="54" name="Group 10"/>
            <p:cNvGrpSpPr/>
            <p:nvPr/>
          </p:nvGrpSpPr>
          <p:grpSpPr>
            <a:xfrm>
              <a:off x="1596240" y="5090760"/>
              <a:ext cx="2259360" cy="1219320"/>
              <a:chOff x="1596240" y="5090760"/>
              <a:chExt cx="2259360" cy="1219320"/>
            </a:xfrm>
          </p:grpSpPr>
          <p:pic>
            <p:nvPicPr>
              <p:cNvPr id="55" name="Picture 11" descr=""/>
              <p:cNvPicPr/>
              <p:nvPr/>
            </p:nvPicPr>
            <p:blipFill>
              <a:blip r:embed="rId3">
                <a:lum contrast="24000"/>
              </a:blip>
              <a:srcRect l="0" t="-2392" r="0" b="0"/>
              <a:stretch/>
            </p:blipFill>
            <p:spPr>
              <a:xfrm>
                <a:off x="1596240" y="5408640"/>
                <a:ext cx="579960" cy="77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Picture 12" descr=""/>
              <p:cNvPicPr/>
              <p:nvPr/>
            </p:nvPicPr>
            <p:blipFill>
              <a:blip r:embed="rId4"/>
              <a:stretch/>
            </p:blipFill>
            <p:spPr>
              <a:xfrm rot="569400">
                <a:off x="1956240" y="5192280"/>
                <a:ext cx="1319760" cy="101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13" descr=""/>
              <p:cNvPicPr/>
              <p:nvPr/>
            </p:nvPicPr>
            <p:blipFill>
              <a:blip r:embed="rId5">
                <a:lum contrast="48000"/>
              </a:blip>
              <a:srcRect l="0" t="-23598" r="0" b="0"/>
              <a:stretch/>
            </p:blipFill>
            <p:spPr>
              <a:xfrm>
                <a:off x="2076120" y="5408640"/>
                <a:ext cx="23868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WordArt 14"/>
              <p:cNvSpPr txBox="1"/>
              <p:nvPr/>
            </p:nvSpPr>
            <p:spPr>
              <a:xfrm>
                <a:off x="3035880" y="5732640"/>
                <a:ext cx="819720" cy="323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3168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a603ab"/>
                        </a:gs>
                        <a:gs pos="100000">
                          <a:srgbClr val="a603ab"/>
                        </a:gs>
                      </a:gsLst>
                      <a:lin ang="0"/>
                    </a:gradFill>
                    <a:effectLst>
                      <a:outerShdw dist="153753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Arial"/>
                  </a:rPr>
                  <a:t>л=в</a:t>
                </a:r>
                <a:endParaRPr b="1" lang="en-US" sz="1800" spc="1" strike="noStrike">
                  <a:ln w="3168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</p:grpSp>
        <p:sp>
          <p:nvSpPr>
            <p:cNvPr id="59" name="Rectangle 15"/>
            <p:cNvSpPr/>
            <p:nvPr/>
          </p:nvSpPr>
          <p:spPr>
            <a:xfrm>
              <a:off x="1476360" y="5084640"/>
              <a:ext cx="2879640" cy="1295640"/>
            </a:xfrm>
            <a:prstGeom prst="rect">
              <a:avLst/>
            </a:prstGeom>
            <a:noFill/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8"/>
          <p:cNvGrpSpPr/>
          <p:nvPr/>
        </p:nvGrpSpPr>
        <p:grpSpPr>
          <a:xfrm>
            <a:off x="6227640" y="2276640"/>
            <a:ext cx="2400480" cy="1371600"/>
            <a:chOff x="6227640" y="2276640"/>
            <a:chExt cx="2400480" cy="1371600"/>
          </a:xfrm>
        </p:grpSpPr>
        <p:pic>
          <p:nvPicPr>
            <p:cNvPr id="61" name="Picture 29" descr="img041"/>
            <p:cNvPicPr/>
            <p:nvPr/>
          </p:nvPicPr>
          <p:blipFill>
            <a:blip r:embed="rId6"/>
            <a:stretch/>
          </p:blipFill>
          <p:spPr>
            <a:xfrm>
              <a:off x="7484760" y="2505240"/>
              <a:ext cx="7999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30" descr="img041"/>
            <p:cNvPicPr/>
            <p:nvPr/>
          </p:nvPicPr>
          <p:blipFill>
            <a:blip r:embed="rId7"/>
            <a:stretch/>
          </p:blipFill>
          <p:spPr>
            <a:xfrm>
              <a:off x="8170920" y="2276640"/>
              <a:ext cx="3427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31" descr="img041"/>
            <p:cNvPicPr/>
            <p:nvPr/>
          </p:nvPicPr>
          <p:blipFill>
            <a:blip r:embed="rId8"/>
            <a:stretch/>
          </p:blipFill>
          <p:spPr>
            <a:xfrm>
              <a:off x="6341760" y="2390760"/>
              <a:ext cx="34272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32" descr="img042"/>
            <p:cNvPicPr/>
            <p:nvPr/>
          </p:nvPicPr>
          <p:blipFill>
            <a:blip r:embed="rId9">
              <a:lum contrast="36000"/>
            </a:blip>
            <a:stretch/>
          </p:blipFill>
          <p:spPr>
            <a:xfrm>
              <a:off x="6684840" y="2390760"/>
              <a:ext cx="79992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33"/>
            <p:cNvSpPr/>
            <p:nvPr/>
          </p:nvSpPr>
          <p:spPr>
            <a:xfrm>
              <a:off x="6227640" y="2276640"/>
              <a:ext cx="2400480" cy="1371600"/>
            </a:xfrm>
            <a:prstGeom prst="rect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580000" y="4581360"/>
            <a:ext cx="2231640" cy="1584360"/>
            <a:chOff x="5580000" y="4581360"/>
            <a:chExt cx="2231640" cy="1584360"/>
          </a:xfrm>
        </p:grpSpPr>
        <p:sp>
          <p:nvSpPr>
            <p:cNvPr id="67" name=""/>
            <p:cNvSpPr/>
            <p:nvPr/>
          </p:nvSpPr>
          <p:spPr>
            <a:xfrm>
              <a:off x="5580000" y="4653000"/>
              <a:ext cx="2089080" cy="15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52"/>
            <p:cNvGrpSpPr/>
            <p:nvPr/>
          </p:nvGrpSpPr>
          <p:grpSpPr>
            <a:xfrm>
              <a:off x="5580000" y="4581360"/>
              <a:ext cx="2231640" cy="1562040"/>
              <a:chOff x="5580000" y="4581360"/>
              <a:chExt cx="2231640" cy="1562040"/>
            </a:xfrm>
          </p:grpSpPr>
          <p:pic>
            <p:nvPicPr>
              <p:cNvPr id="69" name="Picture 51" descr=""/>
              <p:cNvPicPr/>
              <p:nvPr/>
            </p:nvPicPr>
            <p:blipFill>
              <a:blip r:embed="rId10">
                <a:lum contrast="48000"/>
              </a:blip>
              <a:srcRect l="0" t="-23395" r="0" b="0"/>
              <a:stretch/>
            </p:blipFill>
            <p:spPr>
              <a:xfrm>
                <a:off x="6675840" y="4581360"/>
                <a:ext cx="504000" cy="584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" name="Group 37"/>
              <p:cNvGrpSpPr/>
              <p:nvPr/>
            </p:nvGrpSpPr>
            <p:grpSpPr>
              <a:xfrm>
                <a:off x="5580000" y="4581360"/>
                <a:ext cx="2231640" cy="1562040"/>
                <a:chOff x="5580000" y="4581360"/>
                <a:chExt cx="2231640" cy="1562040"/>
              </a:xfrm>
            </p:grpSpPr>
            <p:pic>
              <p:nvPicPr>
                <p:cNvPr id="71" name="Picture 38" descr="img05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56720" y="5049720"/>
                  <a:ext cx="909360" cy="91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" name="WordArt 39"/>
                <p:cNvSpPr txBox="1"/>
                <p:nvPr/>
              </p:nvSpPr>
              <p:spPr>
                <a:xfrm>
                  <a:off x="5661360" y="4581360"/>
                  <a:ext cx="581040" cy="15512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SlantUp">
                    <a:avLst>
                      <a:gd name="adj" fmla="val 27833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cc99ff"/>
                        </a:solidFill>
                        <a:miter/>
                      </a:ln>
                      <a:gradFill rotWithShape="0">
                        <a:gsLst>
                          <a:gs pos="0">
                            <a:srgbClr val="6600cc"/>
                          </a:gs>
                          <a:gs pos="100000">
                            <a:srgbClr val="cc00cc"/>
                          </a:gs>
                        </a:gsLst>
                        <a:lin ang="5400000"/>
                      </a:gradFill>
                      <a:effectLst>
                        <a:outerShdw dist="53966" dir="2700000" blurRad="0" rotWithShape="0">
                          <a:srgbClr val="9999ff">
                            <a:alpha val="80000"/>
                          </a:srgbClr>
                        </a:outerShdw>
                      </a:effectLst>
                      <a:latin typeface="Impact"/>
                    </a:rPr>
                    <a:t>Ф</a:t>
                  </a:r>
                  <a:endParaRPr b="0" lang="en-US" sz="1800" spc="1" strike="noStrike">
                    <a:ln w="9360">
                      <a:solidFill>
                        <a:srgbClr val="cc99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>
                          <a:alpha val="80000"/>
                        </a:srgbClr>
                      </a:outerShdw>
                    </a:effectLst>
                    <a:latin typeface="Impact"/>
                    <a:ea typeface="Impact"/>
                  </a:endParaRPr>
                </a:p>
              </p:txBody>
            </p:sp>
            <p:sp>
              <p:nvSpPr>
                <p:cNvPr id="73" name="WordArt 40"/>
                <p:cNvSpPr txBox="1"/>
                <p:nvPr/>
              </p:nvSpPr>
              <p:spPr>
                <a:xfrm>
                  <a:off x="7066440" y="4776480"/>
                  <a:ext cx="660960" cy="11714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SlantUp">
                    <a:avLst>
                      <a:gd name="adj" fmla="val 17241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1" strike="noStrike">
                      <a:ln w="9360">
                        <a:solidFill>
                          <a:srgbClr val="cc99ff"/>
                        </a:solidFill>
                        <a:miter/>
                      </a:ln>
                      <a:gradFill rotWithShape="0">
                        <a:gsLst>
                          <a:gs pos="0">
                            <a:srgbClr val="6600cc"/>
                          </a:gs>
                          <a:gs pos="100000">
                            <a:srgbClr val="cc00cc"/>
                          </a:gs>
                        </a:gsLst>
                        <a:lin ang="5400000"/>
                      </a:gradFill>
                      <a:effectLst>
                        <a:outerShdw dist="53966" dir="2700000" blurRad="0" rotWithShape="0">
                          <a:srgbClr val="9999ff">
                            <a:alpha val="80000"/>
                          </a:srgbClr>
                        </a:outerShdw>
                      </a:effectLst>
                      <a:latin typeface="Impact"/>
                    </a:rPr>
                    <a:t>ТЫ</a:t>
                  </a:r>
                  <a:endParaRPr b="1" lang="en-US" sz="1800" spc="1" strike="noStrike">
                    <a:ln w="9360">
                      <a:solidFill>
                        <a:srgbClr val="cc99ff"/>
                      </a:solidFill>
                      <a:miter/>
                    </a:ln>
                    <a:gradFill rotWithShape="0">
                      <a:gsLst>
                        <a:gs pos="0">
                          <a:srgbClr val="6600cc"/>
                        </a:gs>
                        <a:gs pos="100000">
                          <a:srgbClr val="cc00cc"/>
                        </a:gs>
                      </a:gsLst>
                      <a:lin ang="5400000"/>
                    </a:gradFill>
                    <a:effectLst>
                      <a:outerShdw dist="53966" dir="2700000" blurRad="0" rotWithShape="0">
                        <a:srgbClr val="9999ff">
                          <a:alpha val="80000"/>
                        </a:srgbClr>
                      </a:outerShdw>
                    </a:effectLst>
                    <a:latin typeface="Impact"/>
                    <a:ea typeface="Impact"/>
                  </a:endParaRPr>
                </a:p>
              </p:txBody>
            </p:sp>
            <p:sp>
              <p:nvSpPr>
                <p:cNvPr id="74" name="Rectangle 41"/>
                <p:cNvSpPr/>
                <p:nvPr/>
              </p:nvSpPr>
              <p:spPr>
                <a:xfrm>
                  <a:off x="5580000" y="4581360"/>
                  <a:ext cx="2231640" cy="1562040"/>
                </a:xfrm>
                <a:prstGeom prst="rect">
                  <a:avLst/>
                </a:prstGeom>
                <a:noFill/>
                <a:ln w="2844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" name=""/>
          <p:cNvGrpSpPr/>
          <p:nvPr/>
        </p:nvGrpSpPr>
        <p:grpSpPr>
          <a:xfrm>
            <a:off x="2916360" y="476280"/>
            <a:ext cx="3959280" cy="1584360"/>
            <a:chOff x="2916360" y="476280"/>
            <a:chExt cx="3959280" cy="1584360"/>
          </a:xfrm>
        </p:grpSpPr>
        <p:grpSp>
          <p:nvGrpSpPr>
            <p:cNvPr id="76" name="Group 45"/>
            <p:cNvGrpSpPr/>
            <p:nvPr/>
          </p:nvGrpSpPr>
          <p:grpSpPr>
            <a:xfrm>
              <a:off x="5220720" y="948960"/>
              <a:ext cx="879840" cy="878400"/>
              <a:chOff x="5220720" y="948960"/>
              <a:chExt cx="879840" cy="878400"/>
            </a:xfrm>
          </p:grpSpPr>
          <p:sp>
            <p:nvSpPr>
              <p:cNvPr id="77" name="AutoShape 46"/>
              <p:cNvSpPr/>
              <p:nvPr/>
            </p:nvSpPr>
            <p:spPr>
              <a:xfrm flipH="1" rot="4547400">
                <a:off x="5475600" y="997560"/>
                <a:ext cx="396360" cy="544320"/>
              </a:xfrm>
              <a:custGeom>
                <a:avLst/>
                <a:gdLst>
                  <a:gd name="textAreaLeft" fmla="*/ -360 w 396360"/>
                  <a:gd name="textAreaRight" fmla="*/ 396360 w 396360"/>
                  <a:gd name="textAreaTop" fmla="*/ 0 h 544320"/>
                  <a:gd name="textAreaBottom" fmla="*/ 424080 h 54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762" y="15020"/>
                    </a:moveTo>
                    <a:cubicBezTo>
                      <a:pt x="5610" y="13918"/>
                      <a:pt x="4959" y="12394"/>
                      <a:pt x="4959" y="10800"/>
                    </a:cubicBezTo>
                    <a:cubicBezTo>
                      <a:pt x="4959" y="7574"/>
                      <a:pt x="7574" y="4959"/>
                      <a:pt x="10800" y="4959"/>
                    </a:cubicBezTo>
                    <a:cubicBezTo>
                      <a:pt x="14025" y="4959"/>
                      <a:pt x="16641" y="7574"/>
                      <a:pt x="16641" y="10800"/>
                    </a:cubicBezTo>
                    <a:cubicBezTo>
                      <a:pt x="16641" y="12394"/>
                      <a:pt x="15989" y="13918"/>
                      <a:pt x="14837" y="15020"/>
                    </a:cubicBezTo>
                    <a:lnTo>
                      <a:pt x="18265" y="18604"/>
                    </a:lnTo>
                    <a:cubicBezTo>
                      <a:pt x="20395" y="16566"/>
                      <a:pt x="21600" y="13747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747"/>
                      <a:pt x="1204" y="16566"/>
                      <a:pt x="3334" y="18604"/>
                    </a:cubicBezTo>
                    <a:close/>
                  </a:path>
                </a:pathLst>
              </a:custGeom>
              <a:solidFill>
                <a:srgbClr val="008000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AutoShape 47"/>
              <p:cNvSpPr/>
              <p:nvPr/>
            </p:nvSpPr>
            <p:spPr>
              <a:xfrm rot="13623600">
                <a:off x="5357880" y="1068480"/>
                <a:ext cx="604800" cy="639360"/>
              </a:xfrm>
              <a:custGeom>
                <a:avLst/>
                <a:gdLst>
                  <a:gd name="textAreaLeft" fmla="*/ 0 w 604800"/>
                  <a:gd name="textAreaRight" fmla="*/ 605160 w 604800"/>
                  <a:gd name="textAreaTop" fmla="*/ 0 h 639360"/>
                  <a:gd name="textAreaBottom" fmla="*/ 272880 h 63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19" y="11784"/>
                    </a:moveTo>
                    <a:cubicBezTo>
                      <a:pt x="3276" y="11458"/>
                      <a:pt x="3255" y="11129"/>
                      <a:pt x="3255" y="10800"/>
                    </a:cubicBezTo>
                    <a:cubicBezTo>
                      <a:pt x="3255" y="6633"/>
                      <a:pt x="6633" y="3255"/>
                      <a:pt x="10800" y="3255"/>
                    </a:cubicBezTo>
                    <a:cubicBezTo>
                      <a:pt x="14966" y="3255"/>
                      <a:pt x="18345" y="6633"/>
                      <a:pt x="18345" y="10800"/>
                    </a:cubicBezTo>
                    <a:cubicBezTo>
                      <a:pt x="18345" y="11129"/>
                      <a:pt x="18323" y="11458"/>
                      <a:pt x="18280" y="11784"/>
                    </a:cubicBezTo>
                    <a:lnTo>
                      <a:pt x="21507" y="12209"/>
                    </a:lnTo>
                    <a:cubicBezTo>
                      <a:pt x="21569" y="11742"/>
                      <a:pt x="21600" y="11271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1271"/>
                      <a:pt x="30" y="11742"/>
                      <a:pt x="92" y="12209"/>
                    </a:cubicBezTo>
                    <a:close/>
                  </a:path>
                </a:pathLst>
              </a:custGeom>
              <a:solidFill>
                <a:srgbClr val="008000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2916360" y="476280"/>
              <a:ext cx="3959280" cy="1584360"/>
              <a:chOff x="2916360" y="476280"/>
              <a:chExt cx="3959280" cy="1584360"/>
            </a:xfrm>
          </p:grpSpPr>
          <p:pic>
            <p:nvPicPr>
              <p:cNvPr id="80" name="Picture 43" descr=""/>
              <p:cNvPicPr/>
              <p:nvPr/>
            </p:nvPicPr>
            <p:blipFill>
              <a:blip r:embed="rId12">
                <a:lum contrast="48000"/>
              </a:blip>
              <a:srcRect l="0" t="-23395" r="0" b="0"/>
              <a:stretch/>
            </p:blipFill>
            <p:spPr>
              <a:xfrm>
                <a:off x="4583160" y="476280"/>
                <a:ext cx="814320" cy="90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WordArt 48"/>
              <p:cNvSpPr txBox="1"/>
              <p:nvPr/>
            </p:nvSpPr>
            <p:spPr>
              <a:xfrm>
                <a:off x="6156360" y="1096920"/>
                <a:ext cx="549360" cy="561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Arial"/>
                  </a:rPr>
                  <a:t>д</a:t>
                </a:r>
                <a:endPara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82" name="Picture 49" descr=""/>
              <p:cNvPicPr/>
              <p:nvPr/>
            </p:nvPicPr>
            <p:blipFill>
              <a:blip r:embed="rId13"/>
              <a:stretch/>
            </p:blipFill>
            <p:spPr>
              <a:xfrm>
                <a:off x="3124440" y="627120"/>
                <a:ext cx="166680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Rectangle 50"/>
              <p:cNvSpPr/>
              <p:nvPr/>
            </p:nvSpPr>
            <p:spPr>
              <a:xfrm>
                <a:off x="2916360" y="476280"/>
                <a:ext cx="3959280" cy="1584360"/>
              </a:xfrm>
              <a:prstGeom prst="rect">
                <a:avLst/>
              </a:prstGeom>
              <a:noFill/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Group 62"/>
          <p:cNvGrpSpPr/>
          <p:nvPr/>
        </p:nvGrpSpPr>
        <p:grpSpPr>
          <a:xfrm>
            <a:off x="250920" y="2637000"/>
            <a:ext cx="2855880" cy="1698480"/>
            <a:chOff x="250920" y="2637000"/>
            <a:chExt cx="2855880" cy="1698480"/>
          </a:xfrm>
        </p:grpSpPr>
        <p:grpSp>
          <p:nvGrpSpPr>
            <p:cNvPr id="85" name="Group 63"/>
            <p:cNvGrpSpPr/>
            <p:nvPr/>
          </p:nvGrpSpPr>
          <p:grpSpPr>
            <a:xfrm>
              <a:off x="349200" y="2791080"/>
              <a:ext cx="2658600" cy="1389600"/>
              <a:chOff x="349200" y="2791080"/>
              <a:chExt cx="2658600" cy="1389600"/>
            </a:xfrm>
          </p:grpSpPr>
          <p:sp>
            <p:nvSpPr>
              <p:cNvPr id="86" name="WordArt 64"/>
              <p:cNvSpPr txBox="1"/>
              <p:nvPr/>
            </p:nvSpPr>
            <p:spPr>
              <a:xfrm>
                <a:off x="1629360" y="3099960"/>
                <a:ext cx="894600" cy="707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solidFill>
                      <a:srgbClr val="993366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тные</a:t>
                </a:r>
                <a:endParaRPr b="1" lang="en-US" sz="1800" spc="1" strike="noStrike">
                  <a:ln w="0">
                    <a:noFill/>
                  </a:ln>
                  <a:solidFill>
                    <a:srgbClr val="993366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87" name="WordArt 65"/>
              <p:cNvSpPr txBox="1"/>
              <p:nvPr/>
            </p:nvSpPr>
            <p:spPr>
              <a:xfrm>
                <a:off x="349200" y="2945520"/>
                <a:ext cx="664560" cy="1093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ЖИ</a:t>
                </a:r>
                <a:endPara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88" name="WordArt 66"/>
              <p:cNvSpPr txBox="1"/>
              <p:nvPr/>
            </p:nvSpPr>
            <p:spPr>
              <a:xfrm>
                <a:off x="1038240" y="2791080"/>
                <a:ext cx="1969560" cy="1389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4"/>
                      <a:srcRect/>
                      <a:tile tx="0" ty="0" sx="100000" sy="100000" algn="ctr"/>
                    </a:blipFill>
                    <a:latin typeface="Arial"/>
                  </a:rPr>
                  <a:t>О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5"/>
                    <a:srcRect/>
                    <a:tile tx="0" ty="0" sx="100000" sy="100000" algn="ctr"/>
                  </a:blipFill>
                  <a:latin typeface="Arial"/>
                  <a:ea typeface="Arial"/>
                </a:endParaRPr>
              </a:p>
            </p:txBody>
          </p:sp>
        </p:grpSp>
        <p:sp>
          <p:nvSpPr>
            <p:cNvPr id="89" name="Rectangle 67"/>
            <p:cNvSpPr/>
            <p:nvPr/>
          </p:nvSpPr>
          <p:spPr>
            <a:xfrm>
              <a:off x="250920" y="2637000"/>
              <a:ext cx="2855880" cy="1698480"/>
            </a:xfrm>
            <a:prstGeom prst="rect">
              <a:avLst/>
            </a:prstGeom>
            <a:noFill/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68"/>
          <p:cNvGrpSpPr/>
          <p:nvPr/>
        </p:nvGrpSpPr>
        <p:grpSpPr>
          <a:xfrm>
            <a:off x="3780000" y="2708280"/>
            <a:ext cx="2052360" cy="1440000"/>
            <a:chOff x="3780000" y="2708280"/>
            <a:chExt cx="2052360" cy="1440000"/>
          </a:xfrm>
        </p:grpSpPr>
        <p:pic>
          <p:nvPicPr>
            <p:cNvPr id="91" name="Picture 69" descr="img045"/>
            <p:cNvPicPr/>
            <p:nvPr/>
          </p:nvPicPr>
          <p:blipFill>
            <a:blip r:embed="rId16"/>
            <a:stretch/>
          </p:blipFill>
          <p:spPr>
            <a:xfrm>
              <a:off x="4745880" y="2851920"/>
              <a:ext cx="965880" cy="115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WordArt 70"/>
            <p:cNvSpPr txBox="1"/>
            <p:nvPr/>
          </p:nvSpPr>
          <p:spPr>
            <a:xfrm>
              <a:off x="3900600" y="2851920"/>
              <a:ext cx="844920" cy="115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353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ТА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3" name="Rectangle 71"/>
            <p:cNvSpPr/>
            <p:nvPr/>
          </p:nvSpPr>
          <p:spPr>
            <a:xfrm>
              <a:off x="3780000" y="2708280"/>
              <a:ext cx="2052360" cy="1440000"/>
            </a:xfrm>
            <a:prstGeom prst="rect">
              <a:avLst/>
            </a:pr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7:25:36Z</dcterms:created>
  <dc:creator>Шмырева</dc:creator>
  <dc:description/>
  <dc:language>en-US</dc:language>
  <cp:lastModifiedBy>Анастасия</cp:lastModifiedBy>
  <dcterms:modified xsi:type="dcterms:W3CDTF">2012-07-20T13:35:00Z</dcterms:modified>
  <cp:revision>37</cp:revision>
  <dc:subject/>
  <dc:title>Слайд 1</dc:title>
</cp:coreProperties>
</file>