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1468-993C-45AC-A98E-E979793B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C931-7A8C-46CF-AA47-6320684D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09A-F2AD-402A-A33A-8AD954EE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CF7C-849A-4AF4-9596-55F4F42C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01F5-81BB-4298-B2DF-AA259E41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7D6C-CECF-45B3-802E-7DD5D43D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6EE1-6C88-40D3-A828-F7926497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EEAA-8249-467D-B38F-B4456A93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C728-7E29-4FD3-B8A7-74E94256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F47C-56A3-4A9B-B829-361588C7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82C8-2028-4575-B538-7A3ED635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38C-6503-4DB5-BED5-8DCBE043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496C-B159-40F1-9B1D-929B25F0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FD9D-B209-43D6-AF02-67EE5B89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5408-D0F1-4B89-8459-9DB0BA3D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2EBB-3804-47BB-9217-88E7C684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EAD2-D092-48B8-834F-86435053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A02-F2EE-457B-933C-5493E80F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442-001C-48BC-8528-2ED38304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04B-48B2-42FE-9CAA-2A7E0E85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CFF0-71B6-4ABA-8E19-6D998253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7C0-2D72-4A67-A3C7-19F1EF7B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346E-8F89-4992-8541-F448DC00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508-E4AE-4DF4-A199-716CF7F6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9EB9-0661-4F55-A206-F93E5E53DE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3C13-0B7C-4690-BDC4-52C7D05FA7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10.wmf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" Target="slide56.xm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56.xml"/><Relationship Id="rId7" Type="http://schemas.openxmlformats.org/officeDocument/2006/relationships/slide" Target="slide56.xml"/><Relationship Id="rId8" Type="http://schemas.openxmlformats.org/officeDocument/2006/relationships/slide" Target="slide5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12.xml"/><Relationship Id="rId13" Type="http://schemas.openxmlformats.org/officeDocument/2006/relationships/slide" Target="slide56.xml"/><Relationship Id="rId14" Type="http://schemas.openxmlformats.org/officeDocument/2006/relationships/slide" Target="slide56.xml"/><Relationship Id="rId15" Type="http://schemas.openxmlformats.org/officeDocument/2006/relationships/slide" Target="slide56.xml"/><Relationship Id="rId16" Type="http://schemas.openxmlformats.org/officeDocument/2006/relationships/slide" Target="slide56.xml"/><Relationship Id="rId17" Type="http://schemas.openxmlformats.org/officeDocument/2006/relationships/slide" Target="slide4.xml"/><Relationship Id="rId18" Type="http://schemas.openxmlformats.org/officeDocument/2006/relationships/slide" Target="slide56.xml"/><Relationship Id="rId19" Type="http://schemas.openxmlformats.org/officeDocument/2006/relationships/slide" Target="slide15.xml"/><Relationship Id="rId20" Type="http://schemas.openxmlformats.org/officeDocument/2006/relationships/slide" Target="slide16.xml"/><Relationship Id="rId21" Type="http://schemas.openxmlformats.org/officeDocument/2006/relationships/slide" Target="slide17.xml"/><Relationship Id="rId22" Type="http://schemas.openxmlformats.org/officeDocument/2006/relationships/slide" Target="slide56.xml"/><Relationship Id="rId23" Type="http://schemas.openxmlformats.org/officeDocument/2006/relationships/slide" Target="slide18.xml"/><Relationship Id="rId24" Type="http://schemas.openxmlformats.org/officeDocument/2006/relationships/slide" Target="slide56.xml"/><Relationship Id="rId25" Type="http://schemas.openxmlformats.org/officeDocument/2006/relationships/slide" Target="slide10.xml"/><Relationship Id="rId26" Type="http://schemas.openxmlformats.org/officeDocument/2006/relationships/slide" Target="slide11.xml"/><Relationship Id="rId27" Type="http://schemas.openxmlformats.org/officeDocument/2006/relationships/slide" Target="slide9.xml"/><Relationship Id="rId28" Type="http://schemas.openxmlformats.org/officeDocument/2006/relationships/slide" Target="slide13.xml"/><Relationship Id="rId29" Type="http://schemas.openxmlformats.org/officeDocument/2006/relationships/slide" Target="slide4.xml"/><Relationship Id="rId30" Type="http://schemas.openxmlformats.org/officeDocument/2006/relationships/slide" Target="slide14.xml"/><Relationship Id="rId31" Type="http://schemas.openxmlformats.org/officeDocument/2006/relationships/slide" Target="slide19.xml"/><Relationship Id="rId32" Type="http://schemas.openxmlformats.org/officeDocument/2006/relationships/slide" Target="slide4.xml"/><Relationship Id="rId33" Type="http://schemas.openxmlformats.org/officeDocument/2006/relationships/slide" Target="slide31.xml"/><Relationship Id="rId34" Type="http://schemas.openxmlformats.org/officeDocument/2006/relationships/slide" Target="slide56.xml"/><Relationship Id="rId35" Type="http://schemas.openxmlformats.org/officeDocument/2006/relationships/slide" Target="slide42.xml"/><Relationship Id="rId36" Type="http://schemas.openxmlformats.org/officeDocument/2006/relationships/slide" Target="slide56.xml"/><Relationship Id="rId37" Type="http://schemas.openxmlformats.org/officeDocument/2006/relationships/slide" Target="slide20.xml"/><Relationship Id="rId38" Type="http://schemas.openxmlformats.org/officeDocument/2006/relationships/slide" Target="slide56.xml"/><Relationship Id="rId39" Type="http://schemas.openxmlformats.org/officeDocument/2006/relationships/slide" Target="slide21.xml"/><Relationship Id="rId40" Type="http://schemas.openxmlformats.org/officeDocument/2006/relationships/slide" Target="slide22.xml"/><Relationship Id="rId41" Type="http://schemas.openxmlformats.org/officeDocument/2006/relationships/slide" Target="slide23.xml"/><Relationship Id="rId42" Type="http://schemas.openxmlformats.org/officeDocument/2006/relationships/slide" Target="slide24.xml"/><Relationship Id="rId43" Type="http://schemas.openxmlformats.org/officeDocument/2006/relationships/slide" Target="slide25.xml"/><Relationship Id="rId44" Type="http://schemas.openxmlformats.org/officeDocument/2006/relationships/slide" Target="slide26.xml"/><Relationship Id="rId45" Type="http://schemas.openxmlformats.org/officeDocument/2006/relationships/slide" Target="slide4.xml"/><Relationship Id="rId46" Type="http://schemas.openxmlformats.org/officeDocument/2006/relationships/slide" Target="slide27.xml"/><Relationship Id="rId47" Type="http://schemas.openxmlformats.org/officeDocument/2006/relationships/slide" Target="slide28.xml"/><Relationship Id="rId48" Type="http://schemas.openxmlformats.org/officeDocument/2006/relationships/slide" Target="slide4.xml"/><Relationship Id="rId49" Type="http://schemas.openxmlformats.org/officeDocument/2006/relationships/slide" Target="slide4.xml"/><Relationship Id="rId50" Type="http://schemas.openxmlformats.org/officeDocument/2006/relationships/slide" Target="slide4.xml"/><Relationship Id="rId51" Type="http://schemas.openxmlformats.org/officeDocument/2006/relationships/slide" Target="slide4.xml"/><Relationship Id="rId52" Type="http://schemas.openxmlformats.org/officeDocument/2006/relationships/slide" Target="slide29.xml"/><Relationship Id="rId53" Type="http://schemas.openxmlformats.org/officeDocument/2006/relationships/slide" Target="slide30.xml"/><Relationship Id="rId54" Type="http://schemas.openxmlformats.org/officeDocument/2006/relationships/slide" Target="slide56.xml"/><Relationship Id="rId55" Type="http://schemas.openxmlformats.org/officeDocument/2006/relationships/slide" Target="slide56.xml"/><Relationship Id="rId56" Type="http://schemas.openxmlformats.org/officeDocument/2006/relationships/slide" Target="slide56.xml"/><Relationship Id="rId57" Type="http://schemas.openxmlformats.org/officeDocument/2006/relationships/slide" Target="slide33.xml"/><Relationship Id="rId58" Type="http://schemas.openxmlformats.org/officeDocument/2006/relationships/slide" Target="slide32.xml"/><Relationship Id="rId59" Type="http://schemas.openxmlformats.org/officeDocument/2006/relationships/slide" Target="slide34.xml"/><Relationship Id="rId60" Type="http://schemas.openxmlformats.org/officeDocument/2006/relationships/slide" Target="slide35.xml"/><Relationship Id="rId61" Type="http://schemas.openxmlformats.org/officeDocument/2006/relationships/slide" Target="slide56.xml"/><Relationship Id="rId62" Type="http://schemas.openxmlformats.org/officeDocument/2006/relationships/slide" Target="slide36.xml"/><Relationship Id="rId63" Type="http://schemas.openxmlformats.org/officeDocument/2006/relationships/slide" Target="slide56.xml"/><Relationship Id="rId64" Type="http://schemas.openxmlformats.org/officeDocument/2006/relationships/slide" Target="slide37.xml"/><Relationship Id="rId65" Type="http://schemas.openxmlformats.org/officeDocument/2006/relationships/slide" Target="slide38.xml"/><Relationship Id="rId66" Type="http://schemas.openxmlformats.org/officeDocument/2006/relationships/slide" Target="slide39.xml"/><Relationship Id="rId67" Type="http://schemas.openxmlformats.org/officeDocument/2006/relationships/slide" Target="slide56.xml"/><Relationship Id="rId68" Type="http://schemas.openxmlformats.org/officeDocument/2006/relationships/slide" Target="slide56.xml"/><Relationship Id="rId69" Type="http://schemas.openxmlformats.org/officeDocument/2006/relationships/slide" Target="slide56.xml"/><Relationship Id="rId70" Type="http://schemas.openxmlformats.org/officeDocument/2006/relationships/slide" Target="slide40.xml"/><Relationship Id="rId71" Type="http://schemas.openxmlformats.org/officeDocument/2006/relationships/slide" Target="slide4.xml"/><Relationship Id="rId72" Type="http://schemas.openxmlformats.org/officeDocument/2006/relationships/slide" Target="slide41.xml"/><Relationship Id="rId73" Type="http://schemas.openxmlformats.org/officeDocument/2006/relationships/slide" Target="slide4.xml"/><Relationship Id="rId74" Type="http://schemas.openxmlformats.org/officeDocument/2006/relationships/slide" Target="slide4.xml"/><Relationship Id="rId75" Type="http://schemas.openxmlformats.org/officeDocument/2006/relationships/slide" Target="slide4.xml"/><Relationship Id="rId76" Type="http://schemas.openxmlformats.org/officeDocument/2006/relationships/slide" Target="slide43.xml"/><Relationship Id="rId77" Type="http://schemas.openxmlformats.org/officeDocument/2006/relationships/slide" Target="slide44.xml"/><Relationship Id="rId78" Type="http://schemas.openxmlformats.org/officeDocument/2006/relationships/slide" Target="slide45.xml"/><Relationship Id="rId79" Type="http://schemas.openxmlformats.org/officeDocument/2006/relationships/slide" Target="slide46.xml"/><Relationship Id="rId80" Type="http://schemas.openxmlformats.org/officeDocument/2006/relationships/slide" Target="slide4.xml"/><Relationship Id="rId81" Type="http://schemas.openxmlformats.org/officeDocument/2006/relationships/slide" Target="slide47.xml"/><Relationship Id="rId82" Type="http://schemas.openxmlformats.org/officeDocument/2006/relationships/slide" Target="slide48.xml"/><Relationship Id="rId83" Type="http://schemas.openxmlformats.org/officeDocument/2006/relationships/slide" Target="slide49.xml"/><Relationship Id="rId84" Type="http://schemas.openxmlformats.org/officeDocument/2006/relationships/slide" Target="slide50.xml"/><Relationship Id="rId85" Type="http://schemas.openxmlformats.org/officeDocument/2006/relationships/slide" Target="slide51.xml"/><Relationship Id="rId86" Type="http://schemas.openxmlformats.org/officeDocument/2006/relationships/slide" Target="slide4.xml"/><Relationship Id="rId87" Type="http://schemas.openxmlformats.org/officeDocument/2006/relationships/slide" Target="slide4.xml"/><Relationship Id="rId88" Type="http://schemas.openxmlformats.org/officeDocument/2006/relationships/slide" Target="slide52.xml"/><Relationship Id="rId89" Type="http://schemas.openxmlformats.org/officeDocument/2006/relationships/slide" Target="slide53.xml"/><Relationship Id="rId90" Type="http://schemas.openxmlformats.org/officeDocument/2006/relationships/slide" Target="slide56.xml"/><Relationship Id="rId91" Type="http://schemas.openxmlformats.org/officeDocument/2006/relationships/slide" Target="slide56.xml"/><Relationship Id="rId92" Type="http://schemas.openxmlformats.org/officeDocument/2006/relationships/slide" Target="slide56.xml"/><Relationship Id="rId93" Type="http://schemas.openxmlformats.org/officeDocument/2006/relationships/slide" Target="slide56.xml"/><Relationship Id="rId94" Type="http://schemas.openxmlformats.org/officeDocument/2006/relationships/slide" Target="slide56.xml"/><Relationship Id="rId95" Type="http://schemas.openxmlformats.org/officeDocument/2006/relationships/slide" Target="slide56.xml"/><Relationship Id="rId96" Type="http://schemas.openxmlformats.org/officeDocument/2006/relationships/slide" Target="slide56.xml"/><Relationship Id="rId97" Type="http://schemas.openxmlformats.org/officeDocument/2006/relationships/slide" Target="slide56.xml"/><Relationship Id="rId98" Type="http://schemas.openxmlformats.org/officeDocument/2006/relationships/slide" Target="slide55.xml"/><Relationship Id="rId99" Type="http://schemas.openxmlformats.org/officeDocument/2006/relationships/slide" Target="slide54.xml"/><Relationship Id="rId100" Type="http://schemas.openxmlformats.org/officeDocument/2006/relationships/slide" Target="slide56.xml"/><Relationship Id="rId10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228600"/>
            <a:ext cx="7696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4208b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РСКОЙ БОЙ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e4208b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" y="2978280"/>
            <a:ext cx="5181480" cy="3295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66680" y="1981080"/>
            <a:ext cx="75438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личие человека – в его способности мысли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. Паска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3276720"/>
            <a:ext cx="3276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, путь познания не глад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знайте вы со школьных ле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гадок больше, чем разгадок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поискам предела 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3049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з Москвы в Петербург вышел поезд со скоростью 60 км  ч, одновременно из Петербурга в Москву вышел другой поезд со скоростью 70 км  ч. Какой из поездов будет дальше от Москвы в момент встреч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267080" y="990720"/>
            <a:ext cx="15264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495680" y="1981080"/>
            <a:ext cx="15264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7467840" cy="3364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8244000" y="638172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371600" y="53352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меняя знаки действий, напиши число 1 тремя двойк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114800" y="297180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362320" y="297180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09480" y="297180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6477120" y="2971800"/>
            <a:ext cx="880920" cy="10461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5410080" y="3124080"/>
            <a:ext cx="60984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">
            <a:hlinkClick r:id="rId5" action="ppaction://hlinksldjump"/>
          </p:cNvPr>
          <p:cNvSpPr/>
          <p:nvPr/>
        </p:nvSpPr>
        <p:spPr>
          <a:xfrm>
            <a:off x="7956720" y="609300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828800" y="457200"/>
            <a:ext cx="58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меняя знаки действий, напиши число 2 тремя двой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886200" y="312408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523200" y="3200400"/>
            <a:ext cx="898200" cy="10666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2362320" y="312408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685800" y="3124080"/>
            <a:ext cx="880920" cy="10461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257800" y="33526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"/>
          <p:cNvSpPr/>
          <p:nvPr/>
        </p:nvSpPr>
        <p:spPr>
          <a:xfrm>
            <a:off x="7812000" y="6165720"/>
            <a:ext cx="647640" cy="28764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10800"/>
                </a:moveTo>
                <a:lnTo>
                  <a:pt x="31306" y="3794"/>
                </a:lnTo>
                <a:lnTo>
                  <a:pt x="31306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71600" y="38088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меняя знаки действий, напиши число 2 четырьмя двойк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181480" y="327672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7315200" y="327672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581280" y="327672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2057400" y="327672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33520" y="3276720"/>
            <a:ext cx="880920" cy="1046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6324480" y="3505320"/>
            <a:ext cx="6858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>
            <a:hlinkClick r:id="rId6" action="ppaction://hlinksldjump"/>
          </p:cNvPr>
          <p:cNvSpPr/>
          <p:nvPr/>
        </p:nvSpPr>
        <p:spPr>
          <a:xfrm>
            <a:off x="7667640" y="6165720"/>
            <a:ext cx="719280" cy="289080"/>
          </a:xfrm>
          <a:custGeom>
            <a:avLst/>
            <a:gdLst>
              <a:gd name="textAreaLeft" fmla="*/ 18720 w 719280"/>
              <a:gd name="textAreaRight" fmla="*/ 700560 w 719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704" h="21600">
                <a:moveTo>
                  <a:pt x="0" y="0"/>
                </a:moveTo>
                <a:lnTo>
                  <a:pt x="53704" y="0"/>
                </a:lnTo>
                <a:lnTo>
                  <a:pt x="53704" y="21600"/>
                </a:lnTo>
                <a:lnTo>
                  <a:pt x="0" y="21600"/>
                </a:lnTo>
                <a:close/>
              </a:path>
              <a:path fill="lightenLess" w="53704" h="21600">
                <a:moveTo>
                  <a:pt x="0" y="0"/>
                </a:moveTo>
                <a:lnTo>
                  <a:pt x="53704" y="0"/>
                </a:lnTo>
                <a:lnTo>
                  <a:pt x="52304" y="1400"/>
                </a:lnTo>
                <a:lnTo>
                  <a:pt x="1400" y="1400"/>
                </a:lnTo>
                <a:close/>
              </a:path>
              <a:path fill="darken" w="53704" h="21600">
                <a:moveTo>
                  <a:pt x="53704" y="0"/>
                </a:moveTo>
                <a:lnTo>
                  <a:pt x="53704" y="21600"/>
                </a:lnTo>
                <a:lnTo>
                  <a:pt x="52304" y="20200"/>
                </a:lnTo>
                <a:lnTo>
                  <a:pt x="52304" y="1400"/>
                </a:lnTo>
                <a:close/>
              </a:path>
              <a:path fill="darkenLess" w="53704" h="21600">
                <a:moveTo>
                  <a:pt x="53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4" y="20200"/>
                </a:lnTo>
                <a:close/>
              </a:path>
              <a:path fill="lighten" w="53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4" h="21600">
                <a:moveTo>
                  <a:pt x="19846" y="10800"/>
                </a:moveTo>
                <a:lnTo>
                  <a:pt x="33859" y="3794"/>
                </a:lnTo>
                <a:lnTo>
                  <a:pt x="33859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828800" y="533520"/>
            <a:ext cx="56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меняя знаки действий, напиши число 3 тремя двойк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800600" y="304812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971800" y="304812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990720" y="304812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7315200" y="3124080"/>
            <a:ext cx="880920" cy="10461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6172200" y="3276720"/>
            <a:ext cx="60948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">
            <a:hlinkClick r:id="rId5" action="ppaction://hlinksldjump"/>
          </p:cNvPr>
          <p:cNvSpPr/>
          <p:nvPr/>
        </p:nvSpPr>
        <p:spPr>
          <a:xfrm>
            <a:off x="7667640" y="6165720"/>
            <a:ext cx="649440" cy="287640"/>
          </a:xfrm>
          <a:custGeom>
            <a:avLst/>
            <a:gdLst>
              <a:gd name="textAreaLeft" fmla="*/ 18360 w 649440"/>
              <a:gd name="textAreaRight" fmla="*/ 631080 w 6494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8735" h="21600">
                <a:moveTo>
                  <a:pt x="0" y="0"/>
                </a:moveTo>
                <a:lnTo>
                  <a:pt x="48735" y="0"/>
                </a:lnTo>
                <a:lnTo>
                  <a:pt x="48735" y="21600"/>
                </a:lnTo>
                <a:lnTo>
                  <a:pt x="0" y="21600"/>
                </a:lnTo>
                <a:close/>
              </a:path>
              <a:path fill="lightenLess" w="48735" h="21600">
                <a:moveTo>
                  <a:pt x="0" y="0"/>
                </a:moveTo>
                <a:lnTo>
                  <a:pt x="48735" y="0"/>
                </a:lnTo>
                <a:lnTo>
                  <a:pt x="47335" y="1400"/>
                </a:lnTo>
                <a:lnTo>
                  <a:pt x="1400" y="1400"/>
                </a:lnTo>
                <a:close/>
              </a:path>
              <a:path fill="darken" w="48735" h="21600">
                <a:moveTo>
                  <a:pt x="48735" y="0"/>
                </a:moveTo>
                <a:lnTo>
                  <a:pt x="48735" y="21600"/>
                </a:lnTo>
                <a:lnTo>
                  <a:pt x="47335" y="20200"/>
                </a:lnTo>
                <a:lnTo>
                  <a:pt x="47335" y="1400"/>
                </a:lnTo>
                <a:close/>
              </a:path>
              <a:path fill="darkenLess" w="48735" h="21600">
                <a:moveTo>
                  <a:pt x="48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35" y="20200"/>
                </a:lnTo>
                <a:close/>
              </a:path>
              <a:path fill="lighten" w="48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735" h="21600">
                <a:moveTo>
                  <a:pt x="17361" y="10800"/>
                </a:moveTo>
                <a:lnTo>
                  <a:pt x="31374" y="3794"/>
                </a:lnTo>
                <a:lnTo>
                  <a:pt x="31374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219320" y="609480"/>
            <a:ext cx="643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меняя знаки действий, напиши число 3 четырьмя двойк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162920" y="335268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029200" y="327672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3581280" y="327672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2209680" y="327672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685800" y="3276720"/>
            <a:ext cx="880920" cy="10461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6248520" y="3581280"/>
            <a:ext cx="6094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">
            <a:hlinkClick r:id="rId6" action="ppaction://hlinksldjump"/>
          </p:cNvPr>
          <p:cNvSpPr/>
          <p:nvPr/>
        </p:nvSpPr>
        <p:spPr>
          <a:xfrm>
            <a:off x="7667640" y="6093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90720" y="5335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меняя знаки действий, напиши число 5 четырьмя двойк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086600" y="358128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200400" y="350532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1905120" y="350532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457200" y="3505320"/>
            <a:ext cx="880920" cy="10461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6019920" y="3809880"/>
            <a:ext cx="6094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">
            <a:hlinkClick r:id="rId6" action="ppaction://hlinksldjump"/>
          </p:cNvPr>
          <p:cNvSpPr/>
          <p:nvPr/>
        </p:nvSpPr>
        <p:spPr>
          <a:xfrm>
            <a:off x="7812000" y="6237360"/>
            <a:ext cx="649440" cy="287280"/>
          </a:xfrm>
          <a:custGeom>
            <a:avLst/>
            <a:gdLst>
              <a:gd name="textAreaLeft" fmla="*/ 18360 w 649440"/>
              <a:gd name="textAreaRight" fmla="*/ 631080 w 649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796" h="21600">
                <a:moveTo>
                  <a:pt x="0" y="0"/>
                </a:moveTo>
                <a:lnTo>
                  <a:pt x="48796" y="0"/>
                </a:lnTo>
                <a:lnTo>
                  <a:pt x="48796" y="21600"/>
                </a:lnTo>
                <a:lnTo>
                  <a:pt x="0" y="21600"/>
                </a:lnTo>
                <a:close/>
              </a:path>
              <a:path fill="lightenLess" w="48796" h="21600">
                <a:moveTo>
                  <a:pt x="0" y="0"/>
                </a:moveTo>
                <a:lnTo>
                  <a:pt x="48796" y="0"/>
                </a:lnTo>
                <a:lnTo>
                  <a:pt x="47396" y="1400"/>
                </a:lnTo>
                <a:lnTo>
                  <a:pt x="1400" y="1400"/>
                </a:lnTo>
                <a:close/>
              </a:path>
              <a:path fill="darken" w="48796" h="21600">
                <a:moveTo>
                  <a:pt x="48796" y="0"/>
                </a:moveTo>
                <a:lnTo>
                  <a:pt x="48796" y="21600"/>
                </a:lnTo>
                <a:lnTo>
                  <a:pt x="47396" y="20200"/>
                </a:lnTo>
                <a:lnTo>
                  <a:pt x="47396" y="1400"/>
                </a:lnTo>
                <a:close/>
              </a:path>
              <a:path fill="darkenLess" w="48796" h="21600">
                <a:moveTo>
                  <a:pt x="4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96" y="20200"/>
                </a:lnTo>
                <a:close/>
              </a:path>
              <a:path fill="lighten" w="4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796" h="21600">
                <a:moveTo>
                  <a:pt x="17392" y="10800"/>
                </a:moveTo>
                <a:lnTo>
                  <a:pt x="31404" y="3794"/>
                </a:lnTo>
                <a:lnTo>
                  <a:pt x="31404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0880" y="380880"/>
            <a:ext cx="8458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третились три мальчика. Познакомились. Оказалось, что их фамилии Белов, Чернов, Рыж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 только посмотрите, -воскликнул Белов. – У одного из нас белые, у одного чёрные и одного рыжие волосы, но ни у кого цвет волос не совпадает с тем, на который указывает его фамилия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ы прав, - ответил ему черноволосый мальчи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ите, какой цвет волос у каждого мальч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124080" y="4124160"/>
            <a:ext cx="2971800" cy="23036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rId2" action="ppaction://hlinksldjump"/>
          </p:cNvPr>
          <p:cNvSpPr/>
          <p:nvPr/>
        </p:nvSpPr>
        <p:spPr>
          <a:xfrm>
            <a:off x="7667640" y="6093000"/>
            <a:ext cx="792000" cy="3585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7685" h="21600">
                <a:moveTo>
                  <a:pt x="0" y="0"/>
                </a:moveTo>
                <a:lnTo>
                  <a:pt x="47685" y="0"/>
                </a:lnTo>
                <a:lnTo>
                  <a:pt x="47685" y="21600"/>
                </a:lnTo>
                <a:lnTo>
                  <a:pt x="0" y="21600"/>
                </a:lnTo>
                <a:close/>
              </a:path>
              <a:path fill="lightenLess" w="47685" h="21600">
                <a:moveTo>
                  <a:pt x="0" y="0"/>
                </a:moveTo>
                <a:lnTo>
                  <a:pt x="47685" y="0"/>
                </a:lnTo>
                <a:lnTo>
                  <a:pt x="46285" y="1400"/>
                </a:lnTo>
                <a:lnTo>
                  <a:pt x="1400" y="1400"/>
                </a:lnTo>
                <a:close/>
              </a:path>
              <a:path fill="darken" w="47685" h="21600">
                <a:moveTo>
                  <a:pt x="47685" y="0"/>
                </a:moveTo>
                <a:lnTo>
                  <a:pt x="47685" y="21600"/>
                </a:lnTo>
                <a:lnTo>
                  <a:pt x="46285" y="20200"/>
                </a:lnTo>
                <a:lnTo>
                  <a:pt x="46285" y="1400"/>
                </a:lnTo>
                <a:close/>
              </a:path>
              <a:path fill="darkenLess" w="47685" h="21600">
                <a:moveTo>
                  <a:pt x="47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85" y="20200"/>
                </a:lnTo>
                <a:close/>
              </a:path>
              <a:path fill="lighten" w="47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85" h="21600">
                <a:moveTo>
                  <a:pt x="16836" y="10800"/>
                </a:moveTo>
                <a:lnTo>
                  <a:pt x="30849" y="3794"/>
                </a:lnTo>
                <a:lnTo>
                  <a:pt x="30849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09480" y="380880"/>
            <a:ext cx="81536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лег, Коля и Ваня живут в одном доме. Каждый из них занимается музыкой: пением, игрой на скрипке или пианино. Известно, ч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Коля живёт на том же этаже, что и певец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Пианист и Олег ходят в разные класс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Олег и певец родились в одном месяц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ем занимается каждый из мальчиков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943600" y="3962520"/>
            <a:ext cx="2819520" cy="22096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3048120" y="4191120"/>
            <a:ext cx="2438280" cy="2090520"/>
          </a:xfrm>
          <a:prstGeom prst="rect">
            <a:avLst/>
          </a:prstGeom>
          <a:ln w="0">
            <a:noFill/>
          </a:ln>
        </p:spPr>
      </p:pic>
      <p:sp>
        <p:nvSpPr>
          <p:cNvPr id="284" name="">
            <a:hlinkClick r:id="rId4" action="ppaction://hlinksldjump"/>
          </p:cNvPr>
          <p:cNvSpPr/>
          <p:nvPr/>
        </p:nvSpPr>
        <p:spPr>
          <a:xfrm>
            <a:off x="7885080" y="623736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49" h="21600">
                <a:moveTo>
                  <a:pt x="20068" y="10800"/>
                </a:moveTo>
                <a:lnTo>
                  <a:pt x="34081" y="3794"/>
                </a:lnTo>
                <a:lnTo>
                  <a:pt x="34081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14400" y="304920"/>
            <a:ext cx="762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ёша, Боря и Витя учатся в одном классе. Один ездит домой из школы на автобусе, другой – на трамвае, третий – на троллейбусе. Алёша однажды после уроков пошёл проводить друга до автобусной остановки. Когда мимо них проходил троллейбус, третий друг крикнул из окна: «Боря, ты забыл в школе дневник!». Кто на чём ездит домой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590920" cy="19717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124080" y="3124080"/>
            <a:ext cx="3505320" cy="2808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553080" y="3581280"/>
            <a:ext cx="2210040" cy="2187720"/>
          </a:xfrm>
          <a:prstGeom prst="rect">
            <a:avLst/>
          </a:prstGeom>
          <a:ln w="0">
            <a:noFill/>
          </a:ln>
        </p:spPr>
      </p:pic>
      <p:sp>
        <p:nvSpPr>
          <p:cNvPr id="289" name="">
            <a:hlinkClick r:id="rId4" action="ppaction://hlinksldjump"/>
          </p:cNvPr>
          <p:cNvSpPr/>
          <p:nvPr/>
        </p:nvSpPr>
        <p:spPr>
          <a:xfrm>
            <a:off x="7812000" y="6237360"/>
            <a:ext cx="649440" cy="287280"/>
          </a:xfrm>
          <a:custGeom>
            <a:avLst/>
            <a:gdLst>
              <a:gd name="textAreaLeft" fmla="*/ 18360 w 649440"/>
              <a:gd name="textAreaRight" fmla="*/ 631080 w 649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796" h="21600">
                <a:moveTo>
                  <a:pt x="0" y="0"/>
                </a:moveTo>
                <a:lnTo>
                  <a:pt x="48796" y="0"/>
                </a:lnTo>
                <a:lnTo>
                  <a:pt x="48796" y="21600"/>
                </a:lnTo>
                <a:lnTo>
                  <a:pt x="0" y="21600"/>
                </a:lnTo>
                <a:close/>
              </a:path>
              <a:path fill="lightenLess" w="48796" h="21600">
                <a:moveTo>
                  <a:pt x="0" y="0"/>
                </a:moveTo>
                <a:lnTo>
                  <a:pt x="48796" y="0"/>
                </a:lnTo>
                <a:lnTo>
                  <a:pt x="47396" y="1400"/>
                </a:lnTo>
                <a:lnTo>
                  <a:pt x="1400" y="1400"/>
                </a:lnTo>
                <a:close/>
              </a:path>
              <a:path fill="darken" w="48796" h="21600">
                <a:moveTo>
                  <a:pt x="48796" y="0"/>
                </a:moveTo>
                <a:lnTo>
                  <a:pt x="48796" y="21600"/>
                </a:lnTo>
                <a:lnTo>
                  <a:pt x="47396" y="20200"/>
                </a:lnTo>
                <a:lnTo>
                  <a:pt x="47396" y="1400"/>
                </a:lnTo>
                <a:close/>
              </a:path>
              <a:path fill="darkenLess" w="48796" h="21600">
                <a:moveTo>
                  <a:pt x="4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96" y="20200"/>
                </a:lnTo>
                <a:close/>
              </a:path>
              <a:path fill="lighten" w="4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796" h="21600">
                <a:moveTo>
                  <a:pt x="17392" y="10800"/>
                </a:moveTo>
                <a:lnTo>
                  <a:pt x="31404" y="3794"/>
                </a:lnTo>
                <a:lnTo>
                  <a:pt x="31404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2133720"/>
            <a:ext cx="84978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ь: «потопить» корабли противника, путём попадания в корабл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грают три команд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сли выстрел команды попадает в корабль, то команде сразу начисляется 1 очко, право сделать следующий выстр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сли попали в задание, то вы рядом с бортом корабля. Задание нужно выполнить. Задание выполнено верно – 1 очко, нет – право ответить переходит к другой команде и выстрел тоже делает другая коман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сли выстрел мимо – ход переходит к другой коман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 обдумывание вопроса – 30 с. (в некоторых случаях 1 минут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гра останавливается, когда потоплены все кораб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беждает команда, набравшая больше оч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1280" y="620640"/>
            <a:ext cx="784836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А ИГРЫ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90720" y="533520"/>
            <a:ext cx="7391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столе лежат в ряд квадрат, круг и треугольник (именно в таком порядке). Одна из фигур красного цвета, другая – жёлтого, третья – синего. Определите цвет каждой фигуры, если известно, что квадрат не красный. И ещё: с одной стороны от синей фигурки лежит жёлтая фигурка, а с другой – красна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42920" y="4508640"/>
            <a:ext cx="129564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80000" y="4292640"/>
            <a:ext cx="1600200" cy="1600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43640" y="4365720"/>
            <a:ext cx="1981080" cy="137160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>
            <a:hlinkClick r:id="rId1" action="ppaction://hlinksldjump"/>
          </p:cNvPr>
          <p:cNvSpPr/>
          <p:nvPr/>
        </p:nvSpPr>
        <p:spPr>
          <a:xfrm>
            <a:off x="795672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066680" y="152388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447920" y="380880"/>
            <a:ext cx="6781680" cy="800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то это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"/>
          <p:cNvSpPr/>
          <p:nvPr/>
        </p:nvSpPr>
        <p:spPr>
          <a:xfrm>
            <a:off x="1066680" y="182880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ранцузский учёный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VII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ал интересоваться математикой в столь раннем возрасте, что отец ему запретил ею заниматься. В шестнадцатилетнем возрасте он доказал утверждение, которое до сих пор изучается в высших учебных заведениях. Он сконструировал  первую вычислительную машин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5105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. Паскаль           П. Лаплас         Э. Галу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7451640" y="6093000"/>
            <a:ext cx="792360" cy="3585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7706" h="21600">
                <a:moveTo>
                  <a:pt x="0" y="0"/>
                </a:moveTo>
                <a:lnTo>
                  <a:pt x="47706" y="0"/>
                </a:lnTo>
                <a:lnTo>
                  <a:pt x="47706" y="21600"/>
                </a:lnTo>
                <a:lnTo>
                  <a:pt x="0" y="21600"/>
                </a:lnTo>
                <a:close/>
              </a:path>
              <a:path fill="lightenLess" w="47706" h="21600">
                <a:moveTo>
                  <a:pt x="0" y="0"/>
                </a:moveTo>
                <a:lnTo>
                  <a:pt x="47706" y="0"/>
                </a:lnTo>
                <a:lnTo>
                  <a:pt x="46306" y="1400"/>
                </a:lnTo>
                <a:lnTo>
                  <a:pt x="1400" y="1400"/>
                </a:lnTo>
                <a:close/>
              </a:path>
              <a:path fill="darken" w="47706" h="21600">
                <a:moveTo>
                  <a:pt x="47706" y="0"/>
                </a:moveTo>
                <a:lnTo>
                  <a:pt x="47706" y="21600"/>
                </a:lnTo>
                <a:lnTo>
                  <a:pt x="46306" y="20200"/>
                </a:lnTo>
                <a:lnTo>
                  <a:pt x="46306" y="1400"/>
                </a:lnTo>
                <a:close/>
              </a:path>
              <a:path fill="darkenLess" w="47706" h="21600">
                <a:moveTo>
                  <a:pt x="47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306" y="20200"/>
                </a:lnTo>
                <a:close/>
              </a:path>
              <a:path fill="lighten" w="47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706" h="21600">
                <a:moveTo>
                  <a:pt x="16847" y="10800"/>
                </a:moveTo>
                <a:lnTo>
                  <a:pt x="30860" y="3794"/>
                </a:lnTo>
                <a:lnTo>
                  <a:pt x="3086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447920" y="380880"/>
            <a:ext cx="6781680" cy="800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то это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18288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возрасте трёх лет он заметил ошибку в расчётах отца. Позднее он стал одним из крупнейших математиков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ека. Его называют «царём математиков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52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толомей             Б. Кавальери         К. Гау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7885080" y="6165720"/>
            <a:ext cx="792360" cy="3603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68" h="21600">
                <a:moveTo>
                  <a:pt x="0" y="0"/>
                </a:moveTo>
                <a:lnTo>
                  <a:pt x="47468" y="0"/>
                </a:lnTo>
                <a:lnTo>
                  <a:pt x="47468" y="21600"/>
                </a:lnTo>
                <a:lnTo>
                  <a:pt x="0" y="21600"/>
                </a:lnTo>
                <a:close/>
              </a:path>
              <a:path fill="lightenLess" w="47468" h="21600">
                <a:moveTo>
                  <a:pt x="0" y="0"/>
                </a:moveTo>
                <a:lnTo>
                  <a:pt x="47468" y="0"/>
                </a:lnTo>
                <a:lnTo>
                  <a:pt x="46068" y="1400"/>
                </a:lnTo>
                <a:lnTo>
                  <a:pt x="1400" y="1400"/>
                </a:lnTo>
                <a:close/>
              </a:path>
              <a:path fill="darken" w="47468" h="21600">
                <a:moveTo>
                  <a:pt x="47468" y="0"/>
                </a:moveTo>
                <a:lnTo>
                  <a:pt x="47468" y="21600"/>
                </a:lnTo>
                <a:lnTo>
                  <a:pt x="46068" y="20200"/>
                </a:lnTo>
                <a:lnTo>
                  <a:pt x="46068" y="1400"/>
                </a:lnTo>
                <a:close/>
              </a:path>
              <a:path fill="darkenLess" w="47468" h="21600">
                <a:moveTo>
                  <a:pt x="47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68" y="20200"/>
                </a:lnTo>
                <a:close/>
              </a:path>
              <a:path fill="lighten" w="47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68" h="21600">
                <a:moveTo>
                  <a:pt x="16728" y="10800"/>
                </a:moveTo>
                <a:lnTo>
                  <a:pt x="30741" y="3794"/>
                </a:lnTo>
                <a:lnTo>
                  <a:pt x="30741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447920" y="380880"/>
            <a:ext cx="6781680" cy="800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то это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828800"/>
            <a:ext cx="739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обыкновенные дарования проявил в детстве один из виднейших английских математико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ка. В 10 лет он изучил геометрию. Когда в его родной город приехал изумительный счётчик Кольбурн и выступал на эстраде, мальчик вступил с ним в соревнование и ни в чём не уступил. В 13 лет он поступил в университет, а в 22 года он был назначен профессором этого университе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5410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амильтон          Лобачевский          Колмог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7740720" y="623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447920" y="380880"/>
            <a:ext cx="6781680" cy="800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то это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160020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н славился среди греков своими изобретениями. Под его руководством горожане построили много военных машин для защиты родного города Сиракузы от войск могущественного Рима. Учёный построил громадные зеркала и с их помощью сжёг римские кораб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808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алес         Архимед         Пифаг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802800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10800"/>
                </a:moveTo>
                <a:lnTo>
                  <a:pt x="26485" y="3794"/>
                </a:lnTo>
                <a:lnTo>
                  <a:pt x="26485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1447920" y="380880"/>
            <a:ext cx="6781680" cy="800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то это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4382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втор первого напечатанного русского учебника математи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90720" y="5257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иленкин       Колмогоров       Магнит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7885080" y="6165720"/>
            <a:ext cx="649440" cy="287640"/>
          </a:xfrm>
          <a:custGeom>
            <a:avLst/>
            <a:gdLst>
              <a:gd name="textAreaLeft" fmla="*/ 18360 w 649440"/>
              <a:gd name="textAreaRight" fmla="*/ 631080 w 6494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8735" h="21600">
                <a:moveTo>
                  <a:pt x="0" y="0"/>
                </a:moveTo>
                <a:lnTo>
                  <a:pt x="48735" y="0"/>
                </a:lnTo>
                <a:lnTo>
                  <a:pt x="48735" y="21600"/>
                </a:lnTo>
                <a:lnTo>
                  <a:pt x="0" y="21600"/>
                </a:lnTo>
                <a:close/>
              </a:path>
              <a:path fill="lightenLess" w="48735" h="21600">
                <a:moveTo>
                  <a:pt x="0" y="0"/>
                </a:moveTo>
                <a:lnTo>
                  <a:pt x="48735" y="0"/>
                </a:lnTo>
                <a:lnTo>
                  <a:pt x="47335" y="1400"/>
                </a:lnTo>
                <a:lnTo>
                  <a:pt x="1400" y="1400"/>
                </a:lnTo>
                <a:close/>
              </a:path>
              <a:path fill="darken" w="48735" h="21600">
                <a:moveTo>
                  <a:pt x="48735" y="0"/>
                </a:moveTo>
                <a:lnTo>
                  <a:pt x="48735" y="21600"/>
                </a:lnTo>
                <a:lnTo>
                  <a:pt x="47335" y="20200"/>
                </a:lnTo>
                <a:lnTo>
                  <a:pt x="47335" y="1400"/>
                </a:lnTo>
                <a:close/>
              </a:path>
              <a:path fill="darkenLess" w="48735" h="21600">
                <a:moveTo>
                  <a:pt x="48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35" y="20200"/>
                </a:lnTo>
                <a:close/>
              </a:path>
              <a:path fill="lighten" w="48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735" h="21600">
                <a:moveTo>
                  <a:pt x="17361" y="10800"/>
                </a:moveTo>
                <a:lnTo>
                  <a:pt x="31374" y="3794"/>
                </a:lnTo>
                <a:lnTo>
                  <a:pt x="31374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447920" y="380880"/>
            <a:ext cx="6781680" cy="800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то это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220968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вая русская женщина – математик, Член- корреспондент Петербургской Академии нау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5181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. В. Ковалевская      П. Я. Кочина          О. А. Ладыженс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>
            <a:hlinkClick r:id="rId1" action="ppaction://hlinksldjump"/>
          </p:cNvPr>
          <p:cNvSpPr/>
          <p:nvPr/>
        </p:nvSpPr>
        <p:spPr>
          <a:xfrm>
            <a:off x="7956720" y="630864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533520" y="304920"/>
            <a:ext cx="7848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гадай ребу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676520" y="3352680"/>
            <a:ext cx="99036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267080" y="3124080"/>
            <a:ext cx="804960" cy="17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324480" y="3581280"/>
            <a:ext cx="11430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7812000" y="609300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533520" y="304920"/>
            <a:ext cx="7848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гадай ребу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200400" y="3124080"/>
            <a:ext cx="1447920" cy="1905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715000" y="3124080"/>
            <a:ext cx="1066680" cy="1905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038480" y="2666880"/>
            <a:ext cx="1981440" cy="251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4208b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e4208b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7885080" y="609300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533520" y="304920"/>
            <a:ext cx="7848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гадай ребу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733920" y="2057400"/>
            <a:ext cx="1828800" cy="1523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114800" y="4191120"/>
            <a:ext cx="114300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3733920"/>
            <a:ext cx="28954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>
            <a:hlinkClick r:id="rId1" action="ppaction://hlinksldjump"/>
          </p:cNvPr>
          <p:cNvSpPr/>
          <p:nvPr/>
        </p:nvSpPr>
        <p:spPr>
          <a:xfrm>
            <a:off x="7885080" y="6237360"/>
            <a:ext cx="719280" cy="288720"/>
          </a:xfrm>
          <a:custGeom>
            <a:avLst/>
            <a:gdLst>
              <a:gd name="textAreaLeft" fmla="*/ 18720 w 719280"/>
              <a:gd name="textAreaRight" fmla="*/ 700560 w 719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3771" h="21600">
                <a:moveTo>
                  <a:pt x="0" y="0"/>
                </a:moveTo>
                <a:lnTo>
                  <a:pt x="53771" y="0"/>
                </a:lnTo>
                <a:lnTo>
                  <a:pt x="53771" y="21600"/>
                </a:lnTo>
                <a:lnTo>
                  <a:pt x="0" y="21600"/>
                </a:lnTo>
                <a:close/>
              </a:path>
              <a:path fill="lightenLess" w="53771" h="21600">
                <a:moveTo>
                  <a:pt x="0" y="0"/>
                </a:moveTo>
                <a:lnTo>
                  <a:pt x="53771" y="0"/>
                </a:lnTo>
                <a:lnTo>
                  <a:pt x="52371" y="1400"/>
                </a:lnTo>
                <a:lnTo>
                  <a:pt x="1400" y="1400"/>
                </a:lnTo>
                <a:close/>
              </a:path>
              <a:path fill="darken" w="53771" h="21600">
                <a:moveTo>
                  <a:pt x="53771" y="0"/>
                </a:moveTo>
                <a:lnTo>
                  <a:pt x="53771" y="21600"/>
                </a:lnTo>
                <a:lnTo>
                  <a:pt x="52371" y="20200"/>
                </a:lnTo>
                <a:lnTo>
                  <a:pt x="52371" y="1400"/>
                </a:lnTo>
                <a:close/>
              </a:path>
              <a:path fill="darkenLess" w="53771" h="21600">
                <a:moveTo>
                  <a:pt x="53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71" y="20200"/>
                </a:lnTo>
                <a:close/>
              </a:path>
              <a:path fill="lighten" w="53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71" h="21600">
                <a:moveTo>
                  <a:pt x="19879" y="10800"/>
                </a:moveTo>
                <a:lnTo>
                  <a:pt x="33892" y="3794"/>
                </a:lnTo>
                <a:lnTo>
                  <a:pt x="33892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990720" y="5335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5257800" y="5335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4648320" y="5335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4038480" y="5335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>
            <a:hlinkClick r:id="rId5" action="ppaction://hlinksldjump"/>
          </p:cNvPr>
          <p:cNvSpPr/>
          <p:nvPr/>
        </p:nvSpPr>
        <p:spPr>
          <a:xfrm>
            <a:off x="3429000" y="5335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>
            <a:hlinkClick r:id="rId6" action="ppaction://hlinksldjump"/>
          </p:cNvPr>
          <p:cNvSpPr/>
          <p:nvPr/>
        </p:nvSpPr>
        <p:spPr>
          <a:xfrm>
            <a:off x="2819520" y="5335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>
            <a:hlinkClick r:id="rId7" action="ppaction://hlinksldjump"/>
          </p:cNvPr>
          <p:cNvSpPr/>
          <p:nvPr/>
        </p:nvSpPr>
        <p:spPr>
          <a:xfrm>
            <a:off x="2209680" y="5335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>
            <a:hlinkClick r:id="rId8" action="ppaction://hlinksldjump"/>
          </p:cNvPr>
          <p:cNvSpPr/>
          <p:nvPr/>
        </p:nvSpPr>
        <p:spPr>
          <a:xfrm>
            <a:off x="1600200" y="5335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>
            <a:hlinkClick r:id="rId9" action="ppaction://hlinksldjump"/>
          </p:cNvPr>
          <p:cNvSpPr/>
          <p:nvPr/>
        </p:nvSpPr>
        <p:spPr>
          <a:xfrm>
            <a:off x="3429000" y="11430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rId10" action="ppaction://hlinksldjump"/>
          </p:cNvPr>
          <p:cNvSpPr/>
          <p:nvPr/>
        </p:nvSpPr>
        <p:spPr>
          <a:xfrm>
            <a:off x="4038480" y="11430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>
            <a:hlinkClick r:id="rId11" action="ppaction://hlinksldjump"/>
          </p:cNvPr>
          <p:cNvSpPr/>
          <p:nvPr/>
        </p:nvSpPr>
        <p:spPr>
          <a:xfrm>
            <a:off x="4648320" y="11430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>
            <a:hlinkClick r:id="rId12" action="ppaction://hlinksldjump"/>
          </p:cNvPr>
          <p:cNvSpPr/>
          <p:nvPr/>
        </p:nvSpPr>
        <p:spPr>
          <a:xfrm>
            <a:off x="5257800" y="11430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>
            <a:hlinkClick r:id="rId13" action="ppaction://hlinksldjump"/>
          </p:cNvPr>
          <p:cNvSpPr/>
          <p:nvPr/>
        </p:nvSpPr>
        <p:spPr>
          <a:xfrm>
            <a:off x="5867280" y="11430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>
            <a:hlinkClick r:id="rId14" action="ppaction://hlinksldjump"/>
          </p:cNvPr>
          <p:cNvSpPr/>
          <p:nvPr/>
        </p:nvSpPr>
        <p:spPr>
          <a:xfrm>
            <a:off x="6477120" y="11430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>
            <a:hlinkClick r:id="rId15" action="ppaction://hlinksldjump"/>
          </p:cNvPr>
          <p:cNvSpPr/>
          <p:nvPr/>
        </p:nvSpPr>
        <p:spPr>
          <a:xfrm>
            <a:off x="6477120" y="5335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>
            <a:hlinkClick r:id="rId16" action="ppaction://hlinksldjump"/>
          </p:cNvPr>
          <p:cNvSpPr/>
          <p:nvPr/>
        </p:nvSpPr>
        <p:spPr>
          <a:xfrm>
            <a:off x="5867280" y="5335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>
            <a:hlinkClick r:id="rId17" action="ppaction://hlinksldjump"/>
          </p:cNvPr>
          <p:cNvSpPr/>
          <p:nvPr/>
        </p:nvSpPr>
        <p:spPr>
          <a:xfrm>
            <a:off x="1600200" y="11430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>
            <a:hlinkClick r:id="rId18" action="ppaction://hlinksldjump"/>
          </p:cNvPr>
          <p:cNvSpPr/>
          <p:nvPr/>
        </p:nvSpPr>
        <p:spPr>
          <a:xfrm>
            <a:off x="2819520" y="17524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>
            <a:hlinkClick r:id="rId19" action="ppaction://hlinksldjump"/>
          </p:cNvPr>
          <p:cNvSpPr/>
          <p:nvPr/>
        </p:nvSpPr>
        <p:spPr>
          <a:xfrm>
            <a:off x="3429000" y="17524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>
            <a:hlinkClick r:id="rId20" action="ppaction://hlinksldjump"/>
          </p:cNvPr>
          <p:cNvSpPr/>
          <p:nvPr/>
        </p:nvSpPr>
        <p:spPr>
          <a:xfrm>
            <a:off x="4038480" y="17524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>
            <a:hlinkClick r:id="rId21" action="ppaction://hlinksldjump"/>
          </p:cNvPr>
          <p:cNvSpPr/>
          <p:nvPr/>
        </p:nvSpPr>
        <p:spPr>
          <a:xfrm>
            <a:off x="4648320" y="17524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>
            <a:hlinkClick r:id="rId22" action="ppaction://hlinksldjump"/>
          </p:cNvPr>
          <p:cNvSpPr/>
          <p:nvPr/>
        </p:nvSpPr>
        <p:spPr>
          <a:xfrm>
            <a:off x="5257800" y="17524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23" action="ppaction://hlinksldjump"/>
          </p:cNvPr>
          <p:cNvSpPr/>
          <p:nvPr/>
        </p:nvSpPr>
        <p:spPr>
          <a:xfrm>
            <a:off x="5867280" y="17524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>
            <a:hlinkClick r:id="rId24" action="ppaction://hlinksldjump"/>
          </p:cNvPr>
          <p:cNvSpPr/>
          <p:nvPr/>
        </p:nvSpPr>
        <p:spPr>
          <a:xfrm>
            <a:off x="6477120" y="17524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>
            <a:hlinkClick r:id="rId25" action="ppaction://hlinksldjump"/>
          </p:cNvPr>
          <p:cNvSpPr/>
          <p:nvPr/>
        </p:nvSpPr>
        <p:spPr>
          <a:xfrm>
            <a:off x="2209680" y="11430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>
            <a:hlinkClick r:id="rId26" action="ppaction://hlinksldjump"/>
          </p:cNvPr>
          <p:cNvSpPr/>
          <p:nvPr/>
        </p:nvSpPr>
        <p:spPr>
          <a:xfrm>
            <a:off x="2819520" y="11430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>
            <a:hlinkClick r:id="rId27" action="ppaction://hlinksldjump"/>
          </p:cNvPr>
          <p:cNvSpPr/>
          <p:nvPr/>
        </p:nvSpPr>
        <p:spPr>
          <a:xfrm>
            <a:off x="990720" y="11430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>
            <a:hlinkClick r:id="rId28" action="ppaction://hlinksldjump"/>
          </p:cNvPr>
          <p:cNvSpPr/>
          <p:nvPr/>
        </p:nvSpPr>
        <p:spPr>
          <a:xfrm>
            <a:off x="990720" y="17524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>
            <a:hlinkClick r:id="rId29" action="ppaction://hlinksldjump"/>
          </p:cNvPr>
          <p:cNvSpPr/>
          <p:nvPr/>
        </p:nvSpPr>
        <p:spPr>
          <a:xfrm>
            <a:off x="1600200" y="17524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>
            <a:hlinkClick r:id="rId30" action="ppaction://hlinksldjump"/>
          </p:cNvPr>
          <p:cNvSpPr/>
          <p:nvPr/>
        </p:nvSpPr>
        <p:spPr>
          <a:xfrm>
            <a:off x="2209680" y="17524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>
            <a:hlinkClick r:id="rId31" action="ppaction://hlinksldjump"/>
          </p:cNvPr>
          <p:cNvSpPr/>
          <p:nvPr/>
        </p:nvSpPr>
        <p:spPr>
          <a:xfrm>
            <a:off x="990720" y="23623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>
            <a:hlinkClick r:id="rId32" action="ppaction://hlinksldjump"/>
          </p:cNvPr>
          <p:cNvSpPr/>
          <p:nvPr/>
        </p:nvSpPr>
        <p:spPr>
          <a:xfrm>
            <a:off x="990720" y="29718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>
            <a:hlinkClick r:id="rId33" action="ppaction://hlinksldjump"/>
          </p:cNvPr>
          <p:cNvSpPr/>
          <p:nvPr/>
        </p:nvSpPr>
        <p:spPr>
          <a:xfrm>
            <a:off x="990720" y="35812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>
            <a:hlinkClick r:id="rId34" action="ppaction://hlinksldjump"/>
          </p:cNvPr>
          <p:cNvSpPr/>
          <p:nvPr/>
        </p:nvSpPr>
        <p:spPr>
          <a:xfrm>
            <a:off x="990720" y="4191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>
            <a:hlinkClick r:id="rId35" action="ppaction://hlinksldjump"/>
          </p:cNvPr>
          <p:cNvSpPr/>
          <p:nvPr/>
        </p:nvSpPr>
        <p:spPr>
          <a:xfrm>
            <a:off x="990720" y="48006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>
            <a:hlinkClick r:id="rId36" action="ppaction://hlinksldjump"/>
          </p:cNvPr>
          <p:cNvSpPr/>
          <p:nvPr/>
        </p:nvSpPr>
        <p:spPr>
          <a:xfrm>
            <a:off x="990720" y="54100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>
            <a:hlinkClick r:id="rId37" action="ppaction://hlinksldjump"/>
          </p:cNvPr>
          <p:cNvSpPr/>
          <p:nvPr/>
        </p:nvSpPr>
        <p:spPr>
          <a:xfrm>
            <a:off x="1600200" y="23623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>
            <a:hlinkClick r:id="rId38" action="ppaction://hlinksldjump"/>
          </p:cNvPr>
          <p:cNvSpPr/>
          <p:nvPr/>
        </p:nvSpPr>
        <p:spPr>
          <a:xfrm>
            <a:off x="2209680" y="23623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>
            <a:hlinkClick r:id="rId39" action="ppaction://hlinksldjump"/>
          </p:cNvPr>
          <p:cNvSpPr/>
          <p:nvPr/>
        </p:nvSpPr>
        <p:spPr>
          <a:xfrm>
            <a:off x="2819520" y="23623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>
            <a:hlinkClick r:id="rId40" action="ppaction://hlinksldjump"/>
          </p:cNvPr>
          <p:cNvSpPr/>
          <p:nvPr/>
        </p:nvSpPr>
        <p:spPr>
          <a:xfrm>
            <a:off x="3429000" y="23623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>
            <a:hlinkClick r:id="rId41" action="ppaction://hlinksldjump"/>
          </p:cNvPr>
          <p:cNvSpPr/>
          <p:nvPr/>
        </p:nvSpPr>
        <p:spPr>
          <a:xfrm>
            <a:off x="4038480" y="23623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>
            <a:hlinkClick r:id="rId42" action="ppaction://hlinksldjump"/>
          </p:cNvPr>
          <p:cNvSpPr/>
          <p:nvPr/>
        </p:nvSpPr>
        <p:spPr>
          <a:xfrm>
            <a:off x="4648320" y="23623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>
            <a:hlinkClick r:id="rId43" action="ppaction://hlinksldjump"/>
          </p:cNvPr>
          <p:cNvSpPr/>
          <p:nvPr/>
        </p:nvSpPr>
        <p:spPr>
          <a:xfrm>
            <a:off x="5257800" y="23623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>
            <a:hlinkClick r:id="rId44" action="ppaction://hlinksldjump"/>
          </p:cNvPr>
          <p:cNvSpPr/>
          <p:nvPr/>
        </p:nvSpPr>
        <p:spPr>
          <a:xfrm>
            <a:off x="6477120" y="23623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>
            <a:hlinkClick r:id="rId45" action="ppaction://hlinksldjump"/>
          </p:cNvPr>
          <p:cNvSpPr/>
          <p:nvPr/>
        </p:nvSpPr>
        <p:spPr>
          <a:xfrm>
            <a:off x="5867280" y="23623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>
            <a:hlinkClick r:id="rId46" action="ppaction://hlinksldjump"/>
          </p:cNvPr>
          <p:cNvSpPr/>
          <p:nvPr/>
        </p:nvSpPr>
        <p:spPr>
          <a:xfrm>
            <a:off x="1600200" y="29718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rId47" action="ppaction://hlinksldjump"/>
          </p:cNvPr>
          <p:cNvSpPr/>
          <p:nvPr/>
        </p:nvSpPr>
        <p:spPr>
          <a:xfrm>
            <a:off x="2209680" y="29718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>
            <a:hlinkClick r:id="rId48" action="ppaction://hlinksldjump"/>
          </p:cNvPr>
          <p:cNvSpPr/>
          <p:nvPr/>
        </p:nvSpPr>
        <p:spPr>
          <a:xfrm>
            <a:off x="2819520" y="29718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>
            <a:hlinkClick r:id="rId49" action="ppaction://hlinksldjump"/>
          </p:cNvPr>
          <p:cNvSpPr/>
          <p:nvPr/>
        </p:nvSpPr>
        <p:spPr>
          <a:xfrm>
            <a:off x="3429000" y="29718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>
            <a:hlinkClick r:id="rId50" action="ppaction://hlinksldjump"/>
          </p:cNvPr>
          <p:cNvSpPr/>
          <p:nvPr/>
        </p:nvSpPr>
        <p:spPr>
          <a:xfrm>
            <a:off x="4038480" y="29718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>
            <a:hlinkClick r:id="rId51" action="ppaction://hlinksldjump"/>
          </p:cNvPr>
          <p:cNvSpPr/>
          <p:nvPr/>
        </p:nvSpPr>
        <p:spPr>
          <a:xfrm>
            <a:off x="4648320" y="29718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rId52" action="ppaction://hlinksldjump"/>
          </p:cNvPr>
          <p:cNvSpPr/>
          <p:nvPr/>
        </p:nvSpPr>
        <p:spPr>
          <a:xfrm>
            <a:off x="5257800" y="29718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>
            <a:hlinkClick r:id="rId53" action="ppaction://hlinksldjump"/>
          </p:cNvPr>
          <p:cNvSpPr/>
          <p:nvPr/>
        </p:nvSpPr>
        <p:spPr>
          <a:xfrm>
            <a:off x="5867280" y="29718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rId54" action="ppaction://hlinksldjump"/>
          </p:cNvPr>
          <p:cNvSpPr/>
          <p:nvPr/>
        </p:nvSpPr>
        <p:spPr>
          <a:xfrm>
            <a:off x="6477120" y="29718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>
            <a:hlinkClick r:id="rId55" action="ppaction://hlinksldjump"/>
          </p:cNvPr>
          <p:cNvSpPr/>
          <p:nvPr/>
        </p:nvSpPr>
        <p:spPr>
          <a:xfrm>
            <a:off x="1600200" y="35812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rId56" action="ppaction://hlinksldjump"/>
          </p:cNvPr>
          <p:cNvSpPr/>
          <p:nvPr/>
        </p:nvSpPr>
        <p:spPr>
          <a:xfrm>
            <a:off x="2209680" y="35812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rId57" action="ppaction://hlinksldjump"/>
          </p:cNvPr>
          <p:cNvSpPr/>
          <p:nvPr/>
        </p:nvSpPr>
        <p:spPr>
          <a:xfrm>
            <a:off x="2819520" y="35812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rId58" action="ppaction://hlinksldjump"/>
          </p:cNvPr>
          <p:cNvSpPr/>
          <p:nvPr/>
        </p:nvSpPr>
        <p:spPr>
          <a:xfrm>
            <a:off x="3429000" y="35812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>
            <a:hlinkClick r:id="rId59" action="ppaction://hlinksldjump"/>
          </p:cNvPr>
          <p:cNvSpPr/>
          <p:nvPr/>
        </p:nvSpPr>
        <p:spPr>
          <a:xfrm>
            <a:off x="4038480" y="35812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>
            <a:hlinkClick r:id="rId60" action="ppaction://hlinksldjump"/>
          </p:cNvPr>
          <p:cNvSpPr/>
          <p:nvPr/>
        </p:nvSpPr>
        <p:spPr>
          <a:xfrm>
            <a:off x="4648320" y="35812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>
            <a:hlinkClick r:id="rId61" action="ppaction://hlinksldjump"/>
          </p:cNvPr>
          <p:cNvSpPr/>
          <p:nvPr/>
        </p:nvSpPr>
        <p:spPr>
          <a:xfrm>
            <a:off x="5257800" y="35812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>
            <a:hlinkClick r:id="rId62" action="ppaction://hlinksldjump"/>
          </p:cNvPr>
          <p:cNvSpPr/>
          <p:nvPr/>
        </p:nvSpPr>
        <p:spPr>
          <a:xfrm>
            <a:off x="5867280" y="35812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>
            <a:hlinkClick r:id="rId63" action="ppaction://hlinksldjump"/>
          </p:cNvPr>
          <p:cNvSpPr/>
          <p:nvPr/>
        </p:nvSpPr>
        <p:spPr>
          <a:xfrm>
            <a:off x="6477120" y="35812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rId64" action="ppaction://hlinksldjump"/>
          </p:cNvPr>
          <p:cNvSpPr/>
          <p:nvPr/>
        </p:nvSpPr>
        <p:spPr>
          <a:xfrm>
            <a:off x="1600200" y="4191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65" action="ppaction://hlinksldjump"/>
          </p:cNvPr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>
            <a:hlinkClick r:id="rId66" action="ppaction://hlinksldjump"/>
          </p:cNvPr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>
            <a:hlinkClick r:id="rId67" action="ppaction://hlinksldjump"/>
          </p:cNvPr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>
            <a:hlinkClick r:id="rId68" action="ppaction://hlinksldjump"/>
          </p:cNvPr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>
            <a:hlinkClick r:id="rId69" action="ppaction://hlinksldjump"/>
          </p:cNvPr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>
            <a:hlinkClick r:id="rId70" action="ppaction://hlinksldjump"/>
          </p:cNvPr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>
            <a:hlinkClick r:id="rId71" action="ppaction://hlinksldjump"/>
          </p:cNvPr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>
            <a:hlinkClick r:id="rId72" action="ppaction://hlinksldjump"/>
          </p:cNvPr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>
            <a:hlinkClick r:id="rId73" action="ppaction://hlinksldjump"/>
          </p:cNvPr>
          <p:cNvSpPr/>
          <p:nvPr/>
        </p:nvSpPr>
        <p:spPr>
          <a:xfrm>
            <a:off x="1600200" y="48006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>
            <a:hlinkClick r:id="rId74" action="ppaction://hlinksldjump"/>
          </p:cNvPr>
          <p:cNvSpPr/>
          <p:nvPr/>
        </p:nvSpPr>
        <p:spPr>
          <a:xfrm>
            <a:off x="2209680" y="48006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>
            <a:hlinkClick r:id="rId75" action="ppaction://hlinksldjump"/>
          </p:cNvPr>
          <p:cNvSpPr/>
          <p:nvPr/>
        </p:nvSpPr>
        <p:spPr>
          <a:xfrm>
            <a:off x="2819520" y="48006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>
            <a:hlinkClick r:id="rId76" action="ppaction://hlinksldjump"/>
          </p:cNvPr>
          <p:cNvSpPr/>
          <p:nvPr/>
        </p:nvSpPr>
        <p:spPr>
          <a:xfrm>
            <a:off x="3429000" y="48006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>
            <a:hlinkClick r:id="rId77" action="ppaction://hlinksldjump"/>
          </p:cNvPr>
          <p:cNvSpPr/>
          <p:nvPr/>
        </p:nvSpPr>
        <p:spPr>
          <a:xfrm>
            <a:off x="4038480" y="48006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>
            <a:hlinkClick r:id="rId78" action="ppaction://hlinksldjump"/>
          </p:cNvPr>
          <p:cNvSpPr/>
          <p:nvPr/>
        </p:nvSpPr>
        <p:spPr>
          <a:xfrm>
            <a:off x="4648320" y="48006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>
            <a:hlinkClick r:id="rId79" action="ppaction://hlinksldjump"/>
          </p:cNvPr>
          <p:cNvSpPr/>
          <p:nvPr/>
        </p:nvSpPr>
        <p:spPr>
          <a:xfrm>
            <a:off x="5257800" y="48006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>
            <a:hlinkClick r:id="rId80" action="ppaction://hlinksldjump"/>
          </p:cNvPr>
          <p:cNvSpPr/>
          <p:nvPr/>
        </p:nvSpPr>
        <p:spPr>
          <a:xfrm>
            <a:off x="5867280" y="48006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>
            <a:hlinkClick r:id="rId81" action="ppaction://hlinksldjump"/>
          </p:cNvPr>
          <p:cNvSpPr/>
          <p:nvPr/>
        </p:nvSpPr>
        <p:spPr>
          <a:xfrm>
            <a:off x="6477120" y="48006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>
            <a:hlinkClick r:id="rId82" action="ppaction://hlinksldjump"/>
          </p:cNvPr>
          <p:cNvSpPr/>
          <p:nvPr/>
        </p:nvSpPr>
        <p:spPr>
          <a:xfrm>
            <a:off x="1600200" y="54100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>
            <a:hlinkClick r:id="rId83" action="ppaction://hlinksldjump"/>
          </p:cNvPr>
          <p:cNvSpPr/>
          <p:nvPr/>
        </p:nvSpPr>
        <p:spPr>
          <a:xfrm>
            <a:off x="2209680" y="54100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>
            <a:hlinkClick r:id="rId84" action="ppaction://hlinksldjump"/>
          </p:cNvPr>
          <p:cNvSpPr/>
          <p:nvPr/>
        </p:nvSpPr>
        <p:spPr>
          <a:xfrm>
            <a:off x="2819520" y="54100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>
            <a:hlinkClick r:id="rId85" action="ppaction://hlinksldjump"/>
          </p:cNvPr>
          <p:cNvSpPr/>
          <p:nvPr/>
        </p:nvSpPr>
        <p:spPr>
          <a:xfrm>
            <a:off x="3429000" y="54100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>
            <a:hlinkClick r:id="rId86" action="ppaction://hlinksldjump"/>
          </p:cNvPr>
          <p:cNvSpPr/>
          <p:nvPr/>
        </p:nvSpPr>
        <p:spPr>
          <a:xfrm>
            <a:off x="4038480" y="54100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>
            <a:hlinkClick r:id="rId87" action="ppaction://hlinksldjump"/>
          </p:cNvPr>
          <p:cNvSpPr/>
          <p:nvPr/>
        </p:nvSpPr>
        <p:spPr>
          <a:xfrm>
            <a:off x="4648320" y="54100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>
            <a:hlinkClick r:id="rId88" action="ppaction://hlinksldjump"/>
          </p:cNvPr>
          <p:cNvSpPr/>
          <p:nvPr/>
        </p:nvSpPr>
        <p:spPr>
          <a:xfrm>
            <a:off x="5257800" y="54100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>
            <a:hlinkClick r:id="rId89" action="ppaction://hlinksldjump"/>
          </p:cNvPr>
          <p:cNvSpPr/>
          <p:nvPr/>
        </p:nvSpPr>
        <p:spPr>
          <a:xfrm>
            <a:off x="5867280" y="54100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>
            <a:hlinkClick r:id="rId90" action="ppaction://hlinksldjump"/>
          </p:cNvPr>
          <p:cNvSpPr/>
          <p:nvPr/>
        </p:nvSpPr>
        <p:spPr>
          <a:xfrm>
            <a:off x="6477120" y="54100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     Б      В      Г     Д     Е     Ж     З     И      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533520"/>
            <a:ext cx="685800" cy="62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5335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0120" y="12952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0120" y="1905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0120" y="26668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32767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0120" y="38862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46483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96080" y="52578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96080" y="58672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05920" y="58672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58200" y="533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45820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53452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61048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>
            <a:hlinkClick r:id="rId91" action="ppaction://hlinksldjump"/>
          </p:cNvPr>
          <p:cNvSpPr/>
          <p:nvPr/>
        </p:nvSpPr>
        <p:spPr>
          <a:xfrm>
            <a:off x="990720" y="60199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>
            <a:hlinkClick r:id="rId92" action="ppaction://hlinksldjump"/>
          </p:cNvPr>
          <p:cNvSpPr/>
          <p:nvPr/>
        </p:nvSpPr>
        <p:spPr>
          <a:xfrm>
            <a:off x="1600200" y="60199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>
            <a:hlinkClick r:id="rId93" action="ppaction://hlinksldjump"/>
          </p:cNvPr>
          <p:cNvSpPr/>
          <p:nvPr/>
        </p:nvSpPr>
        <p:spPr>
          <a:xfrm>
            <a:off x="2209680" y="60199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>
            <a:hlinkClick r:id="rId94" action="ppaction://hlinksldjump"/>
          </p:cNvPr>
          <p:cNvSpPr/>
          <p:nvPr/>
        </p:nvSpPr>
        <p:spPr>
          <a:xfrm>
            <a:off x="2819520" y="60199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>
            <a:hlinkClick r:id="rId95" action="ppaction://hlinksldjump"/>
          </p:cNvPr>
          <p:cNvSpPr/>
          <p:nvPr/>
        </p:nvSpPr>
        <p:spPr>
          <a:xfrm>
            <a:off x="6477120" y="60199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>
            <a:hlinkClick r:id="rId96" action="ppaction://hlinksldjump"/>
          </p:cNvPr>
          <p:cNvSpPr/>
          <p:nvPr/>
        </p:nvSpPr>
        <p:spPr>
          <a:xfrm>
            <a:off x="5867280" y="60199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>
            <a:hlinkClick r:id="rId97" action="ppaction://hlinksldjump"/>
          </p:cNvPr>
          <p:cNvSpPr/>
          <p:nvPr/>
        </p:nvSpPr>
        <p:spPr>
          <a:xfrm>
            <a:off x="5257800" y="60199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>
            <a:hlinkClick r:id="rId98" action="ppaction://hlinksldjump"/>
          </p:cNvPr>
          <p:cNvSpPr/>
          <p:nvPr/>
        </p:nvSpPr>
        <p:spPr>
          <a:xfrm>
            <a:off x="4648320" y="60199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>
            <a:hlinkClick r:id="rId99" action="ppaction://hlinksldjump"/>
          </p:cNvPr>
          <p:cNvSpPr/>
          <p:nvPr/>
        </p:nvSpPr>
        <p:spPr>
          <a:xfrm>
            <a:off x="4038480" y="60199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>
            <a:hlinkClick r:id="rId100" action="ppaction://hlinksldjump"/>
          </p:cNvPr>
          <p:cNvSpPr/>
          <p:nvPr/>
        </p:nvSpPr>
        <p:spPr>
          <a:xfrm>
            <a:off x="3429000" y="60199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533520" y="304920"/>
            <a:ext cx="7848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гадай ребу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762120" y="1981080"/>
            <a:ext cx="3352680" cy="396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о</a:t>
            </a:r>
            <a:endParaRPr b="0" lang="en-US" sz="24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600200" y="3429000"/>
            <a:ext cx="160020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о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267080" y="342900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на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8028000" y="623736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09480" y="609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торая из этих рожиц лишня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914400" y="2666880"/>
          <a:ext cx="75438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666880"/>
                    <a:ext cx="75438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>
            <a:hlinkClick r:id="rId3" action="ppaction://hlinksldjump"/>
          </p:cNvPr>
          <p:cNvSpPr/>
          <p:nvPr/>
        </p:nvSpPr>
        <p:spPr>
          <a:xfrm>
            <a:off x="7812000" y="6237360"/>
            <a:ext cx="647640" cy="28872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418" h="21600">
                <a:moveTo>
                  <a:pt x="0" y="0"/>
                </a:moveTo>
                <a:lnTo>
                  <a:pt x="48418" y="0"/>
                </a:lnTo>
                <a:lnTo>
                  <a:pt x="48418" y="21600"/>
                </a:lnTo>
                <a:lnTo>
                  <a:pt x="0" y="21600"/>
                </a:lnTo>
                <a:close/>
              </a:path>
              <a:path fill="lightenLess" w="48418" h="21600">
                <a:moveTo>
                  <a:pt x="0" y="0"/>
                </a:moveTo>
                <a:lnTo>
                  <a:pt x="48418" y="0"/>
                </a:lnTo>
                <a:lnTo>
                  <a:pt x="47018" y="1400"/>
                </a:lnTo>
                <a:lnTo>
                  <a:pt x="1400" y="1400"/>
                </a:lnTo>
                <a:close/>
              </a:path>
              <a:path fill="darken" w="48418" h="21600">
                <a:moveTo>
                  <a:pt x="48418" y="0"/>
                </a:moveTo>
                <a:lnTo>
                  <a:pt x="48418" y="21600"/>
                </a:lnTo>
                <a:lnTo>
                  <a:pt x="47018" y="20200"/>
                </a:lnTo>
                <a:lnTo>
                  <a:pt x="47018" y="1400"/>
                </a:lnTo>
                <a:close/>
              </a:path>
              <a:path fill="darkenLess" w="48418" h="21600">
                <a:moveTo>
                  <a:pt x="48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18" y="20200"/>
                </a:lnTo>
                <a:close/>
              </a:path>
              <a:path fill="lighten" w="48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18" h="21600">
                <a:moveTo>
                  <a:pt x="17203" y="10800"/>
                </a:moveTo>
                <a:lnTo>
                  <a:pt x="31216" y="3794"/>
                </a:lnTo>
                <a:lnTo>
                  <a:pt x="31216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66680" y="380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торый из этих «человечков» лишний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533520" y="1752480"/>
          <a:ext cx="8153280" cy="36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15328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>
            <a:hlinkClick r:id="rId3" action="ppaction://hlinksldjump"/>
          </p:cNvPr>
          <p:cNvSpPr/>
          <p:nvPr/>
        </p:nvSpPr>
        <p:spPr>
          <a:xfrm>
            <a:off x="7885080" y="623736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447920" y="5335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кая из рожиц лишня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57200" y="3019320"/>
          <a:ext cx="838188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19320"/>
                    <a:ext cx="838188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>
            <a:hlinkClick r:id="rId3" action="ppaction://hlinksldjump"/>
          </p:cNvPr>
          <p:cNvSpPr/>
          <p:nvPr/>
        </p:nvSpPr>
        <p:spPr>
          <a:xfrm>
            <a:off x="7885080" y="630864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0014" y="10800"/>
                </a:moveTo>
                <a:lnTo>
                  <a:pt x="34027" y="3794"/>
                </a:lnTo>
                <a:lnTo>
                  <a:pt x="3402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371600" y="5335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09440" y="685800"/>
            <a:ext cx="54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торый из этих «человечков» лишний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838080" y="2400480"/>
          <a:ext cx="7772400" cy="32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400480"/>
                    <a:ext cx="7772400" cy="32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>
            <a:hlinkClick r:id="rId3" action="ppaction://hlinksldjump"/>
          </p:cNvPr>
          <p:cNvSpPr/>
          <p:nvPr/>
        </p:nvSpPr>
        <p:spPr>
          <a:xfrm>
            <a:off x="8028000" y="623736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505320" y="457200"/>
            <a:ext cx="5029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едлог и малое число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 ними букву скаж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 в целом – ты найдешь 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чти под домом кажд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 rot="20170800">
            <a:off x="206280" y="712440"/>
            <a:ext cx="319104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6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гада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743200" y="3151080"/>
            <a:ext cx="3809880" cy="3413160"/>
          </a:xfrm>
          <a:prstGeom prst="rect">
            <a:avLst/>
          </a:prstGeom>
          <a:ln w="0">
            <a:noFill/>
          </a:ln>
        </p:spPr>
      </p:pic>
      <p:sp>
        <p:nvSpPr>
          <p:cNvPr id="360" name="">
            <a:hlinkClick r:id="rId2" action="ppaction://hlinksldjump"/>
          </p:cNvPr>
          <p:cNvSpPr/>
          <p:nvPr/>
        </p:nvSpPr>
        <p:spPr>
          <a:xfrm>
            <a:off x="7885080" y="616572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505320" y="609480"/>
            <a:ext cx="49528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исло и нота рядом с ним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а букву припиши согласну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в целом – мастер есть один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 мебель делает прекрасну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 rot="20170800">
            <a:off x="206280" y="712440"/>
            <a:ext cx="319104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6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гада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743200" y="3151080"/>
            <a:ext cx="3809880" cy="3413160"/>
          </a:xfrm>
          <a:prstGeom prst="rect">
            <a:avLst/>
          </a:prstGeom>
          <a:ln w="0">
            <a:noFill/>
          </a:ln>
        </p:spPr>
      </p:pic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7740720" y="6165720"/>
            <a:ext cx="792000" cy="28764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9427" h="21600">
                <a:moveTo>
                  <a:pt x="0" y="0"/>
                </a:moveTo>
                <a:lnTo>
                  <a:pt x="59427" y="0"/>
                </a:lnTo>
                <a:lnTo>
                  <a:pt x="59427" y="21600"/>
                </a:lnTo>
                <a:lnTo>
                  <a:pt x="0" y="21600"/>
                </a:lnTo>
                <a:close/>
              </a:path>
              <a:path fill="lightenLess" w="59427" h="21600">
                <a:moveTo>
                  <a:pt x="0" y="0"/>
                </a:moveTo>
                <a:lnTo>
                  <a:pt x="59427" y="0"/>
                </a:lnTo>
                <a:lnTo>
                  <a:pt x="58027" y="1400"/>
                </a:lnTo>
                <a:lnTo>
                  <a:pt x="1400" y="1400"/>
                </a:lnTo>
                <a:close/>
              </a:path>
              <a:path fill="darken" w="59427" h="21600">
                <a:moveTo>
                  <a:pt x="59427" y="0"/>
                </a:moveTo>
                <a:lnTo>
                  <a:pt x="59427" y="21600"/>
                </a:lnTo>
                <a:lnTo>
                  <a:pt x="58027" y="20200"/>
                </a:lnTo>
                <a:lnTo>
                  <a:pt x="58027" y="1400"/>
                </a:lnTo>
                <a:close/>
              </a:path>
              <a:path fill="darkenLess" w="59427" h="21600">
                <a:moveTo>
                  <a:pt x="59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27" y="20200"/>
                </a:lnTo>
                <a:close/>
              </a:path>
              <a:path fill="lighten" w="59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427" h="21600">
                <a:moveTo>
                  <a:pt x="22707" y="10800"/>
                </a:moveTo>
                <a:lnTo>
                  <a:pt x="36720" y="3794"/>
                </a:lnTo>
                <a:lnTo>
                  <a:pt x="3672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124080" y="4572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Я приношу с собою бол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ица по форме искажени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 «Ф» на «П» заменишь кол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о я всего лишь знак слож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 rot="20170800">
            <a:off x="206280" y="712440"/>
            <a:ext cx="319104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6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гада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2743200" y="3151080"/>
            <a:ext cx="3809880" cy="3413160"/>
          </a:xfrm>
          <a:prstGeom prst="rect">
            <a:avLst/>
          </a:prstGeom>
          <a:ln w="0">
            <a:noFill/>
          </a:ln>
        </p:spPr>
      </p:pic>
      <p:sp>
        <p:nvSpPr>
          <p:cNvPr id="368" name="">
            <a:hlinkClick r:id="rId2" action="ppaction://hlinksldjump"/>
          </p:cNvPr>
          <p:cNvSpPr/>
          <p:nvPr/>
        </p:nvSpPr>
        <p:spPr>
          <a:xfrm>
            <a:off x="7740720" y="6165720"/>
            <a:ext cx="720720" cy="28764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4081" h="21600">
                <a:moveTo>
                  <a:pt x="0" y="0"/>
                </a:moveTo>
                <a:lnTo>
                  <a:pt x="54081" y="0"/>
                </a:lnTo>
                <a:lnTo>
                  <a:pt x="54081" y="21600"/>
                </a:lnTo>
                <a:lnTo>
                  <a:pt x="0" y="21600"/>
                </a:lnTo>
                <a:close/>
              </a:path>
              <a:path fill="lightenLess" w="54081" h="21600">
                <a:moveTo>
                  <a:pt x="0" y="0"/>
                </a:moveTo>
                <a:lnTo>
                  <a:pt x="54081" y="0"/>
                </a:lnTo>
                <a:lnTo>
                  <a:pt x="52681" y="1400"/>
                </a:lnTo>
                <a:lnTo>
                  <a:pt x="1400" y="1400"/>
                </a:lnTo>
                <a:close/>
              </a:path>
              <a:path fill="darken" w="54081" h="21600">
                <a:moveTo>
                  <a:pt x="54081" y="0"/>
                </a:moveTo>
                <a:lnTo>
                  <a:pt x="54081" y="21600"/>
                </a:lnTo>
                <a:lnTo>
                  <a:pt x="52681" y="20200"/>
                </a:lnTo>
                <a:lnTo>
                  <a:pt x="52681" y="1400"/>
                </a:lnTo>
                <a:close/>
              </a:path>
              <a:path fill="darkenLess" w="54081" h="21600">
                <a:moveTo>
                  <a:pt x="5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81" y="20200"/>
                </a:lnTo>
                <a:close/>
              </a:path>
              <a:path fill="lighten" w="5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81" h="21600">
                <a:moveTo>
                  <a:pt x="20034" y="10800"/>
                </a:moveTo>
                <a:lnTo>
                  <a:pt x="34047" y="3794"/>
                </a:lnTo>
                <a:lnTo>
                  <a:pt x="3404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505320" y="380880"/>
            <a:ext cx="4724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о это тако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«Д» - ветвисты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«З» - костистый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«К» - ребристый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 rot="20170800">
            <a:off x="206280" y="712440"/>
            <a:ext cx="319104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6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гада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2743200" y="3151080"/>
            <a:ext cx="3809880" cy="3413160"/>
          </a:xfrm>
          <a:prstGeom prst="rect">
            <a:avLst/>
          </a:prstGeom>
          <a:ln w="0">
            <a:noFill/>
          </a:ln>
        </p:spPr>
      </p:pic>
      <p:sp>
        <p:nvSpPr>
          <p:cNvPr id="372" name="">
            <a:hlinkClick r:id="rId2" action="ppaction://hlinksldjump"/>
          </p:cNvPr>
          <p:cNvSpPr/>
          <p:nvPr/>
        </p:nvSpPr>
        <p:spPr>
          <a:xfrm>
            <a:off x="7956720" y="623736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666880" y="228600"/>
            <a:ext cx="61722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рифметический я знак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задачнике меня найдёшь в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ногих строчк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ишь «О» ты вставишь, зная как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я – географическая точ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 rot="20170800">
            <a:off x="206280" y="712440"/>
            <a:ext cx="319104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6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гада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819520" y="3276720"/>
            <a:ext cx="3809880" cy="3336840"/>
          </a:xfrm>
          <a:prstGeom prst="rect">
            <a:avLst/>
          </a:prstGeom>
          <a:ln w="0">
            <a:noFill/>
          </a:ln>
        </p:spPr>
      </p:pic>
      <p:sp>
        <p:nvSpPr>
          <p:cNvPr id="376" name="">
            <a:hlinkClick r:id="rId2" action="ppaction://hlinksldjump"/>
          </p:cNvPr>
          <p:cNvSpPr/>
          <p:nvPr/>
        </p:nvSpPr>
        <p:spPr>
          <a:xfrm>
            <a:off x="8028000" y="616572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04920" y="712800"/>
            <a:ext cx="8534160" cy="5430960"/>
          </a:xfrm>
          <a:prstGeom prst="rect">
            <a:avLst/>
          </a:prstGeom>
          <a:ln w="0">
            <a:noFill/>
          </a:ln>
        </p:spPr>
      </p:pic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7451640" y="630864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0014" y="10800"/>
                </a:moveTo>
                <a:lnTo>
                  <a:pt x="34027" y="3794"/>
                </a:lnTo>
                <a:lnTo>
                  <a:pt x="3402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666880" y="380880"/>
            <a:ext cx="6248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ланету поместите мер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ветер всколыхнёт всю атмосферу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акой, которого сильнее не найт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н всё сметает на пу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 rot="20170800">
            <a:off x="206280" y="712440"/>
            <a:ext cx="319104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6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гада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743200" y="3151080"/>
            <a:ext cx="3809880" cy="3413160"/>
          </a:xfrm>
          <a:prstGeom prst="rect">
            <a:avLst/>
          </a:prstGeom>
          <a:ln w="0">
            <a:noFill/>
          </a:ln>
        </p:spPr>
      </p:pic>
      <p:sp>
        <p:nvSpPr>
          <p:cNvPr id="380" name="">
            <a:hlinkClick r:id="rId2" action="ppaction://hlinksldjump"/>
          </p:cNvPr>
          <p:cNvSpPr/>
          <p:nvPr/>
        </p:nvSpPr>
        <p:spPr>
          <a:xfrm>
            <a:off x="7885080" y="623736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49" h="21600">
                <a:moveTo>
                  <a:pt x="20068" y="10800"/>
                </a:moveTo>
                <a:lnTo>
                  <a:pt x="34081" y="3794"/>
                </a:lnTo>
                <a:lnTo>
                  <a:pt x="34081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3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048120" y="6858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об поддерживать скворечню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ль антенну, я гожус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мягким знаком я, конечн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разу цифрой окажус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 rot="20170800">
            <a:off x="206280" y="712440"/>
            <a:ext cx="319104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6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гада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743200" y="3151080"/>
            <a:ext cx="3809880" cy="3413160"/>
          </a:xfrm>
          <a:prstGeom prst="rect">
            <a:avLst/>
          </a:prstGeom>
          <a:ln w="0">
            <a:noFill/>
          </a:ln>
        </p:spPr>
      </p:pic>
      <p:sp>
        <p:nvSpPr>
          <p:cNvPr id="384" name="">
            <a:hlinkClick r:id="rId2" action="ppaction://hlinksldjump"/>
          </p:cNvPr>
          <p:cNvSpPr/>
          <p:nvPr/>
        </p:nvSpPr>
        <p:spPr>
          <a:xfrm>
            <a:off x="7812000" y="623736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09680" y="228600"/>
            <a:ext cx="6705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Я важная деталь у судн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без меня оно по воле ветра мчи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 если букву «Б» ты вставишь внутр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н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о я – простая денежная единиц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 rot="20170800">
            <a:off x="-55440" y="901440"/>
            <a:ext cx="2930400" cy="1095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6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гада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743200" y="3151080"/>
            <a:ext cx="3809880" cy="34131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7740720" y="616572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533520" y="53352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колько треугольников изображено на чертеж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438280"/>
            <a:ext cx="4495680" cy="335304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62520" y="4038480"/>
            <a:ext cx="106668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62520" y="403848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028840" y="4038480"/>
            <a:ext cx="106668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40384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62520" y="403848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885080" y="6165720"/>
            <a:ext cx="649440" cy="289080"/>
          </a:xfrm>
          <a:custGeom>
            <a:avLst/>
            <a:gdLst>
              <a:gd name="textAreaLeft" fmla="*/ 18720 w 649440"/>
              <a:gd name="textAreaRight" fmla="*/ 630720 w 64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93" h="21600">
                <a:moveTo>
                  <a:pt x="0" y="0"/>
                </a:moveTo>
                <a:lnTo>
                  <a:pt x="48493" y="0"/>
                </a:lnTo>
                <a:lnTo>
                  <a:pt x="48493" y="21600"/>
                </a:lnTo>
                <a:lnTo>
                  <a:pt x="0" y="21600"/>
                </a:lnTo>
                <a:close/>
              </a:path>
              <a:path fill="lightenLess" w="48493" h="21600">
                <a:moveTo>
                  <a:pt x="0" y="0"/>
                </a:moveTo>
                <a:lnTo>
                  <a:pt x="48493" y="0"/>
                </a:lnTo>
                <a:lnTo>
                  <a:pt x="47093" y="1400"/>
                </a:lnTo>
                <a:lnTo>
                  <a:pt x="1400" y="1400"/>
                </a:lnTo>
                <a:close/>
              </a:path>
              <a:path fill="darken" w="48493" h="21600">
                <a:moveTo>
                  <a:pt x="48493" y="0"/>
                </a:moveTo>
                <a:lnTo>
                  <a:pt x="48493" y="21600"/>
                </a:lnTo>
                <a:lnTo>
                  <a:pt x="47093" y="20200"/>
                </a:lnTo>
                <a:lnTo>
                  <a:pt x="47093" y="1400"/>
                </a:lnTo>
                <a:close/>
              </a:path>
              <a:path fill="darkenLess" w="48493" h="21600">
                <a:moveTo>
                  <a:pt x="48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93" y="20200"/>
                </a:lnTo>
                <a:close/>
              </a:path>
              <a:path fill="lighten" w="48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93" h="21600">
                <a:moveTo>
                  <a:pt x="17240" y="10800"/>
                </a:moveTo>
                <a:lnTo>
                  <a:pt x="31253" y="3794"/>
                </a:lnTo>
                <a:lnTo>
                  <a:pt x="31253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38200" y="685800"/>
            <a:ext cx="80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колько треугольников изображено на чертеж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980720" y="3048120"/>
            <a:ext cx="76212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2743200" y="2742840"/>
            <a:ext cx="259092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1080" y="2743200"/>
            <a:ext cx="3353040" cy="2743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81080" y="5486400"/>
            <a:ext cx="4876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2743200"/>
            <a:ext cx="1523880" cy="2743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43200" y="3048120"/>
            <a:ext cx="3733920" cy="16761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85080" y="6165720"/>
            <a:ext cx="649440" cy="287640"/>
          </a:xfrm>
          <a:custGeom>
            <a:avLst/>
            <a:gdLst>
              <a:gd name="textAreaLeft" fmla="*/ 18360 w 649440"/>
              <a:gd name="textAreaRight" fmla="*/ 631080 w 6494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8735" h="21600">
                <a:moveTo>
                  <a:pt x="0" y="0"/>
                </a:moveTo>
                <a:lnTo>
                  <a:pt x="48735" y="0"/>
                </a:lnTo>
                <a:lnTo>
                  <a:pt x="48735" y="21600"/>
                </a:lnTo>
                <a:lnTo>
                  <a:pt x="0" y="21600"/>
                </a:lnTo>
                <a:close/>
              </a:path>
              <a:path fill="lightenLess" w="48735" h="21600">
                <a:moveTo>
                  <a:pt x="0" y="0"/>
                </a:moveTo>
                <a:lnTo>
                  <a:pt x="48735" y="0"/>
                </a:lnTo>
                <a:lnTo>
                  <a:pt x="47335" y="1400"/>
                </a:lnTo>
                <a:lnTo>
                  <a:pt x="1400" y="1400"/>
                </a:lnTo>
                <a:close/>
              </a:path>
              <a:path fill="darken" w="48735" h="21600">
                <a:moveTo>
                  <a:pt x="48735" y="0"/>
                </a:moveTo>
                <a:lnTo>
                  <a:pt x="48735" y="21600"/>
                </a:lnTo>
                <a:lnTo>
                  <a:pt x="47335" y="20200"/>
                </a:lnTo>
                <a:lnTo>
                  <a:pt x="47335" y="1400"/>
                </a:lnTo>
                <a:close/>
              </a:path>
              <a:path fill="darkenLess" w="48735" h="21600">
                <a:moveTo>
                  <a:pt x="48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35" y="20200"/>
                </a:lnTo>
                <a:close/>
              </a:path>
              <a:path fill="lighten" w="48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735" h="21600">
                <a:moveTo>
                  <a:pt x="17361" y="10800"/>
                </a:moveTo>
                <a:lnTo>
                  <a:pt x="31374" y="3794"/>
                </a:lnTo>
                <a:lnTo>
                  <a:pt x="31374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295280" y="4572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то лишни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67280" y="1752480"/>
            <a:ext cx="2743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лод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др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таш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рёж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4191120" cy="27320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7667640" y="609300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100680" y="685800"/>
            <a:ext cx="25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то лишне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10080" y="2057400"/>
            <a:ext cx="3124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илограм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иломет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ентн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ам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н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4191120" cy="27320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7740720" y="6021360"/>
            <a:ext cx="649080" cy="35892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9044" h="21600">
                <a:moveTo>
                  <a:pt x="0" y="0"/>
                </a:moveTo>
                <a:lnTo>
                  <a:pt x="39044" y="0"/>
                </a:lnTo>
                <a:lnTo>
                  <a:pt x="39044" y="21600"/>
                </a:lnTo>
                <a:lnTo>
                  <a:pt x="0" y="21600"/>
                </a:lnTo>
                <a:close/>
              </a:path>
              <a:path fill="lightenLess" w="39044" h="21600">
                <a:moveTo>
                  <a:pt x="0" y="0"/>
                </a:moveTo>
                <a:lnTo>
                  <a:pt x="39044" y="0"/>
                </a:lnTo>
                <a:lnTo>
                  <a:pt x="37644" y="1400"/>
                </a:lnTo>
                <a:lnTo>
                  <a:pt x="1400" y="1400"/>
                </a:lnTo>
                <a:close/>
              </a:path>
              <a:path fill="darken" w="39044" h="21600">
                <a:moveTo>
                  <a:pt x="39044" y="0"/>
                </a:moveTo>
                <a:lnTo>
                  <a:pt x="39044" y="21600"/>
                </a:lnTo>
                <a:lnTo>
                  <a:pt x="37644" y="20200"/>
                </a:lnTo>
                <a:lnTo>
                  <a:pt x="37644" y="1400"/>
                </a:lnTo>
                <a:close/>
              </a:path>
              <a:path fill="darkenLess" w="39044" h="21600">
                <a:moveTo>
                  <a:pt x="3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44" y="20200"/>
                </a:lnTo>
                <a:close/>
              </a:path>
              <a:path fill="lighten" w="3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44" h="21600">
                <a:moveTo>
                  <a:pt x="12516" y="10800"/>
                </a:moveTo>
                <a:lnTo>
                  <a:pt x="26529" y="3794"/>
                </a:lnTo>
                <a:lnTo>
                  <a:pt x="26529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685800" y="8380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сшифруйте слова, путём перестановки бук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371600" y="3138480"/>
            <a:ext cx="6705720" cy="18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4208b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ЬБОД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e4208b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5" name=""/>
          <p:cNvSpPr/>
          <p:nvPr/>
        </p:nvSpPr>
        <p:spPr>
          <a:xfrm>
            <a:off x="7667640" y="6021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844920" y="609480"/>
            <a:ext cx="77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сшифруйте слова, путём перестановки бук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90720" y="2852640"/>
            <a:ext cx="7162560" cy="2252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МУС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8" name=""/>
          <p:cNvSpPr/>
          <p:nvPr/>
        </p:nvSpPr>
        <p:spPr>
          <a:xfrm>
            <a:off x="7885080" y="6165720"/>
            <a:ext cx="649440" cy="287640"/>
          </a:xfrm>
          <a:custGeom>
            <a:avLst/>
            <a:gdLst>
              <a:gd name="textAreaLeft" fmla="*/ 18360 w 649440"/>
              <a:gd name="textAreaRight" fmla="*/ 631080 w 6494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8735" h="21600">
                <a:moveTo>
                  <a:pt x="0" y="0"/>
                </a:moveTo>
                <a:lnTo>
                  <a:pt x="48735" y="0"/>
                </a:lnTo>
                <a:lnTo>
                  <a:pt x="48735" y="21600"/>
                </a:lnTo>
                <a:lnTo>
                  <a:pt x="0" y="21600"/>
                </a:lnTo>
                <a:close/>
              </a:path>
              <a:path fill="lightenLess" w="48735" h="21600">
                <a:moveTo>
                  <a:pt x="0" y="0"/>
                </a:moveTo>
                <a:lnTo>
                  <a:pt x="48735" y="0"/>
                </a:lnTo>
                <a:lnTo>
                  <a:pt x="47335" y="1400"/>
                </a:lnTo>
                <a:lnTo>
                  <a:pt x="1400" y="1400"/>
                </a:lnTo>
                <a:close/>
              </a:path>
              <a:path fill="darken" w="48735" h="21600">
                <a:moveTo>
                  <a:pt x="48735" y="0"/>
                </a:moveTo>
                <a:lnTo>
                  <a:pt x="48735" y="21600"/>
                </a:lnTo>
                <a:lnTo>
                  <a:pt x="47335" y="20200"/>
                </a:lnTo>
                <a:lnTo>
                  <a:pt x="47335" y="1400"/>
                </a:lnTo>
                <a:close/>
              </a:path>
              <a:path fill="darkenLess" w="48735" h="21600">
                <a:moveTo>
                  <a:pt x="48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35" y="20200"/>
                </a:lnTo>
                <a:close/>
              </a:path>
              <a:path fill="lighten" w="48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735" h="21600">
                <a:moveTo>
                  <a:pt x="17361" y="10800"/>
                </a:moveTo>
                <a:lnTo>
                  <a:pt x="31374" y="3794"/>
                </a:lnTo>
                <a:lnTo>
                  <a:pt x="31374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16320" y="990720"/>
            <a:ext cx="77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сшифруйте слова, путём перестановки бук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219320" y="2852640"/>
            <a:ext cx="7162560" cy="202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ЧО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"/>
          <p:cNvSpPr/>
          <p:nvPr/>
        </p:nvSpPr>
        <p:spPr>
          <a:xfrm>
            <a:off x="7667640" y="609300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10800"/>
                </a:moveTo>
                <a:lnTo>
                  <a:pt x="36757" y="3794"/>
                </a:lnTo>
                <a:lnTo>
                  <a:pt x="3675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0880" y="6858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ла старушка в Москву, и навстречу ей три старика. Сколько человек шло в Москву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5334120" cy="387648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rId2" action="ppaction://hlinksldjump"/>
          </p:cNvPr>
          <p:cNvSpPr/>
          <p:nvPr/>
        </p:nvSpPr>
        <p:spPr>
          <a:xfrm>
            <a:off x="781200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844920" y="762120"/>
            <a:ext cx="77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сшифруйте слова, путём перестановки бук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143000" y="2852640"/>
            <a:ext cx="7162920" cy="2328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ИФЦ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4" name=""/>
          <p:cNvSpPr/>
          <p:nvPr/>
        </p:nvSpPr>
        <p:spPr>
          <a:xfrm>
            <a:off x="7812000" y="6093000"/>
            <a:ext cx="720720" cy="288720"/>
          </a:xfrm>
          <a:custGeom>
            <a:avLst/>
            <a:gdLst>
              <a:gd name="textAreaLeft" fmla="*/ 18720 w 720720"/>
              <a:gd name="textAreaRight" fmla="*/ 702000 w 720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3879" h="21600">
                <a:moveTo>
                  <a:pt x="0" y="0"/>
                </a:moveTo>
                <a:lnTo>
                  <a:pt x="53879" y="0"/>
                </a:lnTo>
                <a:lnTo>
                  <a:pt x="53879" y="21600"/>
                </a:lnTo>
                <a:lnTo>
                  <a:pt x="0" y="21600"/>
                </a:lnTo>
                <a:close/>
              </a:path>
              <a:path fill="lightenLess" w="53879" h="21600">
                <a:moveTo>
                  <a:pt x="0" y="0"/>
                </a:moveTo>
                <a:lnTo>
                  <a:pt x="53879" y="0"/>
                </a:lnTo>
                <a:lnTo>
                  <a:pt x="52479" y="1400"/>
                </a:lnTo>
                <a:lnTo>
                  <a:pt x="1400" y="1400"/>
                </a:lnTo>
                <a:close/>
              </a:path>
              <a:path fill="darken" w="53879" h="21600">
                <a:moveTo>
                  <a:pt x="53879" y="0"/>
                </a:moveTo>
                <a:lnTo>
                  <a:pt x="53879" y="21600"/>
                </a:lnTo>
                <a:lnTo>
                  <a:pt x="52479" y="20200"/>
                </a:lnTo>
                <a:lnTo>
                  <a:pt x="52479" y="1400"/>
                </a:lnTo>
                <a:close/>
              </a:path>
              <a:path fill="darkenLess" w="53879" h="21600">
                <a:moveTo>
                  <a:pt x="53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79" y="20200"/>
                </a:lnTo>
                <a:close/>
              </a:path>
              <a:path fill="lighten" w="53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79" h="21600">
                <a:moveTo>
                  <a:pt x="19933" y="10800"/>
                </a:moveTo>
                <a:lnTo>
                  <a:pt x="33946" y="3794"/>
                </a:lnTo>
                <a:lnTo>
                  <a:pt x="33946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914400" y="533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Заполнить квадрат числами так, чтобы сумма чисел по горизонтали, вертикали и диагонали была равна 1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19320" y="19051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1, 2, 3, 4, 5, 6, 7, 8,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42670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6200" y="42670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95680" y="42670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36576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6200" y="36576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5680" y="36576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30481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76720" y="3048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86200" y="3048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67640" y="6021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4038480" y="42670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648320" y="42670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57800" y="42670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38480" y="36576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48320" y="36576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257800" y="36576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038480" y="30481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48320" y="3048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3048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-2503440" y="685800"/>
            <a:ext cx="14150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Заполнить квадрат числами так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чтобы сумма чисел п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горизонтали, вертикали и диагонали была равна 3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533412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2, 4, 6, 8, 10, 12, 14, 16, 1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740720" y="6165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066680" y="685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мените звёздочки цифр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2133720"/>
            <a:ext cx="3429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 * 9 *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 4 * 7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*  * 7 1 8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05320" y="34290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339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900000" y="4076640"/>
            <a:ext cx="2602080" cy="21146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7812000" y="6308640"/>
            <a:ext cx="792360" cy="289080"/>
          </a:xfrm>
          <a:custGeom>
            <a:avLst/>
            <a:gdLst>
              <a:gd name="textAreaLeft" fmla="*/ 18720 w 792360"/>
              <a:gd name="textAreaRight" fmla="*/ 773640 w 792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9158" h="21600">
                <a:moveTo>
                  <a:pt x="0" y="0"/>
                </a:moveTo>
                <a:lnTo>
                  <a:pt x="59158" y="0"/>
                </a:lnTo>
                <a:lnTo>
                  <a:pt x="59158" y="21600"/>
                </a:lnTo>
                <a:lnTo>
                  <a:pt x="0" y="21600"/>
                </a:lnTo>
                <a:close/>
              </a:path>
              <a:path fill="lightenLess" w="59158" h="21600">
                <a:moveTo>
                  <a:pt x="0" y="0"/>
                </a:moveTo>
                <a:lnTo>
                  <a:pt x="59158" y="0"/>
                </a:lnTo>
                <a:lnTo>
                  <a:pt x="57758" y="1400"/>
                </a:lnTo>
                <a:lnTo>
                  <a:pt x="1400" y="1400"/>
                </a:lnTo>
                <a:close/>
              </a:path>
              <a:path fill="darken" w="59158" h="21600">
                <a:moveTo>
                  <a:pt x="59158" y="0"/>
                </a:moveTo>
                <a:lnTo>
                  <a:pt x="59158" y="21600"/>
                </a:lnTo>
                <a:lnTo>
                  <a:pt x="57758" y="20200"/>
                </a:lnTo>
                <a:lnTo>
                  <a:pt x="57758" y="1400"/>
                </a:lnTo>
                <a:close/>
              </a:path>
              <a:path fill="darkenLess" w="59158" h="21600">
                <a:moveTo>
                  <a:pt x="59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58" y="20200"/>
                </a:lnTo>
                <a:close/>
              </a:path>
              <a:path fill="lighten" w="59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58" h="21600">
                <a:moveTo>
                  <a:pt x="22573" y="10800"/>
                </a:moveTo>
                <a:lnTo>
                  <a:pt x="36586" y="3794"/>
                </a:lnTo>
                <a:lnTo>
                  <a:pt x="36586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066680" y="6858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мените звёздочки цифр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2133720"/>
            <a:ext cx="3429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 8 * 4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*1 9 5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* 0 * 0 *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05320" y="34290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7339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1116000" y="4221000"/>
            <a:ext cx="2602080" cy="21146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7451640" y="6308640"/>
            <a:ext cx="649440" cy="289080"/>
          </a:xfrm>
          <a:custGeom>
            <a:avLst/>
            <a:gdLst>
              <a:gd name="textAreaLeft" fmla="*/ 18720 w 649440"/>
              <a:gd name="textAreaRight" fmla="*/ 630720 w 64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93" h="21600">
                <a:moveTo>
                  <a:pt x="0" y="0"/>
                </a:moveTo>
                <a:lnTo>
                  <a:pt x="48493" y="0"/>
                </a:lnTo>
                <a:lnTo>
                  <a:pt x="48493" y="21600"/>
                </a:lnTo>
                <a:lnTo>
                  <a:pt x="0" y="21600"/>
                </a:lnTo>
                <a:close/>
              </a:path>
              <a:path fill="lightenLess" w="48493" h="21600">
                <a:moveTo>
                  <a:pt x="0" y="0"/>
                </a:moveTo>
                <a:lnTo>
                  <a:pt x="48493" y="0"/>
                </a:lnTo>
                <a:lnTo>
                  <a:pt x="47093" y="1400"/>
                </a:lnTo>
                <a:lnTo>
                  <a:pt x="1400" y="1400"/>
                </a:lnTo>
                <a:close/>
              </a:path>
              <a:path fill="darken" w="48493" h="21600">
                <a:moveTo>
                  <a:pt x="48493" y="0"/>
                </a:moveTo>
                <a:lnTo>
                  <a:pt x="48493" y="21600"/>
                </a:lnTo>
                <a:lnTo>
                  <a:pt x="47093" y="20200"/>
                </a:lnTo>
                <a:lnTo>
                  <a:pt x="47093" y="1400"/>
                </a:lnTo>
                <a:close/>
              </a:path>
              <a:path fill="darkenLess" w="48493" h="21600">
                <a:moveTo>
                  <a:pt x="48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93" y="20200"/>
                </a:lnTo>
                <a:close/>
              </a:path>
              <a:path fill="lighten" w="48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93" h="21600">
                <a:moveTo>
                  <a:pt x="17240" y="10800"/>
                </a:moveTo>
                <a:lnTo>
                  <a:pt x="31253" y="3794"/>
                </a:lnTo>
                <a:lnTo>
                  <a:pt x="31253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066680" y="6858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мените звёздочки цифр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24080" y="2133720"/>
            <a:ext cx="3429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 4 *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*5 9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* 3 * 4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505320" y="34290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2602080" cy="211464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7956720" y="6308640"/>
            <a:ext cx="718920" cy="289080"/>
          </a:xfrm>
          <a:custGeom>
            <a:avLst/>
            <a:gdLst>
              <a:gd name="textAreaLeft" fmla="*/ 18720 w 718920"/>
              <a:gd name="textAreaRight" fmla="*/ 700200 w 7189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678" h="21600">
                <a:moveTo>
                  <a:pt x="0" y="0"/>
                </a:moveTo>
                <a:lnTo>
                  <a:pt x="53678" y="0"/>
                </a:lnTo>
                <a:lnTo>
                  <a:pt x="53678" y="21600"/>
                </a:lnTo>
                <a:lnTo>
                  <a:pt x="0" y="21600"/>
                </a:lnTo>
                <a:close/>
              </a:path>
              <a:path fill="lightenLess" w="53678" h="21600">
                <a:moveTo>
                  <a:pt x="0" y="0"/>
                </a:moveTo>
                <a:lnTo>
                  <a:pt x="53678" y="0"/>
                </a:lnTo>
                <a:lnTo>
                  <a:pt x="52278" y="1400"/>
                </a:lnTo>
                <a:lnTo>
                  <a:pt x="1400" y="1400"/>
                </a:lnTo>
                <a:close/>
              </a:path>
              <a:path fill="darken" w="53678" h="21600">
                <a:moveTo>
                  <a:pt x="53678" y="0"/>
                </a:moveTo>
                <a:lnTo>
                  <a:pt x="53678" y="21600"/>
                </a:lnTo>
                <a:lnTo>
                  <a:pt x="52278" y="20200"/>
                </a:lnTo>
                <a:lnTo>
                  <a:pt x="52278" y="1400"/>
                </a:lnTo>
                <a:close/>
              </a:path>
              <a:path fill="darkenLess" w="53678" h="21600">
                <a:moveTo>
                  <a:pt x="53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278" y="20200"/>
                </a:lnTo>
                <a:close/>
              </a:path>
              <a:path fill="lighten" w="53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678" h="21600">
                <a:moveTo>
                  <a:pt x="19832" y="10800"/>
                </a:moveTo>
                <a:lnTo>
                  <a:pt x="33845" y="3794"/>
                </a:lnTo>
                <a:lnTo>
                  <a:pt x="33845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762120" y="838080"/>
            <a:ext cx="792468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ац, бац - и мимо!!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209680" y="2174760"/>
            <a:ext cx="4953240" cy="4226040"/>
          </a:xfrm>
          <a:prstGeom prst="rect">
            <a:avLst/>
          </a:prstGeom>
          <a:ln w="0">
            <a:noFill/>
          </a:ln>
        </p:spPr>
      </p:pic>
      <p:sp>
        <p:nvSpPr>
          <p:cNvPr id="472" name="">
            <a:hlinkClick r:id="rId2" action="ppaction://hlinksldjump"/>
          </p:cNvPr>
          <p:cNvSpPr/>
          <p:nvPr/>
        </p:nvSpPr>
        <p:spPr>
          <a:xfrm>
            <a:off x="7885080" y="6165720"/>
            <a:ext cx="719280" cy="28764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3973" h="21600">
                <a:moveTo>
                  <a:pt x="0" y="0"/>
                </a:moveTo>
                <a:lnTo>
                  <a:pt x="53973" y="0"/>
                </a:lnTo>
                <a:lnTo>
                  <a:pt x="53973" y="21600"/>
                </a:lnTo>
                <a:lnTo>
                  <a:pt x="0" y="21600"/>
                </a:lnTo>
                <a:close/>
              </a:path>
              <a:path fill="lightenLess" w="53973" h="21600">
                <a:moveTo>
                  <a:pt x="0" y="0"/>
                </a:moveTo>
                <a:lnTo>
                  <a:pt x="53973" y="0"/>
                </a:lnTo>
                <a:lnTo>
                  <a:pt x="52573" y="1400"/>
                </a:lnTo>
                <a:lnTo>
                  <a:pt x="1400" y="1400"/>
                </a:lnTo>
                <a:close/>
              </a:path>
              <a:path fill="darken" w="53973" h="21600">
                <a:moveTo>
                  <a:pt x="53973" y="0"/>
                </a:moveTo>
                <a:lnTo>
                  <a:pt x="53973" y="21600"/>
                </a:lnTo>
                <a:lnTo>
                  <a:pt x="52573" y="20200"/>
                </a:lnTo>
                <a:lnTo>
                  <a:pt x="52573" y="1400"/>
                </a:lnTo>
                <a:close/>
              </a:path>
              <a:path fill="darkenLess" w="53973" h="21600">
                <a:moveTo>
                  <a:pt x="539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3" y="20200"/>
                </a:lnTo>
                <a:close/>
              </a:path>
              <a:path fill="lighten" w="539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3" h="21600">
                <a:moveTo>
                  <a:pt x="19980" y="10800"/>
                </a:moveTo>
                <a:lnTo>
                  <a:pt x="33993" y="3794"/>
                </a:lnTo>
                <a:lnTo>
                  <a:pt x="33993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14400" y="685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о легче пуд соли или пуд ват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892680" cy="454032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774072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62120" y="45720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колько горошин может войти в стакан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5483160" cy="4546440"/>
          </a:xfrm>
          <a:prstGeom prst="rect">
            <a:avLst/>
          </a:prstGeom>
          <a:ln w="0">
            <a:noFill/>
          </a:ln>
        </p:spPr>
      </p:pic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7740720" y="623736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09480" y="4572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 семи прибавить пять. Как правильно записать: «одиннадцать» или «адиннадцать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400800" cy="447516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8101080" y="630864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10800"/>
                </a:moveTo>
                <a:lnTo>
                  <a:pt x="26485" y="3794"/>
                </a:lnTo>
                <a:lnTo>
                  <a:pt x="26485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990720" y="6858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вое играли в шахматы 4 часа. Сколько времени играл кажды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638680" cy="480060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8172360" y="6165720"/>
            <a:ext cx="574920" cy="358920"/>
          </a:xfrm>
          <a:custGeom>
            <a:avLst/>
            <a:gdLst>
              <a:gd name="textAreaLeft" fmla="*/ 23040 w 574920"/>
              <a:gd name="textAreaRight" fmla="*/ 551880 w 574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586" h="21600">
                <a:moveTo>
                  <a:pt x="0" y="0"/>
                </a:moveTo>
                <a:lnTo>
                  <a:pt x="34586" y="0"/>
                </a:lnTo>
                <a:lnTo>
                  <a:pt x="34586" y="21600"/>
                </a:lnTo>
                <a:lnTo>
                  <a:pt x="0" y="21600"/>
                </a:lnTo>
                <a:close/>
              </a:path>
              <a:path fill="lightenLess" w="34586" h="21600">
                <a:moveTo>
                  <a:pt x="0" y="0"/>
                </a:moveTo>
                <a:lnTo>
                  <a:pt x="34586" y="0"/>
                </a:lnTo>
                <a:lnTo>
                  <a:pt x="33186" y="1400"/>
                </a:lnTo>
                <a:lnTo>
                  <a:pt x="1400" y="1400"/>
                </a:lnTo>
                <a:close/>
              </a:path>
              <a:path fill="darken" w="34586" h="21600">
                <a:moveTo>
                  <a:pt x="34586" y="0"/>
                </a:moveTo>
                <a:lnTo>
                  <a:pt x="34586" y="21600"/>
                </a:lnTo>
                <a:lnTo>
                  <a:pt x="33186" y="20200"/>
                </a:lnTo>
                <a:lnTo>
                  <a:pt x="33186" y="1400"/>
                </a:lnTo>
                <a:close/>
              </a:path>
              <a:path fill="darkenLess" w="34586" h="21600">
                <a:moveTo>
                  <a:pt x="345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86" y="20200"/>
                </a:lnTo>
                <a:close/>
              </a:path>
              <a:path fill="lighten" w="345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86" h="21600">
                <a:moveTo>
                  <a:pt x="10287" y="10800"/>
                </a:moveTo>
                <a:lnTo>
                  <a:pt x="24299" y="3794"/>
                </a:lnTo>
                <a:lnTo>
                  <a:pt x="24299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2-11T11:14:19Z</dcterms:modified>
  <cp:revision>49</cp:revision>
  <dc:subject/>
  <dc:title>Презентация PowerPoint</dc:title>
</cp:coreProperties>
</file>