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754-AD06-4B59-83DA-CE084AA7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AA2-AC6E-4905-8D1A-2498F7D1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D70C-679F-4CFB-A34C-405041C7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C57-8515-4D79-875E-9093B961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5881-4D93-4AE3-8A14-54313093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4B3B-9497-44B9-9C91-67AE315B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0FE5-E22E-4246-81CA-A6E2E750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1E94-79DC-4D12-9D62-BA40C000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57DD-0203-4FBD-A869-D0DEFA12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4672-BC85-4987-85FF-0923D1F3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4055-C7F9-4551-8A32-7F73E3D3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EBC-5B34-4E4C-8ADE-87555FC3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B64C-F28A-40DA-B378-D6E2342E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ED4C-C12E-4E7D-B054-ECDF7A9D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51F0-BAF7-4A78-9CBF-B5C15794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0777-1C38-4DDF-8FCE-A928696A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DDE8-2486-4464-951D-5802B507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45631-3314-4856-95A0-026A4BFA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CC97-72DB-4439-BECE-FB5FBACB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6E2BF-B632-4AB5-836B-63047632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9B66-5300-48BB-970D-2A1CF419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429D1-A424-445F-9784-A594E7D4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B1B9-049A-44A4-BCE7-C31DDA29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9B0B-F4D9-4759-A0F6-A2CADE98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8B360-0872-4BDD-A8A4-28D1023F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824F-6208-4AF3-877B-833DF9EE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49F27-2FB9-42CC-881C-653C489F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9CD91-E1C1-4E18-AD9D-5FE06D81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FB53B-0B8A-413E-A5E2-DE31C7F2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E09C5-DF89-4ECE-B599-9B1C875B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6087-41AB-46A8-801D-153292E0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3CB73-B79B-425A-9798-416A2DD6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D1227-5E1A-46C4-B37B-4A6841FC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B5D-0C31-4588-B6CF-F639D34F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84A53-18E9-4E17-9947-D74261F4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FEB29-AEC0-4FCA-A5C9-B07AE355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2149F-CC81-4BDC-A46B-AD9B7404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7E0A9-0BBF-4895-950F-B7FA663D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72CEA-E071-4A32-893C-63D40E2E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940DC-F621-4BAE-9029-10885CA6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94433-24E1-46AB-950B-CE986242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CED7-D366-416B-84B9-3ACF8E32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9638A-5B96-4ADF-844E-FF6838E1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0B83A-7626-47B1-B918-6FD0912E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BA83-CB4B-4E0B-9377-CDB66465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992DA-A01D-41B0-ADF7-BFB61C0B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9B4EA-8955-4836-A535-F35537A6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BE00C-BFA0-49F8-8BA6-9409FF4B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EF3AB-7912-4525-8DF0-F5D9D76D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3ED85-72FA-4725-AF6C-917A3C4E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E5467-23CF-42D7-A32D-DEC55F99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49CD5-83AA-484A-BE80-BD654DE2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B9096-53C0-4CAB-996D-590C4FE1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5432B-F9FE-4DFF-B4B0-475A1B33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4E14E-9ED0-4D14-87CD-46EC9751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E0E7-7578-464A-94E3-56ADE554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9709A-1C22-4499-83C2-22A7AA0A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7469F-3745-468A-A43E-81E08514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4A35A-B76F-4113-BD6E-ADDF6049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37218-627C-4504-9FE4-C533F0B8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FEF22-185A-417D-A2C3-898BA998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AF190-C07B-4B87-989F-C4C5ADC3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5B095-320F-434C-AA16-52D0A887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603C3-B26E-425D-A756-A194B7C1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5249A-72EA-4D6B-94F0-BAEEE45A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B332C-4EC8-4A9E-8E92-A4C0F31C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750C-2B61-4608-933B-DA65EF62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E5DB3-4E64-4DBA-9A95-F07FA038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E31ED-B134-45A5-A380-B97239D3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25D37-18D4-4460-BCE8-54F67537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C971F-3DBC-4C37-9645-93F44D78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9B0F2-E85D-47D1-AFA8-8EB10C03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213D6-D885-4F5F-AB75-ED19A53B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F056A-FC3E-45C1-A258-1A504DE8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82A76-AEFE-4BEE-898C-89C564D0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A5B91-886D-41F6-A62F-0FBD3D42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36451-C146-4271-9127-AE7DFA9C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68ED-3C27-4DEF-9A6D-4FBB7D05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61AAD-7CF5-445F-95DD-071D1CBE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B94F7-FFAF-4F29-8202-9804B247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0D7E2-97C3-45E6-8A6B-CE25A3A6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26442-4FD3-48E8-A262-7912C123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2C33D-45C7-47D0-8DB0-8844E8A0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13C-F5C4-413A-B1A7-8AD8037E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4420-CD4C-4890-A798-7408EF6374F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6311-8037-467D-A202-9A2B1031E05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27BA-F53B-4C05-ACC9-52438C78C32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F96E-D4B9-4428-A9CD-B8C2617019B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ABAE-4CAD-453B-9407-28088DAEEA8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9C3B-7FFA-48E9-A21A-451F715195B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0242-3F63-4C92-A1A9-B8096B9C67A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75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99ff"/>
                </a:solidFill>
                <a:latin typeface="Corbel"/>
              </a:rPr>
              <a:t>Портфолио учителя математики БОУ «Каменская оош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900000" y="2214720"/>
            <a:ext cx="760104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Травина Ирина Павловна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Сообщаю о себе следующие сведения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число, месяц и год рождения:  06 июля 1978 го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образование: среднее специальное, 1998, Галичское педагогическое училище, начальное образование, учитель начальных классов, студентка Череповецкого государственного университета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стаж педагогической работы: 14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в данной должности: 14 лет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в данном учреждении: 14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Corbel"/>
              </a:rPr>
              <a:t>общий трудовой стаж: 14 лет, дата назначения на должность  01.09.1998 г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DSC00243"/>
          <p:cNvPicPr/>
          <p:nvPr/>
        </p:nvPicPr>
        <p:blipFill>
          <a:blip r:embed="rId2"/>
          <a:stretch/>
        </p:blipFill>
        <p:spPr>
          <a:xfrm>
            <a:off x="1434960" y="1479600"/>
            <a:ext cx="7499520" cy="4736880"/>
          </a:xfrm>
          <a:prstGeom prst="rect">
            <a:avLst/>
          </a:prstGeom>
          <a:ln w="19080">
            <a:solidFill>
              <a:srgbClr val="6699ff"/>
            </a:solidFill>
            <a:miter/>
          </a:ln>
        </p:spPr>
      </p:pic>
      <p:sp>
        <p:nvSpPr>
          <p:cNvPr id="337" name="WordArt 5"/>
          <p:cNvSpPr txBox="1"/>
          <p:nvPr/>
        </p:nvSpPr>
        <p:spPr>
          <a:xfrm>
            <a:off x="900000" y="620640"/>
            <a:ext cx="734400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434960" y="1714680"/>
            <a:ext cx="7499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01.09.1998 год – назначена учителем трудового обучения  Каменской средней общеобразовательной школ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01.01.1999 год – переведена учителем начальных классов на период декретного и последующих отпуск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30.08.1999 год - переведена учителем химии этой же школ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31.12.1999 год - переведена учителем математики этой же школ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28.06.2002 год - назначена учителем  математики МОУ «Каменская основная общеобразовательная школа»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01.09.2003 год – назначена заместителем директора по учебно-воспитательной работе МОУ «Каменская основна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30.06.2011 год - назначена учителем математики БОУ «Каменская основная общеобразовательная школа»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тапы профессионального роста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434960" y="1928520"/>
            <a:ext cx="7499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03.12.2003 г.- присвоена 2-я квалификационная категория по должности «учитель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27.04.2005 г.- присвоена 1-я квалификационная категория по должности «учитель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01.12.2006 г.- присвоена 1-я квалификационная категория по должности «заместитель руководителя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27.05.2010 г.- присвоена 1-я квалификационная категория по должности «учитель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16.12.2010г. – присвоена 1-я квалификационная категория по должности «заместитель руководителя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27.12.2010 г.- присвоена высшая квалификационная категория по должности «учитель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вышение педагогического мастерст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68360" y="16286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Вологодский институт развития образования, образовательные курсы учителей математики и физики свидетельство № 795 от 04.12.2004 г.,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«Интернет-технологии для учителя-предметника» диплом №230-07/04 от 02.04.2004 г.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ГОУ ДПО «Вологодский институт развития образования», образовательные курсы  «Реализация идей современной модели образования в практике работы учителя математики» свидетельство № 167 от 11.12.2009 г.,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«Использование ИКТ в процессе обучения математике» карточка учета курсовых мероприятий от 12.12.2009г.,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НОУДПО «Институт АйТи» «Применение пакета свободного программного обеспечения», свидетельство №049554 от 10.12.2009г.,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«Организация внеурочной деятельности обучающихся по математике» карточка учета курсовых мероприятий от 17.02.2010г.,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Педуниверситет «Первое сентября» (Москва) «Особенности содержания и методики преподавания избранных тем курса химии 8-9 классов», удостоверение №217836995-18001 от 31.12.2010г.;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АОУ ДПО «Вологодский институт развития образования» «Совершенствование профессионального мастерства педагога» свидетельство №1430 от 02.04.2011г.;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БОУ СПО ВО «Вологодский педколледж «ФГОС НОО: технология введения» удостоверение  №2548 от 14.02.2012г.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WordArt 5"/>
          <p:cNvSpPr txBox="1"/>
          <p:nvPr/>
        </p:nvSpPr>
        <p:spPr>
          <a:xfrm>
            <a:off x="1116000" y="404640"/>
            <a:ext cx="74772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ведения о повышении квалификац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17.05.2005 г.- Диплом за победу в конкурсе «Кенгуру-прогноз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3.10.2007 г.- Грамота главы МО Каменское за творческий педагогический труд, внедрение педагогических технологий в образовательном процессе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15.04.2008 г.- Благодарность за подготовку учащихся к районному конкурсу «Лучшая мультимедийная работа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1.08.2008 г. – Диплом участника Всероссийского конкурса «Современный классный руководитель-2008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009 г. – Диплом за 3 место в конкурсе методических разработок мероприятий по пропаганде ЗОЖ в номинации «Лучшая разработка занятия по пропаганде ЗОЖ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7.03.2009 г.- Диплом за эффективное распространение педагогического опыта на районной научно-практической конференции «Инновационные процессы в образовательных учреждениях Грязовецкого муниципального района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05.10.2009 г.- Почетная грамота за творческий педагогический труд, участие в инновационной деятельност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17.03.2010 г. – Диплом за участие в муниципальном конкурсе «Учитель года-2010», номинация «Активная жизненная позиция и стремление к совершенствованию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13.05.2010г. – Благодарственное письмо за сотрудничество по организации предпрофильной подготовки в 9 классе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010 г. – Диплом за представление своего педагогического опыта на Всероссийском фестивале «Открытый урок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9.09.2010 г. – Диплом за участие в муниципальном конкурсе педагогических эссе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01.10.2010 г. – Диплом за участие в конкурсе «Лучшие учителя Грязовецкого муниципального района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30.12. 2010 г. – Почётная грамота за эффективную управленческую деятельность, значительные профессиональные достижения, активное участие в мероприятиях, посвящённых году Учителя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WordArt 4"/>
          <p:cNvSpPr txBox="1"/>
          <p:nvPr/>
        </p:nvSpPr>
        <p:spPr>
          <a:xfrm>
            <a:off x="457200" y="274680"/>
            <a:ext cx="8229600" cy="85068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грады и поощрения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2011г. – Благодарственное письмо партии «Единая Россия» за участие в конкурсе профессионального мастерства «Учитель года» (муниципальный этап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2011г. – Благодарственное письмо департамента образования г.Заречного Пензенской области за подготовку призёров и участников викторины «Никто не забыт, ничто не забыто!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28.09.2011г. – Благодарность главы администрации Грязовецкого муниципального района за добросовестный плодотворный труд в системе образования района, значительные достижения в обучении и воспитании обучающихся, высокий профессионализм, творческий поиск, большой личный вклад в развитие системы образования район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12.12.2011г. – Свидетельство ВРО ОДОО «МАН «Интеллект будущего» за подготовку лауреата межрегионального интеллектуально-творческого конкурса «Буратино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05.12.2011г. – Свидетельство ВРО ОДОО «МАН «Интеллект будущего» за подготовку лауреата межрегионального интеллектуально-творческого конкурса «Мир нас окружающий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05.12.2011г. – Свидетельство ВРО ОДОО «МАН «Интеллект будущего» за подготовку лауреата межрегионального интеллектуально-творческого конкурса «Мир в фотографии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05.12.2011г. – Свидетельство ВРО ОДОО «МАН «Интеллект будущего» за подготовку лауреата межрегионального интеллектуально-творческого конкурса «Интеллектуально-творческий марафон-</a:t>
            </a: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XXIII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12.12.2011г. – Свидетельство ВРО ОДОО «МАН «Интеллект будущего» за подготовку лауреата межрегионального интеллектуально-творческого конкурса по изобразительному искусству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12.12.2011г. – Свидетельство ВРО ОДОО «МАН «Интеллект будущего» за подготовку лауреата межрегионального интеллектуально-творческого конкурса по математике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12.12.2011г. – Свидетельство ВРО ОДОО «МАН «Интеллект будущего» за подготовку лауреата межрегиональной творческой викторины «Алфавит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2011г. – Благодарность координатору всероссийского игры-конкурса «Инфознайка-2011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2011г. – Диплом союза «Веста» за большой вклад в дело воспитания творческой личности, развитие у детей любви к искусству и своей Родине, за активное участие в первом международном фотоконкурсе «Как прекрасен этот мир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02.02.2012г.- Сертификат за публикацию материала в электронном журнале «Учительский журнал он-лайн» «Интегрированный урок по математике и биологии в 5 классе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02.02.2012г.- Сертификат за публикацию материала в электронном журнале «Учительский журнал он-лайн» «Урок-практикум «Сложение и вычитание многочленов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02.02.2012г.- Сертификат за публикацию материала в электронном журнале «Учительский журнал он-лайн» «Площадь параллелограмма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02.02.2012г.- Сертификат за публикацию материала в электронном журнале «Учительский журнал он-лайн» «Рациональные дроби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012г. – Грамота АНО «Центр развития молодёжи» школьному организатору проекта «Эрудит-марафон учащихся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арт 2012г. – Благодарность Центра поддержки талантливой молодёжи за организацию и проведение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I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сероссийских олимпиад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012 г. – Диплом за представление своего педагогического опыта на Всероссийском фестивале «Открытый урок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012г. – Грамота от оргкомитета общероссийского проекта «Школа цифрового века» за качественную организацию работы по участию образовательного учреждения в проекте 2011/12 учебном год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012г. – Диплом лауреата конкурса «Презентация к уроку» всероссийского фестиваля педагогических идей «Открытый урок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31.05.2012г. – Грамота за организацию методической работы, активное участие в конкурсах в 2011-2012 учебном году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dc765"/>
                </a:solidFill>
                <a:latin typeface="Corbel"/>
              </a:rPr>
              <a:t>Уровень обученности и качество знаний обучающихся в % за последние пять лет</a:t>
            </a: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Успеваемость обучающихся    - 100%, качество обучения 2008-09-72%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009-10-68%, 2010-11-66%,2011-12-56%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Rectangle 370"/>
          <p:cNvSpPr/>
          <p:nvPr/>
        </p:nvSpPr>
        <p:spPr>
          <a:xfrm>
            <a:off x="971640" y="2924280"/>
            <a:ext cx="709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dc765"/>
                </a:solidFill>
                <a:latin typeface="Arial"/>
              </a:rPr>
              <a:t>Результаты итоговой аттестации за курс основно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71"/>
          <p:cNvSpPr/>
          <p:nvPr/>
        </p:nvSpPr>
        <p:spPr>
          <a:xfrm>
            <a:off x="1403280" y="4221000"/>
            <a:ext cx="712944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итоговой аттестации в 2012 году: успеваемость – 100%, качество  -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7:40:22Z</dcterms:created>
  <dc:creator>Tamara</dc:creator>
  <dc:description/>
  <dc:language>en-US</dc:language>
  <cp:lastModifiedBy>user</cp:lastModifiedBy>
  <dcterms:modified xsi:type="dcterms:W3CDTF">2012-07-19T07:21:15Z</dcterms:modified>
  <cp:revision>11</cp:revision>
  <dc:subject/>
  <dc:title>Портфолио учителя георафии БОУ «Каменская оош»</dc:title>
</cp:coreProperties>
</file>