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B34-15DB-4601-9E4B-42732176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F57-C180-425D-8AAF-CA93B19F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6CD-9E96-4E40-A170-B31BB196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7D6-D99E-4D26-B765-E9EE3DE3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E401-9B0A-431B-B623-6B41E7D5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3799-B74D-42AB-BE9E-B7C0F721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A6BF-2F65-4240-85B8-2EB89CC3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EF2D-7A97-418C-BD29-9DD6D979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8FB2-95EC-4154-86BE-6C8C476E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CEE1-19AD-4FF5-AC7B-C22D6669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E922-2A78-40AC-B21E-DF2A317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628-29F9-4F36-8410-2339328E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A5D8-A007-4C01-8B73-E6737479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AFCC-9AC0-4FC0-805D-6836C44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F1B8-FB09-49FF-BE77-29C540BE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EFA4-3D5E-4156-8AB9-C64B60C6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52B4-A002-41BB-8B76-9A7362E6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30AE-BAB4-489A-A83D-93436AA6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E769-7F2B-4104-9B59-D50FC57B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4955-5A1F-46FC-BE84-64512E94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CF83-9EB9-4936-A3B4-4F0C8E56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4FF0-E490-42AC-A51E-268DB88C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F8C-1505-413C-9F02-876C45BE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0CE8-1E64-48C3-BF46-DAD44107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7040-A548-461F-9C02-DA063A65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0EC6-EA4D-4D3D-9C84-D6357BC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EAF9-7990-4777-878F-05632A06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D64DC-8BA7-4FF4-A118-676FF0A2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09C9-EB53-4823-A7F9-DFE80598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672C-8FA6-458F-88F2-53E721D2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0D5CE-7848-4245-A56A-4CFBE482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984F-7451-4540-83B4-0C05658D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7060-1937-435B-ABA5-E890FECF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692-5A39-487E-BF16-EE8E4985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561C-4486-4A55-A003-09A1A478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9255-7E30-4C91-9B86-9F41066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7DE01-D1E2-4CC2-AF26-EB4CCE9A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3B325-2E4B-4D5A-85B7-B375402A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C71E4-E451-4086-BB9F-C52963DB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11906-8B6E-4A91-A2B2-AA5318A9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4E8CE-C766-42F6-A3DD-C30C0A6A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5661-FDB4-4B0F-822B-1BE9DD35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17EFA-1713-4595-A265-091D61B1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41B72-D78E-4992-B0EA-BB9773B3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409-FCB3-4D04-B02F-8590A268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3680E-1432-4B33-9A1C-03555B11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8AF7A-2CD7-4B4B-9666-D35DD735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820D0-548B-4B33-8AE4-7BDD44F4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1F54-22AB-425A-AF60-FDA7320F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54921-4A85-4884-90E6-AB97AAC6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6DBC-7565-47C6-B652-DB01E674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BEEF0-B11B-4EF1-B66C-739F702B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70CA2-1EAF-4700-93CE-56CB58A4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96BB-6622-45E3-A222-EA5F1250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C4FF3-BBA8-48BF-BA57-8F084B71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F7C-FF21-416D-BFF9-EF925A9E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7C89-DDB1-40E9-AFAE-9F95D4F7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1E1BC-6E98-4168-B9E5-011DBEA4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1699A-A2B1-4CCE-A760-3497F888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5F57E-087B-4448-880D-0E028327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F6EE9-65DF-424B-BF8D-2B2CABEB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45E7-F449-420D-AC46-D8C2EF6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C19C3-8296-4E3B-A073-D3427DF8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5BDB-5735-496C-8290-93A9A9F9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2F819-7995-407E-95D6-46D29D0B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58E8-4E47-45F2-ADED-09241908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B43-8DBB-4EF3-A44A-6EE5C250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473E6-1793-4F4F-A224-8E4BB7C4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E59FF-EE61-4BE3-A858-88802C30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816BF-2560-42F5-BA0F-90BB0B89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7A8F-E46A-4D76-878A-58078358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4FED5-C15F-484E-9E21-7143CFD5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278AF-2EC3-4655-B223-F9207F3D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2EC0D-576C-439A-9B22-8C6ECBEC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99DCF-CEF6-4293-8158-857CD21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D13CB-583C-4598-B5BF-3E9FCD0E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6C483-FD53-4343-8241-59F6386D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FDE-852E-4BE7-8D15-F6FF86D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AAD6B-6132-4B3A-AEE7-A5F21246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2B000-4F09-4BB7-9982-0CF7A26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B6B0E-EA7B-4EB0-87FE-D1C6F85A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364C5-28FA-46DA-BFE7-09F987CC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8B0CB-6DBC-459D-BAA2-F970CCA9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294-5DF2-43CA-8B8E-CE32156D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3B3D-9791-471E-9673-33C4112EDB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B7F5-1BC2-413B-B5C6-34BC2DD46BF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4650-B53D-4EC6-84E2-7C0CD999825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6657-ECBC-4CC8-91BE-BCB04CA5C1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1AAB-3C87-47EF-B542-4B0D84112EF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FEC4-0EC7-4919-8C70-615F52B9C04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08BF-BCE6-477E-B5CF-48AF72BB1D8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75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99ff"/>
                </a:solidFill>
                <a:latin typeface="Corbel"/>
              </a:rPr>
              <a:t>Портфолио учителя математики БОУ «Каменская оош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00000" y="2214720"/>
            <a:ext cx="76010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Травина Ирина Павловн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Сообщаю о себе следующие сведения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число, месяц и год рождения:  06 июля 1978 го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образование: среднее специальное, 1998, Галичское педагогическое училище, начальное образование, учитель начальных классов, студентка Череповецкого государственного университета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стаж педагогической работы: 14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в данной должности: 14 лет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в данном учреждении: 14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общий трудовой стаж: 14 лет, дата назначения на должность  01.09.1998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DSC00243"/>
          <p:cNvPicPr/>
          <p:nvPr/>
        </p:nvPicPr>
        <p:blipFill>
          <a:blip r:embed="rId2"/>
          <a:stretch/>
        </p:blipFill>
        <p:spPr>
          <a:xfrm>
            <a:off x="1434960" y="1479600"/>
            <a:ext cx="7499520" cy="4736880"/>
          </a:xfrm>
          <a:prstGeom prst="rect">
            <a:avLst/>
          </a:prstGeom>
          <a:ln w="19080">
            <a:solidFill>
              <a:srgbClr val="6699ff"/>
            </a:solidFill>
            <a:miter/>
          </a:ln>
        </p:spPr>
      </p:pic>
      <p:sp>
        <p:nvSpPr>
          <p:cNvPr id="337" name="WordArt 5"/>
          <p:cNvSpPr txBox="1"/>
          <p:nvPr/>
        </p:nvSpPr>
        <p:spPr>
          <a:xfrm>
            <a:off x="900000" y="620640"/>
            <a:ext cx="7344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01.09.1998 год – назначена учителем трудового обучения  Каменской средней общеобразовательной школ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01.01.1999 год – переведена учителем начальных классов на период декретного и последующих отпуск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30.08.1999 год - переведена учителем химии этой же школ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31.12.1999 год - переведена учителем математики этой же школ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8.06.2002 год - назначена учителем  математики МОУ «Каменская основная общеобразовательная школа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01.09.2003 год – назначена заместителем директора по учебно-воспитательной работе МОУ «Каменская основна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30.06.2011 год - назначена учителем математики БОУ «Каменская основная общеобразовательная школа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апы профессионального роста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03.12.2003 г.- присвоена 2-я квалификационная категория по должности «учитель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7.04.2005 г.- присвоена 1-я квалификационная категория по должности «учитель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01.12.2006 г.- присвоена 1-я квалификационная категория по должности «заместитель руководителя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7.05.2010 г.- присвоена 1-я квалификационная категория по должности «учитель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16.12.2010г. – присвоена 1-я квалификационная категория по должности «заместитель руководителя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7.12.2010 г.- присвоена высшая квалификационная категория по должности «учитель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вышение педагогического мастерст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8360" y="16286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ологодский институт развития образования, образовательные курсы учителей математики и физики свидетельство № 795 от 04.12.2004 г.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«Интернет-технологии для учителя-предметника» диплом №230-07/04 от 02.04.2004 г.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ГОУ ДПО «Вологодский институт развития образования», образовательные курсы  «Реализация идей современной модели образования в практике работы учителя математики» свидетельство № 167 от 11.12.2009 г.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«Использование ИКТ в процессе обучения математике» карточка учета курсовых мероприятий от 12.12.2009г.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ОУДПО «Институт АйТи» «Применение пакета свободного программного обеспечения», свидетельство №049554 от 10.12.2009г.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«Организация внеурочной деятельности обучающихся по математике» карточка учета курсовых мероприятий от 17.02.2010г.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едуниверситет «Первое сентября» (Москва) «Особенности содержания и методики преподавания избранных тем курса химии 8-9 классов», удостоверение №217836995-18001 от 31.12.2010г.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АОУ ДПО «Вологодский институт развития образования» «Совершенствование профессионального мастерства педагога» свидетельство №1430 от 02.04.2011г.;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БОУ СПО ВО «Вологодский педколледж «ФГОС НОО: технология введения» удостоверение  №2548 от 14.02.2012г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WordArt 5"/>
          <p:cNvSpPr txBox="1"/>
          <p:nvPr/>
        </p:nvSpPr>
        <p:spPr>
          <a:xfrm>
            <a:off x="1116000" y="404640"/>
            <a:ext cx="7477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едения о повышении квалификац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7.05.2005 г.- Диплом за победу в конкурсе «Кенгуру-прогноз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3.10.2007 г.- Грамота главы МО Каменское за творческий педагогический труд, внедрение педагогических технологий в образовательном процесс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5.04.2008 г.- Благодарность за подготовку учащихся к районному конкурсу «Лучшая мультимедийная работа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1.08.2008 г. – Диплом участника Всероссийского конкурса «Современный классный руководитель-2008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009 г. – Диплом за 3 место в конкурсе методических разработок мероприятий по пропаганде ЗОЖ в номинации «Лучшая разработка занятия по пропаганде ЗОЖ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7.03.2009 г.- Диплом за эффективное распространение педагогического опыта на районной научно-практической конференции «Инновационные процессы в образовательных учреждениях Грязовецкого муниципального района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05.10.2009 г.- Почетная грамота за творческий педагогический труд, участие в инновационной деятельност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7.03.2010 г. – Диплом за участие в муниципальном конкурсе «Учитель года-2010», номинация «Активная жизненная позиция и стремление к совершенствованию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3.05.2010г. – Благодарственное письмо за сотрудничество по организации предпрофильной подготовки в 9 класс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010 г. – Диплом за представление своего педагогического опыта на Всероссийском фестивале «Открытый урок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9.09.2010 г. – Диплом за участие в муниципальном конкурсе педагогических эсс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01.10.2010 г. – Диплом за участие в конкурсе «Лучшие учителя Грязовецкого муниципального района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30.12. 2010 г. – Почётная грамота за эффективную управленческую деятельность, значительные профессиональные достижения, активное участие в мероприятиях, посвящённых году Учителя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457200" y="274680"/>
            <a:ext cx="8229600" cy="85068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грады и поощрения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011г. – Благодарственное письмо партии «Единая Россия» за участие в конкурсе профессионального мастерства «Учитель года» (муниципальный этап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011г. – Благодарственное письмо департамента образования г.Заречного Пензенской области за подготовку призёров и участников викторины «Никто не забыт, ничто не забыто!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8.09.2011г. – Благодарность главы администрации Грязовецкого муниципального района за добросовестный плодотворный труд в системе образования района, значительные достижения в обучении и воспитании обучающихся, высокий профессионализм, творческий поиск, большой личный вклад в развитие системы образования район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2.12.2011г. – Свидетельство ВРО ОДОО «МАН «Интеллект будущего» за подготовку лауреата межрегионального интеллектуально-творческого конкурса «Буратино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5.12.2011г. – Свидетельство ВРО ОДОО «МАН «Интеллект будущего» за подготовку лауреата межрегионального интеллектуально-творческого конкурса «Мир нас окружающий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5.12.2011г. – Свидетельство ВРО ОДОО «МАН «Интеллект будущего» за подготовку лауреата межрегионального интеллектуально-творческого конкурса «Мир в фотографии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5.12.2011г. – Свидетельство ВРО ОДОО «МАН «Интеллект будущего» за подготовку лауреата межрегионального интеллектуально-творческого конкурса «Интеллектуально-творческий марафон-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XXIII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2.12.2011г. – Свидетельство ВРО ОДОО «МАН «Интеллект будущего» за подготовку лауреата межрегионального интеллектуально-творческого конкурса по изобразительному искусству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2.12.2011г. – Свидетельство ВРО ОДОО «МАН «Интеллект будущего» за подготовку лауреата межрегионального интеллектуально-творческого конкурса по математике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2.12.2011г. – Свидетельство ВРО ОДОО «МАН «Интеллект будущего» за подготовку лауреата межрегиональной творческой викторины «Алфавит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011г. – Благодарность координатору всероссийского игры-конкурса «Инфознайка-2011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011г. – Диплом союза «Веста» за большой вклад в дело воспитания творческой личности, развитие у детей любви к искусству и своей Родине, за активное участие в первом международном фотоконкурсе «Как прекрасен этот мир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2.02.2012г.- Сертификат за публикацию материала в электронном журнале «Учительский журнал он-лайн» «Интегрированный урок по математике и биологии в 5 классе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2.02.2012г.- Сертификат за публикацию материала в электронном журнале «Учительский журнал он-лайн» «Урок-практикум «Сложение и вычитание многочленов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2.02.2012г.- Сертификат за публикацию материала в электронном журнале «Учительский журнал он-лайн» «Площадь параллелограмма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2.02.2012г.- Сертификат за публикацию материала в электронном журнале «Учительский журнал он-лайн» «Рациональные дроби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012г. – Грамота АНО «Центр развития молодёжи» школьному организатору проекта «Эрудит-марафон учащихся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рт 2012г. – Благодарность Центра поддержки талантливой молодёжи за организацию и проведение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российских олимпиад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012 г. – Диплом за представление своего педагогического опыта на Всероссийском фестивале «Открытый урок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012г. – Грамота от оргкомитета общероссийского проекта «Школа цифрового века» за качественную организацию работы по участию образовательного учреждения в проекте 2011/12 учебном год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012г. – Диплом лауреата конкурса «Презентация к уроку» всероссийского фестиваля педагогических идей «Открытый урок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1.05.2012г. – Грамота за организацию методической работы, активное участие в конкурсах в 2011-2012 учебном год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c765"/>
                </a:solidFill>
                <a:latin typeface="Corbel"/>
              </a:rPr>
              <a:t>Уровень обученности и качество знаний обучающихся в % за последние пять лет</a:t>
            </a: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Успеваемость обучающихся    - 100%, качество обучения 2008-09-72%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009-10-68%, 2010-11-66%,2011-12-56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Rectangle 370"/>
          <p:cNvSpPr/>
          <p:nvPr/>
        </p:nvSpPr>
        <p:spPr>
          <a:xfrm>
            <a:off x="971640" y="2924280"/>
            <a:ext cx="709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c765"/>
                </a:solidFill>
                <a:latin typeface="Arial"/>
              </a:rPr>
              <a:t>Результаты итоговой аттестации за курс основн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71"/>
          <p:cNvSpPr/>
          <p:nvPr/>
        </p:nvSpPr>
        <p:spPr>
          <a:xfrm>
            <a:off x="1403280" y="4221000"/>
            <a:ext cx="7129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итоговой аттестации в 2012 году: успеваемость – 100%, качество  -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7:40:22Z</dcterms:created>
  <dc:creator>Tamara</dc:creator>
  <dc:description/>
  <dc:language>en-US</dc:language>
  <cp:lastModifiedBy>user</cp:lastModifiedBy>
  <dcterms:modified xsi:type="dcterms:W3CDTF">2012-07-19T07:21:15Z</dcterms:modified>
  <cp:revision>11</cp:revision>
  <dc:subject/>
  <dc:title>Портфолио учителя георафии БОУ «Каменская оош»</dc:title>
</cp:coreProperties>
</file>