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53F-5E01-44AB-A452-A85AA36B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809-9631-4994-9A47-A029C4F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909-42AE-46F2-BBAB-39DE8FC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BDC-5D9E-4800-A426-B882E215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465B-AB05-4BF8-9927-0D1B6EAD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3DFE-2E38-48BF-A16C-238359B3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22D3-E3B7-4A5F-9BD4-23D65FCA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6AF-5BAF-4D2F-A3ED-7C81385C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3DE-0FA0-4CAF-B893-1ACE1D8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9C91-4408-47FB-AC5A-56A848D1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16F1-D312-4E86-8C8F-3B77E20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F77-7B55-4AFE-A109-7FAF3ED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27A5-B874-47DA-8C00-26D52D1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6239-7333-468F-B027-9F01A7C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7D1-0AF9-47B7-A204-729F2821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CAA-92AD-430F-B00B-CBB903B9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27D-E0B5-4B81-9788-A8785BF7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064-267A-4707-ACB7-F4588D1D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383-407C-45DB-AB6A-3486FBD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CDF-2D6D-41EE-8CD1-BA20D0E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4C7-9D5D-40B5-A8EA-D8E977E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88E-D274-4015-8494-823CA9F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033-9421-4D9C-87A7-AC7A12F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98A-1D8D-4D8C-AAFB-CFF6BAD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AC97-F5ED-436E-8323-802F2DCFD35C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92D7-8787-4A87-A4C6-D79409FDF0B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2let"/>
          <p:cNvPicPr/>
          <p:nvPr/>
        </p:nvPicPr>
        <p:blipFill>
          <a:blip r:embed="rId2"/>
          <a:stretch/>
        </p:blipFill>
        <p:spPr>
          <a:xfrm>
            <a:off x="-6480" y="2706840"/>
            <a:ext cx="2541600" cy="313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20let"/>
          <p:cNvPicPr/>
          <p:nvPr/>
        </p:nvPicPr>
        <p:blipFill>
          <a:blip r:embed="rId3"/>
          <a:stretch/>
        </p:blipFill>
        <p:spPr>
          <a:xfrm>
            <a:off x="3024360" y="2004840"/>
            <a:ext cx="2590560" cy="30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6let"/>
          <p:cNvPicPr/>
          <p:nvPr/>
        </p:nvPicPr>
        <p:blipFill>
          <a:blip r:embed="rId4"/>
          <a:stretch/>
        </p:blipFill>
        <p:spPr>
          <a:xfrm>
            <a:off x="6692760" y="719280"/>
            <a:ext cx="2511720" cy="307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39let"/>
          <p:cNvPicPr/>
          <p:nvPr/>
        </p:nvPicPr>
        <p:blipFill>
          <a:blip r:embed="rId5"/>
          <a:stretch/>
        </p:blipFill>
        <p:spPr>
          <a:xfrm>
            <a:off x="5735520" y="3700440"/>
            <a:ext cx="2659320" cy="32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тинка 302 из 960"/>
          <p:cNvPicPr/>
          <p:nvPr/>
        </p:nvPicPr>
        <p:blipFill>
          <a:blip r:embed="rId6"/>
          <a:stretch/>
        </p:blipFill>
        <p:spPr>
          <a:xfrm>
            <a:off x="2279520" y="4602240"/>
            <a:ext cx="1762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5964"/>
                </a:solidFill>
                <a:latin typeface="Arial Unicode MS"/>
              </a:rPr>
              <a:t>ОПИСАНИЕ ИНТЕРЬЕР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1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.     1.1 Что такое интерьер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1.2 Найдите в тексте и выразительно прочитайте описание  избы лесника. Устно нарисуйте картину, которая вам представилась во время чтения.(художественный пересказ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2. Какие слова в описании являются ключевыми? Для чего нужно в этом рассказе описание изб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4" name="Picture 8" descr="Картинка 197 из 11044"/>
          <p:cNvPicPr/>
          <p:nvPr/>
        </p:nvPicPr>
        <p:blipFill>
          <a:blip r:embed="rId1"/>
          <a:srcRect l="49799" t="30003" r="0" b="30003"/>
          <a:stretch/>
        </p:blipFill>
        <p:spPr>
          <a:xfrm>
            <a:off x="228600" y="571680"/>
            <a:ext cx="8629560" cy="5981400"/>
          </a:xfrm>
          <a:prstGeom prst="rect">
            <a:avLst/>
          </a:prstGeom>
          <a:ln w="936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2" descr="«Записки охотника». 12. «Бирюк». Художник Б. Дехтерев"/>
          <p:cNvPicPr/>
          <p:nvPr/>
        </p:nvPicPr>
        <p:blipFill>
          <a:blip r:embed="rId1"/>
          <a:stretch/>
        </p:blipFill>
        <p:spPr>
          <a:xfrm>
            <a:off x="428760" y="571680"/>
            <a:ext cx="8072280" cy="5715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686d"/>
                </a:solidFill>
                <a:latin typeface="Academy Engraved LET"/>
              </a:rPr>
              <a:t>ПОРТРЕТ БИРЮК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b5395"/>
                </a:solidFill>
                <a:latin typeface="Constantia"/>
              </a:rPr>
              <a:t>1.Что такое портрет? Какую роль он играет в художественном произведени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b5395"/>
                </a:solidFill>
                <a:latin typeface="Constantia"/>
              </a:rPr>
              <a:t>2.. Устно нарисуйте портрет Бирюка.(художественный пересказ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686d"/>
                </a:solidFill>
                <a:latin typeface="Calibri"/>
              </a:rPr>
              <a:t>ОТНОШЕНИЕ ОКРУЖАЮЩИХ К ГЕРО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000160"/>
            <a:ext cx="79311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5dfd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b5395"/>
                </a:solidFill>
                <a:latin typeface="Constantia"/>
              </a:rPr>
              <a:t>Как относились мужики ближних деревень к Бирюку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Academy Engraved LET"/>
              </a:rPr>
              <a:t>Отношение героя к своему дел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Как Бирюк относился к своему делу? Как характеризует лесника тот факт, что он на большом расстоянии услышал стук топор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характеристику вора-муж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 желанию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поразмышлять над вопросом: Как вы считаете, изменится ли жизнь Бирюка после этого поступ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.зад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Ответить на вопрос: «На чьей стороне в этой ситуации Тургенев (Бирюка или мужика)? Почем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Письменный ответ на вопрос: Что привлекает и что отталкивает меня в Бирюк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ЖИЗНЬ И ТВОРЧЕСТВО И.С.ТУРГЕНЕ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642960" y="3571920"/>
            <a:ext cx="200016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ихотворения в проз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714240" y="5000760"/>
            <a:ext cx="24289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ема угнетенности крестьян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Овал 8"/>
          <p:cNvSpPr/>
          <p:nvPr/>
        </p:nvSpPr>
        <p:spPr>
          <a:xfrm>
            <a:off x="3500280" y="5000760"/>
            <a:ext cx="18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785880" y="2071800"/>
            <a:ext cx="2057400" cy="785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818-188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6786720" y="3571920"/>
            <a:ext cx="207144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Записки охотни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6429240" y="4929120"/>
            <a:ext cx="24289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исал только на русском язы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2"/>
          <p:cNvSpPr/>
          <p:nvPr/>
        </p:nvSpPr>
        <p:spPr>
          <a:xfrm>
            <a:off x="6357960" y="2286000"/>
            <a:ext cx="21286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Овал 13"/>
          <p:cNvSpPr/>
          <p:nvPr/>
        </p:nvSpPr>
        <p:spPr>
          <a:xfrm>
            <a:off x="2571840" y="4000680"/>
            <a:ext cx="1700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Жил за границ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Овал 14"/>
          <p:cNvSpPr/>
          <p:nvPr/>
        </p:nvSpPr>
        <p:spPr>
          <a:xfrm>
            <a:off x="4786200" y="4000680"/>
            <a:ext cx="21430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пасское- Лутовин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ая соединительная линия 16"/>
          <p:cNvSpPr/>
          <p:nvPr/>
        </p:nvSpPr>
        <p:spPr>
          <a:xfrm>
            <a:off x="2500200" y="2857680"/>
            <a:ext cx="716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ая соединительная линия 18"/>
          <p:cNvSpPr/>
          <p:nvPr/>
        </p:nvSpPr>
        <p:spPr>
          <a:xfrm flipH="1">
            <a:off x="2714400" y="1934280"/>
            <a:ext cx="1857240" cy="351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ая соединительная линия 22"/>
          <p:cNvSpPr/>
          <p:nvPr/>
        </p:nvSpPr>
        <p:spPr>
          <a:xfrm flipH="1">
            <a:off x="2071440" y="2071080"/>
            <a:ext cx="250020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ая соединительная линия 24"/>
          <p:cNvSpPr/>
          <p:nvPr/>
        </p:nvSpPr>
        <p:spPr>
          <a:xfrm flipH="1">
            <a:off x="2000160" y="2071800"/>
            <a:ext cx="2571840" cy="3071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ая соединительная линия 26"/>
          <p:cNvSpPr/>
          <p:nvPr/>
        </p:nvSpPr>
        <p:spPr>
          <a:xfrm flipH="1">
            <a:off x="3929040" y="2071800"/>
            <a:ext cx="642960" cy="207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ая соединительная линия 28"/>
          <p:cNvSpPr/>
          <p:nvPr/>
        </p:nvSpPr>
        <p:spPr>
          <a:xfrm>
            <a:off x="4571280" y="1935000"/>
            <a:ext cx="142920" cy="313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ая соединительная линия 30"/>
          <p:cNvSpPr/>
          <p:nvPr/>
        </p:nvSpPr>
        <p:spPr>
          <a:xfrm>
            <a:off x="4572000" y="1935000"/>
            <a:ext cx="1285920" cy="2065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32"/>
          <p:cNvSpPr/>
          <p:nvPr/>
        </p:nvSpPr>
        <p:spPr>
          <a:xfrm>
            <a:off x="4572000" y="1935000"/>
            <a:ext cx="3214800" cy="3208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34"/>
          <p:cNvSpPr/>
          <p:nvPr/>
        </p:nvSpPr>
        <p:spPr>
          <a:xfrm>
            <a:off x="4572000" y="1935000"/>
            <a:ext cx="2286000" cy="565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36"/>
          <p:cNvSpPr/>
          <p:nvPr/>
        </p:nvSpPr>
        <p:spPr>
          <a:xfrm>
            <a:off x="4571280" y="1935000"/>
            <a:ext cx="2714760" cy="1708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E:\инна\работа\Мама\моя аттестация!!!!!!\печатать 28.11\урок!!!!!!!!!!!!!!!!!!!!!!!!\78623.jpg"/>
          <p:cNvPicPr/>
          <p:nvPr/>
        </p:nvPicPr>
        <p:blipFill>
          <a:blip r:embed="rId1"/>
          <a:stretch/>
        </p:blipFill>
        <p:spPr>
          <a:xfrm>
            <a:off x="500040" y="1616040"/>
            <a:ext cx="2428920" cy="3765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инна\работа\Мама\моя аттестация!!!!!!\печатать 28.11\урок!!!!!!!!!!!!!!!!!!!!!!!!\00173379.cover-250x250.jpg"/>
          <p:cNvPicPr/>
          <p:nvPr/>
        </p:nvPicPr>
        <p:blipFill>
          <a:blip r:embed="rId2"/>
          <a:stretch/>
        </p:blipFill>
        <p:spPr>
          <a:xfrm>
            <a:off x="2571840" y="23796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:\инна\работа\Мама\моя аттестация!!!!!!\печатать 28.11\урок!!!!!!!!!!!!!!!!!!!!!!!!\1000369917.jpg"/>
          <p:cNvPicPr/>
          <p:nvPr/>
        </p:nvPicPr>
        <p:blipFill>
          <a:blip r:embed="rId3"/>
          <a:stretch/>
        </p:blipFill>
        <p:spPr>
          <a:xfrm>
            <a:off x="5786280" y="35712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E:\инна\работа\Мама\моя аттестация!!!!!!\печатать 28.11\урок!!!!!!!!!!!!!!!!!!!!!!!!\1002050261.jpg"/>
          <p:cNvPicPr/>
          <p:nvPr/>
        </p:nvPicPr>
        <p:blipFill>
          <a:blip r:embed="rId4"/>
          <a:stretch/>
        </p:blipFill>
        <p:spPr>
          <a:xfrm>
            <a:off x="1857240" y="3571920"/>
            <a:ext cx="3286440" cy="3286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46651"/>
          <p:cNvPicPr/>
          <p:nvPr/>
        </p:nvPicPr>
        <p:blipFill>
          <a:blip r:embed="rId5"/>
          <a:stretch/>
        </p:blipFill>
        <p:spPr>
          <a:xfrm>
            <a:off x="5072040" y="2786040"/>
            <a:ext cx="2641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ЛЮЧ К ТЕСТУ ПО РАССКАЗУ «БИРЮК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1. – в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2. – г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3. – б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4. – 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5. – б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И.С.Тургенев. Рассказ «Бирюк»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Характеристика литературного героя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5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61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ЕТАЛИ,ПОМОГАЮЩИЕ СОСТАВИТЬ ХАРАКТЕРИСТИКУ ГЕРО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портретное описани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писание помещения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к людя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к своему делу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людей к герою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48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2090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686d"/>
                </a:solidFill>
                <a:latin typeface="Calibri"/>
              </a:rPr>
              <a:t>Значение слова «Бирюк» в разных толковых словаря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280" y="1285920"/>
            <a:ext cx="81471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1. БИРЮ́К м. татарск.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оренб. сиб. астрах. вор.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 зверь, серый, 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новг.-бор.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 шуточн. овчар; волк.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Глядеть бирюком, волком, угрюмо,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(Словарь В.И.Даля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2.   1.Волк-одиночка (обл.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 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2. перен. Нелюдимый и угрюмый человек (разг.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| прил. бирючий, -ья, -ье (к 1 знач.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    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Смотреть ~бирюком. исподлобья; жить бирюком, одиноко, ни с кем не знаться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1" lang="ru-RU" sz="1500" spc="-1" strike="noStrike">
                <a:solidFill>
                  <a:srgbClr val="083763"/>
                </a:solidFill>
                <a:latin typeface="Constantia"/>
              </a:rPr>
              <a:t>С.И.Ожегов,Н.Ю.Шведова   Толковый словарь русского языка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3. 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1) диал. (</a:t>
            </a:r>
            <a:r>
              <a:rPr b="1" i="1" lang="vi-VN" sz="1700" spc="-1" strike="noStrike">
                <a:solidFill>
                  <a:srgbClr val="083763"/>
                </a:solidFill>
                <a:latin typeface="Times New Roman"/>
              </a:rPr>
              <a:t>волк-одиночка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) (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ne) wolf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2) 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разг. (</a:t>
            </a:r>
            <a:r>
              <a:rPr b="1" i="1" lang="vi-VN" sz="1700" spc="-1" strike="noStrike">
                <a:solidFill>
                  <a:srgbClr val="083763"/>
                </a:solidFill>
                <a:latin typeface="Times New Roman"/>
              </a:rPr>
              <a:t>нелюдимый и угрюмый человек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)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ne wolf, loner; unsociable pers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смотре́ть бирюко́м —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ok morose / sullen / surl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перевод “бирюк”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на английский язык в Большом русско-английском словаре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﻿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242560" cy="5265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 flipV="1">
            <a:off x="539640" y="477000"/>
            <a:ext cx="34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2" descr="http://rusportrait.ru/gal3/s11-1.jpg"/>
          <p:cNvPicPr/>
          <p:nvPr/>
        </p:nvPicPr>
        <p:blipFill>
          <a:blip r:embed="rId2"/>
          <a:stretch/>
        </p:blipFill>
        <p:spPr>
          <a:xfrm>
            <a:off x="2000160" y="428760"/>
            <a:ext cx="4714920" cy="5572080"/>
          </a:xfrm>
          <a:prstGeom prst="rect">
            <a:avLst/>
          </a:prstGeom>
          <a:ln w="9360">
            <a:solidFill>
              <a:srgbClr val="06686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357280"/>
          <a:ext cx="8229600" cy="4065840"/>
        </p:xfrm>
        <a:graphic>
          <a:graphicData uri="http://schemas.openxmlformats.org/drawingml/2006/table">
            <a:tbl>
              <a:tblPr/>
              <a:tblGrid>
                <a:gridCol w="2057400"/>
                <a:gridCol w="2486160"/>
                <a:gridCol w="1628640"/>
                <a:gridCol w="205740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ртр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ь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ношение окружающих к геро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ношение  героя к своему дел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5:14:49Z</dcterms:created>
  <dc:creator>User</dc:creator>
  <dc:description/>
  <dc:language>en-US</dc:language>
  <cp:lastModifiedBy>Рифат</cp:lastModifiedBy>
  <dcterms:modified xsi:type="dcterms:W3CDTF">2011-12-04T20:24:44Z</dcterms:modified>
  <cp:revision>43</cp:revision>
  <dc:subject/>
  <dc:title>Слайд 1</dc:title>
</cp:coreProperties>
</file>