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515-4BFB-492F-95AC-D0DD2A8D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995-A578-41BF-A2C1-2823CE98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8BA-CBD1-4B71-B17A-30F2BB74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692-EF09-4245-8E1E-3A7451A1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BCC0-34D9-419E-BB66-DDE03E31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B24-B91F-4F57-AAC0-D02908A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01F-E280-4AA9-A2F7-B7F8B98B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DDBA-417E-42F2-A984-AE63BDB3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D178-9850-4F85-8D7D-10EB3D1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93C9-07C3-4946-945C-CC2FA59F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F15-D3AA-4980-9DE3-40A1CF3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09A-A9D2-4670-B011-481A8D4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C76-AABF-4D39-9CB7-0F5945A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6F05-0685-4A2D-9902-CD381005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502-455E-443B-873A-6E32DDCD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8BA9-B005-49AA-B82F-049C2574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92D7-E724-435D-B846-FB01FBD9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3E9-9B0E-47D1-960A-AFC73993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70D-3616-4378-B3AB-451CAD7C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0AC-B469-4E01-8C89-D283C5E1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7E56-2262-4337-B10E-4A93636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3CC-CC5E-43E1-A08D-77D06893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AA1-CC76-4797-B268-67315B9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42A-636A-49FF-87BE-81BA1B5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5AED-26ED-4667-BE4F-EC86EEB8C5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3599-F3E6-40B6-BA9B-D913B7DD99B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66"/>
                </a:solidFill>
                <a:uFillTx/>
                <a:latin typeface="Arial Black"/>
              </a:rPr>
              <a:t>РАЗВИТИЕ ОБЩЕНИЯ ДЕТЕЙ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508720" y="2028960"/>
            <a:ext cx="3384360" cy="176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172548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3457440" cy="259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2376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неситуативно - познавательна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явлением первых вопросов ребёнка: «почему?»,  «зачем?», «откуда?», « как?» - начинается новый этап в развитии его общения со взрослыми, дополнительно побуждаемый познавательными мотивами. Ребёнок вырывается за рамки наглядной ситуации, в которой раньше были сосредоточены все его интересы. Теперь его интересует гораздо большее, а именно,  как устроен открывшийся для него огромный  мир природных явлений и человеческих отношений? И главным источником информации, эрудитом, знающим всё на свете, становится для него всё тот же взрослый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еситуативно - личност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неситуативно - личностное общение, возникающее в середине или конце дошкольного возрас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ослый для ребёнка - высший авторитет, чьи указания,требования,замечания принимаются по- деловому, без обид, капризов и отказа от трудных заданий. Эта форма общения важна при подготовке к школе, и если она не сложилась к 6-7 годам, ребёнок будет психологически не готов к школьному обу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1f7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24000" y="115920"/>
          <a:ext cx="8569080" cy="6642000"/>
        </p:xfrm>
        <a:graphic>
          <a:graphicData uri="http://schemas.openxmlformats.org/drawingml/2006/table">
            <a:tbl>
              <a:tblPr/>
              <a:tblGrid>
                <a:gridCol w="1272960"/>
                <a:gridCol w="2081160"/>
                <a:gridCol w="2032200"/>
                <a:gridCol w="3182760"/>
              </a:tblGrid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бщ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, удовлетворяемая в общен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енче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о-личност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доброжелательном вним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нни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уативно-делов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сотрудничест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и средний дошкольны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итуативно-познаватель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 уважении взрослого; познавательная потреб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и старший дошкольный 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итуативно- личностное об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 во взаимопонимании и сопережи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68200" y="264960"/>
            <a:ext cx="2028960" cy="2610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484360" y="115920"/>
            <a:ext cx="651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ина Мая Ивановна (1929 - 1983) - выдающийся детский психолог, основатель оригинальной научной школы, автор концепции генеза общения ребенка со взрослым, она фактически стала основательницей отечественной психологии младенче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2 г. окончила отделение психологии философского факультета МГУ, училась в аспирантуре у А.В. Запорожца в Институте психологии АПН РСФСР. В 1955 г. защитила кандидатскую диссертацию. С 1962 г. заведовала лабораторией психологии детей раннего и дошкольного возраста. В 1974 г. защитила докторскую диссертацию на тему «Возрастные и индивидуальные особенности общения со взрослыми у детей от рождения до семи л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976 г. возглавляла отдел возрастной психологии Института общей и педагогической психологии. Профессор (1980). Член редколлегии журнала «Вопросы психолог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нце 70-х гг. М.И. Лисиной и под ее руководством были проведены чрезвычайно яркие и красивые экспериментальные исследования общения младенцев со взрослым и его влияния на психическое развитие ребенка. Одним из основных методов в этих исследованиях было сравнительное изучение детей, воспитывающихся в семье и без семьи - в детских учреждениях закрытого тип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856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бщение рассматривается как взаимодействие людей, направленное на согласование и объединение их усилий с целью налаживания отношений и достижения общего результата (М.И.Лисина). Этот особый вид деятельности имеет мотивы, предмет, содержание, средства, результат. В процессе общения складываются субъектно-субъективные отношения, поскольку каждый его участник выступает субъектом, проявляет активность, адресующуюся к личности другого человека, попеременно выражая ему свое отношение и воспринимая отношение партнера к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ние направлено на удовлетворение важной духовной потребности, которая является одной из ведущих на протяжении всей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ребность в общении состоит в стремлении к особого рода познанию себя и других как личностей, которое неотделимо от отношения, т.е. от стремления к оценке и самооцен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уктом общения выступает образ другого человека и самого себя, на основе чего совершается регуляция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реди средств общения выделяют две групп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рбальные (речь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невербальные (экспрессивно-мимические - улыбка, мимика и предметные - позы, жесты, предметные действ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ричем речь - это ведущее средство, позволяющее передать максимально богатое содержание. В то же время речевые средства подкрепляются невербальными, которые дают дополнительную информацию о собеседн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цесс общения составляют три сторо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о-перцептивная - восприятие и понимание другого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активная – межличностное взаимодейств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муникативная - передача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ы общ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ребенка до 7 лет сменяется 4 формы общения со взрослым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туативно-личностн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туативно-делов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уативно-познаватель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итуативно-личност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туативно - личност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036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итуативно-личност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щение, характерно для младенчества. Оно зависит от особенностей сиюминутного взаимодействия ребёнка и взрослого, ограничено узкими рамками ситуации, в которой удовлетворяются потребности ребёнка. Непосредственно-эмоциональные контакты являются основным содержанием общения. Ребёнка привлекает личность взрослого, а всё остальное, включая игрушки и прочие интересные предметы, остаются на втором пл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итуативно – делова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ннем возрасте ребёнок осваивает мир окружающих его предметов. Ему по-прежнему необходимы тёплые эмоциональные контакты с мамой, но этого уже недостаточно. Потребность в общении у него в это время тесно связана с потребностью в сотрудничестве, которая вместе с потребностями в новых впечатлениях и активности может быть реализована в совместных действиях со взрослыми.  Ребёнок и взрослый выступающий как организатор и помощник, вместе манипулируют предметами, выполняют всё более сложные действия с ними. Взрослый показывает, что можно делать с разными вещами, как их использовать, раскрывая перед ребёнком те их  качества, которые тот сам не в состоянии обнаружить. Общение развёртывающееся в ситуации совместной деятельности, назва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туативно-деловы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1:44:21Z</dcterms:created>
  <dc:creator>Серж</dc:creator>
  <dc:description/>
  <dc:language>en-US</dc:language>
  <cp:lastModifiedBy>Кабинет</cp:lastModifiedBy>
  <dcterms:modified xsi:type="dcterms:W3CDTF">2011-02-19T04:00:41Z</dcterms:modified>
  <cp:revision>3</cp:revision>
  <dc:subject/>
  <dc:title>РАЗВИТИЕ ОБЩЕНИЯ ДЕТЕЙ</dc:title>
</cp:coreProperties>
</file>