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E11E-8189-4F81-98CA-C0EA3C13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5847-18FE-404F-8886-BCED5314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6C75-236E-4414-9CA8-DF5BD44E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21D4-88BC-460A-BC39-E22D7BD5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8A2F-0BC7-4982-BB32-D017C95F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7395-61EB-43B4-AE0B-E3294B90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C3C2-AD63-4D39-8302-597EA0C7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96BB-F315-4E0F-BA89-4CDF6738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0AB1-F351-4B05-B53E-64E58E70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CC87-6639-4896-8E64-53376073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29B8-3B11-42CB-B5A1-91637EBB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9F76-7836-48CD-BFA5-069FF4C7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2E44-E697-4FC4-86CB-B2E03F61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F922-742B-4135-9144-1241D5BB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3D57-E14C-4F8E-A336-273C7322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756C-8C78-4B35-9115-A9DEBE31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5890-BEB6-491B-A1ED-3A46D970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BC86-71C0-496F-8B60-132E6F7B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017F-D1EB-4F43-8298-D17A6EEB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8EC2-5526-41E4-AE31-15779CCD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7E2-4508-4F6E-A733-0665A652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9D97-B6D4-4374-95B1-6D5C2351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D3AA-080F-41E3-BFC2-81AFDE5A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31F7-D3B5-4330-9158-5E9B4B55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D915-AD50-4A8B-B6EE-74DECDFEAA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507A-11EB-46EA-979C-1E50786658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66"/>
                </a:solidFill>
                <a:uFillTx/>
                <a:latin typeface="Arial Black"/>
              </a:rPr>
              <a:t>РАЗВИТИЕ ОБЩЕНИЯ ДЕТЕЙ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508720" y="2028960"/>
            <a:ext cx="3384360" cy="1760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1116000" y="4076640"/>
            <a:ext cx="1725480" cy="2592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5292720" y="4076640"/>
            <a:ext cx="3457440" cy="2595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4"/>
          <a:stretch/>
        </p:blipFill>
        <p:spPr>
          <a:xfrm>
            <a:off x="1042920" y="1844640"/>
            <a:ext cx="23767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неситуативно - познавательна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9036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появлением первых вопросов ребёнка: «почему?»,  «зачем?», «откуда?», « как?» - начинается новый этап в развитии его общения со взрослыми, дополнительно побуждаемый познавательными мотивами. Ребёнок вырывается за рамки наглядной ситуации, в которой раньше были сосредоточены все его интересы. Теперь его интересует гораздо большее, а именно,  как устроен открывшийся для него огромный  мир природных явлений и человеческих отношений? И главным источником информации, эрудитом, знающим всё на свете, становится для него всё тот же взрослый челов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неситуативно - личностна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Внеситуативно - личностное общение, возникающее в середине или конце дошкольного возрас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рослый для ребёнка - высший авторитет, чьи указания,требования,замечания принимаются по- деловому, без обид, капризов и отказа от трудных заданий. Эта форма общения важна при подготовке к школе, и если она не сложилась к 6-7 годам, ребёнок будет психологически не готов к школьному обуче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1f7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24000" y="115920"/>
          <a:ext cx="8569080" cy="6642000"/>
        </p:xfrm>
        <a:graphic>
          <a:graphicData uri="http://schemas.openxmlformats.org/drawingml/2006/table">
            <a:tbl>
              <a:tblPr/>
              <a:tblGrid>
                <a:gridCol w="1272960"/>
                <a:gridCol w="2081160"/>
                <a:gridCol w="2032200"/>
                <a:gridCol w="3182760"/>
              </a:tblGrid>
              <a:tr h="150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общ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ность, удовлетворяемая в общени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енче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тивно-личностное общ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ность в доброжелательном внима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ний возра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уативно-деловое общ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ность в сотрудничеств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5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и средний дошкольный возра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ситуативно-познавательное общ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ность в уважении взрослого; познавательная потребност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6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и старший дошкольный возра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ситуативно- личностное общ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ность во взаимопонимании и сопережива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68200" y="264960"/>
            <a:ext cx="2028960" cy="2610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2484360" y="115920"/>
            <a:ext cx="6516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сина Мая Ивановна (1929 - 1983) - выдающийся детский психолог, основатель оригинальной научной школы, автор концепции генеза общения ребенка со взрослым, она фактически стала основательницей отечественной психологии младенч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52 г. окончила отделение психологии философского факультета МГУ, училась в аспирантуре у А.В. Запорожца в Институте психологии АПН РСФСР. В 1955 г. защитила кандидатскую диссертацию. С 1962 г. заведовала лабораторией психологии детей раннего и дошкольного возраста. В 1974 г. защитила докторскую диссертацию на тему «Возрастные и индивидуальные особенности общения со взрослыми у детей от рождения до семи лет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1976 г. возглавляла отдел возрастной психологии Института общей и педагогической психологии. Профессор (1980). Член редколлегии журнала «Вопросы психолог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онце 70-х гг. М.И. Лисиной и под ее руководством были проведены чрезвычайно яркие и красивые экспериментальные исследования общения младенцев со взрослым и его влияния на психическое развитие ребенка. Одним из основных методов в этих исследованиях было сравнительное изучение детей, воспитывающихся в семье и без семьи - в детских учреждениях закрытого тип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856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Общение рассматривается как взаимодействие людей, направленное на согласование и объединение их усилий с целью налаживания отношений и достижения общего результата (М.И.Лисина). Этот особый вид деятельности имеет мотивы, предмет, содержание, средства, результат. В процессе общения складываются субъектно-субъективные отношения, поскольку каждый его участник выступает субъектом, проявляет активность, адресующуюся к личности другого человека, попеременно выражая ему свое отношение и воспринимая отношение партнера к себ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ение направлено на удовлетворение важной духовной потребности, которая является одной из ведущих на протяжении всей жизни челове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ребность в общении состоит в стремлении к особого рода познанию себя и других как личностей, которое неотделимо от отношения, т.е. от стремления к оценке и самооцен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дуктом общения выступает образ другого человека и самого себя, на основе чего совершается регуляция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Среди средств общения выделяют две группы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вербальные (речь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невербальные (экспрессивно-мимические - улыбка, мимика и предметные - позы, жесты, предметные действия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ричем речь - это ведущее средство, позволяющее передать максимально богатое содержание. В то же время речевые средства подкрепляются невербальными, которые дают дополнительную информацию о собеседн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цесс общения составляют три сторон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циально-перцептивная - восприятие и понимание другого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активная – межличностное взаимодейств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муникативная - передача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ормы общ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ребенка до 7 лет сменяется 4 формы общения со взрослым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туативно-личностна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туативно-делова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ситуативно-познаватель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ситуативно-личностна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итуативно - личностна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036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итуативно-личностно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бщение, характерно для младенчества. Оно зависит от особенностей сиюминутного взаимодействия ребёнка и взрослого, ограничено узкими рамками ситуации, в которой удовлетворяются потребности ребёнка. Непосредственно-эмоциональные контакты являются основным содержанием общения. Ребёнка привлекает личность взрослого, а всё остальное, включая игрушки и прочие интересные предметы, остаются на втором пла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итуативно – деловая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аннем возрасте ребёнок осваивает мир окружающих его предметов. Ему по-прежнему необходимы тёплые эмоциональные контакты с мамой, но этого уже недостаточно. Потребность в общении у него в это время тесно связана с потребностью в сотрудничестве, которая вместе с потребностями в новых впечатлениях и активности может быть реализована в совместных действиях со взрослыми.  Ребёнок и взрослый выступающий как организатор и помощник, вместе манипулируют предметами, выполняют всё более сложные действия с ними. Взрослый показывает, что можно делать с разными вещами, как их использовать, раскрывая перед ребёнком те их  качества, которые тот сам не в состоянии обнаружить. Общение развёртывающееся в ситуации совместной деятельности, назван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итуативно-деловы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1:44:21Z</dcterms:created>
  <dc:creator>Серж</dc:creator>
  <dc:description/>
  <dc:language>en-US</dc:language>
  <cp:lastModifiedBy>Кабинет</cp:lastModifiedBy>
  <dcterms:modified xsi:type="dcterms:W3CDTF">2011-02-19T04:00:41Z</dcterms:modified>
  <cp:revision>3</cp:revision>
  <dc:subject/>
  <dc:title>РАЗВИТИЕ ОБЩЕНИЯ ДЕТЕЙ</dc:title>
</cp:coreProperties>
</file>