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B477-BD90-4C33-80FE-901B944A8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951-EE5A-43D1-A77C-8CC74E80E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14A-D6A0-4C01-89F6-773BEB43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176-790E-4B3F-B11F-8205D561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AFE-2190-4935-9A5F-008EA887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030-48BC-4898-98CD-12261658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9C9-868C-4601-883B-82482554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585-51A2-45FC-8D7F-6F04B35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4F2-51D6-4552-9CB6-A39F960C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5C5-ED2A-45B2-B4A9-4FE3E80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4B1-B019-4BE9-B4BF-ABED03F9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7CB-54E0-473C-B8AA-BBFA6E11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4FA6-F0EF-494F-8527-BBF61CF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A4F-9817-4A4C-A8CD-BA412E13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2D1-C392-49EA-8733-6FA7A53D3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повто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Что такое суж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ие бывают суж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числите виды простых 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к образуются сложные сужд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:\23УРОК\thinkingbrain 190110a_New.jpg"/>
          <p:cNvPicPr/>
          <p:nvPr/>
        </p:nvPicPr>
        <p:blipFill>
          <a:blip r:embed="rId1"/>
          <a:stretch/>
        </p:blipFill>
        <p:spPr>
          <a:xfrm>
            <a:off x="6072120" y="3998880"/>
            <a:ext cx="27147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1844640"/>
            <a:ext cx="768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адания для 1 под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адания для 2 под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А теперь закрепим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D:\risunki\pictures\1191269251_c4133.jpg"/>
          <p:cNvPicPr/>
          <p:nvPr/>
        </p:nvPicPr>
        <p:blipFill>
          <a:blip r:embed="rId1"/>
          <a:stretch/>
        </p:blipFill>
        <p:spPr>
          <a:xfrm>
            <a:off x="6156360" y="1989000"/>
            <a:ext cx="2657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03" name="Содержимое 2"/>
          <p:cNvSpPr/>
          <p:nvPr/>
        </p:nvSpPr>
        <p:spPr>
          <a:xfrm>
            <a:off x="357120" y="178596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Все имена существительные изменяются по падежам и числам. Слово «урок» – имя существительное. Следователь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одержимое 2"/>
          <p:cNvSpPr/>
          <p:nvPr/>
        </p:nvSpPr>
        <p:spPr>
          <a:xfrm>
            <a:off x="428760" y="3786120"/>
            <a:ext cx="84294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П.1: Имена существительные изменяются по падежам и числ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П.2:Слово «урок» – имя существительное.</a:t>
            </a:r>
            <a:r>
              <a:rPr b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З.: Слово «урок» изменяется по падежам и числ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08" name="Содержимое 2"/>
          <p:cNvSpPr/>
          <p:nvPr/>
        </p:nvSpPr>
        <p:spPr>
          <a:xfrm>
            <a:off x="357120" y="1785960"/>
            <a:ext cx="84297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Названия городов – имена собственные. Имена собственные пишутся с большой буквы. Значит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е растения на свету поглощают углекислый газ. Тополь – растение. Следовательн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12" name="Содержимое 2"/>
          <p:cNvSpPr/>
          <p:nvPr/>
        </p:nvSpPr>
        <p:spPr>
          <a:xfrm>
            <a:off x="357120" y="1714680"/>
            <a:ext cx="84297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е ученики 6 класса занимаются спортом. Саша учится в 6 классе. Значит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27"/>
          <p:cNvGrpSpPr/>
          <p:nvPr/>
        </p:nvGrpSpPr>
        <p:grpSpPr>
          <a:xfrm>
            <a:off x="357120" y="3000240"/>
            <a:ext cx="8336160" cy="2286000"/>
            <a:chOff x="357120" y="3000240"/>
            <a:chExt cx="8336160" cy="2286000"/>
          </a:xfrm>
        </p:grpSpPr>
        <p:sp>
          <p:nvSpPr>
            <p:cNvPr id="114" name="Oval 9"/>
            <p:cNvSpPr/>
            <p:nvPr/>
          </p:nvSpPr>
          <p:spPr>
            <a:xfrm>
              <a:off x="6500880" y="3000240"/>
              <a:ext cx="2192400" cy="2143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cc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Arial"/>
                </a:rPr>
                <a:t>Спор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"/>
            <p:cNvSpPr/>
            <p:nvPr/>
          </p:nvSpPr>
          <p:spPr>
            <a:xfrm>
              <a:off x="3643200" y="3357360"/>
              <a:ext cx="1500120" cy="1571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6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3786120" y="3500280"/>
              <a:ext cx="928440" cy="9288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а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9"/>
            <p:cNvSpPr/>
            <p:nvPr/>
          </p:nvSpPr>
          <p:spPr>
            <a:xfrm>
              <a:off x="357120" y="3142800"/>
              <a:ext cx="2192400" cy="2143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33cc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33cc"/>
                  </a:solidFill>
                  <a:latin typeface="Arial"/>
                </a:rPr>
                <a:t>Спор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3"/>
            <p:cNvSpPr/>
            <p:nvPr/>
          </p:nvSpPr>
          <p:spPr>
            <a:xfrm>
              <a:off x="5429520" y="4287600"/>
              <a:ext cx="936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2787480" y="371448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33cc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7"/>
            <p:cNvSpPr/>
            <p:nvPr/>
          </p:nvSpPr>
          <p:spPr>
            <a:xfrm>
              <a:off x="571320" y="3500280"/>
              <a:ext cx="1368360" cy="13669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6 кла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"/>
            <p:cNvSpPr/>
            <p:nvPr/>
          </p:nvSpPr>
          <p:spPr>
            <a:xfrm>
              <a:off x="6715440" y="3500280"/>
              <a:ext cx="928440" cy="9288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а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25" name="Содержимое 2"/>
          <p:cNvSpPr/>
          <p:nvPr/>
        </p:nvSpPr>
        <p:spPr>
          <a:xfrm>
            <a:off x="357120" y="1714680"/>
            <a:ext cx="842976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ама купила 4 шара красного и голубого цветов. Красных шаров было больше, чем голубых. Сколько мама купила красных шаров и сколько голуб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9"/>
          <p:cNvGrpSpPr/>
          <p:nvPr/>
        </p:nvGrpSpPr>
        <p:grpSpPr>
          <a:xfrm>
            <a:off x="3143160" y="4214880"/>
            <a:ext cx="4500720" cy="1785960"/>
            <a:chOff x="3143160" y="4214880"/>
            <a:chExt cx="4500720" cy="1785960"/>
          </a:xfrm>
        </p:grpSpPr>
        <p:grpSp>
          <p:nvGrpSpPr>
            <p:cNvPr id="127" name="Овал 5"/>
            <p:cNvGrpSpPr/>
            <p:nvPr/>
          </p:nvGrpSpPr>
          <p:grpSpPr>
            <a:xfrm>
              <a:off x="6760800" y="4774320"/>
              <a:ext cx="883080" cy="880920"/>
              <a:chOff x="6760800" y="4774320"/>
              <a:chExt cx="883080" cy="880920"/>
            </a:xfrm>
          </p:grpSpPr>
          <p:pic>
            <p:nvPicPr>
              <p:cNvPr id="128" name="Овал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760800" y="4774320"/>
                <a:ext cx="883080" cy="88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6905160" y="4921560"/>
                <a:ext cx="601560" cy="5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Овал 6"/>
            <p:cNvGrpSpPr/>
            <p:nvPr/>
          </p:nvGrpSpPr>
          <p:grpSpPr>
            <a:xfrm>
              <a:off x="3143160" y="4214880"/>
              <a:ext cx="889200" cy="880920"/>
              <a:chOff x="3143160" y="4214880"/>
              <a:chExt cx="889200" cy="880920"/>
            </a:xfrm>
          </p:grpSpPr>
          <p:pic>
            <p:nvPicPr>
              <p:cNvPr id="131" name="Овал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143160" y="4214880"/>
                <a:ext cx="889200" cy="88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289680" y="4363560"/>
                <a:ext cx="601560" cy="59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Овал 7"/>
            <p:cNvGrpSpPr/>
            <p:nvPr/>
          </p:nvGrpSpPr>
          <p:grpSpPr>
            <a:xfrm>
              <a:off x="4207680" y="4637520"/>
              <a:ext cx="883080" cy="875160"/>
              <a:chOff x="4207680" y="4637520"/>
              <a:chExt cx="883080" cy="875160"/>
            </a:xfrm>
          </p:grpSpPr>
          <p:pic>
            <p:nvPicPr>
              <p:cNvPr id="134" name="Овал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207680" y="4637520"/>
                <a:ext cx="88308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4352760" y="4782240"/>
                <a:ext cx="6015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Овал 8"/>
            <p:cNvGrpSpPr/>
            <p:nvPr/>
          </p:nvGrpSpPr>
          <p:grpSpPr>
            <a:xfrm>
              <a:off x="3143160" y="5125680"/>
              <a:ext cx="889200" cy="875160"/>
              <a:chOff x="3143160" y="5125680"/>
              <a:chExt cx="889200" cy="875160"/>
            </a:xfrm>
          </p:grpSpPr>
          <p:pic>
            <p:nvPicPr>
              <p:cNvPr id="137" name="Овал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143160" y="5125680"/>
                <a:ext cx="889200" cy="87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3289680" y="5270400"/>
                <a:ext cx="6015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42" name="Содержимое 2"/>
          <p:cNvSpPr/>
          <p:nvPr/>
        </p:nvSpPr>
        <p:spPr>
          <a:xfrm>
            <a:off x="357120" y="1714680"/>
            <a:ext cx="84297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Школьники, работая в колхозном саду, собрали 22 ящика фр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одних были ябло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о вторых – гру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-третьих – сл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ожно ли утверждать, что имеется по крайней мере 8 ящиков с одним из указанных видов фрук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13840" y="6428880"/>
            <a:ext cx="2614680" cy="2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46" name="Содержимое 2"/>
          <p:cNvSpPr/>
          <p:nvPr/>
        </p:nvSpPr>
        <p:spPr>
          <a:xfrm>
            <a:off x="357120" y="1714680"/>
            <a:ext cx="842976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ссмотрим самый неблагоприятный случа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школьники собирали по 7 ящиков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ждого вида фруктов: 7*3 = 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оставшийся ящик можно положить или яблоки, или груши, или сл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едовательно, существует по крайней мере 7+1=8 ящиков одного из видов фру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Управляющая кнопка: назад 5"/>
          <p:cNvSpPr/>
          <p:nvPr/>
        </p:nvSpPr>
        <p:spPr>
          <a:xfrm>
            <a:off x="8001000" y="6143760"/>
            <a:ext cx="857160" cy="357120"/>
          </a:xfrm>
          <a:custGeom>
            <a:avLst/>
            <a:gdLst>
              <a:gd name="textAreaLeft" fmla="*/ 23040 w 857160"/>
              <a:gd name="textAreaRight" fmla="*/ 834120 w 8571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14" h="21600">
                <a:moveTo>
                  <a:pt x="0" y="0"/>
                </a:moveTo>
                <a:lnTo>
                  <a:pt x="51814" y="0"/>
                </a:lnTo>
                <a:lnTo>
                  <a:pt x="51814" y="21600"/>
                </a:lnTo>
                <a:lnTo>
                  <a:pt x="0" y="21600"/>
                </a:lnTo>
                <a:close/>
              </a:path>
              <a:path fill="lightenLess" w="51814" h="21600">
                <a:moveTo>
                  <a:pt x="0" y="0"/>
                </a:moveTo>
                <a:lnTo>
                  <a:pt x="51814" y="0"/>
                </a:lnTo>
                <a:lnTo>
                  <a:pt x="50414" y="1400"/>
                </a:lnTo>
                <a:lnTo>
                  <a:pt x="1400" y="1400"/>
                </a:lnTo>
                <a:close/>
              </a:path>
              <a:path fill="darken" w="51814" h="21600">
                <a:moveTo>
                  <a:pt x="51814" y="0"/>
                </a:moveTo>
                <a:lnTo>
                  <a:pt x="51814" y="21600"/>
                </a:lnTo>
                <a:lnTo>
                  <a:pt x="50414" y="20200"/>
                </a:lnTo>
                <a:lnTo>
                  <a:pt x="50414" y="1400"/>
                </a:lnTo>
                <a:close/>
              </a:path>
              <a:path fill="darkenLess" w="51814" h="21600">
                <a:moveTo>
                  <a:pt x="5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4" y="20200"/>
                </a:lnTo>
                <a:close/>
              </a:path>
              <a:path fill="lighten" w="5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4" h="21600">
                <a:moveTo>
                  <a:pt x="18900" y="10800"/>
                </a:moveTo>
                <a:lnTo>
                  <a:pt x="32913" y="3794"/>
                </a:lnTo>
                <a:lnTo>
                  <a:pt x="3291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е ученики, которые учатся в первую смену, приходят в 8 часов. Сережа учится в первую смену. Во сколько приходит Сереж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grpSp>
        <p:nvGrpSpPr>
          <p:cNvPr id="152" name="Группа 10"/>
          <p:cNvGrpSpPr/>
          <p:nvPr/>
        </p:nvGrpSpPr>
        <p:grpSpPr>
          <a:xfrm>
            <a:off x="285840" y="3786120"/>
            <a:ext cx="8429400" cy="2500560"/>
            <a:chOff x="285840" y="3786120"/>
            <a:chExt cx="8429400" cy="2500560"/>
          </a:xfrm>
        </p:grpSpPr>
        <p:sp>
          <p:nvSpPr>
            <p:cNvPr id="153" name="Содержимое 2"/>
            <p:cNvSpPr/>
            <p:nvPr/>
          </p:nvSpPr>
          <p:spPr>
            <a:xfrm>
              <a:off x="285840" y="3786120"/>
              <a:ext cx="8429400" cy="25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9900"/>
                  </a:solidFill>
                  <a:latin typeface="Arial"/>
                </a:rPr>
                <a:t>П.1: 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Все ученики, которые учатся в первую смену, приходят в 8 часов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9900"/>
                  </a:solidFill>
                  <a:latin typeface="Arial"/>
                </a:rPr>
                <a:t>П.2: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 Сережа учится в первую смену. </a:t>
              </a:r>
              <a:r>
                <a:rPr b="1" lang="ru-RU" sz="2800" spc="-1" strike="noStrike">
                  <a:solidFill>
                    <a:srgbClr val="0099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9900"/>
                  </a:solidFill>
                  <a:latin typeface="Arial"/>
                </a:rPr>
                <a:t>З.: </a:t>
              </a:r>
              <a:r>
                <a:rPr b="1" lang="ru-RU" sz="2800" spc="-1" strike="noStrike">
                  <a:solidFill>
                    <a:srgbClr val="0033cc"/>
                  </a:solidFill>
                  <a:latin typeface="Arial"/>
                </a:rPr>
                <a:t>Серёжа приходит в 8 часов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рямая соединительная линия 8"/>
            <p:cNvSpPr/>
            <p:nvPr/>
          </p:nvSpPr>
          <p:spPr>
            <a:xfrm>
              <a:off x="285840" y="5286600"/>
              <a:ext cx="8429400" cy="144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185688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сли числитель меньше знаменателя, то дробь правильная. У дроби 3/8 числитель меньше знаменателя. Следователь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Если число оканчивается на 0, то оно делится на 5. Известно, что данное число не делится на 5. Следователь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2876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сли ни один слон не может летать, и все птицы летают. Следовательно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grpSp>
        <p:nvGrpSpPr>
          <p:cNvPr id="163" name="Группа 25"/>
          <p:cNvGrpSpPr/>
          <p:nvPr/>
        </p:nvGrpSpPr>
        <p:grpSpPr>
          <a:xfrm>
            <a:off x="142920" y="3286080"/>
            <a:ext cx="8820000" cy="1655640"/>
            <a:chOff x="142920" y="3286080"/>
            <a:chExt cx="8820000" cy="1655640"/>
          </a:xfrm>
        </p:grpSpPr>
        <p:sp>
          <p:nvSpPr>
            <p:cNvPr id="164" name="Oval 6"/>
            <p:cNvSpPr/>
            <p:nvPr/>
          </p:nvSpPr>
          <p:spPr>
            <a:xfrm>
              <a:off x="1942920" y="3286080"/>
              <a:ext cx="1728720" cy="1655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ет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"/>
            <p:cNvSpPr/>
            <p:nvPr/>
          </p:nvSpPr>
          <p:spPr>
            <a:xfrm>
              <a:off x="4248000" y="3286080"/>
              <a:ext cx="1728720" cy="165564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ет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9"/>
            <p:cNvSpPr/>
            <p:nvPr/>
          </p:nvSpPr>
          <p:spPr>
            <a:xfrm>
              <a:off x="7415280" y="3430440"/>
              <a:ext cx="1547640" cy="144144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4643280" y="3428640"/>
              <a:ext cx="857160" cy="78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"/>
            <p:cNvSpPr/>
            <p:nvPr/>
          </p:nvSpPr>
          <p:spPr>
            <a:xfrm>
              <a:off x="3600360" y="364644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33cc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6048360" y="4149720"/>
              <a:ext cx="5745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4"/>
            <p:cNvSpPr/>
            <p:nvPr/>
          </p:nvSpPr>
          <p:spPr>
            <a:xfrm>
              <a:off x="142920" y="3286080"/>
              <a:ext cx="1728720" cy="165564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572160" y="4143240"/>
              <a:ext cx="857160" cy="785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Птиц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верим 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285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Установите отношения между понят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71680" y="2000160"/>
          <a:ext cx="8001000" cy="36273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а) «прямоугольный треугольник» и  «равнобедренный треугольник»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которые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прямоугольные треугольники являются равнобедренными треугольник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б) «равносторонний треугольник» и «равнобедренный треугольник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аждый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равносторонний треугольник является равнобедренным треугольником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в) «прямоугольник» и «ромб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которые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прямоугольники являются ромб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68360" y="162864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0360" algn="just"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 сестер Юли и Тани было три платка: один розовый и два голубых. Увидев на юле один из этих платков, Таня поняла, что она может надеть только голубой платок. Какой платок был на Ю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grpSp>
        <p:nvGrpSpPr>
          <p:cNvPr id="176" name="Группа 8"/>
          <p:cNvGrpSpPr/>
          <p:nvPr/>
        </p:nvGrpSpPr>
        <p:grpSpPr>
          <a:xfrm>
            <a:off x="1258920" y="3573360"/>
            <a:ext cx="7200720" cy="2376720"/>
            <a:chOff x="1258920" y="3573360"/>
            <a:chExt cx="7200720" cy="2376720"/>
          </a:xfrm>
        </p:grpSpPr>
        <p:sp>
          <p:nvSpPr>
            <p:cNvPr id="177" name="Равнобедренный треугольник 5"/>
            <p:cNvSpPr/>
            <p:nvPr/>
          </p:nvSpPr>
          <p:spPr>
            <a:xfrm>
              <a:off x="1258920" y="4005360"/>
              <a:ext cx="2880360" cy="1368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Равнобедренный треугольник 6"/>
            <p:cNvSpPr/>
            <p:nvPr/>
          </p:nvSpPr>
          <p:spPr>
            <a:xfrm>
              <a:off x="2698920" y="4581720"/>
              <a:ext cx="2880360" cy="13683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Равнобедренный треугольник 7"/>
            <p:cNvSpPr/>
            <p:nvPr/>
          </p:nvSpPr>
          <p:spPr>
            <a:xfrm>
              <a:off x="5579280" y="3573360"/>
              <a:ext cx="2880360" cy="1368360"/>
            </a:xfrm>
            <a:prstGeom prst="triangle">
              <a:avLst>
                <a:gd name="adj" fmla="val 5000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177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ботая в поле, рабочие собрали 19 мешков овощ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одних была морков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о вторых – свек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-третьих – картоф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Содержимое 2"/>
          <p:cNvSpPr/>
          <p:nvPr/>
        </p:nvSpPr>
        <p:spPr>
          <a:xfrm>
            <a:off x="395280" y="443700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Можно ли утверждать, что имеется по крайней мере 7 мешков с одним из указанных видов овощ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одержимое 2"/>
          <p:cNvSpPr/>
          <p:nvPr/>
        </p:nvSpPr>
        <p:spPr>
          <a:xfrm>
            <a:off x="214200" y="6429240"/>
            <a:ext cx="2614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подгру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авайте закреп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F:\23УРОК\126_2709553.jpg"/>
          <p:cNvPicPr/>
          <p:nvPr/>
        </p:nvPicPr>
        <p:blipFill>
          <a:blip r:embed="rId1"/>
          <a:stretch/>
        </p:blipFill>
        <p:spPr>
          <a:xfrm>
            <a:off x="7500960" y="142920"/>
            <a:ext cx="1338120" cy="1671480"/>
          </a:xfrm>
          <a:prstGeom prst="rect">
            <a:avLst/>
          </a:prstGeom>
          <a:ln w="0">
            <a:noFill/>
          </a:ln>
        </p:spPr>
      </p:pic>
      <p:sp>
        <p:nvSpPr>
          <p:cNvPr id="188" name="Содержимое 2"/>
          <p:cNvSpPr/>
          <p:nvPr/>
        </p:nvSpPr>
        <p:spPr>
          <a:xfrm>
            <a:off x="395280" y="1989000"/>
            <a:ext cx="84297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ссмотрим самый неблагоприятный случ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абочие собирали по 6 мешков каждого вида овощей: 6*3 = 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 оставшийся мешок можно положить или свеклу, или морковь, или картоф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едовательно, существует по крайней мере 6+1=7 мешков одного из видов овощ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назад 5"/>
          <p:cNvSpPr/>
          <p:nvPr/>
        </p:nvSpPr>
        <p:spPr>
          <a:xfrm>
            <a:off x="8001000" y="6143760"/>
            <a:ext cx="857160" cy="357120"/>
          </a:xfrm>
          <a:custGeom>
            <a:avLst/>
            <a:gdLst>
              <a:gd name="textAreaLeft" fmla="*/ 23040 w 857160"/>
              <a:gd name="textAreaRight" fmla="*/ 834120 w 8571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14" h="21600">
                <a:moveTo>
                  <a:pt x="0" y="0"/>
                </a:moveTo>
                <a:lnTo>
                  <a:pt x="51814" y="0"/>
                </a:lnTo>
                <a:lnTo>
                  <a:pt x="51814" y="21600"/>
                </a:lnTo>
                <a:lnTo>
                  <a:pt x="0" y="21600"/>
                </a:lnTo>
                <a:close/>
              </a:path>
              <a:path fill="lightenLess" w="51814" h="21600">
                <a:moveTo>
                  <a:pt x="0" y="0"/>
                </a:moveTo>
                <a:lnTo>
                  <a:pt x="51814" y="0"/>
                </a:lnTo>
                <a:lnTo>
                  <a:pt x="50414" y="1400"/>
                </a:lnTo>
                <a:lnTo>
                  <a:pt x="1400" y="1400"/>
                </a:lnTo>
                <a:close/>
              </a:path>
              <a:path fill="darken" w="51814" h="21600">
                <a:moveTo>
                  <a:pt x="51814" y="0"/>
                </a:moveTo>
                <a:lnTo>
                  <a:pt x="51814" y="21600"/>
                </a:lnTo>
                <a:lnTo>
                  <a:pt x="50414" y="20200"/>
                </a:lnTo>
                <a:lnTo>
                  <a:pt x="50414" y="1400"/>
                </a:lnTo>
                <a:close/>
              </a:path>
              <a:path fill="darkenLess" w="51814" h="21600">
                <a:moveTo>
                  <a:pt x="5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4" y="20200"/>
                </a:lnTo>
                <a:close/>
              </a:path>
              <a:path fill="lighten" w="5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4" h="21600">
                <a:moveTo>
                  <a:pt x="18900" y="10800"/>
                </a:moveTo>
                <a:lnTo>
                  <a:pt x="32913" y="3794"/>
                </a:lnTo>
                <a:lnTo>
                  <a:pt x="3291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600200"/>
            <a:ext cx="78598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очитать теорию на карточ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Выполнить задания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Управляющая кнопка: назад 5"/>
          <p:cNvSpPr/>
          <p:nvPr/>
        </p:nvSpPr>
        <p:spPr>
          <a:xfrm>
            <a:off x="8001000" y="6143760"/>
            <a:ext cx="857160" cy="357120"/>
          </a:xfrm>
          <a:custGeom>
            <a:avLst/>
            <a:gdLst>
              <a:gd name="textAreaLeft" fmla="*/ 23040 w 857160"/>
              <a:gd name="textAreaRight" fmla="*/ 834120 w 8571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1814" h="21600">
                <a:moveTo>
                  <a:pt x="0" y="0"/>
                </a:moveTo>
                <a:lnTo>
                  <a:pt x="51814" y="0"/>
                </a:lnTo>
                <a:lnTo>
                  <a:pt x="51814" y="21600"/>
                </a:lnTo>
                <a:lnTo>
                  <a:pt x="0" y="21600"/>
                </a:lnTo>
                <a:close/>
              </a:path>
              <a:path fill="lightenLess" w="51814" h="21600">
                <a:moveTo>
                  <a:pt x="0" y="0"/>
                </a:moveTo>
                <a:lnTo>
                  <a:pt x="51814" y="0"/>
                </a:lnTo>
                <a:lnTo>
                  <a:pt x="50414" y="1400"/>
                </a:lnTo>
                <a:lnTo>
                  <a:pt x="1400" y="1400"/>
                </a:lnTo>
                <a:close/>
              </a:path>
              <a:path fill="darken" w="51814" h="21600">
                <a:moveTo>
                  <a:pt x="51814" y="0"/>
                </a:moveTo>
                <a:lnTo>
                  <a:pt x="51814" y="21600"/>
                </a:lnTo>
                <a:lnTo>
                  <a:pt x="50414" y="20200"/>
                </a:lnTo>
                <a:lnTo>
                  <a:pt x="50414" y="1400"/>
                </a:lnTo>
                <a:close/>
              </a:path>
              <a:path fill="darkenLess" w="51814" h="21600">
                <a:moveTo>
                  <a:pt x="51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4" y="20200"/>
                </a:lnTo>
                <a:close/>
              </a:path>
              <a:path fill="lighten" w="51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4" h="21600">
                <a:moveTo>
                  <a:pt x="18900" y="10800"/>
                </a:moveTo>
                <a:lnTo>
                  <a:pt x="32913" y="3794"/>
                </a:lnTo>
                <a:lnTo>
                  <a:pt x="3291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верим 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285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. Установите отношения между понят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1680" y="2000160"/>
          <a:ext cx="8001000" cy="381024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г) «прямоугольник» и «квадрат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которые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прямоугольники являются квадрат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д) «квадрат» и «прямоугольник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Все 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вадраты являются прямоугольник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е) «ромб» и «квадрат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которые 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омбы являются квадрат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ж) «прямоугольник» и «окружность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и один 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ямоугольник не является окружностью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з) «квадрат» и «ромб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Все </a:t>
                      </a:r>
                      <a:r>
                        <a:rPr b="0" lang="ru-RU" sz="2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вадраты являются ромбами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357200" y="214308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Arial"/>
              </a:rPr>
              <a:t>Тема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: «Умозаключение как форма мышлени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85920" y="114300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7"/>
          <p:cNvSpPr/>
          <p:nvPr/>
        </p:nvSpPr>
        <p:spPr>
          <a:xfrm flipH="1">
            <a:off x="926640" y="1440"/>
            <a:ext cx="180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093115f16d924f6a669787e5ae57bdda"/>
          <p:cNvPicPr/>
          <p:nvPr/>
        </p:nvPicPr>
        <p:blipFill>
          <a:blip r:embed="rId1"/>
          <a:stretch/>
        </p:blipFill>
        <p:spPr>
          <a:xfrm>
            <a:off x="6084720" y="3860640"/>
            <a:ext cx="280836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1928880" y="1357200"/>
            <a:ext cx="67863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форма мышления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с помощью которой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 одного или нескольких суждений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зываемых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посылками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ы по определенным правилам вывод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учаем суждение – 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14200" y="428760"/>
            <a:ext cx="62150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9900"/>
                </a:solidFill>
                <a:uFillTx/>
                <a:latin typeface="Arial"/>
              </a:rPr>
              <a:t>Умозаключение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Arial"/>
              </a:rPr>
              <a:t>–</a:t>
            </a: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Копия ad3a789759de[1]"/>
          <p:cNvPicPr/>
          <p:nvPr/>
        </p:nvPicPr>
        <p:blipFill>
          <a:blip r:embed="rId1"/>
          <a:stretch/>
        </p:blipFill>
        <p:spPr>
          <a:xfrm>
            <a:off x="179280" y="2781360"/>
            <a:ext cx="25956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ормы получ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умозаключ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785880" y="1785960"/>
            <a:ext cx="742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Если все А являются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а все В являются С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то все А являются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12"/>
          <p:cNvGrpSpPr/>
          <p:nvPr/>
        </p:nvGrpSpPr>
        <p:grpSpPr>
          <a:xfrm>
            <a:off x="428760" y="4213080"/>
            <a:ext cx="8192880" cy="2146320"/>
            <a:chOff x="428760" y="4213080"/>
            <a:chExt cx="8192880" cy="2146320"/>
          </a:xfrm>
        </p:grpSpPr>
        <p:sp>
          <p:nvSpPr>
            <p:cNvPr id="67" name="Oval 9"/>
            <p:cNvSpPr/>
            <p:nvPr/>
          </p:nvSpPr>
          <p:spPr>
            <a:xfrm>
              <a:off x="6429600" y="4214520"/>
              <a:ext cx="2192040" cy="2144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"/>
            <p:cNvSpPr/>
            <p:nvPr/>
          </p:nvSpPr>
          <p:spPr>
            <a:xfrm>
              <a:off x="428760" y="4500360"/>
              <a:ext cx="1368360" cy="13683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571320" y="4857480"/>
              <a:ext cx="576000" cy="6476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2951280" y="4213080"/>
              <a:ext cx="2192040" cy="2144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5357880" y="5286240"/>
              <a:ext cx="936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4"/>
            <p:cNvSpPr/>
            <p:nvPr/>
          </p:nvSpPr>
          <p:spPr>
            <a:xfrm>
              <a:off x="2016000" y="4716360"/>
              <a:ext cx="55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33cc"/>
                  </a:solidFill>
                  <a:latin typeface="Arial"/>
                </a:rPr>
                <a:t>и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7"/>
            <p:cNvSpPr/>
            <p:nvPr/>
          </p:nvSpPr>
          <p:spPr>
            <a:xfrm>
              <a:off x="3166920" y="4500360"/>
              <a:ext cx="1368360" cy="13683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6715080" y="4786200"/>
              <a:ext cx="576000" cy="6476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71320" y="1143000"/>
            <a:ext cx="8143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сли все воробьи – птицы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а все птицы – животные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,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то все воробьи являются животными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42960" y="3857760"/>
            <a:ext cx="81439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.1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се воробьи – птиц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.2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се птицы – живо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З.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се воробьи являются животны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9"/>
          <p:cNvSpPr/>
          <p:nvPr/>
        </p:nvSpPr>
        <p:spPr>
          <a:xfrm flipV="1">
            <a:off x="642960" y="4929120"/>
            <a:ext cx="7786800" cy="36720"/>
          </a:xfrm>
          <a:prstGeom prst="line">
            <a:avLst/>
          </a:prstGeom>
          <a:ln w="349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71680" y="300024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Запись в тетра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2" descr="1664"/>
          <p:cNvPicPr/>
          <p:nvPr/>
        </p:nvPicPr>
        <p:blipFill>
          <a:blip r:embed="rId1"/>
          <a:stretch/>
        </p:blipFill>
        <p:spPr>
          <a:xfrm>
            <a:off x="7236000" y="4869000"/>
            <a:ext cx="1725480" cy="172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1664"/>
          <p:cNvPicPr/>
          <p:nvPr/>
        </p:nvPicPr>
        <p:blipFill>
          <a:blip r:embed="rId2"/>
          <a:stretch/>
        </p:blipFill>
        <p:spPr>
          <a:xfrm>
            <a:off x="5940360" y="5132520"/>
            <a:ext cx="17258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2920" y="1714680"/>
            <a:ext cx="8367840" cy="28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Ес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ни одно А не является В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а все С являются А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,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ни одно С не является В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ормы получ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умозаключе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1979640" y="5013360"/>
            <a:ext cx="1728720" cy="165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4284720" y="5013360"/>
            <a:ext cx="1728720" cy="1655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9"/>
          <p:cNvSpPr/>
          <p:nvPr/>
        </p:nvSpPr>
        <p:spPr>
          <a:xfrm>
            <a:off x="7451640" y="5157720"/>
            <a:ext cx="1548000" cy="1441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4500720" y="5705640"/>
            <a:ext cx="64764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636720" y="537372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6084720" y="5877000"/>
            <a:ext cx="57492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79280" y="5013360"/>
            <a:ext cx="1728720" cy="1655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5"/>
          <p:cNvSpPr/>
          <p:nvPr/>
        </p:nvSpPr>
        <p:spPr>
          <a:xfrm>
            <a:off x="6732720" y="5589720"/>
            <a:ext cx="64764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ример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871560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Если ни у одного четного числа десятичная запись не заканчивается цифрой 5 и все числ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делящиеся на 4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н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о ни у одного числ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делящегося на 4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есятичная запись не заканчивается цифрой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42960" y="3929040"/>
            <a:ext cx="81439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.1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и у одного четного числа десятичная запись не заканчивается цифрой 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.2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все числа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делящиеся на 4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чет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З.: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и у одного числа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делящегося на 4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десятичная запись не заканчивается цифрой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4"/>
          <p:cNvSpPr/>
          <p:nvPr/>
        </p:nvSpPr>
        <p:spPr>
          <a:xfrm flipV="1">
            <a:off x="714240" y="5357520"/>
            <a:ext cx="7786800" cy="36360"/>
          </a:xfrm>
          <a:prstGeom prst="line">
            <a:avLst/>
          </a:prstGeom>
          <a:ln w="349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71680" y="3071880"/>
            <a:ext cx="7772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Запись в тетрад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36:25Z</dcterms:created>
  <dc:creator>МаРуСя </dc:creator>
  <dc:description/>
  <dc:language>en-US</dc:language>
  <cp:lastModifiedBy>касатка</cp:lastModifiedBy>
  <dcterms:modified xsi:type="dcterms:W3CDTF">2011-09-12T08:46:21Z</dcterms:modified>
  <cp:revision>102</cp:revision>
  <dc:subject/>
  <dc:title>Умозаключения как форма Мышления</dc:title>
</cp:coreProperties>
</file>