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2.jpeg" ContentType="image/jpeg"/>
  <Override PartName="/ppt/media/image24.jpeg" ContentType="image/jpeg"/>
  <Override PartName="/ppt/media/image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C2B-655F-4E77-95DD-A6704BDA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7FC-8E66-4E84-8502-270D1DF7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CD485-FB25-40BC-ABA4-2B48AF71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53149-A9BF-475B-9068-DEA3C38E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EB12E-2C19-48B3-B749-862ECA64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76127-F363-412F-A021-94F1A57D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FE7FA-F246-41AA-A783-3B3C3A3D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192B8-C9E6-42D5-A5C3-2E3CF5E9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DBBFB-C432-488F-BBF2-6448CB61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51CA8-166C-4BF7-83F7-BF4FA495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7CA60-101E-4782-9CD8-BD1F0187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9DC-B917-4C23-A074-2AB775BA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E64-D8E6-479C-8423-1E31FDF7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A571-2178-4EEE-86C2-F58A89B2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F032-AF95-4B57-AA50-AC201AEB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EEBE-89BF-4CDF-BA8B-F4F78E96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1D46-32BB-4451-A07E-54BB5092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FB3C-1B6B-4A1A-B795-5D67781A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19BE-7155-4EB4-B229-09E58CE9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2732-32A2-4032-80E3-50AD9782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592-3B17-4A29-8853-366FE6F1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EDBA-4FCE-4A7F-A39A-B1DE6EDF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8A8F-9A0B-487E-AA30-0E5B6007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4286-D4A6-44C1-96BC-A5203250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D4B1-9C1C-48FD-B7DD-0B9598DA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BBD0-BC34-45DD-88ED-6CA08ACA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C37D8-7F0F-4326-AD0F-1F272915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B80B4-5C51-458E-8ADA-00A8E9BC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373F1-1C39-4694-AE3F-A53416A9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927A4-9EFB-49A3-8CF4-112A70A5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6687A-7EC2-4E61-AE25-A172D3D9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9FF-E920-4C56-9465-214F2813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9D4DA-546C-448D-A9FB-7BF15A64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196E8-7286-4DEA-8CFE-6EF3AF56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FD0CE-6CCD-4D69-A35A-4676A622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04DC1-C647-443B-B2F4-B2C8242E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6C359-2F5C-4982-AA74-1743F53B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33D68-FA1A-4EB7-B249-2BA3F62F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5D61-E893-4C23-8CF5-C3A724C9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BF735-79AE-4B99-97AA-A258DB41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950EA-F4AE-418A-8D45-51947758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E3A87-D27F-424C-A406-B26F0175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700-84AD-4F8C-B731-0F756531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BF72D-CC16-474F-9DA4-8BC9A9FD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04577-44A1-412E-A30C-6815EC58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0149E-3C75-4B60-A591-718D22A3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D4E28-79AE-4AD5-9961-E12C69F0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0F38-4C0E-4AAB-B78E-9DE3D025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E5480-B43B-4630-8239-E85452E5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7CF36-7041-40A6-86AE-8C5D58F3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0F5B5-A0A1-4970-9736-E3EB360D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C48AF-160D-487F-B2BE-36D62527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214EB-D093-415A-A79B-94FA94FC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9FA-B3C1-460B-BF9C-3378029C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72A70-35B9-406E-B727-048BAF2D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F6748-F31A-458F-9496-E028C955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3BA13-2316-4126-B055-C2116321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B3AFB-7FD0-45B2-9794-A7615F9E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991CE-CB83-44A9-B0E0-6D421264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7113E-202A-42E4-A414-31CE2D7C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CA60B-E9AF-44B4-918F-9551B406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D948C-E172-4AC1-8A67-C03D4C79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57FF0-3A1F-4B1C-81C7-815F9E83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D2879-D7FB-4505-A601-FE1C83E2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87E0-1160-4248-A681-2E811AB0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E9007-4A0D-4066-B5C7-59C5DD76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EF0-964D-420C-954E-6B1E168C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223-60E7-4688-9D81-3EB0889C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20FC0-2FC8-4E71-85CE-6384DF95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C8358-7BF9-4A0F-926F-1A4090DC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E2A7D-BE4A-4834-8F41-7762A691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24A31-389F-47D0-9409-83812B96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24388-58C8-4801-A5C3-D6B8F26C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122-E4A2-4184-998A-CDBB5928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62C2B-B0DA-40BB-8A06-10DFD00A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10C6C-2822-420A-88AE-EBCED7C7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B7C29-7C75-4E20-80A6-D3D08908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15052-F99C-4307-A455-8A7697FE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05332-CF20-41A7-BDE2-EBAB436C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9E770-4807-465E-9524-B8207A7B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653FB-FA51-452F-B9BA-DABCC05F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01E4F-EB91-4BD8-8527-62A69783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62F30-0ABB-4F0C-994B-7B9B058C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22346-3B06-477B-A126-2E311643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C592-F99E-4535-8CB7-387B68237F5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E518-014A-42B0-9923-69618E65E84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F068-F491-4AC0-A948-40BA1FEE17B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5F5D-6DEB-4866-ACFB-E34F18E8DD2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9202-F4E8-4C4B-A26F-7B4915E4257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EEDB-15DA-4581-9001-3EB7D6F69D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884C-2E45-42E1-894B-E853AAB6BD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80880" y="838080"/>
            <a:ext cx="853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2438280" cy="189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80880" y="38088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Дети с нарушениями речи, как правило, имеют ослабленную нервную систему, и чтобы не перегружать дошкольника, работа с компьютером на одном занятии не превышает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5-7 минут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, в зависимости от возраста и речевой патологии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Новизна работы с компьютером позволяет повысить интерес ребенка к занятиям с логопедом, позитивно сказывается на мотивации обучения, его результативности и ускоряет процесс коррекци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33520" y="304920"/>
            <a:ext cx="8305560" cy="52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00ff"/>
                </a:solidFill>
                <a:latin typeface="Times New Roman"/>
              </a:rPr>
              <a:t>Использованная литерату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Логопедические домашние задания для детей 5-7 лет с ОНР. Альбом 1 (2ч.) / Н.Э. Теремкова. — М.: Издательство «ГНОМ и Д»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Логопедические домашние задания для детей 5-7 лет с ОНР. Альбом 2 / Н.Э. Теремкова. — М.: Издательство «ГНОМ и Д»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6699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Times New Roman"/>
                <a:hlinkClick r:id="rId3"/>
              </a:rPr>
              <a:t>images.yandex.ru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Times New Roman"/>
                <a:hlinkClick r:id="rId4"/>
              </a:rPr>
              <a:t>/</a:t>
            </a:r>
            <a:br>
              <a:rPr sz="2800"/>
            </a:br>
            <a:r>
              <a:rPr b="0" lang="ru-RU" sz="2800" spc="-1" strike="noStrike" u="sng">
                <a:solidFill>
                  <a:srgbClr val="0066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5715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Подготовила: Костина О. В., учитель – логопед                                             МДОУ детский сад № 50 г. Ставроп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0880" y="38088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Цель работы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- помочь логопеду спланировать коррекционную работу и привлечь родителей и воспитателей к выполнению несложных домашних заданий с детьми. Таким образом, происходит закрепление полученных на фронтальных занятиях знаний, умений и навыков. Данная работа выполнена на основе альбомов Н. Э. Теремковой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 «Логопедические домашние задания для детей 5 – 7 лет с ОНР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243828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04920" y="1828800"/>
            <a:ext cx="830556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Упраж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«Четвертый лишн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243828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rcRect l="0" t="20668" r="0" b="27332"/>
          <a:stretch/>
        </p:blipFill>
        <p:spPr>
          <a:xfrm>
            <a:off x="304920" y="1219320"/>
            <a:ext cx="3429000" cy="17827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rcRect l="9679" t="22482" r="10004" b="15693"/>
          <a:stretch/>
        </p:blipFill>
        <p:spPr>
          <a:xfrm>
            <a:off x="4267080" y="380880"/>
            <a:ext cx="4343400" cy="22305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rcRect l="0" t="17455" r="8363" b="15634"/>
          <a:stretch/>
        </p:blipFill>
        <p:spPr>
          <a:xfrm>
            <a:off x="4724280" y="3276720"/>
            <a:ext cx="3581640" cy="26143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152280" y="2743200"/>
            <a:ext cx="3683160" cy="36831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952880" y="609588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648320" y="3200400"/>
            <a:ext cx="3429000" cy="25923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rcRect l="12823" t="7201" r="0" b="0"/>
          <a:stretch/>
        </p:blipFill>
        <p:spPr>
          <a:xfrm>
            <a:off x="1066680" y="228600"/>
            <a:ext cx="3048120" cy="25272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2353" r="0" b="0"/>
          <a:stretch/>
        </p:blipFill>
        <p:spPr>
          <a:xfrm>
            <a:off x="4876920" y="152280"/>
            <a:ext cx="3681360" cy="2870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228600" y="2971800"/>
            <a:ext cx="3038400" cy="28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rcRect l="3598" t="0" r="3598" b="0"/>
          <a:stretch/>
        </p:blipFill>
        <p:spPr>
          <a:xfrm rot="21097800">
            <a:off x="533160" y="304560"/>
            <a:ext cx="3962160" cy="39448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4267080" y="2743200"/>
            <a:ext cx="3746520" cy="38098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876920" y="0"/>
            <a:ext cx="4010040" cy="29764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rcRect l="21000" t="0" r="22001" b="0"/>
          <a:stretch/>
        </p:blipFill>
        <p:spPr>
          <a:xfrm>
            <a:off x="609480" y="3809880"/>
            <a:ext cx="2086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1801800" cy="3124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rcRect l="4974" t="15673" r="10659" b="9853"/>
          <a:stretch/>
        </p:blipFill>
        <p:spPr>
          <a:xfrm>
            <a:off x="6400800" y="2514600"/>
            <a:ext cx="2514600" cy="14796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1461960" cy="2286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rcRect l="13198" t="0" r="14801" b="0"/>
          <a:stretch/>
        </p:blipFill>
        <p:spPr>
          <a:xfrm>
            <a:off x="1676520" y="510552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228600" y="609480"/>
            <a:ext cx="8763120" cy="3733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5"/>
          <a:srcRect l="9071" t="8628" r="5353" b="11378"/>
          <a:stretch/>
        </p:blipFill>
        <p:spPr>
          <a:xfrm>
            <a:off x="304920" y="1752480"/>
            <a:ext cx="2666880" cy="16812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6"/>
          <a:stretch/>
        </p:blipFill>
        <p:spPr>
          <a:xfrm>
            <a:off x="2819520" y="914400"/>
            <a:ext cx="1801800" cy="31240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7"/>
          <a:srcRect l="4974" t="15673" r="10659" b="9853"/>
          <a:stretch/>
        </p:blipFill>
        <p:spPr>
          <a:xfrm>
            <a:off x="6400800" y="2057400"/>
            <a:ext cx="2514600" cy="14796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8"/>
          <a:srcRect l="16668" t="15332" r="13902" b="14003"/>
          <a:stretch/>
        </p:blipFill>
        <p:spPr>
          <a:xfrm>
            <a:off x="4419720" y="1981080"/>
            <a:ext cx="2057400" cy="20941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676520" y="4419720"/>
            <a:ext cx="1143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47242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Рассмотри картинки и назови, что оказалось лишним в лукошке у Тани.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28600" y="609480"/>
            <a:ext cx="8763120" cy="3733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1823760" cy="31622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2209680" y="1371600"/>
            <a:ext cx="2473560" cy="25909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572000" y="1066680"/>
            <a:ext cx="233352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6707160" y="914400"/>
            <a:ext cx="2109960" cy="27432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rcRect l="8277" t="3704" r="6208" b="19752"/>
          <a:stretch/>
        </p:blipFill>
        <p:spPr>
          <a:xfrm>
            <a:off x="152280" y="4419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rcRect l="13198" t="0" r="14801" b="0"/>
          <a:stretch/>
        </p:blipFill>
        <p:spPr>
          <a:xfrm>
            <a:off x="2438280" y="510552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362320" y="4419720"/>
            <a:ext cx="12189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464832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Рассмотри картинки и назови, что оказалось лишним в корзинке у Вани.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28600" y="609480"/>
            <a:ext cx="8763120" cy="3733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rcRect l="13198" t="0" r="14801" b="0"/>
          <a:stretch/>
        </p:blipFill>
        <p:spPr>
          <a:xfrm>
            <a:off x="762120" y="4572000"/>
            <a:ext cx="1633320" cy="2286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2743200" y="464832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Рассмотри картинки и назови, что оказалось лишним в корзинке.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2286000" y="1523880"/>
            <a:ext cx="1905120" cy="18669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1960560" cy="2286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rcRect l="0" t="0" r="0" b="8572"/>
          <a:stretch/>
        </p:blipFill>
        <p:spPr>
          <a:xfrm>
            <a:off x="4419720" y="990720"/>
            <a:ext cx="1876320" cy="24382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380880" y="1523880"/>
            <a:ext cx="179568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20T11:58:01Z</dcterms:modified>
  <cp:revision>4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