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2.jpeg" ContentType="image/jpeg"/>
  <Override PartName="/ppt/media/image24.jpeg" ContentType="image/jpeg"/>
  <Override PartName="/ppt/media/image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8F42-FC98-4BD0-89BC-9F1E28C0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CFDA-62F1-43D9-A13A-97B712D9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2FC1A-D1EC-4A53-BEF0-1563AA17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16777-A526-4860-B475-C919661A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B9161-092B-4662-B63F-337FE60D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CD602-B956-4865-8511-4F79B640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5BDC5-FC1D-44FD-88D2-4F616D7F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92E1D-A26F-48D1-B38B-F92E4505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4AD4B-71DB-4A2B-A3F8-3E0A5235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C2D3B-D6D1-4317-A76E-9B3A8DDC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60C32-D6E2-47DB-BA92-03CD5C7B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DAFB-A6A1-4B68-B18F-C19A2971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BF3-45DB-4AE0-8B48-9BE4FA6C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785C-64D3-476B-B131-DA2A4FCB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1D4F-7C56-4534-8070-4F75FA74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F3AE-3785-4712-BA0E-2D359BE6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99B9-5136-41C6-BFD0-5F01115D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C0DF-9127-4A3B-89B7-E58982E3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69CE-1679-45F7-A214-FA4C5464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6813-E379-4CEF-9C6A-FC7BCF08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6D04-3BBC-42F3-B0F7-46C47F72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7588-887B-46DA-99B6-2E81E20D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DA04-C516-4F99-87CC-304F8FA1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93D0-68C1-439E-8D03-A3D46395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BE43-FF8C-444D-982D-88689BA1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358F-3480-4386-9A50-4807AA68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D5428-3062-48A0-802C-CCC7FF03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8DC72-2084-4759-823B-AB7E2F8B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FDA90-6448-41D6-96B3-AE4C1A18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2B87E-EF4D-4AE8-A2F7-804E9277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19B72-4F7F-4398-88C4-F864C6F4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EC9-6573-4B39-AEEF-41C3AA13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AE474-85A7-4666-AB97-E90E99D5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F6DCD-46CA-4943-9369-C074A88E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1F148-D9EC-442A-A4DA-B59419E1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0F0A3-AFB7-467A-9ACD-015A940B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8989C-BAB4-4AC9-A908-DBE0E01C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1C514-5A14-48B4-9FBA-E583500D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BF491-3BCC-418E-8148-F7671DB2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403CE-00E1-42C4-B3E9-91ABD1E7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DFF9C-DBFA-43AA-AFAB-55AFF8D0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D6878-0B74-4958-B3B2-D324C100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5E2-1E62-4E2D-AA8E-0DCA40E6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CC554-D249-45E6-A83B-2E29CA09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E0F92-911D-4168-B033-2A123EE5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39F0B-ADEC-4E86-943D-7790FB54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CACA7-65E2-4F1C-9AE4-A06002BB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07C58-4FBC-45F8-B7C0-2CB79434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9DBEB-5801-4D83-9A71-2FD4E258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9AC37-DCCC-434E-B945-89CF1323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A3F22-0C23-4A50-A9CC-9F21D56A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88391-AECB-4B7E-9152-170F4F92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7D409-D051-47E4-BF4B-0C7AB000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CD9-2A10-4162-8F5F-AB904F47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B497B-E5BD-41BF-8D19-4677B51C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807CA-3A58-456B-BBF4-26AC42E3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02B32-9F20-4622-8C49-323E3F85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C7592-C850-4E4C-AF93-E36EFD6D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26728-B730-4E02-82C0-2E29DC3A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5A1C1-D08F-490B-9B6F-84FF756A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411CD-DAF0-4304-91BE-E1072F36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32F02-8740-4BD8-AFC6-9B639C31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24D13-056A-435D-8E16-96BA29F0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C5528-2CF3-4121-ABEE-E6C770C5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10C-6A9F-4F3C-9D9D-99D248EC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B7429-69BB-40D0-B78C-40402549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A25-3D3D-4219-92C3-7C1FDEB2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A399-5258-4F79-A9A0-245CE592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D4B53-7424-45F6-95D5-D5896331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234F9-E270-4FEE-B54E-120316DF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5BD01-CE2C-43E7-A453-D2A13FA9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974A4-25FC-4F04-A16C-8DEF8A4A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A71D7-2E68-46DF-AA2F-1DD5B824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2820-4A3F-4DDD-9358-F8559D37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DCE0C-B3D8-41A8-B560-3D4A846B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883D8-C01B-466E-AE52-E032C42B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395E2-D5F6-47D6-9B77-29AC4EF2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C1158-8B70-4895-86F2-82B0BDC5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2ADD8-4528-43A1-A3D6-F7EAF67F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95848-5052-444B-8BE8-A412E55D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4BE9F-DF91-49E3-8B58-DA3C5E37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CBBD4-0BC8-4EAF-B5CC-B416C851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7B6CB-7176-4633-BC06-78F9F664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97C49-6D46-4616-A078-1246ED3F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EFAC-C9CC-4856-9137-6AA1E678579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AB3E-9418-4016-84D0-61D3EDA8011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5D7E-5013-4E94-B628-41996593456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DADA-7FB3-4CA6-A601-62C7B84D5D2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0ED8-5166-4992-8F7E-948E7BD64B5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E19D-BF3A-4DFA-93B3-D074264E9B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ED45-4B23-4F79-93A8-C85E688A31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80880" y="838080"/>
            <a:ext cx="853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2438280" cy="189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80880" y="38088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Дети с нарушениями речи, как правило, имеют ослабленную нервную систему, и чтобы не перегружать дошкольника, работа с компьютером на одном занятии не превышает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-7 минут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, в зависимости от возраста и речевой патологии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Новизна работы с компьютером позволяет повысить интерес ребенка к занятиям с логопедом, позитивно сказывается на мотивации обучения, его результативности и ускоряет процесс коррекции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33520" y="304920"/>
            <a:ext cx="8305560" cy="52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00ff"/>
                </a:solidFill>
                <a:latin typeface="Times New Roman"/>
              </a:rPr>
              <a:t>Использованная литерату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Логопедические домашние задания для детей 5-7 лет с ОНР. Альбом 1 (2ч.) / Н.Э. Теремкова. — М.: Издательство «ГНОМ и Д»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Логопедические домашние задания для детей 5-7 лет с ОНР. Альбом 2 / Н.Э. Теремкова. — М.: Издательство «ГНОМ и Д»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6699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Times New Roman"/>
                <a:hlinkClick r:id="rId3"/>
              </a:rPr>
              <a:t>images.yandex.ru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Times New Roman"/>
                <a:hlinkClick r:id="rId4"/>
              </a:rPr>
              <a:t>/</a:t>
            </a:r>
            <a:br>
              <a:rPr sz="2800"/>
            </a:br>
            <a:r>
              <a:rPr b="0" lang="ru-RU" sz="2800" spc="-1" strike="noStrike" u="sng">
                <a:solidFill>
                  <a:srgbClr val="0066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57150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Подготовила: Костина О. В., учитель – логопед                                             МДОУ детский сад № 50 г. Ставроп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0880" y="380880"/>
            <a:ext cx="853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Цель работы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- помочь логопеду спланировать коррекционную работу и привлечь родителей и воспитателей к выполнению несложных домашних заданий с детьми. Таким образом, происходит закрепление полученных на фронтальных занятиях знаний, умений и навыков. Данная работа выполнена на основе альбомов Н. Э. Теремковой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 «Логопедические домашние задания для детей 5 – 7 лет с ОНР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243828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04920" y="1828800"/>
            <a:ext cx="830556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Упраж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«Четвертый лишн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243828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rcRect l="0" t="20668" r="0" b="27332"/>
          <a:stretch/>
        </p:blipFill>
        <p:spPr>
          <a:xfrm>
            <a:off x="304920" y="1219320"/>
            <a:ext cx="3429000" cy="17827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rcRect l="9679" t="22482" r="10004" b="15693"/>
          <a:stretch/>
        </p:blipFill>
        <p:spPr>
          <a:xfrm>
            <a:off x="4267080" y="380880"/>
            <a:ext cx="4343400" cy="22305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rcRect l="0" t="17455" r="8363" b="15634"/>
          <a:stretch/>
        </p:blipFill>
        <p:spPr>
          <a:xfrm>
            <a:off x="4724280" y="3276720"/>
            <a:ext cx="3581640" cy="26143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152280" y="2743200"/>
            <a:ext cx="3683160" cy="36831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952880" y="609588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648320" y="3200400"/>
            <a:ext cx="3429000" cy="25923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rcRect l="12823" t="7201" r="0" b="0"/>
          <a:stretch/>
        </p:blipFill>
        <p:spPr>
          <a:xfrm>
            <a:off x="1066680" y="228600"/>
            <a:ext cx="3048120" cy="25272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2353" r="0" b="0"/>
          <a:stretch/>
        </p:blipFill>
        <p:spPr>
          <a:xfrm>
            <a:off x="4876920" y="152280"/>
            <a:ext cx="3681360" cy="2870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228600" y="2971800"/>
            <a:ext cx="3038400" cy="28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rcRect l="3598" t="0" r="3598" b="0"/>
          <a:stretch/>
        </p:blipFill>
        <p:spPr>
          <a:xfrm rot="21097800">
            <a:off x="533160" y="304560"/>
            <a:ext cx="3962160" cy="39448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4267080" y="2743200"/>
            <a:ext cx="3746520" cy="38098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4876920" y="0"/>
            <a:ext cx="4010040" cy="29764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rcRect l="21000" t="0" r="22001" b="0"/>
          <a:stretch/>
        </p:blipFill>
        <p:spPr>
          <a:xfrm>
            <a:off x="609480" y="3809880"/>
            <a:ext cx="20862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1801800" cy="31244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rcRect l="4974" t="15673" r="10659" b="9853"/>
          <a:stretch/>
        </p:blipFill>
        <p:spPr>
          <a:xfrm>
            <a:off x="6400800" y="2514600"/>
            <a:ext cx="2514600" cy="14796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1461960" cy="2286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rcRect l="13198" t="0" r="14801" b="0"/>
          <a:stretch/>
        </p:blipFill>
        <p:spPr>
          <a:xfrm>
            <a:off x="1676520" y="510552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228600" y="609480"/>
            <a:ext cx="8763120" cy="3733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5"/>
          <a:srcRect l="9071" t="8628" r="5353" b="11378"/>
          <a:stretch/>
        </p:blipFill>
        <p:spPr>
          <a:xfrm>
            <a:off x="304920" y="1752480"/>
            <a:ext cx="2666880" cy="16812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6"/>
          <a:stretch/>
        </p:blipFill>
        <p:spPr>
          <a:xfrm>
            <a:off x="2819520" y="914400"/>
            <a:ext cx="1801800" cy="31240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7"/>
          <a:srcRect l="4974" t="15673" r="10659" b="9853"/>
          <a:stretch/>
        </p:blipFill>
        <p:spPr>
          <a:xfrm>
            <a:off x="6400800" y="2057400"/>
            <a:ext cx="2514600" cy="14796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8"/>
          <a:srcRect l="16668" t="15332" r="13902" b="14003"/>
          <a:stretch/>
        </p:blipFill>
        <p:spPr>
          <a:xfrm>
            <a:off x="4419720" y="1981080"/>
            <a:ext cx="2057400" cy="20941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676520" y="4419720"/>
            <a:ext cx="1143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47242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Рассмотри картинки и назови, что оказалось лишним в лукошке у Тани.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28600" y="609480"/>
            <a:ext cx="8763120" cy="3733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1823760" cy="31622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2209680" y="1371600"/>
            <a:ext cx="2473560" cy="25909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4572000" y="1066680"/>
            <a:ext cx="233352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6707160" y="914400"/>
            <a:ext cx="2109960" cy="27432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5"/>
          <a:srcRect l="8277" t="3704" r="6208" b="19752"/>
          <a:stretch/>
        </p:blipFill>
        <p:spPr>
          <a:xfrm>
            <a:off x="152280" y="441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rcRect l="13198" t="0" r="14801" b="0"/>
          <a:stretch/>
        </p:blipFill>
        <p:spPr>
          <a:xfrm>
            <a:off x="2438280" y="510552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362320" y="4419720"/>
            <a:ext cx="12189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464832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Рассмотри картинки и назови, что оказалось лишним в корзинке у Вани.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28600" y="609480"/>
            <a:ext cx="8763120" cy="3733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rcRect l="13198" t="0" r="14801" b="0"/>
          <a:stretch/>
        </p:blipFill>
        <p:spPr>
          <a:xfrm>
            <a:off x="762120" y="4572000"/>
            <a:ext cx="1633320" cy="2286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2743200" y="4648320"/>
            <a:ext cx="640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Рассмотри картинки и назови, что оказалось лишним в корзинке.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2286000" y="1523880"/>
            <a:ext cx="1905120" cy="18669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1960560" cy="2286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rcRect l="0" t="0" r="0" b="8572"/>
          <a:stretch/>
        </p:blipFill>
        <p:spPr>
          <a:xfrm>
            <a:off x="4419720" y="990720"/>
            <a:ext cx="1876320" cy="24382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380880" y="1523880"/>
            <a:ext cx="179568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20T11:58:01Z</dcterms:modified>
  <cp:revision>4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