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C9D5-CCDF-4898-8690-28A5619C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C565-179F-41A2-8BFF-6B86E932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7F422-DAC4-4987-885C-9F7B596C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363C8-3D69-4799-8137-0654849D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A7C53-260B-42BE-AF7C-688CBB8E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D7A38-637C-4848-99CE-4C87812E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DCE4C-2D4E-4B66-8CFE-8311037C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0E311-6435-4EBC-846C-97C17B14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1959E-5F6C-42E0-8B95-97F565B5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41E76-EF28-4BB2-8210-EDF3D9A4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2DF95-09BE-4A08-B41F-899611D5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7D3F-9B3F-4878-8749-04AC72FB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DE64-6FA0-4D82-9B34-A3E2816C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023B-04F6-4913-AADE-A36B357E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5654-4D9B-4C92-AC63-AB4BEDD0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3C43-2BA9-498C-9465-8E9E77FC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80CE-A56A-4685-9406-0B834F85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843B-942D-434E-8005-4C8F2AC2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7CF3-7AE5-4414-B587-A59EB866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8FD7-1388-4ACE-883D-80AE4198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929E-2AAB-4C1D-9C56-2E33CC5E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E725-C2CD-4E87-A4A2-82D154B2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EC06-4130-4281-9DAE-2E8B990A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57CC-8A8E-47AB-9289-14B2A6EA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C5AB-297B-4470-A777-421FC03D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6EA3-33F8-47D7-BE8F-0A51DD9B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05BBF-8DB5-453B-B10F-4868CB05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B6335-100A-4EEE-AD1B-BFFAFA56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6331A-F42A-4DDA-AF06-450CFE4B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5BB1C-44FE-4FAC-A478-B88FF368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0289B-7EB5-485B-BCC8-175758DB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4CA9-78B5-480A-9638-960935D0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AB952-7379-4742-9F4C-C060B4C3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276E2-1B91-4BC4-A97D-3CD4B4BF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B6BBB-36E1-4CE6-A118-2F5695C8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F3C65-6D78-4FB2-ACEC-2AD622F2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920EF-B10D-4C32-BD95-8985C468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9BE12-31E7-4B05-9782-69E56C0E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AA3A3-45C6-497E-A6C8-4D9B9FF2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53D8D-8B93-408C-B6B8-B3C82490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69DEA-285C-451A-B369-245C2051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66421-1AF5-4138-A7A7-7036A560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6633-442D-4BE2-8399-302F988B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EBAF5-5C1C-454D-A3A1-D3851C51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1D344-6BC6-4004-A048-94467D49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D8BA3-9869-4B42-82B8-ED1CBC2A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7883F-7AE6-4D7F-9D24-4B467A04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BDCFD-4B70-48E4-AA3B-3EC10A02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A2EC1-A2EC-4BF9-ACF6-109C2059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94CF8-0185-4612-84BB-89D514DB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3F8A7-6F87-41A8-8DB0-E8888B13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AF4BC-EC48-4ADA-8AAC-5A4D5DAD6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989D1-1F26-4395-9BF2-23CA6F28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FE64-7139-45E2-827B-B3142450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C7333-218C-4A12-A0BE-E82572CA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2E744-DB76-4F20-B1C3-B6509FC8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8455D-C649-49A0-8751-777D30C8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772E6-1396-4213-B692-24CA8D9C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82378-35C0-4554-9670-04CE0C21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F6781-8808-48AC-9E31-67DC1A42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3536D-A9D8-4CB7-A1AB-E2E67BEC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2CB57-6643-4F88-AD30-DB4BD736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9AAA2-A1C5-4AF8-B2A4-E7A2DBEF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FC88D-81A8-4377-97B8-AC9789F6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18FA-A0DF-4751-B897-BFF3CB2E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884CC-AF5A-4E5A-8B30-E0BB5189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4B03-2FC4-4165-97E6-B392D74F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4782-1CC2-4B8D-B7EF-D1494FBF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F1A6F-83C3-4233-A583-CDAD127B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0B91F-F7B6-4C8A-8AD8-B9200779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F3526-609D-4B49-B234-D63437E8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C5C33-BC4B-4496-8EE3-1C41A6F8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F0457-F2B9-4AD8-B5DD-54915910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77AC-08F9-49B8-ABF2-4A250A3F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2D852-90AB-4BA4-8AEA-EAC86717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01E8F-BFA0-4F99-981B-D69FB7C0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2A6F1-6B82-4E82-81AC-FC08735C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81B64-9800-4D83-A55C-889FE1D3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F64F0-6C62-4476-888B-346A2252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8C3FF-9D82-4EE9-9BBD-915AC151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276B4-544F-47E8-9FC0-710C900F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5D634-D64D-4040-99FC-AED047EE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54AE3-60F3-4B74-9804-D30123E2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1E3F5-BE05-46BB-B690-9F9BCDD1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0DA0-5681-4EA9-80F3-BCFAE14D283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A584-D8CF-4FB3-9B1E-3F8C09F0558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319B-832D-4C21-B2EE-EF1E272E00E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F023-B198-4BC8-A9F4-C205D4AF87F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A411-64F4-4B6B-84F9-4217625A0DA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80BC-A2C3-404C-84DD-CDA7CF5855D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DEB6-5364-4841-8858-17F31718AC1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hyperlink" Target="http://images.yandex.ru/" TargetMode="External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80880" y="838080"/>
            <a:ext cx="853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2438280" cy="189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380880" y="4572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Дети с нарушениями речи, как правило, имеют ослабленную нервную систему, и чтобы не перегружать дошкольника, работа с компьютером на одном занятии не превышает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5-7 минут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, в зависимости от возраста и речевой патологии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Новизна работы с компьютером позволяет повысить интерес ребенка к занятиям с логопедом, позитивно сказывается на мотивации обучения, его результативности и ускоряет процесс коррекции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286000" cy="191304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1779480" cy="220968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3809880" y="3962520"/>
            <a:ext cx="1876680" cy="24382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4"/>
          <a:stretch/>
        </p:blipFill>
        <p:spPr>
          <a:xfrm>
            <a:off x="3733920" y="0"/>
            <a:ext cx="1836720" cy="20574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5"/>
          <a:stretch/>
        </p:blipFill>
        <p:spPr>
          <a:xfrm>
            <a:off x="304920" y="4038480"/>
            <a:ext cx="2087280" cy="22860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6"/>
          <a:stretch/>
        </p:blipFill>
        <p:spPr>
          <a:xfrm>
            <a:off x="7086600" y="4114800"/>
            <a:ext cx="1817640" cy="2286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809880" y="213372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р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59436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од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213372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уч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15000" y="21337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оспита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477120" y="59436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продав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6720" y="59436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стро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533520" y="533520"/>
            <a:ext cx="830556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Использованная литератур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9900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Логопедические домашние задания для детей 5-7 лет с ОНР. Альбом 4 / Н.Э. Теремкова. — М.: Издательство «ГНОМ и Д»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336699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3200" spc="-1" strike="noStrike" u="sng">
                <a:solidFill>
                  <a:srgbClr val="336699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ru-RU" sz="3200" spc="-1" strike="noStrike" u="sng">
                <a:solidFill>
                  <a:srgbClr val="336699"/>
                </a:solidFill>
                <a:uFillTx/>
                <a:latin typeface="Times New Roman"/>
                <a:hlinkClick r:id="rId3"/>
              </a:rPr>
              <a:t>images.yandex.ru</a:t>
            </a:r>
            <a:r>
              <a:rPr b="0" lang="ru-RU" sz="3200" spc="-1" strike="noStrike" u="sng">
                <a:solidFill>
                  <a:srgbClr val="336699"/>
                </a:solidFill>
                <a:uFillTx/>
                <a:latin typeface="Times New Roman"/>
                <a:hlinkClick r:id="rId4"/>
              </a:rPr>
              <a:t>/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57150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Подготовила: Костина О. В., учитель – логопед                                             МДОУ детский сад № 50 г. Ставроп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80880" y="533520"/>
            <a:ext cx="8534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Цель работы</a:t>
            </a:r>
            <a:r>
              <a:rPr b="0" lang="ru-RU" sz="2800" spc="-1" strike="noStrike">
                <a:solidFill>
                  <a:srgbClr val="990033"/>
                </a:solidFill>
                <a:latin typeface="Times New Roman"/>
              </a:rPr>
              <a:t> - помочь логопеду спланировать коррекционную работу и привлечь родителей и воспитателей к выполнению несложных домашних заданий с детьми. Таким образом, происходит закрепление полученных на фронтальных занятиях знаний, умений и навыков. Данная работа выполнена на основе альбомов Н. Э. Теремковой</a:t>
            </a:r>
            <a:r>
              <a:rPr b="0" i="1" lang="ru-RU" sz="2800" spc="-1" strike="noStrike">
                <a:solidFill>
                  <a:srgbClr val="990033"/>
                </a:solidFill>
                <a:latin typeface="Times New Roman"/>
              </a:rPr>
              <a:t> «Логопедические домашние задания для детей 5 – 7 лет с ОНР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243828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80880" y="838080"/>
            <a:ext cx="853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2438280" cy="18972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228600" y="1752480"/>
            <a:ext cx="8305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                    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Упраж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                  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«Угадай профессию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Times New Roman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286000" cy="19130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1779480" cy="22096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3809880" y="3962520"/>
            <a:ext cx="1876680" cy="24382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4"/>
          <a:stretch/>
        </p:blipFill>
        <p:spPr>
          <a:xfrm>
            <a:off x="3733920" y="0"/>
            <a:ext cx="1836720" cy="20574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5"/>
          <a:stretch/>
        </p:blipFill>
        <p:spPr>
          <a:xfrm>
            <a:off x="304920" y="4038480"/>
            <a:ext cx="2087280" cy="22860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6"/>
          <a:stretch/>
        </p:blipFill>
        <p:spPr>
          <a:xfrm>
            <a:off x="7086600" y="4114800"/>
            <a:ext cx="1817640" cy="22860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914400" y="25909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Лечит людей </a:t>
            </a:r>
            <a:r>
              <a:rPr b="1" i="1" lang="en-US" sz="4000" spc="-1" strike="noStrike">
                <a:solidFill>
                  <a:srgbClr val="0066ff"/>
                </a:solidFill>
                <a:latin typeface="Arial"/>
              </a:rPr>
              <a:t>(кто?)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629400" y="25909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р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-0.2875 -0.15116 E">
                                      <p:cBhvr>
                                        <p:cTn id="35" dur="1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286000" cy="19130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1779480" cy="22096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3809880" y="3962520"/>
            <a:ext cx="1876680" cy="24382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3733920" y="0"/>
            <a:ext cx="1836720" cy="20574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304920" y="4038480"/>
            <a:ext cx="2087280" cy="2286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7086600" y="4114800"/>
            <a:ext cx="1817640" cy="22860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0" y="2362320"/>
            <a:ext cx="937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Водит машины, автобусы </a:t>
            </a:r>
            <a:r>
              <a:rPr b="1" i="1" lang="en-US" sz="4000" spc="-1" strike="noStrike">
                <a:solidFill>
                  <a:srgbClr val="0066ff"/>
                </a:solidFill>
                <a:latin typeface="Arial"/>
              </a:rPr>
              <a:t>(кто?)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971800" y="31240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од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-2.96296E-006 L -0.3375 0.41551 E">
                                      <p:cBhvr>
                                        <p:cTn id="50" dur="1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286000" cy="19130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1779480" cy="22096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3809880" y="3962520"/>
            <a:ext cx="1876680" cy="24382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3733920" y="0"/>
            <a:ext cx="1836720" cy="20574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304920" y="4038480"/>
            <a:ext cx="2087280" cy="22860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6"/>
          <a:stretch/>
        </p:blipFill>
        <p:spPr>
          <a:xfrm>
            <a:off x="7086600" y="4114800"/>
            <a:ext cx="1817640" cy="2286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762120" y="266688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Учит детей в школе </a:t>
            </a:r>
            <a:r>
              <a:rPr b="1" i="1" lang="en-US" sz="4000" spc="-1" strike="noStrike">
                <a:solidFill>
                  <a:srgbClr val="0066ff"/>
                </a:solidFill>
                <a:latin typeface="Arial"/>
              </a:rPr>
              <a:t>(кто?)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 -</a:t>
            </a: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76720" y="335268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уч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6 L -0.31667 -0.18449 E">
                                      <p:cBhvr>
                                        <p:cTn id="65" dur="1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286000" cy="19130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1779480" cy="22096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3809880" y="3962520"/>
            <a:ext cx="1876680" cy="24382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3733920" y="0"/>
            <a:ext cx="1836720" cy="20574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304920" y="4038480"/>
            <a:ext cx="2087280" cy="2286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6"/>
          <a:stretch/>
        </p:blipFill>
        <p:spPr>
          <a:xfrm>
            <a:off x="7086600" y="4114800"/>
            <a:ext cx="1817640" cy="22860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762120" y="24382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Воспитывает детей в детском саду (кто?)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114800" y="3048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оспита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5185E-006 L 0.175 -0.18449 E">
                                      <p:cBhvr>
                                        <p:cTn id="80" dur="1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286000" cy="191304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1779480" cy="220968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3733920" y="0"/>
            <a:ext cx="1836720" cy="20574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304920" y="4038480"/>
            <a:ext cx="2087280" cy="22860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7086600" y="4114800"/>
            <a:ext cx="1817640" cy="2286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0" y="26668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Продает товары </a:t>
            </a:r>
            <a:r>
              <a:rPr b="1" i="1" lang="en-US" sz="4000" spc="-1" strike="noStrike">
                <a:solidFill>
                  <a:srgbClr val="0066ff"/>
                </a:solidFill>
                <a:latin typeface="Arial"/>
              </a:rPr>
              <a:t>(кто?)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6"/>
          <a:stretch/>
        </p:blipFill>
        <p:spPr>
          <a:xfrm>
            <a:off x="3809880" y="3962520"/>
            <a:ext cx="1876680" cy="24382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6477120" y="26668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продав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6 L 0.00416 0.49328 E">
                                      <p:cBhvr>
                                        <p:cTn id="95" dur="1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286000" cy="19130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1779480" cy="22096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3809880" y="3962520"/>
            <a:ext cx="1876680" cy="24382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3733920" y="0"/>
            <a:ext cx="1836720" cy="20574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5"/>
          <a:stretch/>
        </p:blipFill>
        <p:spPr>
          <a:xfrm>
            <a:off x="304920" y="4038480"/>
            <a:ext cx="2087280" cy="22860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6"/>
          <a:stretch/>
        </p:blipFill>
        <p:spPr>
          <a:xfrm>
            <a:off x="7086600" y="4114800"/>
            <a:ext cx="1817640" cy="22860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04920" y="25909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Строит дома </a:t>
            </a:r>
            <a:r>
              <a:rPr b="1" i="1" lang="en-US" sz="4000" spc="-1" strike="noStrike">
                <a:solidFill>
                  <a:srgbClr val="0066ff"/>
                </a:solidFill>
                <a:latin typeface="Arial"/>
              </a:rPr>
              <a:t>(кто?)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019920" y="25909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стро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 0.51111 E">
                                      <p:cBhvr>
                                        <p:cTn id="110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7-20T11:56:44Z</dcterms:modified>
  <cp:revision>4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