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281-8FAB-450D-B319-B9473C5B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C618-14F0-4B21-B0AE-E71EA913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D937B-B0F9-450D-BBAA-734AB112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5F630-0B08-45DE-931E-F9BE8473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B3B0C-3070-4C79-9A1D-35C8DD89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14C59-4331-4824-AC8E-EECB10D7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5EE67-5E50-46B0-9462-28F5DBDE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8B1C3-2304-484D-9A65-D5FAC4E9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9FE9B-B8F7-4176-8CEF-2C60F3E2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25C84-6FA0-4568-9FB0-A5707911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3FA47-9805-424A-AE1A-6410AB69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291E-D1C2-4D0C-ACCA-8A7F5100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9AC-B953-4792-9E7A-AD1EDB4E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F42C-0745-4207-B7FE-5DA8B7D8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14C2-07D7-4097-BB66-43ABC365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1734-FD80-4D7E-AA58-158FFDFE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0C02-EA69-46E0-819B-DA2F7180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C3DC-873A-40F9-BA09-CBB3BFED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6210-B757-4697-A880-5E81374B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8587-34EA-4EBE-9C4A-F9DD788A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E0C1-0ED8-466B-8075-CB44001D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583E-81F8-4569-A732-3E9C6C6F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70AD-B2AD-47D1-82A5-87C67971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B5E8-BB11-4CF6-B47A-9960A351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69F4-E67B-4863-9322-4A65547E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F8ED-2408-400F-8B5B-DC1EF5D6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D1AFC-2470-4958-8991-24CB6800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4D6CD-7D09-4CBA-A126-1FB76F84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2F3B0-92D5-4AA1-B7D3-E538B7CD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3ADAD-AEAE-47DF-9108-0D12DAC3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2B94E-7951-465B-90B1-F8557F63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DADF-72B5-4296-AF3A-D7356E56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7D917-58E2-48CA-8C10-B048B2F7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99BB4-FBFF-47A8-BCF6-0991A3AF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83A31-78C6-4142-9C29-804E0CD1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7EE73-C1E6-442A-9F73-AFB6124D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039FB-854E-4121-AFF3-FB326D5C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293BF-701B-4372-B5AE-08A7332A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3B37A-CE6C-421E-AF54-36B13B24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884BC-8812-486B-AB71-E6C9B9FD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116A6-0A44-4E3A-B092-9962FB11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275E8-C034-4C12-80DD-D7DB5B31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23A2-D0EF-4A15-A907-938CD70A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21180-7CDB-4F70-91A4-166131E0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05C38-AFD6-45E9-9E95-877B57B8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918DB-CD78-4205-BFE9-5AE6CC32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3F572-BAA8-4F23-AC21-ED778EA2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68047-39D3-4F5E-9CEF-1D4320CA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4FC92-15A7-4A78-9124-0CFEF15F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6204A-4F1F-4363-B69B-3B15117E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CD753-CBA8-4035-A54A-34A75443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613B9-D9E7-4754-9902-FF4A3EFA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533FC-C9C9-4A71-A558-D42CFFAC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643E-9E70-4040-9944-7CA5DFA6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9B1CA-77CE-4A76-85E2-E20ADA91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0B17F-E5DC-49DF-8A45-332227F5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75FA0-CD41-457A-9544-F8A2E650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50D25-D2A2-4F04-A448-2207B84B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350E4-ADBB-4D45-9991-BB0BEFB9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D3BAE-E6EC-4440-B126-DE2C7631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80F20-8CEA-4DE4-A126-A023EA15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532CA-9BC8-4126-824C-716CCF45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D1A5E-8B57-4D17-A228-796A07AE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35E08-2A5E-4F7B-945B-93055E9E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52DF-8C04-430C-8DBA-D66BC1B6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36DD1-2FCA-41F0-8116-DD3628F8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F9CE-3793-494E-BA8C-3C858ACD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ED99-9A52-48E2-80F4-D1E3C9F6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0F0DA-0997-4605-A09C-F5BF8BC2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556A1-5D15-47D7-8FAB-F6034943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713AB-F911-4988-8B47-D0E544E3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F2700-DA58-4EFC-9F71-8C4B2144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8A01C-845D-4FBB-8794-A88C7A23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85FD-1DFC-4B86-8E7A-B96E5600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9A94D-EB9D-458D-BF17-48395C5D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90E15-307B-4D09-9DE5-A2D336BA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53CB5-5A39-4AD5-9660-09D2DA09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66852-5654-4290-8BF6-45108AC5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2922E-FFC2-4B80-A9EA-44AA7FDF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5E66C-1F6A-4791-834C-C12B2A8B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90BA6-6CF8-46F6-9BFE-53A06185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25C8D-DF7A-4195-8CF5-631DBB65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F7E81-2487-4B6D-8F37-C884DA1C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6B460-D8AE-45E1-9D44-AF7F7B76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6AEA-4176-47DB-BD01-3B7C4A212A1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4862-E613-4C86-8870-3C7FA4E327B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FB7C-D19F-459E-BF43-F637D4CDF93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AC9B-FC4D-4E85-AB55-F2F36D9AEDD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EA15-87B1-4864-B75F-C4C25B2506D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1A89-5E21-4A1D-BEC7-84A0A61D1F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CA55-849D-49FD-9C5E-A65D97505D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80880" y="838080"/>
            <a:ext cx="853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2438280" cy="189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380880" y="4572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Дети с нарушениями речи, как правило, имеют ослабленную нервную систему, и чтобы не перегружать дошкольника, работа с компьютером на одном занятии не превышает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5-7 минут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, в зависимости от возраста и речевой патологии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Новизна работы с компьютером позволяет повысить интерес ребенка к занятиям с логопедом, позитивно сказывается на мотивации обучения, его результативности и ускоряет процесс коррекции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286000" cy="191304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1779480" cy="22096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3809880" y="3962520"/>
            <a:ext cx="1876680" cy="24382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4"/>
          <a:stretch/>
        </p:blipFill>
        <p:spPr>
          <a:xfrm>
            <a:off x="3733920" y="0"/>
            <a:ext cx="1836720" cy="20574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5"/>
          <a:stretch/>
        </p:blipFill>
        <p:spPr>
          <a:xfrm>
            <a:off x="304920" y="4038480"/>
            <a:ext cx="2087280" cy="22860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6"/>
          <a:stretch/>
        </p:blipFill>
        <p:spPr>
          <a:xfrm>
            <a:off x="7086600" y="4114800"/>
            <a:ext cx="1817640" cy="2286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809880" y="213372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р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59436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од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213372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уч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15000" y="21337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оспита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477120" y="59436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продав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6720" y="59436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тро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533520" y="533520"/>
            <a:ext cx="830556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3399"/>
                </a:solidFill>
                <a:latin typeface="Arial"/>
              </a:rPr>
              <a:t>Использованная литерату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9900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Логопедические домашние задания для детей 5-7 лет с ОНР. Альбом 4 / Н.Э. Теремкова. — М.: Издательство «ГНОМ и Д»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336699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3200" spc="-1" strike="noStrike" u="sng">
                <a:solidFill>
                  <a:srgbClr val="336699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ru-RU" sz="3200" spc="-1" strike="noStrike" u="sng">
                <a:solidFill>
                  <a:srgbClr val="336699"/>
                </a:solidFill>
                <a:uFillTx/>
                <a:latin typeface="Times New Roman"/>
                <a:hlinkClick r:id="rId3"/>
              </a:rPr>
              <a:t>images.yandex.ru</a:t>
            </a:r>
            <a:r>
              <a:rPr b="0" lang="ru-RU" sz="3200" spc="-1" strike="noStrike" u="sng">
                <a:solidFill>
                  <a:srgbClr val="336699"/>
                </a:solidFill>
                <a:uFillTx/>
                <a:latin typeface="Times New Roman"/>
                <a:hlinkClick r:id="rId4"/>
              </a:rPr>
              <a:t>/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57150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Подготовила: Костина О. В., учитель – логопед                                             МДОУ детский сад № 50 г. Ставроп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0880" y="533520"/>
            <a:ext cx="8534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Цель работы</a:t>
            </a:r>
            <a:r>
              <a:rPr b="0" lang="ru-RU" sz="2800" spc="-1" strike="noStrike">
                <a:solidFill>
                  <a:srgbClr val="990033"/>
                </a:solidFill>
                <a:latin typeface="Times New Roman"/>
              </a:rPr>
              <a:t> - помочь логопеду спланировать коррекционную работу и привлечь родителей и воспитателей к выполнению несложных домашних заданий с детьми. Таким образом, происходит закрепление полученных на фронтальных занятиях знаний, умений и навыков. Данная работа выполнена на основе альбомов Н. Э. Теремковой</a:t>
            </a:r>
            <a:r>
              <a:rPr b="0" i="1" lang="ru-RU" sz="2800" spc="-1" strike="noStrike">
                <a:solidFill>
                  <a:srgbClr val="990033"/>
                </a:solidFill>
                <a:latin typeface="Times New Roman"/>
              </a:rPr>
              <a:t> «Логопедические домашние задания для детей 5 – 7 лет с ОНР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243828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80880" y="838080"/>
            <a:ext cx="853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2438280" cy="18972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228600" y="1752480"/>
            <a:ext cx="8305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                   </a:t>
            </a: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Упраж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                  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«Угадай профессию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imes New Roman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286000" cy="19130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1779480" cy="22096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3809880" y="3962520"/>
            <a:ext cx="1876680" cy="24382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3733920" y="0"/>
            <a:ext cx="1836720" cy="20574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5"/>
          <a:stretch/>
        </p:blipFill>
        <p:spPr>
          <a:xfrm>
            <a:off x="304920" y="4038480"/>
            <a:ext cx="2087280" cy="22860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6"/>
          <a:stretch/>
        </p:blipFill>
        <p:spPr>
          <a:xfrm>
            <a:off x="7086600" y="4114800"/>
            <a:ext cx="1817640" cy="22860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914400" y="25909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Лечит людей </a:t>
            </a:r>
            <a:r>
              <a:rPr b="1" i="1" lang="en-US" sz="4000" spc="-1" strike="noStrike">
                <a:solidFill>
                  <a:srgbClr val="0066ff"/>
                </a:solidFill>
                <a:latin typeface="Arial"/>
              </a:rPr>
              <a:t>(кто?)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629400" y="25909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р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-0.2875 -0.15116 E">
                                      <p:cBhvr>
                                        <p:cTn id="35" dur="1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286000" cy="19130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1779480" cy="22096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3809880" y="3962520"/>
            <a:ext cx="1876680" cy="24382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3733920" y="0"/>
            <a:ext cx="1836720" cy="20574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304920" y="4038480"/>
            <a:ext cx="2087280" cy="2286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7086600" y="4114800"/>
            <a:ext cx="1817640" cy="2286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0" y="2362320"/>
            <a:ext cx="93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Водит машины, автобусы </a:t>
            </a:r>
            <a:r>
              <a:rPr b="1" i="1" lang="en-US" sz="4000" spc="-1" strike="noStrike">
                <a:solidFill>
                  <a:srgbClr val="0066ff"/>
                </a:solidFill>
                <a:latin typeface="Arial"/>
              </a:rPr>
              <a:t>(кто?)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971800" y="31240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од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-2.96296E-006 L -0.3375 0.41551 E">
                                      <p:cBhvr>
                                        <p:cTn id="50" dur="1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286000" cy="19130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1779480" cy="22096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3809880" y="3962520"/>
            <a:ext cx="1876680" cy="24382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3733920" y="0"/>
            <a:ext cx="1836720" cy="20574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304920" y="4038480"/>
            <a:ext cx="2087280" cy="22860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>
            <a:off x="7086600" y="4114800"/>
            <a:ext cx="1817640" cy="2286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62120" y="266688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Учит детей в школе </a:t>
            </a:r>
            <a:r>
              <a:rPr b="1" i="1" lang="en-US" sz="4000" spc="-1" strike="noStrike">
                <a:solidFill>
                  <a:srgbClr val="0066ff"/>
                </a:solidFill>
                <a:latin typeface="Arial"/>
              </a:rPr>
              <a:t>(кто?)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 -</a:t>
            </a: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76720" y="335268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уч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6 L -0.31667 -0.18449 E">
                                      <p:cBhvr>
                                        <p:cTn id="65" dur="1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286000" cy="19130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1779480" cy="22096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3809880" y="3962520"/>
            <a:ext cx="1876680" cy="24382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3733920" y="0"/>
            <a:ext cx="1836720" cy="20574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304920" y="4038480"/>
            <a:ext cx="2087280" cy="2286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6"/>
          <a:stretch/>
        </p:blipFill>
        <p:spPr>
          <a:xfrm>
            <a:off x="7086600" y="4114800"/>
            <a:ext cx="1817640" cy="22860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762120" y="24382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Воспитывает детей в детском саду (кто?)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14800" y="3048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оспита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85185E-006 L 0.175 -0.18449 E">
                                      <p:cBhvr>
                                        <p:cTn id="80" dur="1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286000" cy="19130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1779480" cy="22096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3733920" y="0"/>
            <a:ext cx="1836720" cy="20574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304920" y="4038480"/>
            <a:ext cx="2087280" cy="22860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7086600" y="4114800"/>
            <a:ext cx="1817640" cy="2286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0" y="26668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Продает товары </a:t>
            </a:r>
            <a:r>
              <a:rPr b="1" i="1" lang="en-US" sz="4000" spc="-1" strike="noStrike">
                <a:solidFill>
                  <a:srgbClr val="0066ff"/>
                </a:solidFill>
                <a:latin typeface="Arial"/>
              </a:rPr>
              <a:t>(кто?)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6"/>
          <a:stretch/>
        </p:blipFill>
        <p:spPr>
          <a:xfrm>
            <a:off x="3809880" y="3962520"/>
            <a:ext cx="1876680" cy="24382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6477120" y="26668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продав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6 L 0.00416 0.49328 E">
                                      <p:cBhvr>
                                        <p:cTn id="95" dur="1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2286000" cy="19130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1779480" cy="22096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3809880" y="3962520"/>
            <a:ext cx="1876680" cy="24382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3733920" y="0"/>
            <a:ext cx="1836720" cy="205740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5"/>
          <a:stretch/>
        </p:blipFill>
        <p:spPr>
          <a:xfrm>
            <a:off x="304920" y="4038480"/>
            <a:ext cx="2087280" cy="2286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6"/>
          <a:stretch/>
        </p:blipFill>
        <p:spPr>
          <a:xfrm>
            <a:off x="7086600" y="4114800"/>
            <a:ext cx="1817640" cy="22860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04920" y="25909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Строит дома </a:t>
            </a:r>
            <a:r>
              <a:rPr b="1" i="1" lang="en-US" sz="4000" spc="-1" strike="noStrike">
                <a:solidFill>
                  <a:srgbClr val="0066ff"/>
                </a:solidFill>
                <a:latin typeface="Arial"/>
              </a:rPr>
              <a:t>(кто?)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19920" y="25909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тро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 0.51111 E">
                                      <p:cBhvr>
                                        <p:cTn id="110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7-20T11:56:44Z</dcterms:modified>
  <cp:revision>4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