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B92-D5C4-4D16-845D-9759F11F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208-0F9D-4D17-9DFD-CA3DB799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077-99BC-433C-8B5A-F9834588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083-447F-47F2-AD6E-25466A7A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5CC-A6A5-4596-A309-A86C392F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C5D-E826-4A0C-B296-42970E72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BA5-6BBD-44CA-8B03-7A60C8E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F18-BD7E-49B0-9471-E424E63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DF3-4414-4A12-BFC9-EFA8E5F5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551-D8D7-4E9C-A2D5-AA18CDC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DCD-E887-427F-A5A9-4491E84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6D6-4F69-4338-A8A5-1739F41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6399-0D0D-44F2-856B-D3A8441BD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86;&#1082;&#1090;&#1103;&#1073;&#1088;&#1103;" TargetMode="External"/><Relationship Id="rId2" Type="http://schemas.openxmlformats.org/officeDocument/2006/relationships/hyperlink" Target="http://ru.wikipedia.org/wiki/2_&#1085;&#1086;&#1103;&#1073;&#1088;&#1103;" TargetMode="External"/><Relationship Id="rId3" Type="http://schemas.openxmlformats.org/officeDocument/2006/relationships/hyperlink" Target="http://ru.wikipedia.org/wiki/1893" TargetMode="External"/><Relationship Id="rId4" Type="http://schemas.openxmlformats.org/officeDocument/2006/relationships/hyperlink" Target="http://ru.wikipedia.org/wiki/18_&#1080;&#1102;&#1083;&#1103;" TargetMode="External"/><Relationship Id="rId5" Type="http://schemas.openxmlformats.org/officeDocument/2006/relationships/hyperlink" Target="http://ru.wikipedia.org/wiki/1970" TargetMode="External"/><Relationship Id="rId6" Type="http://schemas.openxmlformats.org/officeDocument/2006/relationships/hyperlink" Target="http://ru.wikipedia.org/wiki/&#1041;&#1091;&#1083;&#1075;&#1072;&#1082;&#1086;&#1074;,_&#1052;&#1080;&#1093;&#1072;&#1080;&#1083;_&#1040;&#1092;&#1072;&#1085;&#1072;&#1089;&#1100;&#1077;&#1074;&#1080;&#1095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103;_&#1089;&#1091;&#1097;&#1077;&#1089;&#1090;&#1074;&#1080;&#1090;&#1077;&#1083;&#1100;&#1085;&#1086;&#1077;" TargetMode="External"/><Relationship Id="rId2" Type="http://schemas.openxmlformats.org/officeDocument/2006/relationships/hyperlink" Target="http://ru.wikipedia.org/wiki/&#1052;&#1077;&#1089;&#1090;&#1086;&#1080;&#1084;&#1077;&#1085;&#1080;&#1077;" TargetMode="External"/><Relationship Id="rId3" Type="http://schemas.openxmlformats.org/officeDocument/2006/relationships/hyperlink" Target="http://ru.wikipedia.org/wiki/&#1048;&#1084;&#1103;_&#1087;&#1088;&#1080;&#1083;&#1072;&#1075;&#1072;&#1090;&#1077;&#1083;&#1100;&#1085;&#1086;&#1077;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84360" y="26028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дая женщ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19000" y="2381400"/>
            <a:ext cx="750600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крытый урок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роман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а Афанасьевича Булгак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Мастер и Маргарита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тор: Маер Ирина Александров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1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ле́на Серге́евна Булга́к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урождённ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юренбер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первом брак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ё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 второму мужу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ловс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1 октябр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2 ноябр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9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 ию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жена русского советского писателя и драматург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ихаила Афанасьевича Булгак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ранительница его литературного наслед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255201193_elena-shilovskaja"/>
          <p:cNvPicPr/>
          <p:nvPr/>
        </p:nvPicPr>
        <p:blipFill>
          <a:blip r:embed="rId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Bulgakov_s_zhenoi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post-16351-1293010359"/>
          <p:cNvPicPr/>
          <p:nvPr/>
        </p:nvPicPr>
        <p:blipFill>
          <a:blip r:embed="rId1"/>
          <a:stretch/>
        </p:blipFill>
        <p:spPr>
          <a:xfrm>
            <a:off x="0" y="531720"/>
            <a:ext cx="91440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0_5e6e9_89832a98_L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47308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931"/>
          <p:cNvPicPr/>
          <p:nvPr/>
        </p:nvPicPr>
        <p:blipFill>
          <a:blip r:embed="rId1"/>
          <a:stretch/>
        </p:blipFill>
        <p:spPr>
          <a:xfrm>
            <a:off x="1927080" y="0"/>
            <a:ext cx="52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g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45930442_01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notitle6"/>
          <p:cNvPicPr/>
          <p:nvPr/>
        </p:nvPicPr>
        <p:blipFill>
          <a:blip r:embed="rId1"/>
          <a:stretch/>
        </p:blipFill>
        <p:spPr>
          <a:xfrm>
            <a:off x="250920" y="44280"/>
            <a:ext cx="87138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_17563710"/>
          <p:cNvPicPr/>
          <p:nvPr/>
        </p:nvPicPr>
        <p:blipFill>
          <a:blip r:embed="rId1"/>
          <a:stretch/>
        </p:blipFill>
        <p:spPr>
          <a:xfrm>
            <a:off x="1957320" y="795240"/>
            <a:ext cx="52293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мной, мой читатель! Кто сказал тебе, что нет на свете настоящей, верной, вечной любв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ь отрежут лгуну его гнусный язы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мной, мой читатель, и только за мной, и я покажу тебе такую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857840" y="363852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684360" y="4221000"/>
            <a:ext cx="369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А. Булга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ANd9GcQ0zhZPKAK4LfaYC-jvPeA3T60ss2G6lph9O_XX3zq-sSeSPHZoHQ&amp;t=1"/>
          <p:cNvPicPr/>
          <p:nvPr/>
        </p:nvPicPr>
        <p:blipFill>
          <a:blip r:embed="rId1"/>
          <a:stretch/>
        </p:blipFill>
        <p:spPr>
          <a:xfrm>
            <a:off x="0" y="878040"/>
            <a:ext cx="9144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ока 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ма синквей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лючает в себе одно слово (обычно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или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стоим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которое обозначает объект или предмет, о котором пойдет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строка — два слова (чаще всего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лага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или причастия), они дают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исание признаков и свой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ыбранного в синквейне предмета ил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строка — образована тремя глаголами или деепричастиями, описывающими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арактерные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вертая строка — фраза из четырёх слов, выражающая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чн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автора синквейна к описываемому предмету или объ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ая строка — одно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о-резю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арактеризующее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редмета ил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297856735_margarita-04"/>
          <p:cNvPicPr/>
          <p:nvPr/>
        </p:nvPicPr>
        <p:blipFill>
          <a:blip r:embed="rId1"/>
          <a:stretch/>
        </p:blipFill>
        <p:spPr>
          <a:xfrm>
            <a:off x="2124000" y="0"/>
            <a:ext cx="506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маргарита.wmv" descr=""/>
          <p:cNvPicPr/>
          <p:nvPr/>
        </p:nvPicPr>
        <p:blipFill>
          <a:blip r:embed="rId1"/>
          <a:stretch/>
        </p:blipFill>
        <p:spPr>
          <a:xfrm>
            <a:off x="395280" y="-6480"/>
            <a:ext cx="8388360" cy="68644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86040" y="6072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26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%D0%BC%D0%B0%D1%80%D0%B3%D0%B0%D1%80%D0%B8%D1%82%D0%B0%20%D0%BA%D0%BE%D0%BF%D0%B8%D1%8F(2)"/>
          <p:cNvPicPr/>
          <p:nvPr/>
        </p:nvPicPr>
        <p:blipFill>
          <a:blip r:embed="rId1"/>
          <a:stretch/>
        </p:blipFill>
        <p:spPr>
          <a:xfrm>
            <a:off x="25560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5292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и, боги мои! Что же нужно было этой женщине?! Что нужно было этой женщине, в глазах которой всегда горел какой-то непонятный огонёчек, что нужно было этой чуть косящей на один глаз ведьме, украсившей себя тогда весною мимозами? Не знаю. Мне неизвестно. Очевидно, она говорила правду, ей нужен был он, мастер, а вовсе не готический особняк, и не отдельный сад, и не день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4399"/>
          <p:cNvPicPr/>
          <p:nvPr/>
        </p:nvPicPr>
        <p:blipFill>
          <a:blip r:embed="rId1"/>
          <a:stretch/>
        </p:blipFill>
        <p:spPr>
          <a:xfrm>
            <a:off x="5219640" y="620640"/>
            <a:ext cx="37242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297856735_margarita-04"/>
          <p:cNvPicPr/>
          <p:nvPr/>
        </p:nvPicPr>
        <p:blipFill>
          <a:blip r:embed="rId1"/>
          <a:stretch/>
        </p:blipFill>
        <p:spPr>
          <a:xfrm>
            <a:off x="2124000" y="0"/>
            <a:ext cx="506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М  Булгаков Мастер и Маргарита_from_mp4_to_wmv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1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aster_Margarita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76175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2519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 — часть той силы, что вечно хочет зла и вечно совершает бла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046320" y="0"/>
            <a:ext cx="609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43:30Z</dcterms:created>
  <dc:creator>Маер</dc:creator>
  <dc:description/>
  <dc:language>en-US</dc:language>
  <cp:lastModifiedBy>maer_sv</cp:lastModifiedBy>
  <dcterms:modified xsi:type="dcterms:W3CDTF">2012-07-21T01:01:36Z</dcterms:modified>
  <cp:revision>10</cp:revision>
  <dc:subject/>
  <dc:title>Слайд 1</dc:title>
</cp:coreProperties>
</file>