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C9A4A-6E32-404E-A8A4-C83CBE6A3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44DE2-C409-4B62-B075-992F176FB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2A8CC-B1AE-482E-9600-5D243A1B6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C5646-A055-49C8-BDAE-D74DEE875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2CB2C-4C6E-4A02-9DAC-1D68B6B96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9D678-528B-47DE-BC38-053826BA9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ECB1D-708E-4983-8C3F-333D46C13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B813E-162C-45BD-A07A-E4F1AA143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F218F-54DA-45A8-B277-83F58C9A6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F4778-F48F-4C72-8156-B113BDEED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10A6D-4432-4744-A7F3-8945D917F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A6528-A285-4D4E-A6F2-55F86647B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C8A75-ABE6-400A-8B4E-AC0DE82AF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30699-D4E6-47E8-8E65-2E9E9419F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2F5FD-EFFE-4C5B-9B6C-E9502081F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89BF4-ABEF-4C77-AEA2-9A6133E97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3FC15-DB2B-4231-B873-C2A131982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FB0DA-6300-4537-BB9B-B45F38B2F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9026D-5A42-4D98-86D3-ED07E883A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DFA7-F0C0-4050-AB5D-96CA16A8D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B2055-E003-4FDC-AB6D-FB485386D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062B1-0C34-4A2D-B684-2B86E52BA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4549B-20E7-47EC-874E-682B56382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92B8-BE61-4B54-8328-AECFCA43D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90DD-D39A-4E03-A820-872EC1CF966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02A4-C74D-4688-9862-F7ADBDFB5E6F}" type="slidenum">
              <a:rPr b="0" lang="ru-RU"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404640"/>
            <a:ext cx="7772400" cy="2524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ru-RU" sz="3600" spc="-1" strike="noStrike">
                <a:solidFill>
                  <a:srgbClr val="ffffcc"/>
                </a:solidFill>
                <a:latin typeface="Arial"/>
              </a:rPr>
              <a:t>Исследовательская работа </a:t>
            </a:r>
            <a:br>
              <a:rPr sz="3600"/>
            </a:br>
            <a:r>
              <a:rPr b="0" lang="ru-RU" sz="3600" spc="-1" strike="noStrike">
                <a:solidFill>
                  <a:srgbClr val="ffffcc"/>
                </a:solidFill>
                <a:latin typeface="Arial"/>
              </a:rPr>
              <a:t>«Я лучший исследователь!»</a:t>
            </a:r>
            <a:br>
              <a:rPr sz="3600"/>
            </a:br>
            <a:br>
              <a:rPr sz="3600"/>
            </a:br>
            <a:r>
              <a:rPr b="0" lang="ru-RU" sz="3600" spc="-1" strike="noStrike">
                <a:solidFill>
                  <a:srgbClr val="ffffcc"/>
                </a:solidFill>
                <a:latin typeface="Arial"/>
              </a:rPr>
              <a:t>«То ли мышка, то ли мамонт…»</a:t>
            </a:r>
            <a:endParaRPr b="0" lang="en-US" sz="3600" spc="-1" strike="noStrike">
              <a:solidFill>
                <a:srgbClr val="ffffcc"/>
              </a:solidFill>
              <a:latin typeface="Arial"/>
            </a:endParaRPr>
          </a:p>
        </p:txBody>
      </p:sp>
      <p:sp>
        <p:nvSpPr>
          <p:cNvPr id="115" name="PlaceHolder 2"/>
          <p:cNvSpPr>
            <a:spLocks noGrp="1"/>
          </p:cNvSpPr>
          <p:nvPr>
            <p:ph type="subTitle"/>
          </p:nvPr>
        </p:nvSpPr>
        <p:spPr>
          <a:xfrm>
            <a:off x="1357200" y="3071880"/>
            <a:ext cx="6415200" cy="3309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Автор: Крулёва Даниэла Романовна</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4 «А» класс</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МБОУ СОШ № 3</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г.Каменск - Шахтинский</a:t>
            </a:r>
            <a:endParaRPr b="0" lang="en-US" sz="3600" spc="-1" strike="noStrike">
              <a:solidFill>
                <a:srgbClr val="eaeaea"/>
              </a:solidFill>
              <a:latin typeface="Verdan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79280" y="115920"/>
            <a:ext cx="8460000" cy="67420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Увидеть выхухоль нелегко: она очень осторожна, и лишь рано утром или вечером настойчивый наблюдатель, если повезёт, заметит торчащий из воды хоботок или голову высунувшегося подышать зверька. </a:t>
            </a: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Но есть одно обстоятельство, которое выдаёт присутствие этого невидимки.  В прошлые годы, когда в пойме Клязьмы хохули было много, пастухи не раз отмечали, что там, где есть её норы, коровы не пьют воду. Жилая нора выхухоли имеет стойкий мускусный  запах. Выделяется этот резкий запах скоплением мускусных желез, расположенных в основании хвоста. </a:t>
            </a:r>
            <a:endParaRPr b="0" lang="en-US" sz="2400" spc="-1" strike="noStrike">
              <a:solidFill>
                <a:srgbClr val="eaeaea"/>
              </a:solidFill>
              <a:latin typeface="Verdana"/>
            </a:endParaRPr>
          </a:p>
        </p:txBody>
      </p:sp>
      <p:pic>
        <p:nvPicPr>
          <p:cNvPr id="130" name="Рисунок 4" descr="выхухоль.jpg"/>
          <p:cNvPicPr/>
          <p:nvPr/>
        </p:nvPicPr>
        <p:blipFill>
          <a:blip r:embed="rId1"/>
          <a:stretch/>
        </p:blipFill>
        <p:spPr>
          <a:xfrm>
            <a:off x="1403280" y="1628640"/>
            <a:ext cx="5184720" cy="2592360"/>
          </a:xfrm>
          <a:prstGeom prst="rect">
            <a:avLst/>
          </a:prstGeom>
          <a:ln w="0">
            <a:noFill/>
          </a:ln>
        </p:spPr>
      </p:pic>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188640"/>
            <a:ext cx="8686800" cy="5941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До третьей четверти 17 века выхухоль добывали только из-за мускусного запаха. На Руси высушенными выхухолевыми хвостами перекладывали бельё в комодах, а позднее секрет мускусных желез стал применяться в парфюмерном производстве как закрепитель запаха дорогих духов. Только потом люди оценили мех выхухоли (причём он ценился выше бобрового) , что , конечно, привело печальным последствиям для вида.    </a:t>
            </a:r>
            <a:endParaRPr b="0" lang="en-US" sz="2400" spc="-1" strike="noStrike">
              <a:solidFill>
                <a:srgbClr val="eaeaea"/>
              </a:solidFill>
              <a:latin typeface="Verdan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Норы  играют в жизни выхухоли большую роль.  Сложные и длинные ( более 10 м ) гнездовые норы выхухоль делает по пологим берегам озёр, где гнездовая камера находится в верхних горизонтах берега.</a:t>
            </a:r>
            <a:endParaRPr b="0" lang="en-US" sz="2400" spc="-1" strike="noStrike">
              <a:solidFill>
                <a:srgbClr val="eaeaea"/>
              </a:solidFill>
              <a:latin typeface="Verdana"/>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88640"/>
            <a:ext cx="8229600" cy="5941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Запасные норы представляют собой один короткий ход с камерой и влажной подстилкой. Здесь зверьки поедают добычу, отдыхают, а зимой пополняют запасы воздуха при передвижении подо льдом. Основная пища выхухоли – это моллюски, насекомые и их личинки.    </a:t>
            </a:r>
            <a:endParaRPr b="0" lang="en-US" sz="2400" spc="-1" strike="noStrike">
              <a:solidFill>
                <a:srgbClr val="eaeaea"/>
              </a:solidFill>
              <a:latin typeface="Verdana"/>
            </a:endParaRPr>
          </a:p>
        </p:txBody>
      </p:sp>
      <p:pic>
        <p:nvPicPr>
          <p:cNvPr id="133" name="Рисунок 3" descr="выхухоль5.jpg"/>
          <p:cNvPicPr/>
          <p:nvPr/>
        </p:nvPicPr>
        <p:blipFill>
          <a:blip r:embed="rId1"/>
          <a:stretch/>
        </p:blipFill>
        <p:spPr>
          <a:xfrm>
            <a:off x="2484360" y="2492280"/>
            <a:ext cx="6120000" cy="4032360"/>
          </a:xfrm>
          <a:prstGeom prst="rect">
            <a:avLst/>
          </a:prstGeom>
          <a:ln w="0">
            <a:noFill/>
          </a:ln>
        </p:spPr>
      </p:pic>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89000"/>
            <a:ext cx="8229600" cy="640872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Почему же у выхухоли рваный хвост? </a:t>
            </a:r>
            <a:endParaRPr b="0" lang="en-US" sz="2400" spc="-1" strike="noStrike">
              <a:solidFill>
                <a:srgbClr val="eaeaea"/>
              </a:solidFill>
              <a:latin typeface="Verdan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В весеннее половодье за самочкой плавают один или несколько самцов, издавая своеобразные звуки. Между самцами случаются драки, они наносят друг другу очень серьёзные повреждения, которые, правда, быстро заживают. Перед дракой зверьки встают «столбиком» и, опираясь на хвост, исследуют с помощью хоботка и «усов» окружающее пространство. В результате нападения один из них оказывается опрокинутым на спину, и его хвост становится наиболее доступным местом для противника. Для сравнения: на долю хвоста приходится 38,5% покусов,  на долю брюшка – 34,6%. </a:t>
            </a:r>
            <a:endParaRPr b="0" lang="en-US" sz="2400" spc="-1" strike="noStrike">
              <a:solidFill>
                <a:srgbClr val="eaeaea"/>
              </a:solidFill>
              <a:latin typeface="Verdana"/>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Содержимое 4" descr="детёныш выхухоли.jpg"/>
          <p:cNvPicPr/>
          <p:nvPr/>
        </p:nvPicPr>
        <p:blipFill>
          <a:blip r:embed="rId1"/>
          <a:stretch/>
        </p:blipFill>
        <p:spPr>
          <a:xfrm>
            <a:off x="4932360" y="260280"/>
            <a:ext cx="3887640" cy="3527640"/>
          </a:xfrm>
          <a:prstGeom prst="rect">
            <a:avLst/>
          </a:prstGeom>
          <a:ln w="0">
            <a:noFill/>
          </a:ln>
        </p:spPr>
      </p:pic>
      <p:sp>
        <p:nvSpPr>
          <p:cNvPr id="136" name="PlaceHolder 1"/>
          <p:cNvSpPr>
            <a:spLocks noGrp="1"/>
          </p:cNvSpPr>
          <p:nvPr>
            <p:ph/>
          </p:nvPr>
        </p:nvSpPr>
        <p:spPr>
          <a:xfrm>
            <a:off x="457200" y="260280"/>
            <a:ext cx="4043520" cy="64087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000" spc="-1" strike="noStrike">
                <a:solidFill>
                  <a:srgbClr val="eaeaea"/>
                </a:solidFill>
                <a:latin typeface="Verdana"/>
              </a:rPr>
              <a:t>В начале лета появляются хохулята (до 5 в помёте), голые слепые, беззубые. Детёныши быстро растут и к 8–10 месяцам переходят к самостоятельной жизни. Как мы уже говорили, в частную жизнь выхухоли проникнуть сложно, но однажды удалось наблюдать, как самка и детёныши спустились к воде, после чего один из хохулят вцепился лапками в поясничную часть туловища матери и в таком положении был доставлен в другую нору. Таким же образом были перенесены и остальные.     </a:t>
            </a:r>
            <a:endParaRPr b="0" lang="en-US" sz="2000" spc="-1" strike="noStrike">
              <a:solidFill>
                <a:srgbClr val="eaeaea"/>
              </a:solidFill>
              <a:latin typeface="Verdana"/>
            </a:endParaRPr>
          </a:p>
        </p:txBody>
      </p:sp>
      <p:pic>
        <p:nvPicPr>
          <p:cNvPr id="137" name="Рисунок 4" descr="выхухоль детёныш.jpg"/>
          <p:cNvPicPr/>
          <p:nvPr/>
        </p:nvPicPr>
        <p:blipFill>
          <a:blip r:embed="rId2"/>
          <a:stretch/>
        </p:blipFill>
        <p:spPr>
          <a:xfrm>
            <a:off x="4932360" y="3760920"/>
            <a:ext cx="3887640" cy="2836800"/>
          </a:xfrm>
          <a:prstGeom prst="rect">
            <a:avLst/>
          </a:prstGeom>
          <a:ln w="0">
            <a:noFill/>
          </a:ln>
        </p:spPr>
      </p:pic>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89000"/>
            <a:ext cx="8686800" cy="64800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У выхухоли довольно много врагов, которые уничтожают самих зверьков или разрушают их норы - лисица, выдра, горностай, хорёк, ондатра. Из птиц к врагам выхухоли относятся болотный лунь, чёрный коршун, беркут, филин, а так же серая ворона и сорока. И даже под водой приходится опасаться щуки и сома. </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Особого внимания заслуживают взаимоотношения выхухоли и бобра.  Выхухоль извлекает большую пользу из такого сожительства, используя бобровые постройки в качестве своих убежищ и безопасных путей передвижения. Однако и для бобров это отношения не бесполезны. Выхухоль поедает моллюсков, вызывающих у бобров опасное заболевание стихорхоз, таким образом снижая вероятность заражения бобров этим гельминтом.   </a:t>
            </a:r>
            <a:endParaRPr b="0" lang="en-US" sz="2400" spc="-1" strike="noStrike">
              <a:solidFill>
                <a:srgbClr val="eaeaea"/>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Содержимое 4" descr="выхухоль6.gif"/>
          <p:cNvPicPr/>
          <p:nvPr/>
        </p:nvPicPr>
        <p:blipFill>
          <a:blip r:embed="rId1"/>
          <a:stretch/>
        </p:blipFill>
        <p:spPr>
          <a:xfrm>
            <a:off x="5292720" y="189000"/>
            <a:ext cx="3311640" cy="5904000"/>
          </a:xfrm>
          <a:prstGeom prst="rect">
            <a:avLst/>
          </a:prstGeom>
          <a:ln w="0">
            <a:noFill/>
          </a:ln>
        </p:spPr>
      </p:pic>
      <p:sp>
        <p:nvSpPr>
          <p:cNvPr id="140" name="PlaceHolder 1"/>
          <p:cNvSpPr>
            <a:spLocks noGrp="1"/>
          </p:cNvSpPr>
          <p:nvPr>
            <p:ph/>
          </p:nvPr>
        </p:nvSpPr>
        <p:spPr>
          <a:xfrm>
            <a:off x="456840" y="189000"/>
            <a:ext cx="4259160" cy="593712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Выхухоль – это единственное млекопитающее, имеющая в своём официальном названии слово «русская». Несколько лет назад русская выхухоль стала «героиней» серебряного юбилейного рубля.     </a:t>
            </a:r>
            <a:endParaRPr b="0" lang="en-US" sz="2400" spc="-1" strike="noStrike">
              <a:solidFill>
                <a:srgbClr val="eaeaea"/>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3840" y="189000"/>
            <a:ext cx="8472600" cy="6408720"/>
          </a:xfrm>
          <a:prstGeom prst="rect">
            <a:avLst/>
          </a:prstGeom>
          <a:noFill/>
          <a:ln w="0">
            <a:noFill/>
          </a:ln>
        </p:spPr>
        <p:txBody>
          <a:bodyPr anchor="t">
            <a:normAutofit/>
          </a:bodyPr>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Выхухоль – настоящий индикатор чистоты воды в наших водоёмах, древний вид. Она могла бы стать одним из символов среднерусской природы. </a:t>
            </a:r>
            <a:endParaRPr b="0" lang="en-US" sz="2400" spc="-1" strike="noStrike">
              <a:solidFill>
                <a:srgbClr val="eaeaea"/>
              </a:solidFill>
              <a:latin typeface="Verdana"/>
            </a:endParaRPr>
          </a:p>
        </p:txBody>
      </p:sp>
      <p:pic>
        <p:nvPicPr>
          <p:cNvPr id="142" name="Рисунок 5" descr="хохуля1.jpeg"/>
          <p:cNvPicPr/>
          <p:nvPr/>
        </p:nvPicPr>
        <p:blipFill>
          <a:blip r:embed="rId1"/>
          <a:stretch/>
        </p:blipFill>
        <p:spPr>
          <a:xfrm>
            <a:off x="1643040" y="1928880"/>
            <a:ext cx="6500880" cy="4552920"/>
          </a:xfrm>
          <a:prstGeom prst="rect">
            <a:avLst/>
          </a:prstGeom>
          <a:ln w="0">
            <a:noFill/>
          </a:ln>
        </p:spPr>
      </p:pic>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88640"/>
            <a:ext cx="8229600" cy="6335640"/>
          </a:xfrm>
          <a:prstGeom prst="rect">
            <a:avLst/>
          </a:prstGeom>
          <a:noFill/>
          <a:ln w="0">
            <a:noFill/>
          </a:ln>
        </p:spPr>
        <p:txBody>
          <a:bodyPr anchor="t">
            <a:normAutofit/>
          </a:bodyPr>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Выхухоль занесена в Международную Красную Книгу и Красную Книгу России как сокращающийся в численности вид. Главными причинами её исчезновения являются развитие сетного рыболовства, в результате чего в сетях гибнет множество зверьков, осушение и загрязнение водоёмов, а так же вырубка лесов. Сейчас их численность по примерным подсчётам около 30-35 тысяч. Если не принять мер, утверждают природозащитники, выхухоль сохранится только на картинках. Для её охраны и распространения создаются особые заповедники и заказники, где сейчас сосредоточено более 30% от общего числа этих животных.</a:t>
            </a:r>
            <a:endParaRPr b="0" lang="en-US" sz="2400" spc="-1" strike="noStrike">
              <a:solidFill>
                <a:srgbClr val="eaeaea"/>
              </a:solidFill>
              <a:latin typeface="Verdana"/>
            </a:endParaRPr>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89000"/>
            <a:ext cx="8229600" cy="6192720"/>
          </a:xfrm>
          <a:prstGeom prst="rect">
            <a:avLst/>
          </a:prstGeom>
          <a:noFill/>
          <a:ln w="0">
            <a:noFill/>
          </a:ln>
        </p:spPr>
        <p:txBody>
          <a:bodyPr anchor="t">
            <a:normAutofit/>
          </a:bodyPr>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С осени 2000 года Центр охраны дикой природы при финансовой поддержке Фонда национальных парков осуществляет проект «Сохраним русскую выхухоль», посвящённый оценке современного состояния популяции, разработки конкретных мер её сохранения и их воплощения на местах.  </a:t>
            </a:r>
            <a:endParaRPr b="0" lang="en-US" sz="2400" spc="-1" strike="noStrike">
              <a:solidFill>
                <a:srgbClr val="eaeaea"/>
              </a:solidFill>
              <a:latin typeface="Verdana"/>
            </a:endParaRPr>
          </a:p>
        </p:txBody>
      </p:sp>
      <p:pic>
        <p:nvPicPr>
          <p:cNvPr id="145" name="Рисунок 4" descr="хохуля.jpg"/>
          <p:cNvPicPr/>
          <p:nvPr/>
        </p:nvPicPr>
        <p:blipFill>
          <a:blip r:embed="rId1"/>
          <a:stretch/>
        </p:blipFill>
        <p:spPr>
          <a:xfrm>
            <a:off x="1643040" y="2967120"/>
            <a:ext cx="6357960" cy="3890880"/>
          </a:xfrm>
          <a:prstGeom prst="rect">
            <a:avLst/>
          </a:prstGeom>
          <a:ln w="0">
            <a:noFill/>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Содержание работы</a:t>
            </a:r>
            <a:endParaRPr b="0" lang="en-US" sz="4400" spc="-1" strike="noStrike">
              <a:solidFill>
                <a:srgbClr val="ffffcc"/>
              </a:solidFill>
              <a:latin typeface="Arial"/>
            </a:endParaRPr>
          </a:p>
        </p:txBody>
      </p:sp>
      <p:sp>
        <p:nvSpPr>
          <p:cNvPr id="117" name=""/>
          <p:cNvSpPr txBox="1"/>
          <p:nvPr/>
        </p:nvSpPr>
        <p:spPr>
          <a:xfrm>
            <a:off x="499680" y="1600200"/>
            <a:ext cx="8186760" cy="482904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Удивительное рядом.</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Уникальная природа Ростовской области.</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Русская выхухоль</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А) особенности внешнего вида</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Б) особенности поведения</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В) интересные факты</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Г) охрана</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42560" y="907560"/>
            <a:ext cx="7016760" cy="5761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Прекрасной быть должна земля</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Она у всех у нас одна.</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А мы – хозяева земли.</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Мы охранять её должны.</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Источник информации: </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Интернет-ресурсы. </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endParaRPr b="0" lang="en-US" sz="3200" spc="-1" strike="noStrike">
              <a:solidFill>
                <a:srgbClr val="eaeaea"/>
              </a:solidFill>
              <a:latin typeface="Verdan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260280"/>
            <a:ext cx="8686800" cy="63374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800" spc="-1" strike="noStrike">
                <a:solidFill>
                  <a:srgbClr val="eaeaea"/>
                </a:solidFill>
                <a:latin typeface="Times New Roman"/>
                <a:ea typeface="Times New Roman"/>
              </a:rPr>
              <a:t>Пусть мне твердят</a:t>
            </a:r>
            <a:endParaRPr b="0" lang="en-US" sz="2800" spc="-1" strike="noStrike">
              <a:solidFill>
                <a:srgbClr val="eaeaea"/>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Что есть края иные,</a:t>
            </a:r>
            <a:endParaRPr b="0" lang="en-US" sz="2800" spc="-1" strike="noStrike">
              <a:solidFill>
                <a:srgbClr val="eaeaea"/>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Что в мире есть иная красота. </a:t>
            </a:r>
            <a:endParaRPr b="0" lang="en-US" sz="2800" spc="-1" strike="noStrike">
              <a:solidFill>
                <a:srgbClr val="eaeaea"/>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А я люблю свои места родные,</a:t>
            </a:r>
            <a:endParaRPr b="0" lang="en-US" sz="2800" spc="-1" strike="noStrike">
              <a:solidFill>
                <a:srgbClr val="eaeaea"/>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Свои родные, милые места.</a:t>
            </a:r>
            <a:endParaRPr b="0" lang="en-US" sz="2800" spc="-1" strike="noStrike">
              <a:solidFill>
                <a:srgbClr val="eaeaea"/>
              </a:solidFill>
              <a:latin typeface="Verdana"/>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Как прекрасен и удивителен окружающий нас мир! Как прекрасны и неповторимы бескрайние и безбрежные моря, полноводные реки и озёра, высокие горы и зелёные равнины, широкие степи и пустыни! Как много удивительных и уникальных животных, растений на нашей планете!  Но мы, из - за повседневности не замечаем, что это </a:t>
            </a:r>
            <a:r>
              <a:rPr b="0" lang="ru-RU" sz="2800" spc="-1" strike="noStrike">
                <a:solidFill>
                  <a:srgbClr val="ff0000"/>
                </a:solidFill>
                <a:latin typeface="Times New Roman"/>
                <a:ea typeface="Times New Roman"/>
              </a:rPr>
              <a:t>необычное и удивительное находится рядом</a:t>
            </a:r>
            <a:r>
              <a:rPr b="0" lang="ru-RU" sz="2800" spc="-1" strike="noStrike">
                <a:solidFill>
                  <a:srgbClr val="eaeaea"/>
                </a:solidFill>
                <a:latin typeface="Times New Roman"/>
                <a:ea typeface="Times New Roman"/>
              </a:rPr>
              <a:t>.       </a:t>
            </a:r>
            <a:r>
              <a:rPr b="0" lang="ru-RU" sz="2400" spc="-1" strike="noStrike">
                <a:solidFill>
                  <a:srgbClr val="eaeaea"/>
                </a:solidFill>
                <a:latin typeface="Verdana"/>
              </a:rPr>
              <a:t>                                                               </a:t>
            </a:r>
            <a:endParaRPr b="0" lang="en-US" sz="2400" spc="-1" strike="noStrike">
              <a:solidFill>
                <a:srgbClr val="eaeaea"/>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0"/>
            <a:ext cx="8686800" cy="6130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Times New Roman"/>
                <a:ea typeface="Times New Roman"/>
              </a:rPr>
              <a:t>Немало уникальных животных и растений в Ростовской области, которые есть только у нас. В окрестностях станицы Вёшенской растёт уникальный дуб – </a:t>
            </a:r>
            <a:r>
              <a:rPr b="0" lang="ru-RU" sz="2400" spc="-1" strike="noStrike">
                <a:solidFill>
                  <a:srgbClr val="ffff00"/>
                </a:solidFill>
                <a:latin typeface="Times New Roman"/>
                <a:ea typeface="Times New Roman"/>
              </a:rPr>
              <a:t>Дуб-патриарх.</a:t>
            </a:r>
            <a:r>
              <a:rPr b="0" lang="ru-RU" sz="2400" spc="-1" strike="noStrike">
                <a:solidFill>
                  <a:srgbClr val="eaeaea"/>
                </a:solidFill>
                <a:latin typeface="Times New Roman"/>
                <a:ea typeface="Times New Roman"/>
              </a:rPr>
              <a:t>   В здешних местах да и во всей Ростовской области едва ли сыщешь подобное царственное дерево. Пустил он свои корни в плодородную донскую землицу 400 лет назад, ещё при Борисе Годунове. Пережил дуб – великан и боярскую смуту, и романовскую династию, и Советскую власть. В России и странах ближнего зарубежья таких деревьев считанные единицы. Потому вёшенский старожил взят под государственную охрану.     </a:t>
            </a:r>
            <a:endParaRPr b="0" lang="en-US" sz="2400" spc="-1" strike="noStrike">
              <a:solidFill>
                <a:srgbClr val="eaeaea"/>
              </a:solidFill>
              <a:latin typeface="Verdana"/>
            </a:endParaRPr>
          </a:p>
        </p:txBody>
      </p:sp>
      <p:pic>
        <p:nvPicPr>
          <p:cNvPr id="120" name="Picture 4" descr="дуб патриарх"/>
          <p:cNvPicPr/>
          <p:nvPr/>
        </p:nvPicPr>
        <p:blipFill>
          <a:blip r:embed="rId1"/>
          <a:stretch/>
        </p:blipFill>
        <p:spPr>
          <a:xfrm>
            <a:off x="4000680" y="3857760"/>
            <a:ext cx="3342960" cy="2500200"/>
          </a:xfrm>
          <a:prstGeom prst="rect">
            <a:avLst/>
          </a:prstGeom>
          <a:ln w="0">
            <a:noFill/>
          </a:ln>
        </p:spPr>
      </p:pic>
      <p:sp>
        <p:nvSpPr>
          <p:cNvPr id="121" name="Прямоугольник 3"/>
          <p:cNvSpPr/>
          <p:nvPr/>
        </p:nvSpPr>
        <p:spPr>
          <a:xfrm>
            <a:off x="4673160" y="64882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rPr>
              <a:t>Дуб-патриарх</a:t>
            </a:r>
            <a:endParaRPr b="0" lang="en-US" sz="1800" spc="-1" strike="noStrike">
              <a:solidFill>
                <a:srgbClr val="eaeaea"/>
              </a:solidFill>
              <a:latin typeface="Verdana"/>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78920" y="-360"/>
            <a:ext cx="8675640" cy="6281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На Дону растёт предок голландских тюльпанов. </a:t>
            </a:r>
            <a:endParaRPr b="0" lang="en-US" sz="2800" spc="-1" strike="noStrike">
              <a:solidFill>
                <a:srgbClr val="eaeaea"/>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Есть в Сальском районе живописный памятник природы на реке Маныч. Небольшой остров, где  каждую весну над ковылью и житняком плывёт чудный цветочный аромат. Так пахнет </a:t>
            </a:r>
            <a:r>
              <a:rPr b="0" lang="ru-RU" sz="2800" spc="-1" strike="noStrike">
                <a:solidFill>
                  <a:srgbClr val="ffff00"/>
                </a:solidFill>
                <a:latin typeface="Times New Roman"/>
                <a:ea typeface="Times New Roman"/>
              </a:rPr>
              <a:t>тюльпан Шренка</a:t>
            </a:r>
            <a:r>
              <a:rPr b="0" lang="ru-RU" sz="2800" spc="-1" strike="noStrike">
                <a:solidFill>
                  <a:srgbClr val="eaeaea"/>
                </a:solidFill>
                <a:latin typeface="Times New Roman"/>
                <a:ea typeface="Times New Roman"/>
              </a:rPr>
              <a:t>. На Дону его издавна именуют лазоревым цветком. Да и есть за что, ведь это один из красивейших тюльпанов нашей страны. Это растение занесено в Красную книгу России с 1988 года и включено в список редких и исчезающих видов. Есть у нас и остров диких лошадей и озеро, которое не значится на карте (слишком уж мало). </a:t>
            </a:r>
            <a:endParaRPr b="0" lang="en-US" sz="2800" spc="-1" strike="noStrike">
              <a:solidFill>
                <a:srgbClr val="eaeaea"/>
              </a:solidFill>
              <a:latin typeface="Verdana"/>
            </a:endParaRPr>
          </a:p>
        </p:txBody>
      </p:sp>
    </p:spTree>
  </p:cSld>
  <p:transition>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357120" y="357120"/>
            <a:ext cx="8143920" cy="5082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О одном животном своего родного края я хочу рассказать более подробно. </a:t>
            </a:r>
            <a:endParaRPr b="0" lang="en-US" sz="2800" spc="-1" strike="noStrike">
              <a:solidFill>
                <a:srgbClr val="eaeaea"/>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Только у нас обитает необычное и редкое животное ровесница динозавров – </a:t>
            </a:r>
            <a:r>
              <a:rPr b="0" lang="ru-RU" sz="2800" spc="-1" strike="noStrike">
                <a:solidFill>
                  <a:srgbClr val="ffff00"/>
                </a:solidFill>
                <a:latin typeface="Times New Roman"/>
                <a:ea typeface="Times New Roman"/>
              </a:rPr>
              <a:t>русская выхухоль</a:t>
            </a:r>
            <a:r>
              <a:rPr b="0" lang="ru-RU" sz="2800" spc="-1" strike="noStrike">
                <a:solidFill>
                  <a:srgbClr val="eaeaea"/>
                </a:solidFill>
                <a:latin typeface="Times New Roman"/>
                <a:ea typeface="Times New Roman"/>
              </a:rPr>
              <a:t>. </a:t>
            </a:r>
            <a:endParaRPr b="0" lang="en-US" sz="2800" spc="-1" strike="noStrike">
              <a:solidFill>
                <a:srgbClr val="eaeaea"/>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Кто такой заяц? Чем питается и где живет синица? Любой из нас ответит на эти вопросы. Но что за зверёк выхухоль, широкой публики почти не известно. И обидно, что слово «выхухоль» в народе порой используется чуть ли не как ругательство. Невежество не позволяет нам увидеть в этой мохнатой зверушке гораздо большее, чем «крыску с хоботом».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60" y="259920"/>
            <a:ext cx="8893080" cy="6264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Выхухоль</a:t>
            </a:r>
            <a:r>
              <a:rPr b="0" lang="ru-RU" sz="2800" spc="-1" strike="noStrike">
                <a:solidFill>
                  <a:srgbClr val="eaeaea"/>
                </a:solidFill>
                <a:latin typeface="Times New Roman"/>
                <a:ea typeface="Times New Roman"/>
              </a:rPr>
              <a:t> – смешное название маленького зверька. Многие наверняка, слышали о ней, но мало кто знает, как она выглядит, где живёт, чем питается. </a:t>
            </a: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Представьте себе нечто продолговатое, покрытое серебристой шестью, с одного конца торчит длинный подвижный хоботок, с другой сплющенный с боков чешуйчатый хвост.... У  этого существа маленькие глаза и слабое зрение, но слух хороший, несмотря на отсутствие ушных раковин. При погружении в воду ушные щели механически закрываются, а на носовых отверстиях замыкаются специальные клапаны. Примерно так выглядит русская выхухоль (хохуля) – редкое животное, которое вы не встретите больше никогда на Земле, кроме как в России.       </a:t>
            </a: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endParaRPr b="0" lang="en-US" sz="2800" spc="-1" strike="noStrike">
              <a:solidFill>
                <a:srgbClr val="eaeaea"/>
              </a:solidFill>
              <a:latin typeface="Verdana"/>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0" descr="выхухоль3"/>
          <p:cNvPicPr/>
          <p:nvPr/>
        </p:nvPicPr>
        <p:blipFill>
          <a:blip r:embed="rId1"/>
          <a:stretch/>
        </p:blipFill>
        <p:spPr>
          <a:xfrm>
            <a:off x="324000" y="260280"/>
            <a:ext cx="8351640" cy="6305760"/>
          </a:xfrm>
          <a:prstGeom prst="rect">
            <a:avLst/>
          </a:prstGeom>
          <a:ln w="0">
            <a:noFill/>
          </a:ln>
        </p:spPr>
      </p:pic>
      <p:sp>
        <p:nvSpPr>
          <p:cNvPr id="126" name="Прямоугольник 2"/>
          <p:cNvSpPr/>
          <p:nvPr/>
        </p:nvSpPr>
        <p:spPr>
          <a:xfrm>
            <a:off x="5715000" y="5929200"/>
            <a:ext cx="1785960" cy="520560"/>
          </a:xfrm>
          <a:prstGeom prst="rect">
            <a:avLst/>
          </a:prstGeom>
          <a:solidFill>
            <a:srgbClr val="5e855b"/>
          </a:solidFill>
          <a:ln w="25560">
            <a:solidFill>
              <a:srgbClr val="43604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 </a:t>
            </a:r>
            <a:r>
              <a:rPr b="1" i="1" lang="ru-RU" sz="2800" spc="-1" strike="noStrike">
                <a:solidFill>
                  <a:srgbClr val="ffff00"/>
                </a:solidFill>
                <a:latin typeface="Times New Roman"/>
                <a:ea typeface="Times New Roman"/>
              </a:rPr>
              <a:t>Выхухоль</a:t>
            </a:r>
            <a:r>
              <a:rPr b="1" i="1" lang="ru-RU" sz="2800" spc="-1" strike="noStrike">
                <a:solidFill>
                  <a:srgbClr val="eaeaea"/>
                </a:solidFill>
                <a:latin typeface="Times New Roman"/>
                <a:ea typeface="Times New Roman"/>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Этих животных называют живыми ископаемыми, ровесниками мамонта – учёные утверждают, что выхухоль почти не изменилась за последние 40 миллионов лет! Как и миллионы лет назад, это чудо с хоботком живёт в поймах рек и по берегам озёр, только вот  стало его в наши дни гораздо меньше.   </a:t>
            </a:r>
            <a:endParaRPr b="0" lang="en-US" sz="2400" spc="-1" strike="noStrike">
              <a:solidFill>
                <a:srgbClr val="eaeaea"/>
              </a:solidFill>
              <a:latin typeface="Verdana"/>
            </a:endParaRPr>
          </a:p>
        </p:txBody>
      </p:sp>
      <p:pic>
        <p:nvPicPr>
          <p:cNvPr id="128" name="Picture 4" descr="выхухоль9"/>
          <p:cNvPicPr/>
          <p:nvPr/>
        </p:nvPicPr>
        <p:blipFill>
          <a:blip r:embed="rId1"/>
          <a:stretch/>
        </p:blipFill>
        <p:spPr>
          <a:xfrm>
            <a:off x="2571840" y="3286080"/>
            <a:ext cx="4032000" cy="32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9T09:51:37Z</dcterms:created>
  <dc:creator>Neo</dc:creator>
  <dc:description/>
  <dc:language>en-US</dc:language>
  <cp:lastModifiedBy>XP GAME 2009</cp:lastModifiedBy>
  <dcterms:modified xsi:type="dcterms:W3CDTF">2012-03-11T16:55:30Z</dcterms:modified>
  <cp:revision>28</cp:revision>
  <dc:subject/>
  <dc:title>То ли мышка, то ли мамонт……</dc:title>
</cp:coreProperties>
</file>