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D5D-3A10-4773-9983-E17F4A52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40D-A48F-4340-9CA7-190360B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6FA-01D0-468D-A30E-A855D949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05F-0586-4CAA-9F7E-9C3BD633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F47-C600-4F1B-AB35-09D383AF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21ED-B335-4535-B167-548DC62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BB0-49AA-4F6B-A18F-C8AD2B1E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393D-3F29-45C1-AE86-D626D2A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D7A-A6F5-4BF5-B5B9-A2E831A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D5C-58A2-420E-9369-1A6B4AB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A75E-362C-43B8-932F-E167B21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AB0-C3E3-4043-9A3E-275BC2A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B01A-F519-43F0-AD2E-82BD6E8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DFF-A7C2-467C-9DB6-E246DD5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590-2EB4-4D5C-B738-6954D721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2076-BD8F-4A8A-851F-E5784E39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4C8-D894-47A7-8988-2392A47A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7DEE-AE3D-4D79-9C6D-E5E3B673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7A43-ADA0-4D8F-BA12-6C1B167B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0C78-14C4-4888-AB7B-2488F8B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C230-58F3-4D44-BB23-B2D8060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2DCB-4596-4967-B617-1AFE60D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823-6128-4D1D-A9EB-170F880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388E-8920-4634-876C-18808C24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8064-BA8D-4D76-8C2A-69724C3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881D-604D-4DED-A8F5-CF0352F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375D-1E29-47D4-8686-C1D560A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8503-D788-4DE4-BF5A-DAECF4FF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EA6C-A17F-4D5E-BDF5-2231C47B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5414-B0D3-40B3-827F-71E20A89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D060-D4A3-4243-A17B-95B81F79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BC96-6AB2-4788-9E2C-4E521F3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7DCC-09ED-4270-ACA6-7225DF0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CD6-6C54-4790-9B09-973CB08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B5A7-ABF5-477A-9404-F533712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D8FF-F7F2-4985-95BA-B051502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F68B3-93F3-41FE-BA34-981BB994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4725-75A8-4458-9694-2C1110BB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BD77-7748-45C5-BFA7-912D0E6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7D81-4371-49A0-BBA1-79AD837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ED54-C759-41E0-8252-F02B454C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C6D3-BF2E-4BD3-B684-6E60F987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D4C2-2C6B-4AB1-AC5B-A3D53CF1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4DEB-BB97-40DF-9F53-27A1948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F30-AAE5-4B7F-8C3D-069412C2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4417-B059-4E3E-9FF7-A4272C5F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443D-457B-4613-A0A8-16E744A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EF7B-5B41-4CA9-B37A-2C108F0C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B099-5AE0-44EA-8078-35C2ECF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80C5-C5DA-4716-937E-75486CD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68FA-2801-47B2-BF52-577BD4C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CCD4-FFBD-4E67-94B2-EBC0431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2796-7258-476B-B673-27E32DB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FF2C-FDFF-437E-96BD-0C4D192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07B1-2FC8-4859-B03E-B2383056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7B5-EA09-4F2C-8AD4-BF7B2EF7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82D8-7B81-4642-8F89-21F051B8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8279-1B4A-4427-9013-ECC7FE1E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A1899-0CA7-4324-A076-3FAC8B57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D6852-5C95-4834-AD1E-A6A54D1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0CF9-296F-4E69-9260-3A017CD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8C4E-6D38-49A9-B3D4-C7307236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621D-753D-40A5-A4D9-C3DAE28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1633-BA63-49C7-B435-17DE458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EAA4-27EB-4C48-9A78-871D09E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B3A3-556B-4100-8659-0E65CCC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AE6-FF62-4BD0-81E4-C1AAE3D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4CDA-A79C-4143-A85E-E32BE0D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369B-D865-4B04-84F3-CE23173D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EC87-0F78-4256-87FF-B7E2B78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44E-952A-4FF8-AAA1-0DE8086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C0D-D2D6-40C6-89DC-5AC6A29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C98-E2F2-400E-950F-C6CCB2C20C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ADE-9AC9-4963-85DE-A60FC7D11D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7DF-2AD3-44D2-B146-3CB08A1814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3F42-E109-40C2-89DE-A9EE93F998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969F-E395-4E08-9E9A-EC10C9A705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E77-6C77-4D30-BC36-011F903771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rexbooks.ucoz.ru/_ph/42/2/28935798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ИТЕРАТУРНАЯ 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ИКТОРИНА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 творчеству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.А. Осеевой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3316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09480" y="609480"/>
            <a:ext cx="7848720" cy="2743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152280" y="1447920"/>
            <a:ext cx="4343400" cy="3429000"/>
          </a:xfrm>
          <a:prstGeom prst="flowChartProcess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то из мальч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ыл настоящим друг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ити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Три товарищ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Documents and Settings\Лена\Рабочий стол\открытый урок\три тов 2.jpg"/>
          <p:cNvPicPr/>
          <p:nvPr/>
        </p:nvPicPr>
        <p:blipFill>
          <a:blip r:embed="rId1"/>
          <a:stretch/>
        </p:blipFill>
        <p:spPr>
          <a:xfrm>
            <a:off x="4572000" y="762120"/>
            <a:ext cx="3678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8229600" y="152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33520" y="685800"/>
            <a:ext cx="3581280" cy="5029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 какому расск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ходит послов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лохих сыновей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ей слёз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ечен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то всех глуп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то хозяи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5638320" y="1820880"/>
            <a:ext cx="285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8" name="Рисунок 8" descr="i_040.jpg"/>
          <p:cNvPicPr/>
          <p:nvPr/>
        </p:nvPicPr>
        <p:blipFill>
          <a:blip r:embed="rId1"/>
          <a:stretch/>
        </p:blipFill>
        <p:spPr>
          <a:xfrm>
            <a:off x="4267080" y="1143000"/>
            <a:ext cx="449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28600" y="1828800"/>
            <a:ext cx="4114800" cy="3200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 какому рассказу э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ису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авест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Девочка с кукл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иние ли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7" descr="sinie.jpg"/>
          <p:cNvPicPr/>
          <p:nvPr/>
        </p:nvPicPr>
        <p:blipFill>
          <a:blip r:embed="rId1"/>
          <a:stretch/>
        </p:blipFill>
        <p:spPr>
          <a:xfrm>
            <a:off x="4419720" y="685800"/>
            <a:ext cx="3733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2160" y="1142640"/>
            <a:ext cx="7772400" cy="250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8d3e"/>
                </a:solidFill>
                <a:latin typeface="Verdana"/>
              </a:rPr>
              <a:t>Молодцы!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22160" y="4038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бята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лагаю вам совершить путешествие по произведениям В.А.Осеевой. Проверьте себя, хорошо ли вы знаете её рассказы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аю удач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22160" y="59205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143000" y="762120"/>
            <a:ext cx="1905120" cy="160020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4038480" y="4648320"/>
            <a:ext cx="1752840" cy="16002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6629400" y="762120"/>
            <a:ext cx="1828800" cy="144756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6629400" y="2514600"/>
            <a:ext cx="1752480" cy="167652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4" action="ppaction://hlinksldjump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3809880" y="2590920"/>
            <a:ext cx="1905120" cy="167616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1219320" y="4724280"/>
            <a:ext cx="1752480" cy="16002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3962520" y="76212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8"/>
          <p:cNvSpPr/>
          <p:nvPr/>
        </p:nvSpPr>
        <p:spPr>
          <a:xfrm>
            <a:off x="1219320" y="2590920"/>
            <a:ext cx="1828800" cy="167616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8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9"/>
          <p:cNvSpPr/>
          <p:nvPr/>
        </p:nvSpPr>
        <p:spPr>
          <a:xfrm>
            <a:off x="6705720" y="4724280"/>
            <a:ext cx="1828800" cy="160020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0">
            <a:hlinkClick r:id="rId10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>
            <a:hlinkClick r:id="rId1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457200" y="1752480"/>
            <a:ext cx="4495680" cy="2895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Главный герой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лшебное слово» – эт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в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Картинка 1 из 2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6858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389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2860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>
            <a:hlinkClick r:id="rId1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228600" y="1905120"/>
            <a:ext cx="4724280" cy="3047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таричок мальчику сказ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лшебное слов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рое ут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3" descr="C:\Documents and Settings\Лена\Рабочий стол\открытый урок\2 ос..jpg"/>
          <p:cNvPicPr/>
          <p:nvPr/>
        </p:nvPicPr>
        <p:blipFill>
          <a:blip r:embed="rId2"/>
          <a:stretch/>
        </p:blipFill>
        <p:spPr>
          <a:xfrm>
            <a:off x="5181480" y="1143000"/>
            <a:ext cx="3353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85840" y="1820880"/>
            <a:ext cx="46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96" name="AutoShape 5">
            <a:hlinkClick r:id="rId1" action="ppaction://hlinksldjump"/>
          </p:cNvPr>
          <p:cNvSpPr/>
          <p:nvPr/>
        </p:nvSpPr>
        <p:spPr>
          <a:xfrm>
            <a:off x="1522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28600" y="2057400"/>
            <a:ext cx="4724280" cy="26668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баку в рассказе «Хорош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ва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ез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10" descr="0_7d5cb_1c301b11_XL.jpeg"/>
          <p:cNvPicPr/>
          <p:nvPr/>
        </p:nvPicPr>
        <p:blipFill>
          <a:blip r:embed="rId3"/>
          <a:stretch/>
        </p:blipFill>
        <p:spPr>
          <a:xfrm>
            <a:off x="5029200" y="1219320"/>
            <a:ext cx="3225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38080" y="1143000"/>
            <a:ext cx="6553440" cy="35053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ловица «Вежливости откр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се двери» относится к расск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олшебное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ечен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рош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07" name="AutoShape 5">
            <a:hlinkClick r:id="rId1" action="ppaction://hlinksldjump"/>
          </p:cNvPr>
          <p:cNvSpPr/>
          <p:nvPr/>
        </p:nvSpPr>
        <p:spPr>
          <a:xfrm>
            <a:off x="15228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04920" y="2971800"/>
            <a:ext cx="4647960" cy="28195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рассказе «Поче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альчик  признался в с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тупк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ло жаль Б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ялся на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го мучила сов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Картинка 4 из 28"/>
          <p:cNvPicPr/>
          <p:nvPr/>
        </p:nvPicPr>
        <p:blipFill>
          <a:blip r:embed="rId3"/>
          <a:stretch/>
        </p:blipFill>
        <p:spPr>
          <a:xfrm>
            <a:off x="5334120" y="838080"/>
            <a:ext cx="3276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1800" y="3657240"/>
            <a:ext cx="4459320" cy="25146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Что,  если  б  моя  сестрёнка  тонула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а я  бы  её  спас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 Вот  если  б  на  няню  волки напали,  а  я  бы  их  застрелил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Вот  если  б  Трезорка  в  колодец упал,  а  я  бы  его  вытащил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0492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04920" y="1066680"/>
            <a:ext cx="4800600" cy="2057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 чём мечтал 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рассказе «Хороше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Картинка 7 из 28"/>
          <p:cNvPicPr/>
          <p:nvPr/>
        </p:nvPicPr>
        <p:blipFill>
          <a:blip r:embed="rId1"/>
          <a:stretch/>
        </p:blipFill>
        <p:spPr>
          <a:xfrm>
            <a:off x="5105520" y="13716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03-31T11:27:4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