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91C-FB96-4902-84D6-2AD89CCC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4C87-21F2-4A9E-BF79-698C365D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B7E-0AD0-4DFF-BC79-15C8B9F2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9B6-C154-4DEE-8DE4-9FD0CF9D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50E0-E856-4696-9DB5-64F47F61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E6A6-0597-4E61-B5A9-40D283C8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8CB7-4CCA-4E48-8790-77654E72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71D4-E825-4BA4-995F-4F424100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5B1D-8E16-44BF-9607-D6D96331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4FE8-C6A6-44BE-B299-8B1553F8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766A-5A6E-4340-9F48-110FD6C4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5A4D-293F-4ABA-B84F-47BCF148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D236-F23D-409F-8E00-3E9E8370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2AA2-994F-42E6-95D8-E3190226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01FF-DC46-4EA8-8C1C-36E2CEA5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AFB7-08D9-4751-8850-F2112A94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3FBE-B73A-4DFA-AC6A-70D9F9A5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3B85A-D107-4A55-9B42-8C997A49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CA5AB-385A-46B3-997C-35460854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44292-8126-43CC-9053-F7671A70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0FC39-DFAA-4D35-879E-AC4F4477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9020E-B0DD-47B5-BC5B-442596B8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F447-31F6-4A47-A63D-E662E4FC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23E91-B619-4097-856A-6BB2488A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D6AEA-9BB8-4A2D-8543-D87B7DA5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FC9A7-31B1-410B-8322-697CE52E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18156-B5F7-4501-AC5F-342EC952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7C740-16C9-40A0-8772-6E9A8C07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F065B-2DF2-49AE-8BD3-AB88DF2A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A87D4-2C5F-414E-B875-5074941F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C7EA1-031B-4A09-ABE6-19571407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CCFAA-7139-4C4C-A2C8-38716131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55B39-58F1-47A6-A75D-95E424E1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11C9-E8E5-4FA2-96AD-2646E1B5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BB335-A87F-4C16-BDD4-A26EBD47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1C730-92E9-48A8-BC49-85B135BE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04A9A-0EAF-4F2D-82A3-CCE4E1A6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8C343-AB47-4A7E-A449-34346864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CCC1D-165B-4700-B682-2820C0E4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0105C-B1A4-43C5-AC25-0751B9C0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3BA9E-F1C2-4DCB-9411-6CB2BF6F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6CC08-5CA0-418D-B1AB-71F24383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32D4A-E3B9-47F2-822F-555E303F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DB292-F37B-4B33-B3DD-3E271F27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2122-955E-4AD1-B9B4-5A172537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9D493-5975-469E-972B-301C28F1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1E7D5-4905-4ACE-B044-4C33194B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20FA9-3E78-497E-90FA-19FFA536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E6608-F4B0-495D-92FC-36F0049A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394D7-1439-4531-8726-83381861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7483D-BAB8-4053-B78A-CB45ACA0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EC231-A984-4D21-A9CA-C710E351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51C4A-D98D-4FE2-BA8A-0DC76A42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50C39-2D50-44EF-B5A7-180018DB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7A9A3-80E7-4EFD-A8BC-FFD61097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BEBB-4416-4C3D-AA8B-35D80E33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091D9-F40D-4A2F-8F07-3F2C67E3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3D801-57BF-421C-9BD3-3BD79CE3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14B1D-01A7-44D3-9714-4E14A162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35B3E-D71A-4A7F-B873-4D8F74B7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B3F9C-43AC-4E38-82B4-A1DC5208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39185-B64D-48E5-9B26-798263AA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40E40-AA93-40B6-97E7-D72713D5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4C51E-3D08-4149-AADE-B66E2889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0615E-973B-4651-A098-5A8CA26C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FA23B-498E-4318-B7A6-07E0EDFB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084-C472-47CA-BBB1-5FA53018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EEBB2-51A3-4643-B09D-95CDF779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23D58-F333-494E-BCFF-F5E2ED5E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949A9-2796-4C19-A05F-0BF254C2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AD1F-5DED-4564-8632-3779829D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95F7-2CCF-4CE8-A00F-D2156FAD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6A46-9CDA-4E61-B478-25D210B3B4C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1450-F243-48C1-98AF-AD2224AF9E3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C71A-25D5-49B7-88B3-061B1C05B9E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F7D2-D60C-434E-9579-47E2A38292A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CF93-57D1-440B-B80C-EA585B6BDF9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C2B3-2693-4B08-80FD-0C0E3A5022E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www.rexbooks.ucoz.ru/_ph/42/2/289357988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ЛИТЕРАТУРНАЯ </a:t>
            </a:r>
            <a:br>
              <a:rPr sz="6000"/>
            </a:br>
            <a:r>
              <a:rPr b="1" lang="ru-RU" sz="6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ИКТОРИНА</a:t>
            </a:r>
            <a:br>
              <a:rPr sz="6000"/>
            </a:br>
            <a:r>
              <a:rPr b="1" lang="ru-RU" sz="6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по творчеству</a:t>
            </a:r>
            <a:br>
              <a:rPr sz="6000"/>
            </a:br>
            <a:r>
              <a:rPr b="1" lang="ru-RU" sz="60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В.А. Осеевой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533160" y="44197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609480" y="609480"/>
            <a:ext cx="7848720" cy="2743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49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319" name="AutoShape 6"/>
          <p:cNvSpPr/>
          <p:nvPr/>
        </p:nvSpPr>
        <p:spPr>
          <a:xfrm>
            <a:off x="228600" y="3049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7"/>
          <p:cNvSpPr/>
          <p:nvPr/>
        </p:nvSpPr>
        <p:spPr>
          <a:xfrm>
            <a:off x="8229600" y="596736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11088" y="3837"/>
                </a:moveTo>
                <a:lnTo>
                  <a:pt x="13664" y="6448"/>
                </a:ln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lnTo>
                  <a:pt x="18051" y="10800"/>
                </a:lnTo>
                <a:lnTo>
                  <a:pt x="16397" y="10800"/>
                </a:lnTo>
                <a:lnTo>
                  <a:pt x="16397" y="17989"/>
                </a:lnTo>
                <a:lnTo>
                  <a:pt x="5779" y="17989"/>
                </a:lnTo>
                <a:lnTo>
                  <a:pt x="5779" y="10800"/>
                </a:lnTo>
                <a:lnTo>
                  <a:pt x="4125" y="10800"/>
                </a:lnTo>
                <a:close/>
              </a:path>
              <a:path fill="darkenLess" w="22176" h="21600">
                <a:moveTo>
                  <a:pt x="13664" y="6448"/>
                </a:move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close/>
              </a:path>
              <a:path fill="darkenLess" w="22176" h="21600">
                <a:moveTo>
                  <a:pt x="10165" y="14299"/>
                </a:moveTo>
                <a:lnTo>
                  <a:pt x="12011" y="14299"/>
                </a:lnTo>
                <a:lnTo>
                  <a:pt x="12011" y="17989"/>
                </a:lnTo>
                <a:lnTo>
                  <a:pt x="16397" y="17989"/>
                </a:lnTo>
                <a:lnTo>
                  <a:pt x="16397" y="10800"/>
                </a:lnTo>
                <a:lnTo>
                  <a:pt x="5779" y="10800"/>
                </a:lnTo>
                <a:lnTo>
                  <a:pt x="5779" y="17989"/>
                </a:lnTo>
                <a:lnTo>
                  <a:pt x="10165" y="17989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152280" y="1447920"/>
            <a:ext cx="4343400" cy="3429000"/>
          </a:xfrm>
          <a:prstGeom prst="flowChartProcess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Кто из мальч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был настоящим друг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ити в расска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«Три товарищ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лод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и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C:\Documents and Settings\Лена\Рабочий стол\открытый урок\три тов 2.jpg"/>
          <p:cNvPicPr/>
          <p:nvPr/>
        </p:nvPicPr>
        <p:blipFill>
          <a:blip r:embed="rId1"/>
          <a:stretch/>
        </p:blipFill>
        <p:spPr>
          <a:xfrm>
            <a:off x="4572000" y="762120"/>
            <a:ext cx="367812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1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324" name="AutoShape 5"/>
          <p:cNvSpPr/>
          <p:nvPr/>
        </p:nvSpPr>
        <p:spPr>
          <a:xfrm>
            <a:off x="8229600" y="1522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8229600" y="596736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11088" y="3837"/>
                </a:moveTo>
                <a:lnTo>
                  <a:pt x="13664" y="6448"/>
                </a:ln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lnTo>
                  <a:pt x="18051" y="10800"/>
                </a:lnTo>
                <a:lnTo>
                  <a:pt x="16397" y="10800"/>
                </a:lnTo>
                <a:lnTo>
                  <a:pt x="16397" y="17989"/>
                </a:lnTo>
                <a:lnTo>
                  <a:pt x="5779" y="17989"/>
                </a:lnTo>
                <a:lnTo>
                  <a:pt x="5779" y="10800"/>
                </a:lnTo>
                <a:lnTo>
                  <a:pt x="4125" y="10800"/>
                </a:lnTo>
                <a:close/>
              </a:path>
              <a:path fill="darkenLess" w="22176" h="21600">
                <a:moveTo>
                  <a:pt x="13664" y="6448"/>
                </a:move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close/>
              </a:path>
              <a:path fill="darkenLess" w="22176" h="21600">
                <a:moveTo>
                  <a:pt x="10165" y="14299"/>
                </a:moveTo>
                <a:lnTo>
                  <a:pt x="12011" y="14299"/>
                </a:lnTo>
                <a:lnTo>
                  <a:pt x="12011" y="17989"/>
                </a:lnTo>
                <a:lnTo>
                  <a:pt x="16397" y="17989"/>
                </a:lnTo>
                <a:lnTo>
                  <a:pt x="16397" y="10800"/>
                </a:lnTo>
                <a:lnTo>
                  <a:pt x="5779" y="10800"/>
                </a:lnTo>
                <a:lnTo>
                  <a:pt x="5779" y="17989"/>
                </a:lnTo>
                <a:lnTo>
                  <a:pt x="10165" y="17989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533520" y="685800"/>
            <a:ext cx="3581280" cy="50292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К какому расск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одходит послов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плохих сыновей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телей слёзы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Печень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Кто всех глуп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Кто хозяи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5638320" y="1820880"/>
            <a:ext cx="2855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8" name="Рисунок 8" descr="i_040.jpg"/>
          <p:cNvPicPr/>
          <p:nvPr/>
        </p:nvPicPr>
        <p:blipFill>
          <a:blip r:embed="rId1"/>
          <a:stretch/>
        </p:blipFill>
        <p:spPr>
          <a:xfrm>
            <a:off x="4267080" y="1143000"/>
            <a:ext cx="44960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10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228600" y="3049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8229600" y="596736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11088" y="3837"/>
                </a:moveTo>
                <a:lnTo>
                  <a:pt x="13664" y="6448"/>
                </a:ln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lnTo>
                  <a:pt x="18051" y="10800"/>
                </a:lnTo>
                <a:lnTo>
                  <a:pt x="16397" y="10800"/>
                </a:lnTo>
                <a:lnTo>
                  <a:pt x="16397" y="17989"/>
                </a:lnTo>
                <a:lnTo>
                  <a:pt x="5779" y="17989"/>
                </a:lnTo>
                <a:lnTo>
                  <a:pt x="5779" y="10800"/>
                </a:lnTo>
                <a:lnTo>
                  <a:pt x="4125" y="10800"/>
                </a:lnTo>
                <a:close/>
              </a:path>
              <a:path fill="darkenLess" w="22176" h="21600">
                <a:moveTo>
                  <a:pt x="13664" y="6448"/>
                </a:move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close/>
              </a:path>
              <a:path fill="darkenLess" w="22176" h="21600">
                <a:moveTo>
                  <a:pt x="10165" y="14299"/>
                </a:moveTo>
                <a:lnTo>
                  <a:pt x="12011" y="14299"/>
                </a:lnTo>
                <a:lnTo>
                  <a:pt x="12011" y="17989"/>
                </a:lnTo>
                <a:lnTo>
                  <a:pt x="16397" y="17989"/>
                </a:lnTo>
                <a:lnTo>
                  <a:pt x="16397" y="10800"/>
                </a:lnTo>
                <a:lnTo>
                  <a:pt x="5779" y="10800"/>
                </a:lnTo>
                <a:lnTo>
                  <a:pt x="5779" y="17989"/>
                </a:lnTo>
                <a:lnTo>
                  <a:pt x="10165" y="17989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228600" y="1828800"/>
            <a:ext cx="4114800" cy="32004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К какому рассказу эт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рисун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Навести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Девочка с кукл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Синие лист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Рисунок 7" descr="sinie.jpg"/>
          <p:cNvPicPr/>
          <p:nvPr/>
        </p:nvPicPr>
        <p:blipFill>
          <a:blip r:embed="rId1"/>
          <a:stretch/>
        </p:blipFill>
        <p:spPr>
          <a:xfrm>
            <a:off x="4419720" y="685800"/>
            <a:ext cx="37335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1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22160" y="1142640"/>
            <a:ext cx="7772400" cy="250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8d3e"/>
                </a:solidFill>
                <a:latin typeface="Verdana"/>
              </a:rPr>
              <a:t>Молодцы!</a:t>
            </a:r>
            <a:endParaRPr b="1" lang="en-US" sz="8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22160" y="4038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2216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ебята!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едлагаю вам совершить путешествие по произведениям В.А.Осеевой. Проверьте себя, хорошо ли вы знаете её рассказы.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Желаю удачи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22160" y="592056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1143000" y="762120"/>
            <a:ext cx="1905120" cy="1600200"/>
          </a:xfrm>
          <a:custGeom>
            <a:avLst/>
            <a:gdLst>
              <a:gd name="textAreaLeft" fmla="*/ 434880 w 1905120"/>
              <a:gd name="textAreaRight" fmla="*/ 1470240 w 190512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hlinkClick r:id="rId1" action="ppaction://hlinksldjump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2"/>
          <p:cNvSpPr/>
          <p:nvPr/>
        </p:nvSpPr>
        <p:spPr>
          <a:xfrm>
            <a:off x="4038480" y="4648320"/>
            <a:ext cx="1752840" cy="1600200"/>
          </a:xfrm>
          <a:custGeom>
            <a:avLst/>
            <a:gdLst>
              <a:gd name="textAreaLeft" fmla="*/ 399960 w 1752840"/>
              <a:gd name="textAreaRight" fmla="*/ 1352880 w 175284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hlinkClick r:id="rId2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3"/>
          <p:cNvSpPr/>
          <p:nvPr/>
        </p:nvSpPr>
        <p:spPr>
          <a:xfrm>
            <a:off x="6629400" y="762120"/>
            <a:ext cx="1828800" cy="144756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330480 h 1447560"/>
              <a:gd name="textAreaBottom" fmla="*/ 111708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hlinkClick r:id="rId3" action="ppaction://hlinksldjump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5"/>
          <p:cNvSpPr/>
          <p:nvPr/>
        </p:nvSpPr>
        <p:spPr>
          <a:xfrm>
            <a:off x="6629400" y="2514600"/>
            <a:ext cx="1752480" cy="1676520"/>
          </a:xfrm>
          <a:custGeom>
            <a:avLst/>
            <a:gdLst>
              <a:gd name="textAreaLeft" fmla="*/ 399960 w 1752480"/>
              <a:gd name="textAreaRight" fmla="*/ 1352520 w 175248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hlinkClick r:id="rId4" action="ppaction://hlinksldjump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2"/>
          <p:cNvSpPr/>
          <p:nvPr/>
        </p:nvSpPr>
        <p:spPr>
          <a:xfrm>
            <a:off x="3809880" y="2590920"/>
            <a:ext cx="1905120" cy="1676160"/>
          </a:xfrm>
          <a:custGeom>
            <a:avLst/>
            <a:gdLst>
              <a:gd name="textAreaLeft" fmla="*/ 434880 w 1905120"/>
              <a:gd name="textAreaRight" fmla="*/ 1470240 w 1905120"/>
              <a:gd name="textAreaTop" fmla="*/ 382680 h 1676160"/>
              <a:gd name="textAreaBottom" fmla="*/ 129348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6"/>
          <p:cNvSpPr/>
          <p:nvPr/>
        </p:nvSpPr>
        <p:spPr>
          <a:xfrm>
            <a:off x="1219320" y="4724280"/>
            <a:ext cx="1752480" cy="1600200"/>
          </a:xfrm>
          <a:custGeom>
            <a:avLst/>
            <a:gdLst>
              <a:gd name="textAreaLeft" fmla="*/ 399960 w 1752480"/>
              <a:gd name="textAreaRight" fmla="*/ 1352520 w 175248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hlinkClick r:id="rId6" action="ppaction://hlinksldjump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7"/>
          <p:cNvSpPr/>
          <p:nvPr/>
        </p:nvSpPr>
        <p:spPr>
          <a:xfrm>
            <a:off x="3962520" y="76212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hlinkClick r:id="rId7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8"/>
          <p:cNvSpPr/>
          <p:nvPr/>
        </p:nvSpPr>
        <p:spPr>
          <a:xfrm>
            <a:off x="1219320" y="2590920"/>
            <a:ext cx="1828800" cy="167616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382680 h 1676160"/>
              <a:gd name="textAreaBottom" fmla="*/ 129348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hlinkClick r:id="rId8" action="ppaction://hlinksldjump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9"/>
          <p:cNvSpPr/>
          <p:nvPr/>
        </p:nvSpPr>
        <p:spPr>
          <a:xfrm>
            <a:off x="6705720" y="4724280"/>
            <a:ext cx="1828800" cy="160020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hlinkClick r:id="rId9" action="ppaction://hlinksldjump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0">
            <a:hlinkClick r:id="rId10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228600" y="3049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7">
            <a:hlinkClick r:id="rId1" action="ppaction://hlinksldjump"/>
          </p:cNvPr>
          <p:cNvSpPr/>
          <p:nvPr/>
        </p:nvSpPr>
        <p:spPr>
          <a:xfrm>
            <a:off x="8229600" y="596736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11088" y="3837"/>
                </a:moveTo>
                <a:lnTo>
                  <a:pt x="13664" y="6448"/>
                </a:ln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lnTo>
                  <a:pt x="18051" y="10800"/>
                </a:lnTo>
                <a:lnTo>
                  <a:pt x="16397" y="10800"/>
                </a:lnTo>
                <a:lnTo>
                  <a:pt x="16397" y="17989"/>
                </a:lnTo>
                <a:lnTo>
                  <a:pt x="5779" y="17989"/>
                </a:lnTo>
                <a:lnTo>
                  <a:pt x="5779" y="10800"/>
                </a:lnTo>
                <a:lnTo>
                  <a:pt x="4125" y="10800"/>
                </a:lnTo>
                <a:close/>
              </a:path>
              <a:path fill="darkenLess" w="22176" h="21600">
                <a:moveTo>
                  <a:pt x="13664" y="6448"/>
                </a:move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close/>
              </a:path>
              <a:path fill="darkenLess" w="22176" h="21600">
                <a:moveTo>
                  <a:pt x="10165" y="14299"/>
                </a:moveTo>
                <a:lnTo>
                  <a:pt x="12011" y="14299"/>
                </a:lnTo>
                <a:lnTo>
                  <a:pt x="12011" y="17989"/>
                </a:lnTo>
                <a:lnTo>
                  <a:pt x="16397" y="17989"/>
                </a:lnTo>
                <a:lnTo>
                  <a:pt x="16397" y="10800"/>
                </a:lnTo>
                <a:lnTo>
                  <a:pt x="5779" y="10800"/>
                </a:lnTo>
                <a:lnTo>
                  <a:pt x="5779" y="17989"/>
                </a:lnTo>
                <a:lnTo>
                  <a:pt x="10165" y="17989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457200" y="1752480"/>
            <a:ext cx="4495680" cy="289584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Главный герой расск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«Волшебное слово» – это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Юр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авл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Картинка 1 из 29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52880" y="68580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105520" y="761760"/>
            <a:ext cx="3389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28600" y="2286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>
            <a:hlinkClick r:id="rId1" action="ppaction://hlinksldjump"/>
          </p:cNvPr>
          <p:cNvSpPr/>
          <p:nvPr/>
        </p:nvSpPr>
        <p:spPr>
          <a:xfrm>
            <a:off x="8229600" y="596736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11088" y="3837"/>
                </a:moveTo>
                <a:lnTo>
                  <a:pt x="13664" y="6448"/>
                </a:ln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lnTo>
                  <a:pt x="18051" y="10800"/>
                </a:lnTo>
                <a:lnTo>
                  <a:pt x="16397" y="10800"/>
                </a:lnTo>
                <a:lnTo>
                  <a:pt x="16397" y="17989"/>
                </a:lnTo>
                <a:lnTo>
                  <a:pt x="5779" y="17989"/>
                </a:lnTo>
                <a:lnTo>
                  <a:pt x="5779" y="10800"/>
                </a:lnTo>
                <a:lnTo>
                  <a:pt x="4125" y="10800"/>
                </a:lnTo>
                <a:close/>
              </a:path>
              <a:path fill="darkenLess" w="22176" h="21600">
                <a:moveTo>
                  <a:pt x="13664" y="6448"/>
                </a:move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close/>
              </a:path>
              <a:path fill="darkenLess" w="22176" h="21600">
                <a:moveTo>
                  <a:pt x="10165" y="14299"/>
                </a:moveTo>
                <a:lnTo>
                  <a:pt x="12011" y="14299"/>
                </a:lnTo>
                <a:lnTo>
                  <a:pt x="12011" y="17989"/>
                </a:lnTo>
                <a:lnTo>
                  <a:pt x="16397" y="17989"/>
                </a:lnTo>
                <a:lnTo>
                  <a:pt x="16397" y="10800"/>
                </a:lnTo>
                <a:lnTo>
                  <a:pt x="5779" y="10800"/>
                </a:lnTo>
                <a:lnTo>
                  <a:pt x="5779" y="17989"/>
                </a:lnTo>
                <a:lnTo>
                  <a:pt x="10165" y="17989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228600" y="1905120"/>
            <a:ext cx="4724280" cy="304776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таричок мальчику сказ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олшебное слово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жалуй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брое утр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3" descr="C:\Documents and Settings\Лена\Рабочий стол\открытый урок\2 ос..jpg"/>
          <p:cNvPicPr/>
          <p:nvPr/>
        </p:nvPicPr>
        <p:blipFill>
          <a:blip r:embed="rId2"/>
          <a:stretch/>
        </p:blipFill>
        <p:spPr>
          <a:xfrm>
            <a:off x="5181480" y="1143000"/>
            <a:ext cx="3353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85840" y="1820880"/>
            <a:ext cx="4608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96" name="AutoShape 5">
            <a:hlinkClick r:id="rId1" action="ppaction://hlinksldjump"/>
          </p:cNvPr>
          <p:cNvSpPr/>
          <p:nvPr/>
        </p:nvSpPr>
        <p:spPr>
          <a:xfrm>
            <a:off x="152280" y="3049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7">
            <a:hlinkClick r:id="rId2" action="ppaction://hlinksldjump"/>
          </p:cNvPr>
          <p:cNvSpPr/>
          <p:nvPr/>
        </p:nvSpPr>
        <p:spPr>
          <a:xfrm>
            <a:off x="8229600" y="596736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11088" y="3837"/>
                </a:moveTo>
                <a:lnTo>
                  <a:pt x="13664" y="6448"/>
                </a:ln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lnTo>
                  <a:pt x="18051" y="10800"/>
                </a:lnTo>
                <a:lnTo>
                  <a:pt x="16397" y="10800"/>
                </a:lnTo>
                <a:lnTo>
                  <a:pt x="16397" y="17989"/>
                </a:lnTo>
                <a:lnTo>
                  <a:pt x="5779" y="17989"/>
                </a:lnTo>
                <a:lnTo>
                  <a:pt x="5779" y="10800"/>
                </a:lnTo>
                <a:lnTo>
                  <a:pt x="4125" y="10800"/>
                </a:lnTo>
                <a:close/>
              </a:path>
              <a:path fill="darkenLess" w="22176" h="21600">
                <a:moveTo>
                  <a:pt x="13664" y="6448"/>
                </a:move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close/>
              </a:path>
              <a:path fill="darkenLess" w="22176" h="21600">
                <a:moveTo>
                  <a:pt x="10165" y="14299"/>
                </a:moveTo>
                <a:lnTo>
                  <a:pt x="12011" y="14299"/>
                </a:lnTo>
                <a:lnTo>
                  <a:pt x="12011" y="17989"/>
                </a:lnTo>
                <a:lnTo>
                  <a:pt x="16397" y="17989"/>
                </a:lnTo>
                <a:lnTo>
                  <a:pt x="16397" y="10800"/>
                </a:lnTo>
                <a:lnTo>
                  <a:pt x="5779" y="10800"/>
                </a:lnTo>
                <a:lnTo>
                  <a:pt x="5779" y="17989"/>
                </a:lnTo>
                <a:lnTo>
                  <a:pt x="10165" y="17989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228600" y="2057400"/>
            <a:ext cx="4724280" cy="26668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обаку в рассказе «Хорош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звал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а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езо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Рисунок 10" descr="0_7d5cb_1c301b11_XL.jpeg"/>
          <p:cNvPicPr/>
          <p:nvPr/>
        </p:nvPicPr>
        <p:blipFill>
          <a:blip r:embed="rId3"/>
          <a:stretch/>
        </p:blipFill>
        <p:spPr>
          <a:xfrm>
            <a:off x="5029200" y="1219320"/>
            <a:ext cx="3225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302" name="AutoShape 5">
            <a:hlinkClick r:id="rId1" action="ppaction://hlinksldjump"/>
          </p:cNvPr>
          <p:cNvSpPr/>
          <p:nvPr/>
        </p:nvSpPr>
        <p:spPr>
          <a:xfrm>
            <a:off x="228600" y="3049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7">
            <a:hlinkClick r:id="rId2" action="ppaction://hlinksldjump"/>
          </p:cNvPr>
          <p:cNvSpPr/>
          <p:nvPr/>
        </p:nvSpPr>
        <p:spPr>
          <a:xfrm>
            <a:off x="8229600" y="596736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11088" y="3837"/>
                </a:moveTo>
                <a:lnTo>
                  <a:pt x="13664" y="6448"/>
                </a:ln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lnTo>
                  <a:pt x="18051" y="10800"/>
                </a:lnTo>
                <a:lnTo>
                  <a:pt x="16397" y="10800"/>
                </a:lnTo>
                <a:lnTo>
                  <a:pt x="16397" y="17989"/>
                </a:lnTo>
                <a:lnTo>
                  <a:pt x="5779" y="17989"/>
                </a:lnTo>
                <a:lnTo>
                  <a:pt x="5779" y="10800"/>
                </a:lnTo>
                <a:lnTo>
                  <a:pt x="4125" y="10800"/>
                </a:lnTo>
                <a:close/>
              </a:path>
              <a:path fill="darkenLess" w="22176" h="21600">
                <a:moveTo>
                  <a:pt x="13664" y="6448"/>
                </a:move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close/>
              </a:path>
              <a:path fill="darkenLess" w="22176" h="21600">
                <a:moveTo>
                  <a:pt x="10165" y="14299"/>
                </a:moveTo>
                <a:lnTo>
                  <a:pt x="12011" y="14299"/>
                </a:lnTo>
                <a:lnTo>
                  <a:pt x="12011" y="17989"/>
                </a:lnTo>
                <a:lnTo>
                  <a:pt x="16397" y="17989"/>
                </a:lnTo>
                <a:lnTo>
                  <a:pt x="16397" y="10800"/>
                </a:lnTo>
                <a:lnTo>
                  <a:pt x="5779" y="10800"/>
                </a:lnTo>
                <a:lnTo>
                  <a:pt x="5779" y="17989"/>
                </a:lnTo>
                <a:lnTo>
                  <a:pt x="10165" y="17989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838080" y="1143000"/>
            <a:ext cx="6553440" cy="35053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ословица «Вежливости открыв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се двери» относится к рассказ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Волшебное сло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Печень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Хорош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307" name="AutoShape 5">
            <a:hlinkClick r:id="rId1" action="ppaction://hlinksldjump"/>
          </p:cNvPr>
          <p:cNvSpPr/>
          <p:nvPr/>
        </p:nvSpPr>
        <p:spPr>
          <a:xfrm>
            <a:off x="152280" y="2286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7">
            <a:hlinkClick r:id="rId2" action="ppaction://hlinksldjump"/>
          </p:cNvPr>
          <p:cNvSpPr/>
          <p:nvPr/>
        </p:nvSpPr>
        <p:spPr>
          <a:xfrm>
            <a:off x="8229600" y="596736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11088" y="3837"/>
                </a:moveTo>
                <a:lnTo>
                  <a:pt x="13664" y="6448"/>
                </a:ln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lnTo>
                  <a:pt x="18051" y="10800"/>
                </a:lnTo>
                <a:lnTo>
                  <a:pt x="16397" y="10800"/>
                </a:lnTo>
                <a:lnTo>
                  <a:pt x="16397" y="17989"/>
                </a:lnTo>
                <a:lnTo>
                  <a:pt x="5779" y="17989"/>
                </a:lnTo>
                <a:lnTo>
                  <a:pt x="5779" y="10800"/>
                </a:lnTo>
                <a:lnTo>
                  <a:pt x="4125" y="10800"/>
                </a:lnTo>
                <a:close/>
              </a:path>
              <a:path fill="darkenLess" w="22176" h="21600">
                <a:moveTo>
                  <a:pt x="13664" y="6448"/>
                </a:move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close/>
              </a:path>
              <a:path fill="darkenLess" w="22176" h="21600">
                <a:moveTo>
                  <a:pt x="10165" y="14299"/>
                </a:moveTo>
                <a:lnTo>
                  <a:pt x="12011" y="14299"/>
                </a:lnTo>
                <a:lnTo>
                  <a:pt x="12011" y="17989"/>
                </a:lnTo>
                <a:lnTo>
                  <a:pt x="16397" y="17989"/>
                </a:lnTo>
                <a:lnTo>
                  <a:pt x="16397" y="10800"/>
                </a:lnTo>
                <a:lnTo>
                  <a:pt x="5779" y="10800"/>
                </a:lnTo>
                <a:lnTo>
                  <a:pt x="5779" y="17989"/>
                </a:lnTo>
                <a:lnTo>
                  <a:pt x="10165" y="17989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304920" y="2971800"/>
            <a:ext cx="4647960" cy="281952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 рассказе «Почем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мальчик  признался в сво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оступке, потому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ыло жаль Б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оялся наказ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го мучила сов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Картинка 4 из 28"/>
          <p:cNvPicPr/>
          <p:nvPr/>
        </p:nvPicPr>
        <p:blipFill>
          <a:blip r:embed="rId3"/>
          <a:stretch/>
        </p:blipFill>
        <p:spPr>
          <a:xfrm>
            <a:off x="5334120" y="838080"/>
            <a:ext cx="32763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21800" y="3657240"/>
            <a:ext cx="4459320" cy="25146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Verdana"/>
              </a:rPr>
              <a:t>- Что,  если  б  моя  сестрёнка  тонула,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Verdana"/>
              </a:rPr>
              <a:t>а я  бы  её  спас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Verdana"/>
              </a:rPr>
              <a:t>-  Вот  если  б  на  няню  волки напали,  а  я  бы  их  застрелил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Verdana"/>
              </a:rPr>
              <a:t>- Вот  если  б  Трезорка  в  колодец упал,  а  я  бы  его  вытащил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304920" y="3049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8229600" y="5967360"/>
            <a:ext cx="914400" cy="890640"/>
          </a:xfrm>
          <a:custGeom>
            <a:avLst/>
            <a:gdLst>
              <a:gd name="textAreaLeft" fmla="*/ 57600 w 914400"/>
              <a:gd name="textAreaRight" fmla="*/ 856800 w 9144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2176" h="21600">
                <a:moveTo>
                  <a:pt x="0" y="0"/>
                </a:moveTo>
                <a:lnTo>
                  <a:pt x="22176" y="0"/>
                </a:lnTo>
                <a:lnTo>
                  <a:pt x="22176" y="21600"/>
                </a:lnTo>
                <a:lnTo>
                  <a:pt x="0" y="21600"/>
                </a:lnTo>
                <a:close/>
              </a:path>
              <a:path fill="lightenLess" w="22176" h="21600">
                <a:moveTo>
                  <a:pt x="0" y="0"/>
                </a:moveTo>
                <a:lnTo>
                  <a:pt x="22176" y="0"/>
                </a:lnTo>
                <a:lnTo>
                  <a:pt x="20776" y="1400"/>
                </a:lnTo>
                <a:lnTo>
                  <a:pt x="1400" y="1400"/>
                </a:lnTo>
                <a:close/>
              </a:path>
              <a:path fill="darken" w="22176" h="21600">
                <a:moveTo>
                  <a:pt x="22176" y="0"/>
                </a:moveTo>
                <a:lnTo>
                  <a:pt x="22176" y="21600"/>
                </a:lnTo>
                <a:lnTo>
                  <a:pt x="20776" y="20200"/>
                </a:lnTo>
                <a:lnTo>
                  <a:pt x="20776" y="1400"/>
                </a:lnTo>
                <a:close/>
              </a:path>
              <a:path fill="darkenLess" w="22176" h="21600">
                <a:moveTo>
                  <a:pt x="22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76" y="20200"/>
                </a:lnTo>
                <a:close/>
              </a:path>
              <a:path fill="lighten" w="22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76" h="21600">
                <a:moveTo>
                  <a:pt x="11088" y="3837"/>
                </a:moveTo>
                <a:lnTo>
                  <a:pt x="13664" y="6448"/>
                </a:ln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lnTo>
                  <a:pt x="18051" y="10800"/>
                </a:lnTo>
                <a:lnTo>
                  <a:pt x="16397" y="10800"/>
                </a:lnTo>
                <a:lnTo>
                  <a:pt x="16397" y="17989"/>
                </a:lnTo>
                <a:lnTo>
                  <a:pt x="5779" y="17989"/>
                </a:lnTo>
                <a:lnTo>
                  <a:pt x="5779" y="10800"/>
                </a:lnTo>
                <a:lnTo>
                  <a:pt x="4125" y="10800"/>
                </a:lnTo>
                <a:close/>
              </a:path>
              <a:path fill="darkenLess" w="22176" h="21600">
                <a:moveTo>
                  <a:pt x="13664" y="6448"/>
                </a:moveTo>
                <a:lnTo>
                  <a:pt x="13664" y="4707"/>
                </a:lnTo>
                <a:lnTo>
                  <a:pt x="15440" y="4707"/>
                </a:lnTo>
                <a:lnTo>
                  <a:pt x="15440" y="8224"/>
                </a:lnTo>
                <a:close/>
              </a:path>
              <a:path fill="darkenLess" w="22176" h="21600">
                <a:moveTo>
                  <a:pt x="10165" y="14299"/>
                </a:moveTo>
                <a:lnTo>
                  <a:pt x="12011" y="14299"/>
                </a:lnTo>
                <a:lnTo>
                  <a:pt x="12011" y="17989"/>
                </a:lnTo>
                <a:lnTo>
                  <a:pt x="16397" y="17989"/>
                </a:lnTo>
                <a:lnTo>
                  <a:pt x="16397" y="10800"/>
                </a:lnTo>
                <a:lnTo>
                  <a:pt x="5779" y="10800"/>
                </a:lnTo>
                <a:lnTo>
                  <a:pt x="5779" y="17989"/>
                </a:lnTo>
                <a:lnTo>
                  <a:pt x="10165" y="17989"/>
                </a:lnTo>
                <a:close/>
              </a:path>
            </a:pathLst>
          </a:cu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304920" y="1066680"/>
            <a:ext cx="4800600" cy="20574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О чём мечтал Ю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 рассказе «Хорошее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6" descr="Картинка 7 из 28"/>
          <p:cNvPicPr/>
          <p:nvPr/>
        </p:nvPicPr>
        <p:blipFill>
          <a:blip r:embed="rId1"/>
          <a:stretch/>
        </p:blipFill>
        <p:spPr>
          <a:xfrm>
            <a:off x="5105520" y="137160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2-03-31T11:27:48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