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BDD4-90B9-4393-817A-4B306FB9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F93-218F-4894-8646-4B2CCB62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2C7-973C-4238-BFE3-55C46A58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FCB-3D68-4E57-B9F4-3273F8F1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B0DC-0B55-49CF-8DFB-02B6C52D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FCD1-60A4-4FC7-98B4-616DF61C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E7C1-8BA3-41C7-8363-E11ACCD9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8FF1-912C-4921-9843-B6DE8261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0568-1C5B-4E01-A424-8A090715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EF00-AB85-4292-9556-2CD02FD0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C97C-8EE6-4B98-B0A8-01839897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5E1-CD67-44CD-BDC4-4F71E5A1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A658-883B-4393-ABD6-1965B281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EAEA-0940-4581-B78C-BB28C8BC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A7AA-7353-476A-ADC0-3173CEAA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3341-D432-4FAE-AF14-59766880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C46D-2846-4979-8864-5CC4B008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C47-9B8C-4912-A72D-1E3C7806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565-2872-4A1A-861E-FE3C5EAB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B40-E9C9-4C43-8A2C-FC487E9F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C5C-9CE2-41E7-B366-D64E80BD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DA0-B08D-4D21-92CD-5E9C12FF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DF5-CB73-4841-B14D-B00D1325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1C9-04D0-4EAE-8BE5-6FCB83A0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dfc0ff"/>
                </a:gs>
                <a:gs pos="100000">
                  <a:srgbClr val="90db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6A9E-6B28-454F-9225-DF789332CB60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dfc0ff"/>
                </a:gs>
                <a:gs pos="100000">
                  <a:srgbClr val="90db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D874-4B36-4CE7-9245-89064FD9EB2C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3"/>
          <p:cNvGrpSpPr/>
          <p:nvPr/>
        </p:nvGrpSpPr>
        <p:grpSpPr>
          <a:xfrm>
            <a:off x="4284720" y="5661000"/>
            <a:ext cx="1974600" cy="772920"/>
            <a:chOff x="4284720" y="5661000"/>
            <a:chExt cx="1974600" cy="772920"/>
          </a:xfrm>
        </p:grpSpPr>
        <p:pic>
          <p:nvPicPr>
            <p:cNvPr id="92" name="Скругленный прямоугольник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284720" y="5661000"/>
              <a:ext cx="19746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383000" y="5732280"/>
              <a:ext cx="1785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Начать тест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4" name="Rectangle 9"/>
          <p:cNvSpPr/>
          <p:nvPr/>
        </p:nvSpPr>
        <p:spPr>
          <a:xfrm>
            <a:off x="1476360" y="549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МОУ «СОШ №34 с углубленным изучением</a:t>
            </a:r>
            <a:br>
              <a:rPr sz="1800"/>
            </a:b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 художественно-эстетических предметов»</a:t>
            </a:r>
            <a:br>
              <a:rPr sz="1800"/>
            </a:b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г. Сарат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1547640" y="1484280"/>
            <a:ext cx="7215480" cy="31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17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Викторина по теме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3366"/>
                </a:solidFill>
                <a:latin typeface="Times New Roman"/>
              </a:rPr>
              <a:t>«Олимпийские игры»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Составитель:  учитель физической культуры 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И.М. Кост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Times New Roman"/>
              </a:rPr>
              <a:t>В работе использованы тестовые вопросы и задания по физической культур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24847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635280" y="3357720"/>
            <a:ext cx="6939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б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635280" y="39337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в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3635280" y="270828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3708360" y="450864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1403280" y="765000"/>
            <a:ext cx="7221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Древнегреческие игры Олимпиады праздновались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а) у горы Олимп      б) в Афинах      в) в Спарте      г) в Олимп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90000"/>
              </a:lnSpc>
              <a:spcBef>
                <a:spcPts val="499"/>
              </a:spcBef>
              <a:buClr>
                <a:srgbClr val="90dbf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067280" y="18900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1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08720" y="3933720"/>
            <a:ext cx="260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9"/>
          <p:cNvSpPr/>
          <p:nvPr/>
        </p:nvSpPr>
        <p:spPr>
          <a:xfrm>
            <a:off x="3059280" y="3284640"/>
            <a:ext cx="6938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б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3059280" y="3860640"/>
            <a:ext cx="6938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в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2987640" y="263700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3059280" y="450864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Содержимое 2"/>
          <p:cNvSpPr/>
          <p:nvPr/>
        </p:nvSpPr>
        <p:spPr>
          <a:xfrm>
            <a:off x="1547640" y="692280"/>
            <a:ext cx="7077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Игры Олимпиады проводятс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а) в зависимости от решения МО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б) в течение первого года празднуемой Олимпиад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в) в течение последнего празднуемой Олимпиад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г) в течение второго календарного года, последующего после года начала Олимпиад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3492360" y="26028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2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0360" y="4581360"/>
            <a:ext cx="2519280" cy="18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9"/>
          <p:cNvSpPr/>
          <p:nvPr/>
        </p:nvSpPr>
        <p:spPr>
          <a:xfrm>
            <a:off x="3419640" y="3141720"/>
            <a:ext cx="6938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б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3419640" y="3789360"/>
            <a:ext cx="6938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в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348000" y="263700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492360" y="436572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419640" y="18900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</a:t>
            </a:r>
            <a:r>
              <a:rPr b="1" lang="en-US" sz="2900" spc="-1" strike="noStrike">
                <a:solidFill>
                  <a:srgbClr val="993366"/>
                </a:solidFill>
                <a:latin typeface="Arial"/>
              </a:rPr>
              <a:t>3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Содержимое 2"/>
          <p:cNvSpPr/>
          <p:nvPr/>
        </p:nvSpPr>
        <p:spPr>
          <a:xfrm>
            <a:off x="1476360" y="981000"/>
            <a:ext cx="7292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Продолжительность  античных игр Олимпиады изменялась и к 468 до н.э. достигл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а) 5 дней     б) 7 дней     в) 10 дней      г) 14 дне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319640" y="4724280"/>
            <a:ext cx="4824360" cy="19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2124000" y="328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Ответ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1763640" y="1052640"/>
            <a:ext cx="67168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В каком виде Александр Карелин стал чемпионом Олимпийских игр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3348000" y="18900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4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657440" cy="1247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241128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Ответ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1979640" y="907920"/>
            <a:ext cx="5987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Факел олимпийского огня современных игр зажигается…………..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3276720" y="189000"/>
            <a:ext cx="2700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5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4221000"/>
            <a:ext cx="3168360" cy="2133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3419640" y="3141720"/>
            <a:ext cx="6938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б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3419640" y="3789360"/>
            <a:ext cx="6938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в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3348000" y="263700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492360" y="436572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419640" y="18900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</a:t>
            </a:r>
            <a:r>
              <a:rPr b="1" lang="en-US" sz="2900" spc="-1" strike="noStrike">
                <a:solidFill>
                  <a:srgbClr val="993366"/>
                </a:solidFill>
                <a:latin typeface="Arial"/>
              </a:rPr>
              <a:t>6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Содержимое 2"/>
          <p:cNvSpPr/>
          <p:nvPr/>
        </p:nvSpPr>
        <p:spPr>
          <a:xfrm>
            <a:off x="1476360" y="981000"/>
            <a:ext cx="7292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Первым Олимпийским чемпионом, победившем в марафонском беге, был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imes New Roman"/>
              </a:rPr>
              <a:t>а) Филипидис     б) Джеймс Конноли     в) Роберт Гарре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imes New Roman"/>
              </a:rPr>
              <a:t>г) Спирос Луи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24360" y="4292640"/>
            <a:ext cx="237492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920" y="333360"/>
            <a:ext cx="6228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66"/>
                </a:solidFill>
                <a:latin typeface="Times New Roman"/>
              </a:rPr>
              <a:t>Результаты теста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17320" y="2006640"/>
            <a:ext cx="5505480" cy="23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36160" indent="-6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Всего вопросов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236160" indent="-6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Правильных ответов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236160" indent="-6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Процент правильных ответов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236160" indent="-6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Оценка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09:38:13Z</dcterms:created>
  <dc:creator>KEM</dc:creator>
  <dc:description/>
  <dc:language>en-US</dc:language>
  <cp:lastModifiedBy>Ирина</cp:lastModifiedBy>
  <dcterms:modified xsi:type="dcterms:W3CDTF">2012-06-06T18:22:53Z</dcterms:modified>
  <cp:revision>216</cp:revision>
  <dc:subject/>
  <dc:title>Слайд 1</dc:title>
</cp:coreProperties>
</file>