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4149-5736-4765-BA60-7DDB45D9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AE42-328C-40A2-ADAB-9AA13F6C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0C8-77AF-4FB6-B39C-FA93570C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6F7-982F-44EB-B806-558DCCF6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CF4F-397E-4C1B-A74E-F829A52D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083B-615E-49AE-A581-C0D8A133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1DF0-4C70-4FD5-B113-ABBE77A6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73EE-8136-4FBA-B9D8-B085A02A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AB4E-627B-4A3C-83D4-34068B86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4D8E-0977-4A33-BD4B-9F8A1B88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5A13-F5A2-4E57-A168-98555CF2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A0B2-4CF2-46EA-B893-563A0C0F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0A78-7AB2-4F47-BF38-E79EED75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BC42-D2AA-40BB-A4CA-3E2B6138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2C5F-72F0-4626-8707-F729D64D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2D37-4B3E-4DB4-87A3-6A8201EE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F8BB-227B-4517-AB06-95C9108D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1E4-3DB8-4459-8B89-843D2D58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0536-CE19-431B-A7B0-CCCC2A33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FC1-6440-440F-9985-16A92752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2F76-BA66-49FC-9E18-0CFF6C0C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85A-6F20-4458-89E9-C6080508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35B2-1E7A-4688-82FF-65AC3CB4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7600-1652-4183-9F1D-DD9789A6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dfc0ff"/>
                </a:gs>
                <a:gs pos="100000">
                  <a:srgbClr val="90db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5CAB-CD96-4AE8-AE67-B0A3075D9013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dfc0ff"/>
                </a:gs>
                <a:gs pos="100000">
                  <a:srgbClr val="90db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D2A1-20BD-418A-AEA4-277DD0C46DFD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Скругленный прямоугольник 3"/>
          <p:cNvGrpSpPr/>
          <p:nvPr/>
        </p:nvGrpSpPr>
        <p:grpSpPr>
          <a:xfrm>
            <a:off x="4284720" y="5661000"/>
            <a:ext cx="1974600" cy="772920"/>
            <a:chOff x="4284720" y="5661000"/>
            <a:chExt cx="1974600" cy="772920"/>
          </a:xfrm>
        </p:grpSpPr>
        <p:pic>
          <p:nvPicPr>
            <p:cNvPr id="92" name="Скругленный прямоугольник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284720" y="5661000"/>
              <a:ext cx="19746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383000" y="5732280"/>
              <a:ext cx="1785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Начать тест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4" name="Rectangle 9"/>
          <p:cNvSpPr/>
          <p:nvPr/>
        </p:nvSpPr>
        <p:spPr>
          <a:xfrm>
            <a:off x="1476360" y="549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МОУ «СОШ №34 с углубленным изучением</a:t>
            </a:r>
            <a:br>
              <a:rPr sz="1800"/>
            </a:b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 художественно-эстетических предметов»</a:t>
            </a:r>
            <a:br>
              <a:rPr sz="1800"/>
            </a:b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г. Сарат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1547640" y="1484280"/>
            <a:ext cx="7215480" cy="31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176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Викторина по теме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3366"/>
                </a:solidFill>
                <a:latin typeface="Times New Roman"/>
              </a:rPr>
              <a:t>«Олимпийские игры»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Вариант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Составитель:  учитель физической культуры 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И.М. Кост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cc"/>
                </a:solidFill>
                <a:latin typeface="Times New Roman"/>
              </a:rPr>
              <a:t>В работе использованы тестовые вопросы и задания по физической культур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248472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3635280" y="3357720"/>
            <a:ext cx="6939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б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3635280" y="393372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в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3635280" y="270828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а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3708360" y="4508640"/>
            <a:ext cx="722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г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Содержимое 2"/>
          <p:cNvSpPr/>
          <p:nvPr/>
        </p:nvSpPr>
        <p:spPr>
          <a:xfrm>
            <a:off x="1403280" y="765000"/>
            <a:ext cx="7221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Древнегреческие игры Олимпиады праздновались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а) у горы Олимп      б) в Афинах      в) в Спарте      г) в Олимп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90000"/>
              </a:lnSpc>
              <a:spcBef>
                <a:spcPts val="499"/>
              </a:spcBef>
              <a:buClr>
                <a:srgbClr val="90dbf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067280" y="189000"/>
            <a:ext cx="232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1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08720" y="18900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508720" y="3933720"/>
            <a:ext cx="260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9"/>
          <p:cNvSpPr/>
          <p:nvPr/>
        </p:nvSpPr>
        <p:spPr>
          <a:xfrm>
            <a:off x="3059280" y="3284640"/>
            <a:ext cx="69386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б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3059280" y="3860640"/>
            <a:ext cx="6938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в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2987640" y="263700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а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3059280" y="4508640"/>
            <a:ext cx="722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г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Содержимое 2"/>
          <p:cNvSpPr/>
          <p:nvPr/>
        </p:nvSpPr>
        <p:spPr>
          <a:xfrm>
            <a:off x="1547640" y="692280"/>
            <a:ext cx="7077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Игры Олимпиады проводятся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а) в зависимости от решения МО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б) в течение первого года празднуемой Олимпиад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в) в течение последнего празднуемой Олимпиад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г) в течение второго календарного года, последующего после года начала Олимпиад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3492360" y="260280"/>
            <a:ext cx="232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2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0360" y="4581360"/>
            <a:ext cx="2519280" cy="18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9"/>
          <p:cNvSpPr/>
          <p:nvPr/>
        </p:nvSpPr>
        <p:spPr>
          <a:xfrm>
            <a:off x="3419640" y="3141720"/>
            <a:ext cx="69386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б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3419640" y="3789360"/>
            <a:ext cx="6938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в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3348000" y="263700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а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3492360" y="4365720"/>
            <a:ext cx="722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г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419640" y="189000"/>
            <a:ext cx="232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</a:t>
            </a:r>
            <a:r>
              <a:rPr b="1" lang="en-US" sz="2900" spc="-1" strike="noStrike">
                <a:solidFill>
                  <a:srgbClr val="993366"/>
                </a:solidFill>
                <a:latin typeface="Arial"/>
              </a:rPr>
              <a:t>3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Содержимое 2"/>
          <p:cNvSpPr/>
          <p:nvPr/>
        </p:nvSpPr>
        <p:spPr>
          <a:xfrm>
            <a:off x="1476360" y="981000"/>
            <a:ext cx="7292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Продолжительность  античных игр Олимпиады изменялась и к 468 до н.э. достигла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а) 5 дней     б) 7 дней     в) 10 дней      г) 14 дне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319640" y="4724280"/>
            <a:ext cx="4824360" cy="19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2124000" y="328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Ответ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Содержимое 2"/>
          <p:cNvSpPr/>
          <p:nvPr/>
        </p:nvSpPr>
        <p:spPr>
          <a:xfrm>
            <a:off x="1763640" y="1052640"/>
            <a:ext cx="67168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В каком виде Александр Карелин стал чемпионом Олимпийских игр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3348000" y="189000"/>
            <a:ext cx="232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4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657440" cy="1247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0920" y="436572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241128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Ответ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1979640" y="907920"/>
            <a:ext cx="5987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Факел олимпийского огня современных игр зажигается…………..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3276720" y="189000"/>
            <a:ext cx="2700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5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4221000"/>
            <a:ext cx="3168360" cy="2133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3419640" y="3141720"/>
            <a:ext cx="69386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б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3419640" y="3789360"/>
            <a:ext cx="6938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в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3348000" y="263700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а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3492360" y="4365720"/>
            <a:ext cx="722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г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419640" y="189000"/>
            <a:ext cx="232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</a:t>
            </a:r>
            <a:r>
              <a:rPr b="1" lang="en-US" sz="2900" spc="-1" strike="noStrike">
                <a:solidFill>
                  <a:srgbClr val="993366"/>
                </a:solidFill>
                <a:latin typeface="Arial"/>
              </a:rPr>
              <a:t>6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Содержимое 2"/>
          <p:cNvSpPr/>
          <p:nvPr/>
        </p:nvSpPr>
        <p:spPr>
          <a:xfrm>
            <a:off x="1476360" y="981000"/>
            <a:ext cx="7292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Первым Олимпийским чемпионом, победившем в марафонском беге, был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imes New Roman"/>
              </a:rPr>
              <a:t>а) Филипидис     б) Джеймс Конноли     в) Роберт Гарре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Times New Roman"/>
              </a:rPr>
              <a:t>г) Спирос Луи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724360" y="4292640"/>
            <a:ext cx="237492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0920" y="333360"/>
            <a:ext cx="6228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66"/>
                </a:solidFill>
                <a:latin typeface="Times New Roman"/>
              </a:rPr>
              <a:t>Результаты теста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17320" y="2006640"/>
            <a:ext cx="5505480" cy="23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36160" indent="-68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</a:rPr>
              <a:t>Всего вопросов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236160" indent="-68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</a:rPr>
              <a:t>Правильных ответов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236160" indent="-68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</a:rPr>
              <a:t>Процент правильных ответов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236160" indent="-68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</a:rPr>
              <a:t>Оценка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09:38:13Z</dcterms:created>
  <dc:creator>KEM</dc:creator>
  <dc:description/>
  <dc:language>en-US</dc:language>
  <cp:lastModifiedBy>Ирина</cp:lastModifiedBy>
  <dcterms:modified xsi:type="dcterms:W3CDTF">2012-06-06T18:22:53Z</dcterms:modified>
  <cp:revision>216</cp:revision>
  <dc:subject/>
  <dc:title>Слайд 1</dc:title>
</cp:coreProperties>
</file>