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7559675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5FF8-3701-4FB8-A9D1-83D845D3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17240"/>
            <a:ext cx="680544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36840"/>
            <a:ext cx="680544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035400"/>
            <a:ext cx="680544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366A-390A-43F7-B8CF-620C56E9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17240"/>
            <a:ext cx="680544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36840"/>
            <a:ext cx="33210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5320" y="2436840"/>
            <a:ext cx="33210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035400"/>
            <a:ext cx="33210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5320" y="6035400"/>
            <a:ext cx="33210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4891-CD7C-42DA-92F9-209658D27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17240"/>
            <a:ext cx="680544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36840"/>
            <a:ext cx="219096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760" y="2436840"/>
            <a:ext cx="219096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880" y="2436840"/>
            <a:ext cx="219096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035400"/>
            <a:ext cx="219096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760" y="6035400"/>
            <a:ext cx="219096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880" y="6035400"/>
            <a:ext cx="219096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84AB-6D26-4348-B290-4510C709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17240"/>
            <a:ext cx="680544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36840"/>
            <a:ext cx="6805440" cy="68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496E-0631-4BE9-80CE-D8D6D9C1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17240"/>
            <a:ext cx="680544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36840"/>
            <a:ext cx="6805440" cy="68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3CE8-4A9D-4DA0-8632-AB9E6F2A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17240"/>
            <a:ext cx="680544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36840"/>
            <a:ext cx="3321000" cy="68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5320" y="2436840"/>
            <a:ext cx="3321000" cy="68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53D4-0D00-42B3-80E3-F1978889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17240"/>
            <a:ext cx="680544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2BAB-BD70-45ED-B578-594CE1F1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17240"/>
            <a:ext cx="6805440" cy="80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076B-C637-4F87-945C-E7E24D43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17240"/>
            <a:ext cx="680544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36840"/>
            <a:ext cx="33210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5320" y="2436840"/>
            <a:ext cx="3321000" cy="68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035400"/>
            <a:ext cx="33210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EA09-0A1B-40CC-A091-7E54D90D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17240"/>
            <a:ext cx="680544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36840"/>
            <a:ext cx="3321000" cy="68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5320" y="2436840"/>
            <a:ext cx="33210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5320" y="6035400"/>
            <a:ext cx="33210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91CD-20DC-405B-94A4-A24955DE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17240"/>
            <a:ext cx="680544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36840"/>
            <a:ext cx="33210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5320" y="2436840"/>
            <a:ext cx="33210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035400"/>
            <a:ext cx="680544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70E8-FA7B-453E-8135-35D908AB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17240"/>
            <a:ext cx="680544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36840"/>
            <a:ext cx="6805440" cy="68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507240"/>
            <a:ext cx="17650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3000" y="9507240"/>
            <a:ext cx="2395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8000" y="9507240"/>
            <a:ext cx="1765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2A26-CA50-40FA-80DB-C199F33A98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post-60921-1233871028_thumb"/>
          <p:cNvPicPr/>
          <p:nvPr/>
        </p:nvPicPr>
        <p:blipFill>
          <a:blip r:embed="rId1"/>
          <a:srcRect l="6338" t="16509" r="8482" b="6291"/>
          <a:stretch/>
        </p:blipFill>
        <p:spPr>
          <a:xfrm>
            <a:off x="0" y="0"/>
            <a:ext cx="7523280" cy="104410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"/>
          <p:cNvSpPr/>
          <p:nvPr/>
        </p:nvSpPr>
        <p:spPr>
          <a:xfrm>
            <a:off x="252360" y="861840"/>
            <a:ext cx="70563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  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Умение детей пользоваться в общении с окружающими  правильной речью, понятно выражать свои мысли, говорить на родном языке чисто и выразительно является одним из необходимых условий полноценного развития личности ребенка. Развернутые высказывания обеспечивают разностороннее общение и взаимопонимание люд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оцесс формирования навыков связной речи у детей протекает под руководством родителей, педагогов, которые помогают им овладевать этими навыками как на специально организованных занятиях, так и в повседневной жизн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  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Сегодня мы попытаемся вам показать, как непросто составить рассказ, и научить, как с этим справитьс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p11__1__5555"/>
          <p:cNvPicPr/>
          <p:nvPr/>
        </p:nvPicPr>
        <p:blipFill>
          <a:blip r:embed="rId2"/>
          <a:srcRect l="2677" t="0" r="0" b="0"/>
          <a:stretch/>
        </p:blipFill>
        <p:spPr>
          <a:xfrm>
            <a:off x="4500720" y="3276720"/>
            <a:ext cx="2652480" cy="19796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324000" y="5286600"/>
            <a:ext cx="662436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3. Облегчим задачу  (используя серию картин, на которых изображены дети, играющие в различные игры). Составьте свой рассказ на тему: «Мы играем»  с помощью этих картинок (три минуты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деюсь, вы почувствовали, что с использованием дополнительной наглядности, рассказ составить легче, и он становится содержательнее по смыслу и разнообразней по фабул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4. Далее на основании плана составьте следующий вариант вашего рассказа на тему:  «Мы играем» (три минуты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       Кто нарисован на картин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       Как зовут девочек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       Как одета Катя? Как одета Ол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       Что они делаю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       Кто нарисован в середине картин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       Как зовут мальчиков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       Что делает Слав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       Где играют Коля и Вов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       Что они строя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       Кто нарисован вверху картин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       Как зовут дете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       В какую игру играют дет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       Где играют дет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5"/>
          <p:cNvSpPr txBox="1"/>
          <p:nvPr/>
        </p:nvSpPr>
        <p:spPr>
          <a:xfrm>
            <a:off x="1405080" y="614520"/>
            <a:ext cx="4400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cap="rnd" w="9360">
                  <a:solidFill>
                    <a:srgbClr val="ff33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им детей рассказыванию</a:t>
            </a:r>
            <a:endParaRPr b="1" i="1" lang="en-US" sz="2800" spc="1" strike="noStrike">
              <a:ln cap="rnd" w="9360">
                <a:solidFill>
                  <a:srgbClr val="ff3300"/>
                </a:solidFill>
                <a:custDash>
                  <a:ds d="100000" sp="1000"/>
                </a:custDash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24000" y="3348000"/>
            <a:ext cx="4124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Задание родителя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Составьте рассказ на тему: «Мы играем» (за три минуты составьте и запишите свой вариант рассказ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А теперь составьте рассказ  на основании картины на тему: «Мы играем» (три минуты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анализируйте  легче или труднее работать с помощью зрительной опоры (картины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post-54958-1233847846"/>
          <p:cNvPicPr/>
          <p:nvPr/>
        </p:nvPicPr>
        <p:blipFill>
          <a:blip r:embed="rId5"/>
          <a:stretch/>
        </p:blipFill>
        <p:spPr>
          <a:xfrm>
            <a:off x="4356000" y="7381800"/>
            <a:ext cx="22320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ost-60921-1233871028_thumb"/>
          <p:cNvPicPr/>
          <p:nvPr/>
        </p:nvPicPr>
        <p:blipFill>
          <a:blip r:embed="rId1"/>
          <a:srcRect l="6338" t="16509" r="8482" b="6291"/>
          <a:stretch/>
        </p:blipFill>
        <p:spPr>
          <a:xfrm>
            <a:off x="0" y="0"/>
            <a:ext cx="7523280" cy="10441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468360" y="681120"/>
            <a:ext cx="655308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гче составлять рассказ по плану? Больше у вас появилось эпитетов  и глаголов?   Информативнее стал у вас рассказ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вы думаете, что сложнее, пересказать готовый рассказ или придумать его самом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смотрите алгоритм усложнения заданий при обучении ребенка рассказыванию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ец рассказа -----Картина + план рассказа-----Картина + план рассказа-----Картина-----Рассказ по сформулированной устной тем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жде чем требовать сложного рассказа по предложенной теме, ребенок должен научиться выполнять более простые зад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основании вышесказанного можно сделать следующие вывод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Обязательно учитывать возрастные и индивидуальные особенности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Сначала необходимо научить простому высказыванию, и только, когда ребенок его освоит, переходить к более сложны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При обучении всегда должна быть  опора на чувственное восприятие, чаще всего зрительное. И чем младше ребенок, тем важнее присутствие наглядно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важаемые родители и специалисты детского учреждения!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омните, что вы являетесь полноправными участниками образовательного процесса. Без вашей помощи результаты коррекционной работы будут низкими, а занятия у специалиста очень продолжительн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324000" y="1977120"/>
            <a:ext cx="6900840" cy="27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7520" tIns="152280" bIns="47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c0000"/>
                </a:solidFill>
                <a:latin typeface="Arial"/>
              </a:rPr>
              <a:t>Отставание в развитии речи может быть обусловлено и промахами родителей. Один из них - с ребенком мало разговаривают. Другой - излишняя словоохотливость взрослых. Среди обилия непонятных, незнакомых слов ребенок не может уловить, что к чему относи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ые слова и выражения надо вводить так, чтобы ребенок мог понять их смысл. Нередко дети в силу подражательности, свойственной их возрасту, удивляют взрослых "знанием" таких выражений, которым их никто не учил. Вместе с тем те же дети могут не знать элементарных выражений, уж доступных их пониманию. Надо с самого начала приучать ребенка к тому, чтобы за словами и выражениями, которые он употребляет, стояло конкретное содерж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то важно помнить!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828720" y="4788000"/>
            <a:ext cx="6427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ажать слова, подражать детскому произношению и "сюсюкать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уж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говаривая с малышом, следите, чтобы ваша речь была четкой и выразительной, грамотной, простой, яс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значать окружающие предметы звукопроизношениями. Например: ребенка спрашивают: "Кто это?" - показывая на собаку, а он отвечает "гав-гав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уж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ебенок плохо говорит, или не говорит пока, то можно воспользоваться следующей схемо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прашивайте и не настаивайте, чтобы ребенок произнес слово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росите ребенка показать на тот предмет, который вы называет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олько потом объясните "как звучит" или "как говорит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butt-no"/>
          <p:cNvPicPr/>
          <p:nvPr/>
        </p:nvPicPr>
        <p:blipFill>
          <a:blip r:embed="rId1"/>
          <a:stretch/>
        </p:blipFill>
        <p:spPr>
          <a:xfrm>
            <a:off x="396720" y="4788000"/>
            <a:ext cx="381240" cy="382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butt-yes"/>
          <p:cNvPicPr/>
          <p:nvPr/>
        </p:nvPicPr>
        <p:blipFill>
          <a:blip r:embed="rId2"/>
          <a:stretch/>
        </p:blipFill>
        <p:spPr>
          <a:xfrm>
            <a:off x="396720" y="5580000"/>
            <a:ext cx="381240" cy="379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butt-no"/>
          <p:cNvPicPr/>
          <p:nvPr/>
        </p:nvPicPr>
        <p:blipFill>
          <a:blip r:embed="rId3"/>
          <a:stretch/>
        </p:blipFill>
        <p:spPr>
          <a:xfrm>
            <a:off x="396720" y="6445080"/>
            <a:ext cx="381240" cy="379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butt-yes"/>
          <p:cNvPicPr/>
          <p:nvPr/>
        </p:nvPicPr>
        <p:blipFill>
          <a:blip r:embed="rId4"/>
          <a:stretch/>
        </p:blipFill>
        <p:spPr>
          <a:xfrm>
            <a:off x="396720" y="7523280"/>
            <a:ext cx="381240" cy="382320"/>
          </a:xfrm>
          <a:prstGeom prst="rect">
            <a:avLst/>
          </a:prstGeom>
          <a:ln w="0">
            <a:noFill/>
          </a:ln>
        </p:spPr>
      </p:pic>
      <p:sp>
        <p:nvSpPr>
          <p:cNvPr id="56" name="WordArt 9"/>
          <p:cNvSpPr txBox="1"/>
          <p:nvPr/>
        </p:nvSpPr>
        <p:spPr>
          <a:xfrm>
            <a:off x="0" y="828720"/>
            <a:ext cx="6805440" cy="17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стигаем азы речи вместе с ребенко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7" name="Picture 10" descr="640e702f75c6t"/>
          <p:cNvPicPr/>
          <p:nvPr/>
        </p:nvPicPr>
        <p:blipFill>
          <a:blip r:embed="rId5"/>
          <a:stretch/>
        </p:blipFill>
        <p:spPr>
          <a:xfrm>
            <a:off x="612720" y="0"/>
            <a:ext cx="1655640" cy="1655640"/>
          </a:xfrm>
          <a:prstGeom prst="rect">
            <a:avLst/>
          </a:prstGeom>
          <a:ln w="0">
            <a:noFill/>
          </a:ln>
        </p:spPr>
      </p:pic>
      <p:sp>
        <p:nvSpPr>
          <p:cNvPr id="58" name="Oval 12"/>
          <p:cNvSpPr/>
          <p:nvPr/>
        </p:nvSpPr>
        <p:spPr>
          <a:xfrm>
            <a:off x="612720" y="0"/>
            <a:ext cx="576360" cy="4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396720" y="356040"/>
            <a:ext cx="6764400" cy="65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440" rIns="7632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ществуют несколько простых правил, следуя которым вы заложите основы грамотной речи своего малыш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язательно исправляйте ошибки в речи малыша, но делайте это тактично. Если вы посмеётесь над ребенком, то обидите его, и ребенок может потерять к вам довер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развития речевых способностей ребенка очень важна игровая деятельность, через которую малыш познает окружающую его реальность. Обращайте внимание ребенка на различные объекты, которые издают звуки (животные, птицы, транспорт и так далее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ключайте ребенка не только в игру, но и в реальное взаимодействие со всеми членами семьи. Обязательно давайте ребенку полезные поручения. Благодарите ребенка за помощ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развития речи очень важно не только развивать произносительные навыки, но и совершенствовать умение ребенка понимать смысл речи не только в определенной ситуации, но и вне ее. По дороге или придя домой, обсуждайте с малышом то, как прошел его день в детском саду, как прошла ваша совместная прогулка. Поиграв с ребенком, вспоминайте самые интересные момент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мните о том, что слушая вашу речь, ребенок впитывает информацию об окружающем мире. Поэтому стилем вашего общения с ребенком должно стать не просто обозначение какого-то явления или предмета, а детальное его описание. Например, ребенку недостаточно просто сказать "Вон летит ворона". Ему нужны "комментарии" к этой вороне. Примерно вот так: "Посмотри, вон над тем домом летит ворона. Она черная и умеет громко каркать.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ьзуйтесь наглядным материалом! Детям трудно воспринимать слова, оторванные от изображ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главное: поддерживайте все начинания малыша, хвалите даже за незначительные успехи. Не требуйте от него правильного произношения слова сразу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2T04:21:05Z</dcterms:created>
  <dc:creator>User</dc:creator>
  <dc:description/>
  <dc:language>en-US</dc:language>
  <cp:lastModifiedBy>Пользователь Windows</cp:lastModifiedBy>
  <dcterms:modified xsi:type="dcterms:W3CDTF">2011-01-25T20:51:55Z</dcterms:modified>
  <cp:revision>19</cp:revision>
  <dc:subject/>
  <dc:title>Слайд 1</dc:title>
</cp:coreProperties>
</file>