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559675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CFC-552F-4655-8054-770E9FBB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62E-948E-4659-9D31-57167B1A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8AF-F0C9-416C-854F-BEF8D48F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561-3A6B-4E36-B89E-D93F0BD7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BDA-526E-4269-94F0-87EAE3AE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27FA-0B72-43A0-A72A-270682FC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024-CD90-450D-B4B2-ACD8D954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17E-0568-40C4-98E3-932F3EE6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17240"/>
            <a:ext cx="6805440" cy="80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0A1-D50D-444C-8692-2F9879E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032-7AC9-4485-963C-1BE8594C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A7B-570E-4537-A932-7730B6C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D0A-08FA-45C1-96AF-D6FCC907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17240"/>
            <a:ext cx="680544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507240"/>
            <a:ext cx="1765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507240"/>
            <a:ext cx="239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507240"/>
            <a:ext cx="17654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F58D-DFFF-459F-99C6-ACBB7A03A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ost-60921-1233871028_thumb"/>
          <p:cNvPicPr/>
          <p:nvPr/>
        </p:nvPicPr>
        <p:blipFill>
          <a:blip r:embed="rId1"/>
          <a:srcRect l="6338" t="16509" r="8482" b="6291"/>
          <a:stretch/>
        </p:blipFill>
        <p:spPr>
          <a:xfrm>
            <a:off x="0" y="0"/>
            <a:ext cx="7523280" cy="10441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252360" y="861840"/>
            <a:ext cx="7056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Умение детей пользоваться в общении с окружающими  правильной речью, понятно выражать свои мысли, говорить на родном языке чисто и выразительно является одним из необходимых условий полноценного развития личности ребенка. Развернутые высказывания обеспечивают разностороннее общение и взаимопонимание лю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цесс формирования навыков связной речи у детей протекает под руководством родителей, педагогов, которые помогают им овладевать этими навыками как на специально организованных занятиях, так и в повседневной жи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егодня мы попытаемся вам показать, как непросто составить рассказ, и научить, как с этим справить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p11__1__5555"/>
          <p:cNvPicPr/>
          <p:nvPr/>
        </p:nvPicPr>
        <p:blipFill>
          <a:blip r:embed="rId2"/>
          <a:srcRect l="2677" t="0" r="0" b="0"/>
          <a:stretch/>
        </p:blipFill>
        <p:spPr>
          <a:xfrm>
            <a:off x="4500720" y="3276720"/>
            <a:ext cx="265248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324000" y="5286600"/>
            <a:ext cx="6624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Облегчим задачу  (используя серию картин, на которых изображены дети, играющие в различные игры). Составьте свой рассказ на тему: «Мы играем»  с помощью этих картинок (три мину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деюсь, вы почувствовали, что с использованием дополнительной наглядности, рассказ составить легче, и он становится содержательнее по смыслу и разнообразней по фабу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Далее на основании плана составьте следующий вариант вашего рассказа на тему:  «Мы играем» (три минуты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то нарисован на картин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зовут девоче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одета Катя? Как одета Ол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Что они делаю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то нарисован в середине карти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зовут мальч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Что делает Сла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Где играют Коля и В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Что они строя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то нарисован вверху картин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Как зовут дете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В какую игру играют д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       Где играют де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1405080" y="614520"/>
            <a:ext cx="4400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cap="rnd" w="9360">
                  <a:solidFill>
                    <a:srgbClr val="ff3300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м детей рассказыванию</a:t>
            </a:r>
            <a:endParaRPr b="1" i="1" lang="en-US" sz="2800" spc="1" strike="noStrike">
              <a:ln cap="rnd" w="9360">
                <a:solidFill>
                  <a:srgbClr val="ff3300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24000" y="3348000"/>
            <a:ext cx="4124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Задание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оставьте рассказ на тему: «Мы играем» (за три минуты составьте и запишите свой вариант рассказ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А теперь составьте рассказ  на основании картины на тему: «Мы играем» (три минут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анализируйте  легче или труднее работать с помощью зрительной опоры (картин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ost-54958-1233847846"/>
          <p:cNvPicPr/>
          <p:nvPr/>
        </p:nvPicPr>
        <p:blipFill>
          <a:blip r:embed="rId5"/>
          <a:stretch/>
        </p:blipFill>
        <p:spPr>
          <a:xfrm>
            <a:off x="4356000" y="7381800"/>
            <a:ext cx="2232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st-60921-1233871028_thumb"/>
          <p:cNvPicPr/>
          <p:nvPr/>
        </p:nvPicPr>
        <p:blipFill>
          <a:blip r:embed="rId1"/>
          <a:srcRect l="6338" t="16509" r="8482" b="6291"/>
          <a:stretch/>
        </p:blipFill>
        <p:spPr>
          <a:xfrm>
            <a:off x="0" y="0"/>
            <a:ext cx="7523280" cy="1044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468360" y="681120"/>
            <a:ext cx="6553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гче составлять рассказ по плану? Больше у вас появилось эпитетов  и глаголов?   Информативнее стал у вас рассказ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ы думаете, что сложнее, пересказать готовый рассказ или придумать его само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смотрите алгоритм усложнения заданий при обучении ребенка рассказывани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ец рассказа -----Картина + план рассказа-----Картина + план рассказа-----Картина-----Рассказ по сформулированной устной те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жде чем требовать сложного рассказа по предложенной теме, ребенок должен научиться выполнять более простые зад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сновании вышесказанного можно сделать следующие вывод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Обязательно учитывать возрастные и индивидуальные особенности ребе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Сначала необходимо научить простому высказыванию, и только, когда ребенок его освоит, переходить к более сложн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ри обучении всегда должна быть  опора на чувственное восприятие, чаще всего зрительное. И чем младше ребенок, тем важнее присутствие нагляд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важаемые родители и специалисты детского учреждения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мните, что вы являетесь полноправными участниками образовательного процесса. Без вашей помощи результаты коррекционной работы будут низкими, а занятия у специалиста очень продолжитель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324000" y="1977120"/>
            <a:ext cx="690084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7520" tIns="15228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0000"/>
                </a:solidFill>
                <a:latin typeface="Arial"/>
              </a:rPr>
              <a:t>Отставание в развитии речи может быть обусловлено и промахами родителей. Один из них - с ребенком мало разговаривают. Другой - излишняя словоохотливость взрослых. Среди обилия непонятных, незнакомых слов ребенок не может уловить, что к чему относ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е слова и выражения надо вводить так, чтобы ребенок мог понять их смысл. Нередко дети в силу подражательности, свойственной их возрасту, удивляют взрослых "знанием" таких выражений, которым их никто не учил. Вместе с тем те же дети могут не знать элементарных выражений, уж доступных их пониманию. Надо с самого начала приучать ребенка к тому, чтобы за словами и выражениями, которые он употребляет, стояло конкретное содерж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важно помнить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8720" y="4788000"/>
            <a:ext cx="642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ажать слова, подражать детскому произношению и "сюсюкать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я с малышом, следите, чтобы ваша речь была четкой и выразительной, грамотной, простой, яс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ать окружающие предметы звукопроизношениями. Например: ребенка спрашивают: "Кто это?" - показывая на собаку, а он отвечает "гав-гав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лохо говорит, или не говорит пока, то можно воспользоваться следующей схем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прашивайте и не настаивайте, чтобы ребенок произнес сло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росите ребенка показать на тот предмет, который вы называе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олько потом объясните "как звучит" или "как говорит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utt-no"/>
          <p:cNvPicPr/>
          <p:nvPr/>
        </p:nvPicPr>
        <p:blipFill>
          <a:blip r:embed="rId1"/>
          <a:stretch/>
        </p:blipFill>
        <p:spPr>
          <a:xfrm>
            <a:off x="396720" y="4788000"/>
            <a:ext cx="381240" cy="38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butt-yes"/>
          <p:cNvPicPr/>
          <p:nvPr/>
        </p:nvPicPr>
        <p:blipFill>
          <a:blip r:embed="rId2"/>
          <a:stretch/>
        </p:blipFill>
        <p:spPr>
          <a:xfrm>
            <a:off x="396720" y="5580000"/>
            <a:ext cx="381240" cy="37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utt-no"/>
          <p:cNvPicPr/>
          <p:nvPr/>
        </p:nvPicPr>
        <p:blipFill>
          <a:blip r:embed="rId3"/>
          <a:stretch/>
        </p:blipFill>
        <p:spPr>
          <a:xfrm>
            <a:off x="396720" y="6445080"/>
            <a:ext cx="381240" cy="37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utt-yes"/>
          <p:cNvPicPr/>
          <p:nvPr/>
        </p:nvPicPr>
        <p:blipFill>
          <a:blip r:embed="rId4"/>
          <a:stretch/>
        </p:blipFill>
        <p:spPr>
          <a:xfrm>
            <a:off x="396720" y="7523280"/>
            <a:ext cx="381240" cy="382320"/>
          </a:xfrm>
          <a:prstGeom prst="rect">
            <a:avLst/>
          </a:prstGeom>
          <a:ln w="0">
            <a:noFill/>
          </a:ln>
        </p:spPr>
      </p:pic>
      <p:sp>
        <p:nvSpPr>
          <p:cNvPr id="56" name="WordArt 9"/>
          <p:cNvSpPr txBox="1"/>
          <p:nvPr/>
        </p:nvSpPr>
        <p:spPr>
          <a:xfrm>
            <a:off x="0" y="828720"/>
            <a:ext cx="680544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стигаем азы речи вместе с ребенко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" name="Picture 10" descr="640e702f75c6t"/>
          <p:cNvPicPr/>
          <p:nvPr/>
        </p:nvPicPr>
        <p:blipFill>
          <a:blip r:embed="rId5"/>
          <a:stretch/>
        </p:blipFill>
        <p:spPr>
          <a:xfrm>
            <a:off x="612720" y="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Oval 12"/>
          <p:cNvSpPr/>
          <p:nvPr/>
        </p:nvSpPr>
        <p:spPr>
          <a:xfrm>
            <a:off x="612720" y="0"/>
            <a:ext cx="57636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6720" y="356040"/>
            <a:ext cx="676440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7632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ют несколько простых правил, следуя которым вы заложите основы грамотной речи своего малыш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тельно исправляйте ошибки в речи малыша, но делайте это тактично. Если вы посмеётесь над ребенком, то обидите его, и ребенок может потерять к вам довер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звития речевых способностей ребенка очень важна игровая деятельность, через которую малыш познает окружающую его реальность. Обращайте внимание ребенка на различные объекты, которые издают звуки (животные, птицы, транспорт и так далее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ключайте ребенка не только в игру, но и в реальное взаимодействие со всеми членами семьи. Обязательно давайте ребенку полезные поручения. Благодарите ребенка за помощ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развития речи очень важно не только развивать произносительные навыки, но и совершенствовать умение ребенка понимать смысл речи не только в определенной ситуации, но и вне ее. По дороге или придя домой, обсуждайте с малышом то, как прошел его день в детском саду, как прошла ваша совместная прогулка. Поиграв с ребенком, вспоминайте самые интересные момен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 о том, что слушая вашу речь, ребенок впитывает информацию об окружающем мире. Поэтому стилем вашего общения с ребенком должно стать не просто обозначение какого-то явления или предмета, а детальное его описание. Например, ребенку недостаточно просто сказать "Вон летит ворона". Ему нужны "комментарии" к этой вороне. Примерно вот так: "Посмотри, вон над тем домом летит ворона. Она черная и умеет громко каркать.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ьзуйтесь наглядным материалом! Детям трудно воспринимать слова, оторванные от изображ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главное: поддерживайте все начинания малыша, хвалите даже за незначительные успехи. Не требуйте от него правильного произношения слова сразу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04:21:05Z</dcterms:created>
  <dc:creator>User</dc:creator>
  <dc:description/>
  <dc:language>en-US</dc:language>
  <cp:lastModifiedBy>Пользователь Windows</cp:lastModifiedBy>
  <dcterms:modified xsi:type="dcterms:W3CDTF">2011-01-25T20:51:55Z</dcterms:modified>
  <cp:revision>19</cp:revision>
  <dc:subject/>
  <dc:title>Слайд 1</dc:title>
</cp:coreProperties>
</file>