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8CC-9F9A-48CE-AA65-B7C59C1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86F-B1C6-4DA2-83B1-08502763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1B6-5460-4D48-B942-2EEF5526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AB9-1BCF-4C12-844A-C7A33A96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59C9-FA5E-430B-BF74-3681775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08B0-EFEE-4AFE-8598-B81B8D9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2BC6-6CF1-460C-A85D-0CF4155C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E82-0D8B-47FC-A6A5-1F2C498B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7B41-40E2-47FC-95A8-D4783AA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979-0E4E-4BC9-9676-75EC952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5451-4B14-4CDA-A898-0F39F22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441-B539-41D0-94C6-2DEF6D4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B44C-7210-43D3-9121-9F5F8A9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263C-ED7C-4A63-B4A7-797BDE7E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A0B4-425E-48CA-81D1-8764FE3E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1AF-93C3-4F9B-A5C3-FE1F75D0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06B-45F2-4D89-BCF6-C57D4D8E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D0C-3DF6-4AF1-AFA2-9456E82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081-5D7B-4D02-A524-757AB6B3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B6C-7EC7-4F2D-90C4-0744A37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52A-E71A-4E54-9D5A-A683CE7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DBB-9CA8-40D8-98F2-E517F8A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18A-3B54-4149-A0A6-DD7E8B9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548-87D3-4EAE-9E26-0A34316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B52A-5854-4DB1-AF33-077081265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5C9F-0DE5-4339-86B7-310F8EBED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3428640"/>
            <a:ext cx="7848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ладимирской об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71444590" descr=""/>
          <p:cNvPicPr/>
          <p:nvPr/>
        </p:nvPicPr>
        <p:blipFill>
          <a:blip r:embed="rId1"/>
          <a:stretch/>
        </p:blipFill>
        <p:spPr>
          <a:xfrm>
            <a:off x="1523880" y="146700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ет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s96976653" descr=""/>
          <p:cNvPicPr/>
          <p:nvPr/>
        </p:nvPicPr>
        <p:blipFill>
          <a:blip r:embed="rId1"/>
          <a:stretch/>
        </p:blipFill>
        <p:spPr>
          <a:xfrm>
            <a:off x="1828800" y="135252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ен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s5325527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629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мат умеренно-континентальный, благоприятный для жизни и хозяйственной деятельности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благоприятные погодные у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ложняют ведение сель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Климатообразующие факто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71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1371600"/>
            <a:ext cx="762120" cy="3200400"/>
          </a:xfrm>
          <a:prstGeom prst="downArrow">
            <a:avLst>
              <a:gd name="adj1" fmla="val 50000"/>
              <a:gd name="adj2" fmla="val 10498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4479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666880"/>
            <a:ext cx="289584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Солнеч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ад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724280"/>
            <a:ext cx="3352680" cy="131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Циркуля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2514600"/>
            <a:ext cx="342900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Характер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дстил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Высоты Солнца над горизо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Продолжительност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бла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Ш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2362320"/>
            <a:ext cx="381240" cy="152388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Характер подстилающей поверхност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внинность релье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Циркуляция воздушных мас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371600"/>
            <a:ext cx="9143280" cy="5027400"/>
            <a:chOff x="0" y="1371600"/>
            <a:chExt cx="9143280" cy="5027400"/>
          </a:xfrm>
        </p:grpSpPr>
        <p:cxnSp>
          <p:nvCxnSpPr>
            <p:cNvPr id="108" name="_s1946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668200" y="2284560"/>
              <a:ext cx="1006200" cy="3200760"/>
            </a:xfrm>
            <a:prstGeom prst="bentConnector3">
              <a:avLst>
                <a:gd name="adj1" fmla="val 21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9467"/>
            <p:cNvCxnSpPr>
              <a:stCxn id="112" idx="0"/>
              <a:endCxn id="110" idx="2"/>
            </p:cNvCxnSpPr>
            <p:nvPr/>
          </p:nvCxnSpPr>
          <p:spPr>
            <a:xfrm flipV="1">
              <a:off x="4571280" y="3381840"/>
              <a:ext cx="3240" cy="10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9466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468160" y="2284560"/>
              <a:ext cx="1006200" cy="3200760"/>
            </a:xfrm>
            <a:prstGeom prst="bentConnector3">
              <a:avLst>
                <a:gd name="adj1" fmla="val 21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9462"/>
            <p:cNvSpPr/>
            <p:nvPr/>
          </p:nvSpPr>
          <p:spPr>
            <a:xfrm>
              <a:off x="3200040" y="137160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ТИПЫ ВМ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9463"/>
            <p:cNvSpPr/>
            <p:nvPr/>
          </p:nvSpPr>
          <p:spPr>
            <a:xfrm>
              <a:off x="0" y="438804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8000"/>
                  </a:solidFill>
                  <a:latin typeface="Arial"/>
                </a:rPr>
                <a:t>УВМ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8000"/>
                  </a:solidFill>
                  <a:latin typeface="Arial"/>
                </a:rPr>
                <a:t>Мор. и 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8000"/>
                  </a:solidFill>
                  <a:latin typeface="Arial"/>
                </a:rPr>
                <a:t>Конт.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9464"/>
            <p:cNvSpPr/>
            <p:nvPr/>
          </p:nvSpPr>
          <p:spPr>
            <a:xfrm>
              <a:off x="3200040" y="438804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6666cc"/>
                  </a:solidFill>
                  <a:latin typeface="Arial"/>
                </a:rPr>
                <a:t>АВМ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9465"/>
            <p:cNvSpPr/>
            <p:nvPr/>
          </p:nvSpPr>
          <p:spPr>
            <a:xfrm>
              <a:off x="6400440" y="438804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6600"/>
                  </a:solidFill>
                  <a:latin typeface="Arial"/>
                </a:rPr>
                <a:t>ТВМ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рисунок 12, 14 учебника и справочные материалы из практической работы №3 выпишите в тетра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. температура июля 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. температура января -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довая амплитуда температуры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одовое количество осадков 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ежим выпадения осадков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обладающие направления ветров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казатели клима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. температура июля = + 18,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. температура января =-11,4 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довая амплитуда температуры =+6,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одовое количество осадков 6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м, летний максим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тры - Ю-З, Ю, С, С-З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дание: используя рисунок 15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заполните таблицу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600200"/>
          <a:ext cx="8001000" cy="4703760"/>
        </p:xfrm>
        <a:graphic>
          <a:graphicData uri="http://schemas.openxmlformats.org/drawingml/2006/table">
            <a:tbl>
              <a:tblPr/>
              <a:tblGrid>
                <a:gridCol w="1600200"/>
                <a:gridCol w="2514600"/>
                <a:gridCol w="2210040"/>
                <a:gridCol w="1676160"/>
              </a:tblGrid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. 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Т янва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Т ию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е кол-во осад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9480" y="167652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им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488960"/>
            <a:ext cx="693432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3T19:55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