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12C-2290-49DC-8DF9-4460F82F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B25-718B-41CA-97B7-C3A6EC38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420-13B0-4D7E-B1F3-3C9CA265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303-011A-4E8E-B8D4-79B057C6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7843-60D2-4F1A-8F3A-B68BF651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9137-5231-4838-935F-F09A9378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FC36-E5D8-4231-AE32-1774473B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8B3D-71A3-4420-88D0-3A246ED0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6156-D70C-48A1-8101-2C7FC0B1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F200-FB32-4523-9B87-D3BC6D2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AE2C-E5E4-4E64-86A7-1C6EC270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941-074A-455B-9576-A85CB861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EBF5-B825-4178-BB07-687A263B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C14F-CCA5-4113-A98F-060FEC5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F56B-CAED-412F-85A3-AE735E9F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CB62-825D-4C2B-B6E9-B9E9A0B7B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F759-0D9F-4A48-8AAF-B2280E5A2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C98-FCA0-4299-9B9E-FFCA0E21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EA3-739B-4DC8-AE57-1E38B0B9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470-6FE0-4F90-91DA-C727E3C4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390B-80C0-43E0-97C2-E8E516BA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DC22-2B98-49D4-8A09-5FF98B16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434-B99C-4E0B-9B14-7F5512B4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475-8866-4D88-A6E8-428654C7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85F1-6CD5-4402-B3A6-B10FF0372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F80C-BE72-4840-A23C-7548124E9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3428640"/>
            <a:ext cx="784872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ладимирской обла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есн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s71444590" descr=""/>
          <p:cNvPicPr/>
          <p:nvPr/>
        </p:nvPicPr>
        <p:blipFill>
          <a:blip r:embed="rId1"/>
          <a:stretch/>
        </p:blipFill>
        <p:spPr>
          <a:xfrm>
            <a:off x="1523880" y="146700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ет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s96976653" descr=""/>
          <p:cNvPicPr/>
          <p:nvPr/>
        </p:nvPicPr>
        <p:blipFill>
          <a:blip r:embed="rId1"/>
          <a:stretch/>
        </p:blipFill>
        <p:spPr>
          <a:xfrm>
            <a:off x="1828800" y="135252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ен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s5325527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6294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имат умеренно-континентальный, благоприятный для жизни и хозяйственной деятельности 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благоприятные погодные усло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ложняют ведение сельского хозя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Климатообразующие фактор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371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1371600"/>
            <a:ext cx="762120" cy="3200400"/>
          </a:xfrm>
          <a:prstGeom prst="downArrow">
            <a:avLst>
              <a:gd name="adj1" fmla="val 50000"/>
              <a:gd name="adj2" fmla="val 10498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14479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666880"/>
            <a:ext cx="2895840" cy="173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Солнеч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ради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4724280"/>
            <a:ext cx="3352680" cy="1312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Циркуля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атм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2514600"/>
            <a:ext cx="3429000" cy="155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Характер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одстил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Солнечная радиац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ЗАВИСИТ 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Высоты Солнца над горизо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Продолжительности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Обла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Ш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2362320"/>
            <a:ext cx="381240" cy="1523880"/>
          </a:xfrm>
          <a:custGeom>
            <a:avLst/>
            <a:gdLst>
              <a:gd name="textAreaLeft" fmla="*/ 0 w 381240"/>
              <a:gd name="textAreaRight" fmla="*/ 137520 w 3812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Характер подстилающей поверхност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6668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внинность релье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Циркуляция воздушных масс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371600"/>
            <a:ext cx="9143280" cy="5027400"/>
            <a:chOff x="0" y="1371600"/>
            <a:chExt cx="9143280" cy="5027400"/>
          </a:xfrm>
        </p:grpSpPr>
        <p:cxnSp>
          <p:nvCxnSpPr>
            <p:cNvPr id="108" name="_s1946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668200" y="2284560"/>
              <a:ext cx="1006200" cy="3200760"/>
            </a:xfrm>
            <a:prstGeom prst="bentConnector3">
              <a:avLst>
                <a:gd name="adj1" fmla="val 21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9467"/>
            <p:cNvCxnSpPr>
              <a:stCxn id="112" idx="0"/>
              <a:endCxn id="110" idx="2"/>
            </p:cNvCxnSpPr>
            <p:nvPr/>
          </p:nvCxnSpPr>
          <p:spPr>
            <a:xfrm flipV="1">
              <a:off x="4571280" y="3381840"/>
              <a:ext cx="3240" cy="10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9466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468160" y="2284560"/>
              <a:ext cx="1006200" cy="3200760"/>
            </a:xfrm>
            <a:prstGeom prst="bentConnector3">
              <a:avLst>
                <a:gd name="adj1" fmla="val 210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9462"/>
            <p:cNvSpPr/>
            <p:nvPr/>
          </p:nvSpPr>
          <p:spPr>
            <a:xfrm>
              <a:off x="3200040" y="137160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ТИПЫ ВМ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9463"/>
            <p:cNvSpPr/>
            <p:nvPr/>
          </p:nvSpPr>
          <p:spPr>
            <a:xfrm>
              <a:off x="0" y="438804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8000"/>
                  </a:solidFill>
                  <a:latin typeface="Arial"/>
                </a:rPr>
                <a:t>УВМ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8000"/>
                  </a:solidFill>
                  <a:latin typeface="Arial"/>
                </a:rPr>
                <a:t>Мор. и 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008000"/>
                  </a:solidFill>
                  <a:latin typeface="Arial"/>
                </a:rPr>
                <a:t>Конт.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9464"/>
            <p:cNvSpPr/>
            <p:nvPr/>
          </p:nvSpPr>
          <p:spPr>
            <a:xfrm>
              <a:off x="3200040" y="438804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6666cc"/>
                  </a:solidFill>
                  <a:latin typeface="Arial"/>
                </a:rPr>
                <a:t>АВМ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9465"/>
            <p:cNvSpPr/>
            <p:nvPr/>
          </p:nvSpPr>
          <p:spPr>
            <a:xfrm>
              <a:off x="6400440" y="4388040"/>
              <a:ext cx="2742840" cy="20109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200" spc="-1" strike="noStrike">
                  <a:solidFill>
                    <a:srgbClr val="ff6600"/>
                  </a:solidFill>
                  <a:latin typeface="Arial"/>
                </a:rPr>
                <a:t>ТВМ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я рисунок 12, 14 учебника и справочные материалы из практической работы №3 выпишите в тетрад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. температура июля 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. температура января -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довая амплитуда температуры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одовое количество осадков 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ежим выпадения осадков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обладающие направления ветров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Показатели климат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. температура июля = + 18,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. температура января =-11,4 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довая амплитуда температуры =+6,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одовое количество осадков 6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м, летний максим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тры - Ю-З, Ю, С, С-З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Задание: используя рисунок 15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           заполните таблицу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1600200"/>
          <a:ext cx="8001000" cy="4703760"/>
        </p:xfrm>
        <a:graphic>
          <a:graphicData uri="http://schemas.openxmlformats.org/drawingml/2006/table">
            <a:tbl>
              <a:tblPr/>
              <a:tblGrid>
                <a:gridCol w="1600200"/>
                <a:gridCol w="2514600"/>
                <a:gridCol w="2210040"/>
                <a:gridCol w="1676160"/>
              </a:tblGrid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. 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р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 Т январ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 Т ию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овое кол-во осад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09480" y="1676520"/>
            <a:ext cx="16765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им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1488960"/>
            <a:ext cx="693432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13T19:55:5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