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7B3-F88C-4E6D-AC3F-93393FD2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E97-1A6D-4014-962D-302B9E01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320-5524-40DA-A832-F2057FD1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723-D53F-4178-BE93-BC54040F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6BE-BF7B-4A31-8D1C-24ED723C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3B9-0309-4FFC-9A24-C1D5E370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027-AF6A-4B62-96C6-2046884F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6A8-0D42-498E-8665-666CBAA9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F82-6E98-4458-AF8A-39D24168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E03-3F84-4DC8-BB24-B3503054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30C-82C4-42C4-82AD-B1E64FB3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748-8DA5-4DE0-A524-0CA5F7F6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305C-F0DD-4F0D-9E47-F11C798B08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Урок письма для учащихся 9-11 классов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ак много мы потеряли, перестав писать письма! Телефонный разговор нельзя перечитывать снова и снова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143000" y="2357280"/>
            <a:ext cx="71438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Написать личное письмо на любую тему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43120" y="2643120"/>
            <a:ext cx="37227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интересную работу!!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ишите письма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66978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564372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 (интернет-ресурсы)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6_kyjggnwLU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hEZ4mHlYSNw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bqxnYj9c-Zo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fjeMBhnciOM&amp;feature=fvst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textprom.ru/pages-vidy-delovyh-pisem.html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koptelov.org/how-to-write-emails/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shkolazhizni.ru/archive/0/n-8194/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shakin.ru/other/how-to-write-letters.html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ru.wikipedia.org/wiki/%D0%AD%D0%BF%D0%B8%D1%81%D1%82%D0%BE%D0%BB%D1%8F%D1%80%D0%BD%D0%B0%D1%8F_%D0%BB%D0%B8%D1%82%D0%B5%D1%80%D0%B0%D1%82%D1%83%D1%80%D0%B0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xamens.ru/otvet/1/11/1308.html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mp3ostrov.com/mp3/info/tat_ana-snejina-pis_ma-tvoi-1195493/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A0MUJ5Avo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8igAI3QQI5Q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ru.wikipedia.org/wiki/%D0%9F%D0%B8%D1%81%D1%8C%D0%BC%D0%BE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mniki.ru/epistolyarni-zhanr.html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znanie.info/portal/ec-letters.html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celuu.ru/army/16878.htm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572080" y="3357720"/>
            <a:ext cx="357192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подготовила и провел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КОУ Киргинцевской СОШ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пинского райо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осибирской обла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ер Ирина Александровна.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дрес образовательного учреждени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32758 Новосибирская область, Купинский район, д. Киргинцево, ул. Центральная, 49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л: (38358) 30-222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машний адрес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632758 Новосибирская область, Купинский район, д. Киргинцево, ул. Центральная, 37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л: (913) 451-90-33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. почта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er.i.a@yandex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45720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Цели: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знакомить учащихся с понятиями «письмо», «эпистолярный жанр»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Рассмотреть виды писе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знакомить с особенностями написания писе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Выявить значение эпистолярного жанра в художественной литературе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Учить писать письма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робудить в учащихся желание писать письмо от руки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Развивать речь учащихся, обогащать словарный запас.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714760" y="421488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8640" y="274680"/>
            <a:ext cx="52578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сьма, написанные от руки, теперь уже выглядят как поздравления из прошлого века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орнтон Уайлд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20718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сьмом является — написанный в компактной форме н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умаг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ли других материала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екс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пистолярный жан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это жанр литературного произведения, который характеризуется тем, что повествование преподносится читателю в форме пере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571760" y="2214720"/>
            <a:ext cx="6000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ы писем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чные и делов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71840" y="1928880"/>
            <a:ext cx="424332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ловые письма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нфиденциальные и открыт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71760" y="1857240"/>
            <a:ext cx="5565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Жанры деловых писем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Письмо-контракт, информационное письмо, рекомендательное письмо, рекламное письмо, письмо-просьба, письмо-предложение, мотивационное письмо, сопроводительное письмо, письмо о сотрудничестве, письмо-запрос и другие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28840" y="2571840"/>
            <a:ext cx="619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er_sv</cp:lastModifiedBy>
  <dcterms:modified xsi:type="dcterms:W3CDTF">2012-07-21T01:29:22Z</dcterms:modified>
  <cp:revision>8</cp:revision>
  <dc:subject/>
  <dc:title>Урок письма для учащихся 9-11 классов. Как много мы потеряли, перестав писать письма! Телефонный разговор нельзя перечитывать снова и снова </dc:title>
</cp:coreProperties>
</file>