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40A-DA05-425A-9E78-1996EB24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E61E-430C-4B49-A93F-1E64228C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96A-42A3-405F-8A50-21D5EDD4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6EDE-25C6-438F-A247-4B0F643E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EE14-3C81-4CEE-9FC4-1E132D9F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524A-760A-4696-9BA8-B6096E20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08DC-6EEE-49F6-BFA5-9F84310F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D318-9AEB-45EE-88F6-EBAD8741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37BE-9405-4FF1-AED2-DD2E8A15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5D06-526E-4A52-854F-DA47859B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6AE0-0D91-4D5D-8FC8-93B529DD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CA0-E71B-4F13-B15B-367B4F30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5FE1-E1D4-4277-876E-AC6725E2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9A37-98CD-4E06-B77D-CE5A3016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61EA-E01D-419D-B040-1041D3BE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A7A2-2BF8-4A61-A857-1B1237C0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D5F3-D920-4A9F-9122-C6BEE616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8EC-7842-42D1-93BF-DB4C76EA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51F-02FE-4848-9A13-AE86CC03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494-3065-4817-BECE-EF27A45A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536-F3BC-4DC8-B500-810504CB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D9BD-4CB5-4F9B-8417-43890300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FE3-59BB-4E6B-BD96-17EC0A6D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A342-0083-42DE-BB3E-94AB4429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dfc0ff"/>
                </a:gs>
                <a:gs pos="100000">
                  <a:srgbClr val="90db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09B7-ADBB-4090-9500-E1994F5C3E6E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49cbb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dfc0ff"/>
                </a:gs>
                <a:gs pos="100000">
                  <a:srgbClr val="90db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49cb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E329-538E-4993-8A40-F3B5A6F14BF7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Скругленный прямоугольник 3"/>
          <p:cNvGrpSpPr/>
          <p:nvPr/>
        </p:nvGrpSpPr>
        <p:grpSpPr>
          <a:xfrm>
            <a:off x="4284720" y="5661000"/>
            <a:ext cx="1974600" cy="772920"/>
            <a:chOff x="4284720" y="5661000"/>
            <a:chExt cx="1974600" cy="772920"/>
          </a:xfrm>
        </p:grpSpPr>
        <p:pic>
          <p:nvPicPr>
            <p:cNvPr id="92" name="Скругленный прямоугольник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284720" y="5661000"/>
              <a:ext cx="19746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383000" y="5732280"/>
              <a:ext cx="1785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Начать тест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4" name="Rectangle 9"/>
          <p:cNvSpPr/>
          <p:nvPr/>
        </p:nvSpPr>
        <p:spPr>
          <a:xfrm>
            <a:off x="1476360" y="549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МОУ «СОШ №34 с углубленным изучением</a:t>
            </a:r>
            <a:br>
              <a:rPr sz="1800"/>
            </a:b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 художественно-эстетических предметов»</a:t>
            </a:r>
            <a:br>
              <a:rPr sz="1800"/>
            </a:b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г. Сарат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1547640" y="1484280"/>
            <a:ext cx="7215480" cy="31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17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Викторина по теме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3366"/>
                </a:solidFill>
                <a:latin typeface="Times New Roman"/>
              </a:rPr>
              <a:t>«Витамины»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Вариант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Times New Roman"/>
              </a:rPr>
              <a:t>Составитель:  учитель физической культуры 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И.М. Кости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cc"/>
                </a:solidFill>
                <a:latin typeface="Times New Roman"/>
              </a:rPr>
              <a:t>В работе использованы тестовые вопросы и задания по физической культуры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3635280" y="3357720"/>
            <a:ext cx="6939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б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635280" y="39337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в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3635280" y="270828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3708360" y="450864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1403280" y="765000"/>
            <a:ext cx="7221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Витамины это – необходимые для жизни соединения, которые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а) организм не способен синтезировать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б) вредны для организм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в) влияют на превращение глюкозы в гликоген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г) являются в организме источником энерг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90000"/>
              </a:lnSpc>
              <a:spcBef>
                <a:spcPts val="499"/>
              </a:spcBef>
              <a:buClr>
                <a:srgbClr val="90dbf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067280" y="18900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1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92720" y="4365720"/>
            <a:ext cx="280188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3059280" y="3284640"/>
            <a:ext cx="6938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б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3059280" y="3860640"/>
            <a:ext cx="6938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в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2987640" y="263700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3059280" y="450864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Содержимое 2"/>
          <p:cNvSpPr/>
          <p:nvPr/>
        </p:nvSpPr>
        <p:spPr>
          <a:xfrm>
            <a:off x="1547640" y="692280"/>
            <a:ext cx="7077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Из перечисленных продуктов, фруктов и овощей выберите те, в которых содержится витамин «С»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а) молоко б) лук в) горох г) мяс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492360" y="26028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2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508720" y="40766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9"/>
          <p:cNvSpPr/>
          <p:nvPr/>
        </p:nvSpPr>
        <p:spPr>
          <a:xfrm>
            <a:off x="3419640" y="3141720"/>
            <a:ext cx="6938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б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3419640" y="3789360"/>
            <a:ext cx="6938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в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3348000" y="263700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3492360" y="436572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419640" y="18900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</a:t>
            </a:r>
            <a:r>
              <a:rPr b="1" lang="en-US" sz="2900" spc="-1" strike="noStrike">
                <a:solidFill>
                  <a:srgbClr val="993366"/>
                </a:solidFill>
                <a:latin typeface="Arial"/>
              </a:rPr>
              <a:t>3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Содержимое 2"/>
          <p:cNvSpPr/>
          <p:nvPr/>
        </p:nvSpPr>
        <p:spPr>
          <a:xfrm>
            <a:off x="1476360" y="981000"/>
            <a:ext cx="7292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При недостатке витамина «С» в организме человека происходит: а) задержка роста и развития заболевания «куриная слепота»; б) нарушение слизистых оболочек полости рта;     в) расстройства нервной системы; г) боли в суставах, кровоточивость десе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4778280" cy="23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124000" y="328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Ответ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Содержимое 2"/>
          <p:cNvSpPr/>
          <p:nvPr/>
        </p:nvSpPr>
        <p:spPr>
          <a:xfrm>
            <a:off x="1763640" y="1052640"/>
            <a:ext cx="67168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Завершение утверждени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За свертываемость крови при кровотечении отвечает витамин……………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3348000" y="18900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4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4275000"/>
            <a:ext cx="2879640" cy="23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2411280" y="3141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Ответ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1979640" y="907920"/>
            <a:ext cx="5987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Отсутствие аскорбиновой кислоты в организме вызывает болезнь……………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76720" y="189000"/>
            <a:ext cx="2700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5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3789360"/>
            <a:ext cx="247176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419640" y="3141720"/>
            <a:ext cx="69386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б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3419640" y="3789360"/>
            <a:ext cx="6938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в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348000" y="263700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3492360" y="436572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imes New Roman"/>
              </a:rPr>
              <a:t>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419640" y="189000"/>
            <a:ext cx="2328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993366"/>
                </a:solidFill>
                <a:latin typeface="Times New Roman"/>
              </a:rPr>
              <a:t>Вопрос №</a:t>
            </a:r>
            <a:r>
              <a:rPr b="1" lang="en-US" sz="2900" spc="-1" strike="noStrike">
                <a:solidFill>
                  <a:srgbClr val="993366"/>
                </a:solidFill>
                <a:latin typeface="Arial"/>
              </a:rPr>
              <a:t>6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Содержимое 2"/>
          <p:cNvSpPr/>
          <p:nvPr/>
        </p:nvSpPr>
        <p:spPr>
          <a:xfrm>
            <a:off x="1476360" y="981000"/>
            <a:ext cx="72928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Витамин, который в организме способен синтезироваться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90360" indent="17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Times New Roman"/>
              </a:rPr>
              <a:t>а) «К»         б) «Д»        в) «С»       г) «Е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292720" y="4005360"/>
            <a:ext cx="3144960" cy="23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0920" y="333360"/>
            <a:ext cx="6228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66"/>
                </a:solidFill>
                <a:latin typeface="Times New Roman"/>
              </a:rPr>
              <a:t>Результаты теста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17320" y="2006640"/>
            <a:ext cx="5505480" cy="23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36160" indent="-6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Всего вопросов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236160" indent="-6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Правильных ответов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236160" indent="-6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Процент правильных ответов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236160" indent="-68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cc"/>
                </a:solidFill>
                <a:latin typeface="Times New Roman"/>
              </a:rPr>
              <a:t>Оценка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09:38:13Z</dcterms:created>
  <dc:creator>KEM</dc:creator>
  <dc:description/>
  <dc:language>en-US</dc:language>
  <cp:lastModifiedBy>Ирина</cp:lastModifiedBy>
  <dcterms:modified xsi:type="dcterms:W3CDTF">2012-06-06T18:36:14Z</dcterms:modified>
  <cp:revision>216</cp:revision>
  <dc:subject/>
  <dc:title>Слайд 1</dc:title>
</cp:coreProperties>
</file>