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2.wmf" ContentType="image/x-wmf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48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32.jpeg" ContentType="image/jpeg"/>
  <Override PartName="/ppt/media/image20.wmf" ContentType="image/x-wmf"/>
  <Override PartName="/ppt/media/image4.wmf" ContentType="image/x-wmf"/>
  <Override PartName="/ppt/media/image34.wmf" ContentType="image/x-wmf"/>
  <Override PartName="/ppt/media/image27.wmf" ContentType="image/x-wmf"/>
  <Override PartName="/ppt/media/image3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58.wmf" ContentType="image/x-wmf"/>
  <Override PartName="/ppt/media/image60.png" ContentType="image/png"/>
  <Override PartName="/ppt/media/image67.wmf" ContentType="image/x-wmf"/>
  <Override PartName="/ppt/media/image10.png" ContentType="image/png"/>
  <Override PartName="/ppt/media/image65.wmf" ContentType="image/x-wmf"/>
  <Override PartName="/ppt/media/image25.png" ContentType="image/png"/>
  <Override PartName="/ppt/media/image19.jpeg" ContentType="image/jpeg"/>
  <Override PartName="/ppt/media/image62.png" ContentType="image/png"/>
  <Override PartName="/ppt/media/image26.png" ContentType="image/png"/>
  <Override PartName="/ppt/media/image66.wmf" ContentType="image/x-wmf"/>
  <Override PartName="/ppt/media/image23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61.wmf" ContentType="image/x-wmf"/>
  <Override PartName="/ppt/media/image21.wmf" ContentType="image/x-wmf"/>
  <Override PartName="/ppt/media/image64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29.wmf" ContentType="image/x-wmf"/>
  <Override PartName="/ppt/media/image31.png" ContentType="image/png"/>
  <Override PartName="/ppt/media/image11.png" ContentType="image/png"/>
  <Override PartName="/ppt/media/image63.jpeg" ContentType="image/jpeg"/>
  <Override PartName="/ppt/media/image5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30.png" ContentType="image/png"/>
  <Override PartName="/ppt/media/image54.jpeg" ContentType="image/jpeg"/>
  <Override PartName="/ppt/media/image33.png" ContentType="image/png"/>
  <Override PartName="/ppt/media/image36.wmf" ContentType="image/x-wmf"/>
  <Override PartName="/ppt/media/image47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148-72E1-44A5-8FCF-4AC7D448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2A2-7E86-4514-B74F-D1FB6CEC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85E-2D29-419A-A808-E57AED81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FEB-CB99-4DBB-9B43-B6FC718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F33-CEE7-4DD6-A7C8-AED1A8C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C1E-718B-47E5-AEEC-DC363A8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1DA-1C07-46A1-9C29-5976222E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E91-8039-4156-932E-EBFB8893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CA8-5822-4245-9198-612A003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EF6-97C3-4319-9DC5-175D5224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8A22-16B5-4EB7-A6C0-175F818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6FC-F99E-4BE0-83AC-0C66AC1F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A8E1-F7F8-4DFC-BE58-C3196527F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39.wmf"/><Relationship Id="rId4" Type="http://schemas.openxmlformats.org/officeDocument/2006/relationships/image" Target="../media/image39.wmf"/><Relationship Id="rId5" Type="http://schemas.openxmlformats.org/officeDocument/2006/relationships/image" Target="../media/image39.wmf"/><Relationship Id="rId6" Type="http://schemas.openxmlformats.org/officeDocument/2006/relationships/image" Target="../media/image39.wmf"/><Relationship Id="rId7" Type="http://schemas.openxmlformats.org/officeDocument/2006/relationships/image" Target="../media/image39.wmf"/><Relationship Id="rId8" Type="http://schemas.openxmlformats.org/officeDocument/2006/relationships/image" Target="../media/image39.wmf"/><Relationship Id="rId9" Type="http://schemas.openxmlformats.org/officeDocument/2006/relationships/image" Target="../media/image39.wmf"/><Relationship Id="rId10" Type="http://schemas.openxmlformats.org/officeDocument/2006/relationships/image" Target="../media/image39.wmf"/><Relationship Id="rId11" Type="http://schemas.openxmlformats.org/officeDocument/2006/relationships/image" Target="../media/image39.wmf"/><Relationship Id="rId12" Type="http://schemas.openxmlformats.org/officeDocument/2006/relationships/image" Target="../media/image39.wmf"/><Relationship Id="rId13" Type="http://schemas.openxmlformats.org/officeDocument/2006/relationships/image" Target="../media/image39.wmf"/><Relationship Id="rId14" Type="http://schemas.openxmlformats.org/officeDocument/2006/relationships/image" Target="../media/image39.wmf"/><Relationship Id="rId15" Type="http://schemas.openxmlformats.org/officeDocument/2006/relationships/image" Target="../media/image39.wmf"/><Relationship Id="rId16" Type="http://schemas.openxmlformats.org/officeDocument/2006/relationships/image" Target="../media/image39.wmf"/><Relationship Id="rId17" Type="http://schemas.openxmlformats.org/officeDocument/2006/relationships/image" Target="../media/image39.wmf"/><Relationship Id="rId18" Type="http://schemas.openxmlformats.org/officeDocument/2006/relationships/image" Target="../media/image39.wmf"/><Relationship Id="rId19" Type="http://schemas.openxmlformats.org/officeDocument/2006/relationships/image" Target="../media/image39.wmf"/><Relationship Id="rId20" Type="http://schemas.openxmlformats.org/officeDocument/2006/relationships/image" Target="../media/image39.wmf"/><Relationship Id="rId21" Type="http://schemas.openxmlformats.org/officeDocument/2006/relationships/image" Target="../media/image39.wmf"/><Relationship Id="rId22" Type="http://schemas.openxmlformats.org/officeDocument/2006/relationships/image" Target="../media/image39.wmf"/><Relationship Id="rId23" Type="http://schemas.openxmlformats.org/officeDocument/2006/relationships/image" Target="../media/image39.wmf"/><Relationship Id="rId24" Type="http://schemas.openxmlformats.org/officeDocument/2006/relationships/image" Target="../media/image39.wmf"/><Relationship Id="rId25" Type="http://schemas.openxmlformats.org/officeDocument/2006/relationships/image" Target="../media/image39.wmf"/><Relationship Id="rId26" Type="http://schemas.openxmlformats.org/officeDocument/2006/relationships/image" Target="../media/image39.wmf"/><Relationship Id="rId27" Type="http://schemas.openxmlformats.org/officeDocument/2006/relationships/image" Target="../media/image40.pn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bfd5ff"/>
              </a:gs>
              <a:gs pos="100000">
                <a:srgbClr val="e5eeff"/>
              </a:gs>
            </a:gsLst>
            <a:lin ang="180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49360" y="1403280"/>
            <a:ext cx="6040440" cy="28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родителям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по укреплению 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7a37"/>
                  </a:solidFill>
                  <a:miter/>
                </a:ln>
                <a:solidFill>
                  <a:srgbClr val="f4f1e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здоровья детей</a:t>
            </a:r>
            <a:endParaRPr b="1" lang="en-US" sz="1800" spc="1" strike="noStrike">
              <a:ln w="12600">
                <a:solidFill>
                  <a:srgbClr val="007a37"/>
                </a:solidFill>
                <a:miter/>
              </a:ln>
              <a:solidFill>
                <a:srgbClr val="f4f1e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28880" y="8703360"/>
            <a:ext cx="42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У ДОУ Д/С №2292 группа №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C:\Users\viki\AppData\Local\Microsoft\Windows\Temporary Internet Files\Content.IE5\RSWC3R1M\MCj04345990000[1].wmf"/>
          <p:cNvPicPr/>
          <p:nvPr/>
        </p:nvPicPr>
        <p:blipFill>
          <a:blip r:embed="rId1"/>
          <a:stretch/>
        </p:blipFill>
        <p:spPr>
          <a:xfrm>
            <a:off x="5599080" y="90360"/>
            <a:ext cx="973080" cy="133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C:\Users\viki\AppData\Local\Microsoft\Windows\Temporary Internet Files\Content.IE5\QYIAUPJ1\MCj04360450000[1].wmf"/>
          <p:cNvPicPr/>
          <p:nvPr/>
        </p:nvPicPr>
        <p:blipFill>
          <a:blip r:embed="rId2"/>
          <a:stretch/>
        </p:blipFill>
        <p:spPr>
          <a:xfrm>
            <a:off x="60480" y="5786280"/>
            <a:ext cx="2797200" cy="296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C:\Users\viki\AppData\Local\Microsoft\Windows\Temporary Internet Files\Content.IE5\5HM5BHCY\MCj04358390000[1].wmf"/>
          <p:cNvPicPr/>
          <p:nvPr/>
        </p:nvPicPr>
        <p:blipFill>
          <a:blip r:embed="rId3"/>
          <a:stretch/>
        </p:blipFill>
        <p:spPr>
          <a:xfrm>
            <a:off x="4214880" y="6143760"/>
            <a:ext cx="2585880" cy="2585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C:\Users\viki\AppData\Local\Microsoft\Windows\Temporary Internet Files\Content.IE5\HT7649U9\MCj04283330000[1].wmf"/>
          <p:cNvPicPr/>
          <p:nvPr/>
        </p:nvPicPr>
        <p:blipFill>
          <a:blip r:embed="rId4"/>
          <a:stretch/>
        </p:blipFill>
        <p:spPr>
          <a:xfrm>
            <a:off x="2286000" y="4411800"/>
            <a:ext cx="250020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620640" y="324000"/>
            <a:ext cx="5616720" cy="122364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214200" y="3929040"/>
            <a:ext cx="6500880" cy="371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и когда лучше заняться босохождение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азумеется, зимой в холода начинать приучать ребенка к подобному не стоит, но весной или летом, малыш вполне может бегать босиком по полу дома, а еще лучше – по зеленой трав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Ребенок должен регулярно ходить босиком, настоящий закаливающий  эффект наступает лишь после длительных систематических трениров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Используйте специальные резиновые коврики с шиповым рифлением. Каждое утро начинайте зарядку с ходьбы босиком на таком коври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ahoma"/>
              </a:rPr>
              <a:t>Полезно массировать стопы ног с помощью скалки или круглой палки, катая их подошвами по несколько минут в де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2"/>
          <p:cNvSpPr/>
          <p:nvPr/>
        </p:nvSpPr>
        <p:spPr>
          <a:xfrm>
            <a:off x="142920" y="1643040"/>
            <a:ext cx="65721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ще один способ закалки – это </a:t>
            </a: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прогулки босик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0" i="1" lang="en-US" sz="1400" spc="-1" strike="noStrike">
                <a:solidFill>
                  <a:srgbClr val="0070c0"/>
                </a:solidFill>
                <a:latin typeface="Arial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14"/>
          <p:cNvGrpSpPr/>
          <p:nvPr/>
        </p:nvGrpSpPr>
        <p:grpSpPr>
          <a:xfrm>
            <a:off x="210960" y="1429200"/>
            <a:ext cx="6504480" cy="504000"/>
            <a:chOff x="210960" y="1429200"/>
            <a:chExt cx="6504480" cy="504000"/>
          </a:xfrm>
        </p:grpSpPr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2"/>
            <a:stretch/>
          </p:blipFill>
          <p:spPr>
            <a:xfrm rot="5015400">
              <a:off x="941040" y="149832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3"/>
            <a:stretch/>
          </p:blipFill>
          <p:spPr>
            <a:xfrm rot="5062200">
              <a:off x="1626840" y="1514160"/>
              <a:ext cx="39996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4"/>
            <a:stretch/>
          </p:blipFill>
          <p:spPr>
            <a:xfrm rot="4956000">
              <a:off x="234720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5"/>
            <a:stretch/>
          </p:blipFill>
          <p:spPr>
            <a:xfrm rot="4956000">
              <a:off x="3132720" y="1458000"/>
              <a:ext cx="399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4956000">
              <a:off x="393840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4956000">
              <a:off x="472428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55814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6296040" y="1457280"/>
              <a:ext cx="39996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5015400">
              <a:off x="226800" y="1512720"/>
              <a:ext cx="39996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2" descr="C:\Users\viki\AppData\Local\Microsoft\Windows\Temporary Internet Files\Content.IE5\GMERIPU6\MCj04160140000[1].wmf"/>
          <p:cNvPicPr/>
          <p:nvPr/>
        </p:nvPicPr>
        <p:blipFill>
          <a:blip r:embed="rId11"/>
          <a:stretch/>
        </p:blipFill>
        <p:spPr>
          <a:xfrm flipH="1" rot="18748800">
            <a:off x="4508280" y="837072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viki\AppData\Local\Microsoft\Windows\Temporary Internet Files\Content.IE5\GMERIPU6\MCj04160140000[1].wmf"/>
          <p:cNvPicPr/>
          <p:nvPr/>
        </p:nvPicPr>
        <p:blipFill>
          <a:blip r:embed="rId12"/>
          <a:stretch/>
        </p:blipFill>
        <p:spPr>
          <a:xfrm flipH="1" rot="4527600">
            <a:off x="6116400" y="611640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Users\viki\AppData\Local\Microsoft\Windows\Temporary Internet Files\Content.IE5\GMERIPU6\MCj04160140000[1].wmf"/>
          <p:cNvPicPr/>
          <p:nvPr/>
        </p:nvPicPr>
        <p:blipFill>
          <a:blip r:embed="rId13"/>
          <a:stretch/>
        </p:blipFill>
        <p:spPr>
          <a:xfrm flipH="1" rot="19780200">
            <a:off x="6100560" y="482292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viki\AppData\Local\Microsoft\Windows\Temporary Internet Files\Content.IE5\GMERIPU6\MCj04160140000[1].wmf"/>
          <p:cNvPicPr/>
          <p:nvPr/>
        </p:nvPicPr>
        <p:blipFill>
          <a:blip r:embed="rId14"/>
          <a:stretch/>
        </p:blipFill>
        <p:spPr>
          <a:xfrm flipH="1" rot="3929400">
            <a:off x="4988520" y="678384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viki\AppData\Local\Microsoft\Windows\Temporary Internet Files\Content.IE5\GMERIPU6\MCj04160140000[1].wmf"/>
          <p:cNvPicPr/>
          <p:nvPr/>
        </p:nvPicPr>
        <p:blipFill>
          <a:blip r:embed="rId15"/>
          <a:stretch/>
        </p:blipFill>
        <p:spPr>
          <a:xfrm flipH="1" rot="17756400">
            <a:off x="5322600" y="846936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viki\AppData\Local\Microsoft\Windows\Temporary Internet Files\Content.IE5\GMERIPU6\MCj04160140000[1].wmf"/>
          <p:cNvPicPr/>
          <p:nvPr/>
        </p:nvPicPr>
        <p:blipFill>
          <a:blip r:embed="rId16"/>
          <a:stretch/>
        </p:blipFill>
        <p:spPr>
          <a:xfrm flipH="1" rot="4482600">
            <a:off x="130320" y="862092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viki\AppData\Local\Microsoft\Windows\Temporary Internet Files\Content.IE5\GMERIPU6\MCj04160140000[1].wmf"/>
          <p:cNvPicPr/>
          <p:nvPr/>
        </p:nvPicPr>
        <p:blipFill>
          <a:blip r:embed="rId17"/>
          <a:stretch/>
        </p:blipFill>
        <p:spPr>
          <a:xfrm flipH="1" rot="16643400">
            <a:off x="594720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viki\AppData\Local\Microsoft\Windows\Temporary Internet Files\Content.IE5\GMERIPU6\MCj04160140000[1].wmf"/>
          <p:cNvPicPr/>
          <p:nvPr/>
        </p:nvPicPr>
        <p:blipFill>
          <a:blip r:embed="rId18"/>
          <a:stretch/>
        </p:blipFill>
        <p:spPr>
          <a:xfrm flipH="1" rot="16643400">
            <a:off x="518040" y="314280"/>
            <a:ext cx="39996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viki\AppData\Local\Microsoft\Windows\Temporary Internet Files\Content.IE5\GMERIPU6\MCj04160140000[1].wmf"/>
          <p:cNvPicPr/>
          <p:nvPr/>
        </p:nvPicPr>
        <p:blipFill>
          <a:blip r:embed="rId19"/>
          <a:stretch/>
        </p:blipFill>
        <p:spPr>
          <a:xfrm flipH="1" rot="18199800">
            <a:off x="6144480" y="8674200"/>
            <a:ext cx="400320" cy="3906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5"/>
          <p:cNvSpPr/>
          <p:nvPr/>
        </p:nvSpPr>
        <p:spPr>
          <a:xfrm>
            <a:off x="214200" y="7358040"/>
            <a:ext cx="642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Users\viki\AppData\Local\Microsoft\Windows\Temporary Internet Files\Content.IE5\GMERIPU6\MCj04160140000[1].wmf"/>
          <p:cNvPicPr/>
          <p:nvPr/>
        </p:nvPicPr>
        <p:blipFill>
          <a:blip r:embed="rId20"/>
          <a:stretch/>
        </p:blipFill>
        <p:spPr>
          <a:xfrm flipH="1" rot="19433400">
            <a:off x="6238800" y="41022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Users\viki\AppData\Local\Microsoft\Windows\Temporary Internet Files\Content.IE5\GMERIPU6\MCj04160140000[1].wmf"/>
          <p:cNvPicPr/>
          <p:nvPr/>
        </p:nvPicPr>
        <p:blipFill>
          <a:blip r:embed="rId21"/>
          <a:stretch/>
        </p:blipFill>
        <p:spPr>
          <a:xfrm flipH="1" rot="18459000">
            <a:off x="5596200" y="3456720"/>
            <a:ext cx="400320" cy="38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viki\AppData\Local\Microsoft\Windows\Temporary Internet Files\Content.IE5\GMERIPU6\MCj04160140000[1].wmf"/>
          <p:cNvPicPr/>
          <p:nvPr/>
        </p:nvPicPr>
        <p:blipFill>
          <a:blip r:embed="rId22"/>
          <a:stretch/>
        </p:blipFill>
        <p:spPr>
          <a:xfrm flipH="1" rot="4482600">
            <a:off x="773280" y="8346240"/>
            <a:ext cx="399960" cy="390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viki\AppData\Local\Microsoft\Windows\Temporary Internet Files\Content.IE5\GMERIPU6\MCj04160140000[1].wmf"/>
          <p:cNvPicPr/>
          <p:nvPr/>
        </p:nvPicPr>
        <p:blipFill>
          <a:blip r:embed="rId23"/>
          <a:stretch/>
        </p:blipFill>
        <p:spPr>
          <a:xfrm flipH="1" rot="4480800">
            <a:off x="1540800" y="8192880"/>
            <a:ext cx="40068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viki\AppData\Local\Microsoft\Windows\Temporary Internet Files\Content.IE5\GMERIPU6\MCj04160140000[1].wmf"/>
          <p:cNvPicPr/>
          <p:nvPr/>
        </p:nvPicPr>
        <p:blipFill>
          <a:blip r:embed="rId24"/>
          <a:stretch/>
        </p:blipFill>
        <p:spPr>
          <a:xfrm flipH="1" rot="18139200">
            <a:off x="4743720" y="3461400"/>
            <a:ext cx="399960" cy="38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Users\viki\AppData\Local\Microsoft\Windows\Temporary Internet Files\Content.IE5\GMERIPU6\MCj04160140000[1].wmf"/>
          <p:cNvPicPr/>
          <p:nvPr/>
        </p:nvPicPr>
        <p:blipFill>
          <a:blip r:embed="rId25"/>
          <a:stretch/>
        </p:blipFill>
        <p:spPr>
          <a:xfrm flipH="1" rot="17579400">
            <a:off x="390060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viki\AppData\Local\Microsoft\Windows\Temporary Internet Files\Content.IE5\GMERIPU6\MCj04160140000[1].wmf"/>
          <p:cNvPicPr/>
          <p:nvPr/>
        </p:nvPicPr>
        <p:blipFill>
          <a:blip r:embed="rId26"/>
          <a:stretch/>
        </p:blipFill>
        <p:spPr>
          <a:xfrm flipH="1" rot="17579400">
            <a:off x="3056040" y="3474000"/>
            <a:ext cx="399960" cy="3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viki\AppData\Local\Microsoft\Windows\Temporary Internet Files\Content.IE5\GMERIPU6\MCj04160140000[1].wmf"/>
          <p:cNvPicPr/>
          <p:nvPr/>
        </p:nvPicPr>
        <p:blipFill>
          <a:blip r:embed="rId27"/>
          <a:stretch/>
        </p:blipFill>
        <p:spPr>
          <a:xfrm>
            <a:off x="2286000" y="3322800"/>
            <a:ext cx="5493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5" descr=""/>
          <p:cNvPicPr/>
          <p:nvPr/>
        </p:nvPicPr>
        <p:blipFill>
          <a:blip r:embed="rId1"/>
          <a:stretch/>
        </p:blipFill>
        <p:spPr>
          <a:xfrm>
            <a:off x="-1504800" y="103320"/>
            <a:ext cx="10314000" cy="20858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0" y="75564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no Pro Caption"/>
              </a:rPr>
              <a:t>Окончательно стопа формируется у ребенка к 7-8 годам. Плоскостопие считается одним из самых распространенных заболеваний у  детей. Но родители часто не воспринимают это заболевание всерьез и это неправильная пози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7" descr=""/>
          <p:cNvPicPr/>
          <p:nvPr/>
        </p:nvPicPr>
        <p:blipFill>
          <a:blip r:embed="rId2"/>
          <a:stretch/>
        </p:blipFill>
        <p:spPr>
          <a:xfrm>
            <a:off x="255600" y="1865160"/>
            <a:ext cx="6394320" cy="592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285840" y="3000240"/>
            <a:ext cx="635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бувь у ребенка должна быть сделана из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натуральных материало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внутри с твердым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супинатором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поднимающим внутренний край сто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дошва детской обуви должна быть гибкой  и иметь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каблук (5-10 мм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искусственно поднимающий свод стопы, защищающий пятку от ушиб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viki\AppData\Local\Microsoft\Windows\Temporary Internet Files\Content.IE5\HT7649U9\MCBD10572_0000[1].wmf"/>
          <p:cNvPicPr/>
          <p:nvPr/>
        </p:nvPicPr>
        <p:blipFill>
          <a:blip r:embed="rId3"/>
          <a:stretch/>
        </p:blipFill>
        <p:spPr>
          <a:xfrm>
            <a:off x="285840" y="4552920"/>
            <a:ext cx="2598480" cy="2305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viki\AppData\Local\Microsoft\Windows\Temporary Internet Files\Content.IE5\6NZXK4SD\MCj00903600000[1].wmf"/>
          <p:cNvPicPr/>
          <p:nvPr/>
        </p:nvPicPr>
        <p:blipFill>
          <a:blip r:embed="rId4"/>
          <a:stretch/>
        </p:blipFill>
        <p:spPr>
          <a:xfrm>
            <a:off x="0" y="2500200"/>
            <a:ext cx="6861240" cy="574920"/>
          </a:xfrm>
          <a:prstGeom prst="rect">
            <a:avLst/>
          </a:prstGeom>
          <a:ln w="0">
            <a:noFill/>
          </a:ln>
        </p:spPr>
      </p:pic>
      <p:grpSp>
        <p:nvGrpSpPr>
          <p:cNvPr id="156" name="Группа 14"/>
          <p:cNvGrpSpPr/>
          <p:nvPr/>
        </p:nvGrpSpPr>
        <p:grpSpPr>
          <a:xfrm>
            <a:off x="5456160" y="7997760"/>
            <a:ext cx="1285920" cy="1074960"/>
            <a:chOff x="5456160" y="7997760"/>
            <a:chExt cx="1285920" cy="1074960"/>
          </a:xfrm>
        </p:grpSpPr>
        <p:pic>
          <p:nvPicPr>
            <p:cNvPr id="157" name="Picture 3" descr="C:\Users\viki\AppData\Local\Microsoft\Windows\Temporary Internet Files\Content.IE5\YHBMSOS7\MCHH01678_0000[1].wmf"/>
            <p:cNvPicPr/>
            <p:nvPr/>
          </p:nvPicPr>
          <p:blipFill>
            <a:blip r:embed="rId5"/>
            <a:stretch/>
          </p:blipFill>
          <p:spPr>
            <a:xfrm>
              <a:off x="5956200" y="7997760"/>
              <a:ext cx="78588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" descr="C:\Users\viki\AppData\Local\Microsoft\Windows\Temporary Internet Files\Content.IE5\YHBMSOS7\MCHH01678_0000[1].wmf"/>
            <p:cNvPicPr/>
            <p:nvPr/>
          </p:nvPicPr>
          <p:blipFill>
            <a:blip r:embed="rId6"/>
            <a:stretch/>
          </p:blipFill>
          <p:spPr>
            <a:xfrm flipH="1">
              <a:off x="5456160" y="8283600"/>
              <a:ext cx="864000" cy="7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Box 16"/>
          <p:cNvSpPr/>
          <p:nvPr/>
        </p:nvSpPr>
        <p:spPr>
          <a:xfrm>
            <a:off x="2000160" y="4462560"/>
            <a:ext cx="542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бувь должна соответствовать форм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размеру стопы, была </a:t>
            </a:r>
            <a:r>
              <a:rPr b="0" i="1" lang="en-US" sz="1600" spc="-1" strike="noStrike">
                <a:solidFill>
                  <a:srgbClr val="d60093"/>
                </a:solidFill>
                <a:latin typeface="Arial"/>
              </a:rPr>
              <a:t>удобной при носк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не мешала естественному развитию ноги, не сдавливала стопу, нарушая кровообращение и вызывая потертост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143160" y="571644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весу обувь должна быть максимально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легкой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остаточно жесткой, с хорошим задн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мните, длина следа должна быть </a:t>
            </a:r>
            <a:r>
              <a:rPr b="0" i="1" lang="ru-RU" sz="1600" spc="-1" strike="noStrike">
                <a:solidFill>
                  <a:srgbClr val="d60093"/>
                </a:solidFill>
                <a:latin typeface="Arial"/>
              </a:rPr>
              <a:t>больше стопы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носочной части, припуск в 10 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643040" y="7715160"/>
            <a:ext cx="5429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7"/>
          <p:cNvSpPr/>
          <p:nvPr/>
        </p:nvSpPr>
        <p:spPr>
          <a:xfrm>
            <a:off x="71280" y="729756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При определении размера обуви ребенка руководствуйтесь длиной стопы которая определяется расстоянием между наиболее выступающей точкой пятки и концом самого длинного паль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no Pro Smbd Caption"/>
              </a:rPr>
              <a:t>(первого или втор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5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3" descr=""/>
          <p:cNvPicPr/>
          <p:nvPr/>
        </p:nvPicPr>
        <p:blipFill>
          <a:blip r:embed="rId1"/>
          <a:stretch/>
        </p:blipFill>
        <p:spPr>
          <a:xfrm>
            <a:off x="-1579680" y="201600"/>
            <a:ext cx="10315800" cy="2486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6"/>
          <p:cNvSpPr/>
          <p:nvPr/>
        </p:nvSpPr>
        <p:spPr>
          <a:xfrm>
            <a:off x="27000" y="2268360"/>
            <a:ext cx="6858000" cy="65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плекс упражнений при плоскостоп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лечебная гимнаст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Описание упражнений</a:t>
            </a:r>
            <a:r>
              <a:rPr b="0" lang="en-US" sz="1600" spc="-1" strike="noStrike">
                <a:solidFill>
                  <a:srgbClr val="cc0099"/>
                </a:solidFill>
                <a:latin typeface="Arial"/>
              </a:rPr>
              <a:t>                                 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</a:rPr>
              <a:t> Кол-во пов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дьб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носках, руки вверх                                                </a:t>
            </a:r>
            <a:r>
              <a:rPr b="0" lang="en-US" sz="1400" spc="-1" strike="noStrike">
                <a:solidFill>
                  <a:srgbClr val="d60093"/>
                </a:solidFill>
                <a:latin typeface="Arial"/>
              </a:rPr>
              <a:t>по 20-30 с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на пятках, руки на поя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на наружном своде стоп, пальцы согнуты, руки на поя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) с мячом (теннисным) - зажать стопами, ходить на внешней стороне сто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Стоя на палке (обруче)                            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полуприседания и приседания, руки вперед или в стор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передвижение вдоль палки - ставить стопы вдоль или поперек палки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3-4 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Сто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на наружном своде стоп - поворот туловище лев –прав.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поднимание на носках с упором на наружный свод стопы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"Лодочка"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жа на животе одновременно поднять руки, голову, ноги и держать до 5-7 минут                                                   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"Угол"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жа на спине держать ноги под углом 45 гр.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4-6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Сид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) сгибание - разгибание пальцев стоп                             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5-20 ра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) максимальное разведение и сведение пяток, не отрывая носков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5-20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) с напряжением тянуть носки на себя, от себя  (колени прямые )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) соединить стопы. Колени прямые  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) круговые движения стопами внутрь,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) захватывание и приподнимание пальцами стоп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рандаша или мелкого предмета     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10-12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) захватывание и приподнимание стопами мал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яча, колени прямые </a:t>
            </a:r>
            <a:r>
              <a:rPr b="0" lang="en-US" sz="1400" spc="-1" strike="noStrike">
                <a:solidFill>
                  <a:srgbClr val="cc0099"/>
                </a:solidFill>
                <a:latin typeface="Arial"/>
              </a:rPr>
              <a:t>                           6-8 ра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8" descr="art874_1.jpg"/>
          <p:cNvPicPr/>
          <p:nvPr/>
        </p:nvPicPr>
        <p:blipFill>
          <a:blip r:embed="rId2"/>
          <a:srcRect l="0" t="0" r="0" b="50008"/>
          <a:stretch/>
        </p:blipFill>
        <p:spPr>
          <a:xfrm>
            <a:off x="214200" y="1785960"/>
            <a:ext cx="1360440" cy="1000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9" descr="platy3.jpg"/>
          <p:cNvPicPr/>
          <p:nvPr/>
        </p:nvPicPr>
        <p:blipFill>
          <a:blip r:embed="rId3"/>
          <a:stretch/>
        </p:blipFill>
        <p:spPr>
          <a:xfrm>
            <a:off x="4572000" y="7542360"/>
            <a:ext cx="1952640" cy="13730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0" descr="art874_1.jpg"/>
          <p:cNvPicPr/>
          <p:nvPr/>
        </p:nvPicPr>
        <p:blipFill>
          <a:blip r:embed="rId4"/>
          <a:srcRect l="0" t="49539" r="0" b="0"/>
          <a:stretch/>
        </p:blipFill>
        <p:spPr>
          <a:xfrm>
            <a:off x="1643040" y="1214280"/>
            <a:ext cx="1360440" cy="10098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2857680" y="1214280"/>
            <a:ext cx="400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Если Ваш ребёнок жалуется на усталость после прогулки и/или слишком быстро снашивает обувь, то, возможно, у него развивается плоскостоп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3429000" y="88362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тепени продольного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лоскостоп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4200" y="2785680"/>
            <a:ext cx="652968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Улучшает работу внутренних органов, развивает сердечно-сосудистую и дыхательную систему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В условиях продолжительного пребывания в воде совершенствуются процессы терморегуляции. Происходит закаливание организма, растет  сопротивляемость неблагоприятным факторам внешней среды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Плавание, является одним из лучших средств формирования правильной осанки ребенка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Дозированное плавание может быть полезно детям, склонным к простудным заболев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Прямоугольник 6" descr=""/>
          <p:cNvPicPr/>
          <p:nvPr/>
        </p:nvPicPr>
        <p:blipFill>
          <a:blip r:embed="rId1"/>
          <a:stretch/>
        </p:blipFill>
        <p:spPr>
          <a:xfrm>
            <a:off x="401760" y="-244440"/>
            <a:ext cx="5962680" cy="1103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viki\AppData\Local\Microsoft\Windows\Temporary Internet Files\Content.IE5\QYIAUPJ1\MCj02321440000[1].wmf"/>
          <p:cNvPicPr/>
          <p:nvPr/>
        </p:nvPicPr>
        <p:blipFill>
          <a:blip r:embed="rId2"/>
          <a:stretch/>
        </p:blipFill>
        <p:spPr>
          <a:xfrm>
            <a:off x="4786200" y="7122960"/>
            <a:ext cx="1857600" cy="20210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2"/>
          <p:cNvSpPr/>
          <p:nvPr/>
        </p:nvSpPr>
        <p:spPr>
          <a:xfrm>
            <a:off x="2357280" y="928800"/>
            <a:ext cx="4429440" cy="1797480"/>
          </a:xfrm>
          <a:prstGeom prst="rect">
            <a:avLst/>
          </a:prstGeom>
          <a:noFill/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аннее плавание детей способствует быстрейшему их физическому и психомоторному развитию. При плавании кожа ребенка испытывает благотворное массирующее воздействие воды, в связи с чем улучшается кровообращение и укрепляется нервная сист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C:\Users\viki\AppData\Local\Microsoft\Windows\Temporary Internet Files\Content.IE5\09MDLVTJ\MCj03433910000[1].wmf"/>
          <p:cNvPicPr/>
          <p:nvPr/>
        </p:nvPicPr>
        <p:blipFill>
          <a:blip r:embed="rId3"/>
          <a:srcRect l="0" t="9184" r="0" b="0"/>
          <a:stretch/>
        </p:blipFill>
        <p:spPr>
          <a:xfrm>
            <a:off x="214200" y="928800"/>
            <a:ext cx="2041560" cy="1785960"/>
          </a:xfrm>
          <a:prstGeom prst="rect">
            <a:avLst/>
          </a:prstGeom>
          <a:ln w="19080">
            <a:solidFill>
              <a:srgbClr val="00b0f0"/>
            </a:solidFill>
            <a:miter/>
          </a:ln>
        </p:spPr>
      </p:pic>
      <p:sp>
        <p:nvSpPr>
          <p:cNvPr id="177" name="TextBox 14"/>
          <p:cNvSpPr/>
          <p:nvPr/>
        </p:nvSpPr>
        <p:spPr>
          <a:xfrm>
            <a:off x="214200" y="6675480"/>
            <a:ext cx="44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Регулярные занятия плаванием, способствуют укреплению нервной системы, крепче становится сон, улучшается аппетит, повышается общий тонус организма, совершенствуются движения, увеличивается выносл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214200" y="1275840"/>
            <a:ext cx="6929280" cy="17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санка – это привычное положение тела человека. Она считается правильной, если человек держит голову прямо и свободно, плечи находятся на одном уровне, слегка опущены назад, корпус выпрямлен, живот подтянут, грудь слегка выступает вперед, колени выпрямле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Прямоугольник 3" descr=""/>
          <p:cNvPicPr/>
          <p:nvPr/>
        </p:nvPicPr>
        <p:blipFill>
          <a:blip r:embed="rId1"/>
          <a:stretch/>
        </p:blipFill>
        <p:spPr>
          <a:xfrm>
            <a:off x="291960" y="-208080"/>
            <a:ext cx="6096240" cy="1592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6" descr="osanka2.gif"/>
          <p:cNvPicPr/>
          <p:nvPr/>
        </p:nvPicPr>
        <p:blipFill>
          <a:blip r:embed="rId2"/>
          <a:stretch/>
        </p:blipFill>
        <p:spPr>
          <a:xfrm>
            <a:off x="2571840" y="2838600"/>
            <a:ext cx="4214880" cy="17334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7"/>
          <p:cNvSpPr/>
          <p:nvPr/>
        </p:nvSpPr>
        <p:spPr>
          <a:xfrm>
            <a:off x="0" y="29289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ьная осанка не бывает врожденной, она начинает формирова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ервых лет наше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214200" y="435780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иболее ответственный период для фор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анк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т 4 до 10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учая вашего ребенка «правильно» держать свое тел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забывайте при этом и про вашу оса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142920" y="5486400"/>
            <a:ext cx="6643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Segoe Print"/>
              </a:rPr>
              <a:t>Причины формирования неправильной осанк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сутствие крепкого, достаточно развитого мышечного корсажа – мышеч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равномерное развитие мышц спины, живота  и бедер, изменение тяги, определяющей вертикальное положение позвоночни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олжительная болезнь или хронические заболевания, ослабляющие организ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дствия рах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соответствующая росту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удобная одежда и обув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142920" y="8416800"/>
            <a:ext cx="47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йте осанку своего ребенка раз в пол года самостоятельно, не прибегая к помощи вр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0" descr="osanka3.jpg"/>
          <p:cNvPicPr/>
          <p:nvPr/>
        </p:nvPicPr>
        <p:blipFill>
          <a:blip r:embed="rId3"/>
          <a:stretch/>
        </p:blipFill>
        <p:spPr>
          <a:xfrm>
            <a:off x="4916520" y="7358040"/>
            <a:ext cx="17272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Прямоугольник 4" descr=""/>
          <p:cNvPicPr/>
          <p:nvPr/>
        </p:nvPicPr>
        <p:blipFill>
          <a:blip r:embed="rId1"/>
          <a:stretch/>
        </p:blipFill>
        <p:spPr>
          <a:xfrm>
            <a:off x="-291960" y="-19080"/>
            <a:ext cx="7583400" cy="684360"/>
          </a:xfrm>
          <a:prstGeom prst="rect">
            <a:avLst/>
          </a:prstGeom>
          <a:ln w="0">
            <a:noFill/>
          </a:ln>
        </p:spPr>
      </p:pic>
      <p:pic>
        <p:nvPicPr>
          <p:cNvPr id="190" name="Содержимое 5" descr="556a4fba3e10.png"/>
          <p:cNvPicPr/>
          <p:nvPr/>
        </p:nvPicPr>
        <p:blipFill>
          <a:blip r:embed="rId2"/>
          <a:stretch/>
        </p:blipFill>
        <p:spPr>
          <a:xfrm>
            <a:off x="4321080" y="6477120"/>
            <a:ext cx="2536920" cy="26668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214200" y="1285920"/>
            <a:ext cx="65008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йте и разденьте ребенка до трусиков, поставьте прямо, руки должны быть опущены вдоль туловища. Сами сядьте на стул на расстоянии 2-3 м и внимательно посмотрите н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214200" y="64296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мотр вашего ребенка проводите в дневное время, при хорошем и равномерном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142920" y="2214720"/>
            <a:ext cx="6643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мметрично ли расположены уши, лопатки, талия, складки под ягодицами и сами ягодицы. Если они находятся на разной высоте, есть причина для беспокойст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просите ребенка достать руками до пола, выгнув спину. Проверьте, нет ли вдоль поясничных позвонков валиков, не торчат ли лопа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мотрите на ребенка сбоку и проверьте, не сутулится ли он, попросите его наклонить голову вперед и, не поднимая головы, повернуть ее сначала в одну, затем в другую сторону. Убедитесь, что объем движений при этом одинаков и выполняются они без ограни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9"/>
          <p:cNvSpPr/>
          <p:nvPr/>
        </p:nvSpPr>
        <p:spPr>
          <a:xfrm>
            <a:off x="2052000" y="514368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5b00"/>
                </a:solidFill>
                <a:latin typeface="Arial"/>
              </a:rPr>
              <a:t>Следим за осанкой в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142920" y="5700600"/>
            <a:ext cx="5143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Покажите ребенку такой способ: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стать к стене, плотно прижавшись затылком, 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лопатками, ягодицами, икрами ног и пятками, подбородок слегка приподнять. Ребенок должен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зафиксировать в сознании 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мышечные ощущения при таком положении тела. Если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3-4 раза в день  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ребенок будет стараться удерживать такую позу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несколько секунд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, это благотворно отразится на его осанке.  Для формирования правильной осанки проводите с детьми </a:t>
            </a:r>
            <a:r>
              <a:rPr b="0" lang="en-US" sz="1800" spc="-1" strike="noStrike">
                <a:solidFill>
                  <a:srgbClr val="ff6600"/>
                </a:solidFill>
                <a:latin typeface="Minion Pro"/>
              </a:rPr>
              <a:t>упражнения с предметами на голове</a:t>
            </a:r>
            <a:r>
              <a:rPr b="0" lang="en-US" sz="1800" spc="-1" strike="noStrike">
                <a:solidFill>
                  <a:srgbClr val="000000"/>
                </a:solidFill>
                <a:latin typeface="Minion Pro"/>
              </a:rPr>
              <a:t>, балансирование, хождение по наклонн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Прямоугольник 4" descr=""/>
          <p:cNvPicPr/>
          <p:nvPr/>
        </p:nvPicPr>
        <p:blipFill>
          <a:blip r:embed="rId1"/>
          <a:stretch/>
        </p:blipFill>
        <p:spPr>
          <a:xfrm>
            <a:off x="23760" y="-146160"/>
            <a:ext cx="7072200" cy="15969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0" y="135720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ая улыбка не только привлекает внимание, помогает в общении, но и говорит о том, что у вас здоровые, крепкие зубы. Когда люди жили в пещерах,  у них не было зубных щеток, но они все равно ухаживали за зубами, вытаскивали кусочки мяса маленькими палочками с острыми кон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71280" y="787248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770e"/>
                </a:solidFill>
                <a:latin typeface="Comic Sans MS"/>
              </a:rPr>
              <a:t>Ухаживайте за своими зубами ежедневно, ешьте полезные продукты, посещайте стоматолога раз в полгода и тогда ваши зубки будут крепкими, а улыбка белоснежной </a:t>
            </a:r>
            <a:r>
              <a:rPr b="0" lang="en-US" sz="1800" spc="-1" strike="noStrike">
                <a:solidFill>
                  <a:srgbClr val="0b770e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"/>
          <p:cNvSpPr/>
          <p:nvPr/>
        </p:nvSpPr>
        <p:spPr>
          <a:xfrm>
            <a:off x="0" y="4572000"/>
            <a:ext cx="678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Зубы  необходимо чистить правильно, тщательно вычищать остатки пищи щеткой из самых труднодоступных  угол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Зубы нужно чистить не менее 3х минут. Передние зубы чистить по направлению вверх и вниз, затем задние зубы. Зубы всегда нужно чистить круговыми движ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C:\Users\viki\AppData\Local\Microsoft\Windows\Temporary Internet Files\Content.IE5\YN4VUU4O\MCj02812880000[1].wmf"/>
          <p:cNvPicPr/>
          <p:nvPr/>
        </p:nvPicPr>
        <p:blipFill>
          <a:blip r:embed="rId2"/>
          <a:stretch/>
        </p:blipFill>
        <p:spPr>
          <a:xfrm rot="21382800">
            <a:off x="4811400" y="2573280"/>
            <a:ext cx="194292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viki\AppData\Local\Microsoft\Windows\Temporary Internet Files\Content.IE5\YHBMSOS7\MCj02329840000[1].wmf"/>
          <p:cNvPicPr/>
          <p:nvPr/>
        </p:nvPicPr>
        <p:blipFill>
          <a:blip r:embed="rId3"/>
          <a:stretch/>
        </p:blipFill>
        <p:spPr>
          <a:xfrm>
            <a:off x="357120" y="6000840"/>
            <a:ext cx="1166760" cy="18651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2"/>
          <p:cNvSpPr/>
          <p:nvPr/>
        </p:nvSpPr>
        <p:spPr>
          <a:xfrm>
            <a:off x="71280" y="2857680"/>
            <a:ext cx="500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770e"/>
                </a:solidFill>
                <a:latin typeface="Arial"/>
              </a:rPr>
              <a:t>Как только у ребенка появились молочные зубы, давайте ему после кормления кипяченную воду, а более старших детей приучайте полоскать рот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71280" y="392904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В 3 года подарите ребенку зубную щетку и приучите чистить зубы ежедневно утром и вечером после 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1785960" y="5929200"/>
            <a:ext cx="500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йте обращать внимание на состояние зубов у детей в возрасте старше 2-3 лет, когда у них возникает кари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но к 10-12 годам молочные зубы у ребенка полностью заменяются на коренные, и заболеваемость кариесом снова возраст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1"/>
          <a:stretch/>
        </p:blipFill>
        <p:spPr>
          <a:xfrm>
            <a:off x="2157480" y="-171360"/>
            <a:ext cx="4938480" cy="1744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viki\AppData\Local\Microsoft\Windows\Temporary Internet Files\Content.IE5\COU2X6RI\MCj03432950000[1].wmf"/>
          <p:cNvPicPr/>
          <p:nvPr/>
        </p:nvPicPr>
        <p:blipFill>
          <a:blip r:embed="rId2"/>
          <a:stretch/>
        </p:blipFill>
        <p:spPr>
          <a:xfrm>
            <a:off x="71280" y="71280"/>
            <a:ext cx="2340000" cy="1500480"/>
          </a:xfrm>
          <a:prstGeom prst="rect">
            <a:avLst/>
          </a:prstGeom>
          <a:ln w="0">
            <a:noFill/>
          </a:ln>
        </p:spPr>
      </p:pic>
      <p:pic>
        <p:nvPicPr>
          <p:cNvPr id="209" name="TextBox 6" descr=""/>
          <p:cNvPicPr/>
          <p:nvPr/>
        </p:nvPicPr>
        <p:blipFill>
          <a:blip r:embed="rId3"/>
          <a:stretch/>
        </p:blipFill>
        <p:spPr>
          <a:xfrm>
            <a:off x="133200" y="1609560"/>
            <a:ext cx="6877080" cy="35420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03.jpg"/>
          <p:cNvPicPr/>
          <p:nvPr/>
        </p:nvPicPr>
        <p:blipFill>
          <a:blip r:embed="rId4"/>
          <a:stretch/>
        </p:blipFill>
        <p:spPr>
          <a:xfrm>
            <a:off x="1214280" y="5072040"/>
            <a:ext cx="4572000" cy="399096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ямоугольник 4" descr=""/>
          <p:cNvPicPr/>
          <p:nvPr/>
        </p:nvPicPr>
        <p:blipFill>
          <a:blip r:embed="rId1"/>
          <a:stretch/>
        </p:blipFill>
        <p:spPr>
          <a:xfrm>
            <a:off x="-324000" y="201600"/>
            <a:ext cx="7974000" cy="18032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0" y="1285920"/>
            <a:ext cx="6858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даптаци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юбой человек, оказавшись в непривычных условиях, ведет себя не естественно, привыкает, приспосабливается. Тоже происходит и с ребенком, поэтому в сентябре-октябре в его поведении могут появиться изменения. Вдруг ребенок может стать капризным, плаксивым, как будто снова стал маленьким и хочет, чтобы к нему относились как малы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еба-игр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чень важно сочетать игру и учебу. Учиться, игр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намного легче, ведь играть ребенок умеет очень хорошо. А учеб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это та сфера, где ребенок  первоклассни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нович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шиб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шибки и неудач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это естественные вехи на пути обучения. Почему же мы, взрослые, часто относятся к ошибкам как к чему-то противоестественному , чего быть не должно. А ошибки лишь указывают на слабые места, которые требуют дополнительного внимания и все! Критикуя за ошибки, мы как бы не позволяем быть естественным вещам, относимся к ребенку так, как будто он уже должен все уметь, а не только уч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ценивать результаты, а не личность ребенка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ценки в жизни первоклассника зачастую болезненный вопрос. Ребенок через отношение к своим поступкам, результатам в учебе формирует отношение к себ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 хорошо написал, какой хороший мальчик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Казалось бы, что здесь плохого? А если завтра напишет хуже, значит уже плохой? Конечно, нет, но ребенок рассудит именно так. Важно, чтобы в словах взрослых не смешивалось отношение к личности ребенка с отношением к его результатам в уч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404640" y="8215200"/>
            <a:ext cx="631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Школа </a:t>
            </a:r>
            <a:r>
              <a:rPr b="1" i="1" lang="en-US" sz="16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это как работа для взросл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только ребенок получает за сво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Minion Pro"/>
              </a:rPr>
              <a:t>не деньги, а 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C:\Users\viki\AppData\Local\Microsoft\Windows\Temporary Internet Files\Content.IE5\M4P7N6CI\MCj04358410000[1].wmf"/>
          <p:cNvPicPr/>
          <p:nvPr/>
        </p:nvPicPr>
        <p:blipFill>
          <a:blip r:embed="rId2"/>
          <a:stretch/>
        </p:blipFill>
        <p:spPr>
          <a:xfrm flipH="1">
            <a:off x="4997520" y="5643720"/>
            <a:ext cx="1503360" cy="3357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9"/>
          <p:cNvSpPr/>
          <p:nvPr/>
        </p:nvSpPr>
        <p:spPr>
          <a:xfrm>
            <a:off x="71280" y="5929200"/>
            <a:ext cx="4643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Школа – это авторитарная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где дисциплина и повиновение очень важный компонент в процессе обучения. Поэтому не следует ожидать что в школе вашего ребенка полюбят, будут заботиться, что там ему будет хорошо и весело, что там разовьются всевозможные способности ребенка, его творческий потенциал. У школы задачи другие – дать знания ребенку и сделать его способным жить в обществе, где есть определенные законы и ограничения, где люди – разные и по-разному могут относиться друг к друг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240" y="261720"/>
            <a:ext cx="6943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ОСОБЕННОСТИ ФИЗИЧЕСКОГО ВОСПИТАНИЯ ДЕТЕЙ ПРИ ПОСТУПЛЕНИИ ИХ В ШКОЛ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viki\AppData\Local\Microsoft\Windows\Temporary Internet Files\Content.IE5\16OLWOMK\MCj04357730000[1].wmf"/>
          <p:cNvPicPr/>
          <p:nvPr/>
        </p:nvPicPr>
        <p:blipFill>
          <a:blip r:embed="rId1"/>
          <a:stretch/>
        </p:blipFill>
        <p:spPr>
          <a:xfrm>
            <a:off x="5643720" y="71280"/>
            <a:ext cx="1143000" cy="248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:\Users\viki\AppData\Local\Microsoft\Windows\Temporary Internet Files\Content.IE5\YN4VUU4O\MCj04357450000[1].wmf"/>
          <p:cNvPicPr/>
          <p:nvPr/>
        </p:nvPicPr>
        <p:blipFill>
          <a:blip r:embed="rId2"/>
          <a:stretch/>
        </p:blipFill>
        <p:spPr>
          <a:xfrm>
            <a:off x="71280" y="6705720"/>
            <a:ext cx="2025720" cy="2295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71280" y="1500120"/>
            <a:ext cx="55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ереход ребенка от условий воспитания в семье к школе — переломный момент в его жизни. Школа предъявляет к детям ряд новых для них требований, связанных с систематическим обучением, с пребыванием в коллекти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0" y="285768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я школьников 1—2-х классов установлен следующий режим, разработанный Институтом физического воспитания и школьной гигиены Академии педагогических наук, утвержденный Управлением школ Министерства просвещения РСФС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обуждение — в 7 часов утра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тренняя гимнастика, закаливающие процедуры (обтирание, душ), уборка постели, умывание. В 7 часов 30 минут. ребенок садится завтракать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0" y="4429080"/>
            <a:ext cx="685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Учебные занят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школе продолжаются 4 часа. По приходе из школы — обед (13 часов — 13 часов 30 минут); отдых в течение часа (детям 7 лет полезно в это время спат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отдыха — обязательное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прогулка, подвижные игры и развлечения, лыжи, коньки, санки и т. д. Для этого отводится время от 14 часов 30 минут до 16 час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этого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иготовление урок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—1 1/2 часа) и снова </a:t>
            </a: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ебывание на воздух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От 19 до 20 часов — ужин и свободные занятия.</a:t>
            </a:r>
            <a:br>
              <a:rPr sz="1400"/>
            </a:br>
            <a:r>
              <a:rPr b="0" lang="en-US" sz="1400" spc="-1" strike="noStrike">
                <a:solidFill>
                  <a:srgbClr val="0070c0"/>
                </a:solidFill>
                <a:latin typeface="Arial"/>
              </a:rPr>
              <a:t>Приготовления ко с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чистка одежды, обуви, проветривание комнаты, вечерний туалет — 20 часов — 20 часов 30 минут, сон — с 20 часов 30 минут до 7 ча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2000160" y="6715080"/>
            <a:ext cx="4786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Большое внимание следует уделять созданию гигиенических условий для домашних занятий, детей. Приготовление уроков требует усидчивой работы за столом, поэтому прежде всего необходимо позаботиться об организации места, где школьник готовит уро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оспитание здорового, физически хорошо развитого человека требует дружной совместной работы семьи и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4" descr=""/>
          <p:cNvPicPr/>
          <p:nvPr/>
        </p:nvPicPr>
        <p:blipFill>
          <a:blip r:embed="rId1"/>
          <a:stretch/>
        </p:blipFill>
        <p:spPr>
          <a:xfrm>
            <a:off x="-60480" y="-208080"/>
            <a:ext cx="6918480" cy="145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0" y="1285920"/>
            <a:ext cx="6858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Долг родителей — укрепить здоровье ребенка в данный момент и обеспечить благоприятное развитие детского организма в будущем. Нормальное развитие и состояние здоровья обеспечивается созданием оптимальных условий, то есть организацией правильного реж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2357280"/>
            <a:ext cx="685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физическом воспитании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детей дошкольного возраста используются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физические упражнения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ходьба, бег, упражнения в равновесии, метание, лазание, подвижные игры),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спортивные упражнения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гигиенические факторы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режим дня, питание, сон и т. п.), </a:t>
            </a:r>
            <a:r>
              <a:rPr b="0" i="1" lang="en-US" sz="1600" spc="-1" strike="noStrike">
                <a:solidFill>
                  <a:srgbClr val="ee5b00"/>
                </a:solidFill>
                <a:latin typeface="Calibri"/>
              </a:rPr>
              <a:t>естественные силы природы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(солнце, воздух и 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2000160" y="3968640"/>
            <a:ext cx="48578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alibri"/>
              </a:rPr>
              <a:t>Задания и объяснения должны быть ясными и четкими, давать их надо бодрым голосом" и тут же показывать все дви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Упражнения должны быть интересные, в них следует использовать хорошо запоминающиеся образные сравнения, например: «птичка», «кошка», «паровоз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alibri"/>
              </a:rPr>
              <a:t>Основной принцип, которого должны придерживаться родители, занимаясь физическими упражнениями с малышами,— изображать все в виде игры. Веселый тон, шутка, смех, активное участие взрослого всегда увлекают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оличество повторений движений для дошкольников обычно колеблется от 2—3 д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alibri"/>
              </a:rPr>
              <a:t>После наиболее трудных упражнений необходимо давать кратковременные паузы отдыха (30—60 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ие значения показателей двигательной активности детей за полный день - 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объем 17 000 движен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интенсивность 55-65 движений в мину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8" descr=""/>
          <p:cNvPicPr/>
          <p:nvPr/>
        </p:nvPicPr>
        <p:blipFill>
          <a:blip r:embed="rId2"/>
          <a:stretch/>
        </p:blipFill>
        <p:spPr>
          <a:xfrm>
            <a:off x="2133720" y="3419640"/>
            <a:ext cx="4857480" cy="64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iki\AppData\Local\Microsoft\Windows\Temporary Internet Files\Content.IE5\COU2X6RI\MCj04370690000[1].png"/>
          <p:cNvPicPr/>
          <p:nvPr/>
        </p:nvPicPr>
        <p:blipFill>
          <a:blip r:embed="rId3"/>
          <a:stretch/>
        </p:blipFill>
        <p:spPr>
          <a:xfrm>
            <a:off x="71280" y="37148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viki\AppData\Local\Microsoft\Windows\Temporary Internet Files\Content.IE5\HT7649U9\MCj04370680000[1].png"/>
          <p:cNvPicPr/>
          <p:nvPr/>
        </p:nvPicPr>
        <p:blipFill>
          <a:blip r:embed="rId4"/>
          <a:stretch/>
        </p:blipFill>
        <p:spPr>
          <a:xfrm>
            <a:off x="142920" y="52149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viki\AppData\Local\Microsoft\Windows\Temporary Internet Files\Content.IE5\FNMA7AE2\MCj04370790000[1].png"/>
          <p:cNvPicPr/>
          <p:nvPr/>
        </p:nvPicPr>
        <p:blipFill>
          <a:blip r:embed="rId5"/>
          <a:stretch/>
        </p:blipFill>
        <p:spPr>
          <a:xfrm>
            <a:off x="5715000" y="3571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Users\viki\AppData\Local\Microsoft\Windows\Temporary Internet Files\Content.IE5\MOVYDWVJ\MCj04370700000[1].png"/>
          <p:cNvPicPr/>
          <p:nvPr/>
        </p:nvPicPr>
        <p:blipFill>
          <a:blip r:embed="rId6"/>
          <a:stretch/>
        </p:blipFill>
        <p:spPr>
          <a:xfrm>
            <a:off x="620640" y="45133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Users\viki\AppData\Local\Microsoft\Windows\Temporary Internet Files\Content.IE5\FNMA7AE2\MCj04370720000[1].png"/>
          <p:cNvPicPr/>
          <p:nvPr/>
        </p:nvPicPr>
        <p:blipFill>
          <a:blip r:embed="rId7"/>
          <a:stretch/>
        </p:blipFill>
        <p:spPr>
          <a:xfrm rot="2668800">
            <a:off x="102960" y="701496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C:\Users\viki\AppData\Local\Microsoft\Windows\Temporary Internet Files\Content.IE5\RSWC3R1M\MCj04370710000[1].png"/>
          <p:cNvPicPr/>
          <p:nvPr/>
        </p:nvPicPr>
        <p:blipFill>
          <a:blip r:embed="rId8"/>
          <a:stretch/>
        </p:blipFill>
        <p:spPr>
          <a:xfrm>
            <a:off x="71280" y="6286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C:\Users\viki\AppData\Local\Microsoft\Windows\Temporary Internet Files\Content.IE5\M8TJYLUS\MCj04370760000[1].png"/>
          <p:cNvPicPr/>
          <p:nvPr/>
        </p:nvPicPr>
        <p:blipFill>
          <a:blip r:embed="rId9"/>
          <a:stretch/>
        </p:blipFill>
        <p:spPr>
          <a:xfrm>
            <a:off x="1143000" y="58579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C:\Users\viki\AppData\Local\Microsoft\Windows\Temporary Internet Files\Content.IE5\YN4VUU4O\MCj04348700000[1].png"/>
          <p:cNvPicPr/>
          <p:nvPr/>
        </p:nvPicPr>
        <p:blipFill>
          <a:blip r:embed="rId10"/>
          <a:stretch/>
        </p:blipFill>
        <p:spPr>
          <a:xfrm>
            <a:off x="1214280" y="3643200"/>
            <a:ext cx="1214640" cy="121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9"/>
          <p:cNvSpPr/>
          <p:nvPr/>
        </p:nvSpPr>
        <p:spPr>
          <a:xfrm>
            <a:off x="0" y="8143920"/>
            <a:ext cx="685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Физические упражнения только тогда приносят пользу, когда ими занимаются систематически. Родители обязаны ежедневно находить время для занятий физическими упражнениями со своими детьми и тщательно следить за их здоровьем, обращая внимание на внешний вид, настроение и самочувствие ребен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C:\Users\viki\AppData\Local\Microsoft\Windows\Temporary Internet Files\Content.IE5\5HM5BHCY\MCj04370470000[1].png"/>
          <p:cNvPicPr/>
          <p:nvPr/>
        </p:nvPicPr>
        <p:blipFill>
          <a:blip r:embed="rId11"/>
          <a:stretch/>
        </p:blipFill>
        <p:spPr>
          <a:xfrm>
            <a:off x="500040" y="571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C:\Users\viki\AppData\Local\Microsoft\Windows\Temporary Internet Files\Content.IE5\0DKC86KK\MCj04370460000[1].png"/>
          <p:cNvPicPr/>
          <p:nvPr/>
        </p:nvPicPr>
        <p:blipFill>
          <a:blip r:embed="rId12"/>
          <a:stretch/>
        </p:blipFill>
        <p:spPr>
          <a:xfrm rot="621000">
            <a:off x="1412640" y="650088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viki\AppData\Local\Microsoft\Windows\Temporary Internet Files\Content.IE5\GMERIPU6\MCj04370420000[1].png"/>
          <p:cNvPicPr/>
          <p:nvPr/>
        </p:nvPicPr>
        <p:blipFill>
          <a:blip r:embed="rId13"/>
          <a:stretch/>
        </p:blipFill>
        <p:spPr>
          <a:xfrm>
            <a:off x="1785960" y="75722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-55440" y="-128520"/>
            <a:ext cx="6919920" cy="84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viki\Pictures\141(1).jpg"/>
          <p:cNvPicPr/>
          <p:nvPr/>
        </p:nvPicPr>
        <p:blipFill>
          <a:blip r:embed="rId2"/>
          <a:stretch/>
        </p:blipFill>
        <p:spPr>
          <a:xfrm>
            <a:off x="4572000" y="635040"/>
            <a:ext cx="2143080" cy="1793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1280" y="642960"/>
            <a:ext cx="4500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иучая детей к определенному режиму, к выполнению гигиенических требований, мы создаем у них полезные для организма навыки и тем самым сохраняем их здоровье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вердый режим дня, установленный в соответствии с возрастными особенностями детей, — одно из существенных условий нормального физического развития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0" y="257184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0f69"/>
                </a:solidFill>
                <a:latin typeface="Arial"/>
              </a:rPr>
              <a:t>Основное требование к режиму — это точность во времени и правильное чередование, смена одних видов деятельности другими.</a:t>
            </a:r>
            <a:br>
              <a:rPr sz="1600"/>
            </a:br>
            <a:r>
              <a:rPr b="0" lang="en-US" sz="1600" spc="-1" strike="noStrike">
                <a:solidFill>
                  <a:srgbClr val="ad0f69"/>
                </a:solidFill>
                <a:latin typeface="Arial"/>
              </a:rPr>
              <a:t>Должно быть установлено время, когда ребенок ложится спать, встает, ест, гуляет, выполняет несложные, посильные для него обязанности. Время это необходимо точно соблюд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0" y="5715000"/>
            <a:ext cx="5000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Питание</a:t>
            </a:r>
            <a:r>
              <a:rPr b="0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получают питание 4—5 раз в день. Первая еда дается через полчаса, во всяком случае не позднее чем через час после пробуждения ребенка, а последняя — часа за полтора до сна. Между приемами пищи должны быть установлены промежутки в 3—4 часа, их надо строго соблюдать. Наиболее сытная еда дается в обед, менее сытная — на уж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C:\Users\viki\AppData\Local\Microsoft\Windows\Temporary Internet Files\Content.IE5\6NZXK4SD\MCj04282850000[1].wmf"/>
          <p:cNvPicPr/>
          <p:nvPr/>
        </p:nvPicPr>
        <p:blipFill>
          <a:blip r:embed="rId3"/>
          <a:stretch/>
        </p:blipFill>
        <p:spPr>
          <a:xfrm>
            <a:off x="71280" y="3989520"/>
            <a:ext cx="1857600" cy="1582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2000160" y="3857760"/>
            <a:ext cx="4857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Сон</a:t>
            </a:r>
            <a:r>
              <a:rPr b="0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олько во время сна ребенок получает полный отдых. Сон должен быть достаточно продолжительным: дети 3—4 лет спят 14 часов в сутки, 5—6 лет — 13 часов, 7—8 лет — 12 часов. Из этого времени необходимо, особенно для младших детей, выделить часа полтора для дневного сна. Дети должны ложиться не позднее 8—9 часов веч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2071800" y="7572240"/>
            <a:ext cx="47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d0f69"/>
                </a:solidFill>
                <a:uFillTx/>
                <a:latin typeface="Calibri"/>
              </a:rPr>
              <a:t>Прогулки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ак бы точно ни соблюдалось время сна и еды, режим нельзя признать правильным, если в нем не предусмотрено время для прогулки. Чем больше времени дети проводят на открытом воздухе, тем они здоров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Users\viki\AppData\Local\Microsoft\Windows\Temporary Internet Files\Content.IE5\M8TJYLUS\MCj04381290000[1].wmf"/>
          <p:cNvPicPr/>
          <p:nvPr/>
        </p:nvPicPr>
        <p:blipFill>
          <a:blip r:embed="rId4"/>
          <a:stretch/>
        </p:blipFill>
        <p:spPr>
          <a:xfrm>
            <a:off x="4965840" y="5735520"/>
            <a:ext cx="1749240" cy="1622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viki\AppData\Local\Microsoft\Windows\Temporary Internet Files\Content.IE5\6NZXK4SD\MCj04300890000[1].wmf"/>
          <p:cNvPicPr/>
          <p:nvPr/>
        </p:nvPicPr>
        <p:blipFill>
          <a:blip r:embed="rId5"/>
          <a:stretch/>
        </p:blipFill>
        <p:spPr>
          <a:xfrm>
            <a:off x="214200" y="7537320"/>
            <a:ext cx="1797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706320" y="-165240"/>
            <a:ext cx="4945320" cy="139716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0" y="2222640"/>
            <a:ext cx="678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8000"/>
                </a:solidFill>
                <a:uFillTx/>
                <a:latin typeface="Arial"/>
              </a:rPr>
              <a:t>«+»   Достоинства компью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 может помочь развитию у детей таких важнейших операций мышления как обобщение и классифик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занятий на компьютере улучшаются память и внимание де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игре в компьютерные игры у детей раньше развивается знаковая функция сознания, которая лежит в основе абстрактного мышления (мышления без опоры на внешние предмет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ьютерные игры имеют большое значение не только для развития интеллекта детей, но и для развития их моторики, для формирования координации зрительной и моторной функ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71280" y="7500960"/>
            <a:ext cx="4714920" cy="14655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И главное, нельзя уповать только на компьютер. Ребенок – маленький человек, он может формироваться и развиваться, только общаясь с людьми и живя в реальн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:\Users\viki\AppData\Local\Microsoft\Windows\Temporary Internet Files\Content.IE5\EOM03GJD\MCj04357310000[1].wmf"/>
          <p:cNvPicPr/>
          <p:nvPr/>
        </p:nvPicPr>
        <p:blipFill>
          <a:blip r:embed="rId2"/>
          <a:stretch/>
        </p:blipFill>
        <p:spPr>
          <a:xfrm>
            <a:off x="4987800" y="7124760"/>
            <a:ext cx="1798920" cy="1947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Users\viki\AppData\Local\Microsoft\Windows\Temporary Internet Files\Content.IE5\HT7649U9\MCj04315660000[1].png"/>
          <p:cNvPicPr/>
          <p:nvPr/>
        </p:nvPicPr>
        <p:blipFill>
          <a:blip r:embed="rId3"/>
          <a:stretch/>
        </p:blipFill>
        <p:spPr>
          <a:xfrm>
            <a:off x="5143680" y="0"/>
            <a:ext cx="1904760" cy="1917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71280" y="113652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1859c"/>
                </a:solidFill>
                <a:latin typeface="Arial"/>
              </a:rPr>
              <a:t>Современные дети очень много общаются с телевидением, видео и компьютером. Если предыдущее поколение было поколением книг, то современное получает информацию через видео 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0" y="521496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етям 3-4 лет не стоит сидеть у компьютера больше 20 минут, а к 6-7 годам это время ежедневной игры можно увеличить до получа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00080" y="5921280"/>
            <a:ext cx="685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050"/>
                </a:solidFill>
                <a:uFillTx/>
                <a:latin typeface="Arial"/>
              </a:rPr>
              <a:t>«-»   Недостатки компьютер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Чрезмерное обращение с компьютером может привести </a:t>
            </a:r>
            <a:r>
              <a:rPr b="1" i="1" lang="en-US" sz="1600" spc="-1" strike="noStrike">
                <a:solidFill>
                  <a:srgbClr val="000000"/>
                </a:solidFill>
                <a:latin typeface="Candara"/>
              </a:rPr>
              <a:t>к ухудшению зрения ребенка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, а так же отрицательно </a:t>
            </a:r>
            <a:r>
              <a:rPr b="1" i="1" lang="en-US" sz="1600" spc="-1" strike="noStrike">
                <a:solidFill>
                  <a:srgbClr val="000000"/>
                </a:solidFill>
                <a:latin typeface="Candara"/>
              </a:rPr>
              <a:t>сказаться на его психическом здоровье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.  Особенно это </a:t>
            </a:r>
            <a:r>
              <a:rPr b="1" i="1" lang="en-US" sz="1600" spc="-1" strike="noStrike">
                <a:solidFill>
                  <a:srgbClr val="000000"/>
                </a:solidFill>
                <a:latin typeface="Candara"/>
              </a:rPr>
              <a:t>опасно для застенчивых детей</a:t>
            </a: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1"/>
          <a:stretch/>
        </p:blipFill>
        <p:spPr>
          <a:xfrm>
            <a:off x="401760" y="-115920"/>
            <a:ext cx="5889600" cy="82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viki\AppData\Local\Microsoft\Windows\Temporary Internet Files\Content.IE5\FNMA7AE2\MCj04120420000[1].wmf"/>
          <p:cNvPicPr/>
          <p:nvPr/>
        </p:nvPicPr>
        <p:blipFill>
          <a:blip r:embed="rId2"/>
          <a:stretch/>
        </p:blipFill>
        <p:spPr>
          <a:xfrm>
            <a:off x="1500120" y="5610240"/>
            <a:ext cx="3786120" cy="2890800"/>
          </a:xfrm>
          <a:prstGeom prst="rect">
            <a:avLst/>
          </a:prstGeom>
          <a:ln w="0">
            <a:noFill/>
          </a:ln>
        </p:spPr>
      </p:pic>
      <p:sp>
        <p:nvSpPr>
          <p:cNvPr id="89" name="TextBox 8"/>
          <p:cNvSpPr/>
          <p:nvPr/>
        </p:nvSpPr>
        <p:spPr>
          <a:xfrm>
            <a:off x="0" y="64296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должны проводить на свежем воздухе как можно больше времени, чтобы быть здоровыми и крепк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8080"/>
                </a:solidFill>
                <a:uFillTx/>
                <a:latin typeface="Calibri"/>
              </a:rPr>
              <a:t>В летнее врем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могут находится более 6 часов в день на улице, а в </a:t>
            </a:r>
            <a:r>
              <a:rPr b="0" lang="en-US" sz="1600" spc="-1" strike="noStrike" u="sng">
                <a:solidFill>
                  <a:srgbClr val="008080"/>
                </a:solidFill>
                <a:uFillTx/>
                <a:latin typeface="Calibri"/>
              </a:rPr>
              <a:t>осеннее и зимнее время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ти должны быть на воздухе не менее 4 часов. Лучшее время для прогулок с детьми — между завтраком и обедом (2—2 1/2 часа) и после дневного сна, до ужина (1 1/2—2 часа). В сильные морозы длительность прогулок несколько сокращ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0" y="2428920"/>
            <a:ext cx="685800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Arial"/>
              </a:rPr>
              <a:t>Причиной отмены прогулки для здорового ребенка могут быть исключительные обстоятельства: проливной дождь, большой мороз с сильным ветром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опыте работы детских садов установлено, что дети дошкольного возраста, приученные к ежедневным прогулкам, могут гулять и при температуре 20—25° мороза, если нет сильного ветра и если они одеты соответственно погоде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прогулку в холодные зимние дни дети должны выходить в теплом пальто, шапке с наушниками, валенках и теплых варежках или перча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Время от времени полезно совершать с детьми более длительные прогулки, постепенно увеличивая расстояние — для младших до 15—20 минут ходьбы, для более старших — до 30 минут, с небольшими остановками на 1—2 минуты во время пути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0" y="84884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идя на место, дети должны отдохнуть или спокойно поиграть перед тем, как возвращаться обрат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8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3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6931080" cy="77472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142920" y="714240"/>
            <a:ext cx="671508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тарайтесь, чтобы малыш больше двигался, бегал, прыг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2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Включите в рацион полезные для глаз продукты: творог, кефир, отварную  морскую рыбу, морепродукты, говядину, морковь, капусту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чернику, бруснику, клюкву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 петрушку, укроп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3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едите за его осанкой - при «кривой» спине нарушается кровоснабжение головного мозга, которое и провоцирует проблемы со зрением. Запомните: расстояние между книгой и глазами должно быть не менее 25-30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4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Не допускайте, чтобы ребенок подолгу сидел перед телевизором, а если уж сидит, то только строго напротив и не ближе трех мет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5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читать лежа и как можно меньше при искусственном осве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6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Не забывайте, что смотреть телевизор в темной комнате нежелательно.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7. 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школьник может играть на компьютере не более получаса в день,  после 7 лет - 1 час в день или два подхода по 40 мину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Правило 8. 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Про игры на сото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т</a:t>
            </a: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елефоне лучше забы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авило 9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жедневно делайте вме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Гимнастику  глаз – превра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эту  процед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увлекательную иг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C:\Users\viki\AppData\Local\Microsoft\Windows\Temporary Internet Files\Content.IE5\HT7649U9\MCj04241780000[1].wmf"/>
          <p:cNvPicPr/>
          <p:nvPr/>
        </p:nvPicPr>
        <p:blipFill>
          <a:blip r:embed="rId2"/>
          <a:stretch/>
        </p:blipFill>
        <p:spPr>
          <a:xfrm>
            <a:off x="4272120" y="6429240"/>
            <a:ext cx="23000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404640" y="250920"/>
            <a:ext cx="6048720" cy="75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0" y="84265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"/>
              </a:rPr>
              <a:t>Следите за своими глаз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"/>
              </a:rPr>
              <a:t>Мир так прекрасен, особенно если мы его видим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Содержимое 6" descr="i_033.png"/>
          <p:cNvPicPr/>
          <p:nvPr/>
        </p:nvPicPr>
        <p:blipFill>
          <a:blip r:embed="rId2"/>
          <a:stretch/>
        </p:blipFill>
        <p:spPr>
          <a:xfrm>
            <a:off x="142920" y="714240"/>
            <a:ext cx="1677960" cy="1643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0" y="2143080"/>
            <a:ext cx="685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Упражнения выполняются сидя, голова неподвижна, поза удобная, с максимальной амплитудой движения гл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Жмурки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Закрыть глаза, сильно напрягая глазные мышцы, на счет 1 - 4, затем раскрыть глаза, расслабив мышцы глаз, посмотрев вдаль, на счет 1 - 6. Повторить 4 - 5 ра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Близко-далеко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Посмотреть на переносицу и задержать взор на сч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 - 4. До усталости глаза доводить нельзя. Затем открыть глаза, посмотреть вдаль на счет 1 - 6. Повторить 4 - 5 раз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  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Лево-право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 - 4, затем посмотреть вдаль прям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чет 1 - 6. Аналогичным образом проводятся упражнения, но с фиксацией взгляда влево, вверх, вниз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  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иагонали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Перевести взгляд быстро по диагонали: направо вверх - налево вниз, потом прямо вдаль на счет 1 - 6; затем налево - вверх - направо - вниз и посмотреть вдаль на счет 1 - 6. Повторить 3 - 4 ра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785960" y="857160"/>
            <a:ext cx="507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Предлагаем специальный комплекс упражнений для глаз, который при регулярном выполнении может стать хорошей тренировкой и профилактикой для сохранения зрения. Упражнения лучше проводить в игровой форме, с любимыми игрушками ребенка, передвигая их вправо-влево, вверх-вниз.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item_2251.jpg"/>
          <p:cNvPicPr/>
          <p:nvPr/>
        </p:nvPicPr>
        <p:blipFill>
          <a:blip r:embed="rId3"/>
          <a:stretch/>
        </p:blipFill>
        <p:spPr>
          <a:xfrm>
            <a:off x="1700280" y="7469280"/>
            <a:ext cx="35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324000"/>
            <a:ext cx="5977080" cy="718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142920" y="1214280"/>
            <a:ext cx="66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71280" y="2000160"/>
            <a:ext cx="6858000" cy="68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Arial"/>
              </a:rPr>
              <a:t>При закаливании детей следует придерживаться та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70c0"/>
                </a:solidFill>
                <a:latin typeface="Arial"/>
              </a:rPr>
              <a:t>основных принципов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оводить закаливающие процедуры систематически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увеличивать время воздействия закаливающего фактора постепенно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читывать настроение ребенка и проводить процедуры в форме игры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начинать закаливание в любом возраст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икогда не выполнять процедуры, если малыш замерз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избегать сильных раздражителей: продолжительного воздействия холодной воды или очень низких температур воздуха, а также перегревания на солнц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равильно подбирать одежду и обувь: они должна соответствовать температуре окружающего воздуха и быть из натуральных тканей и материалов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закаливаться всей семьей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закаливающие процеду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очетать с физическими упражнения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 массажем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в помещении, где находится ребенок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Arial"/>
              </a:rPr>
              <a:t>никогда не кури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825720" y="6891480"/>
            <a:ext cx="288936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-542880" y="212760"/>
            <a:ext cx="7980480" cy="12920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5"/>
          <p:cNvSpPr/>
          <p:nvPr/>
        </p:nvSpPr>
        <p:spPr>
          <a:xfrm>
            <a:off x="0" y="1612800"/>
            <a:ext cx="6858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«Холодный таз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лейте в таз холодную воду с температурой не выше +12С и облейте ступни ребенка, стоящего в ванне. Попросите ребенка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 ребенка, чем 5 мин с каприз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«Холодное полотенц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ребенку не нравится обливание холодной водой, постелите в ванне полотенце, смоченное холодной водой (тем 12 С) Попросите ребенка потопать ножками (не стоять!) на нем в течение 1 мин (утром и на ночь). Вытрите ребенку ноги, не растирая, а промокая полотенц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5"/>
          <p:cNvSpPr/>
          <p:nvPr/>
        </p:nvSpPr>
        <p:spPr>
          <a:xfrm>
            <a:off x="0" y="64296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новные факторы закаливания - природные и доступные “Солнце. Воздух и Вода”. Начинать закаливание детей можно  с первого месяца жизни после осмотра малыша врачом-педиатром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C:\Users\viki\AppData\Local\Microsoft\Windows\Temporary Internet Files\Content.IE5\RTPB4XQQ\MCj02321530000[1].wmf"/>
          <p:cNvPicPr/>
          <p:nvPr/>
        </p:nvPicPr>
        <p:blipFill>
          <a:blip r:embed="rId2"/>
          <a:stretch/>
        </p:blipFill>
        <p:spPr>
          <a:xfrm>
            <a:off x="3714840" y="535788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5"/>
          <p:cNvSpPr/>
          <p:nvPr/>
        </p:nvSpPr>
        <p:spPr>
          <a:xfrm>
            <a:off x="0" y="4714920"/>
            <a:ext cx="392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«Контрастный душ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бенок вечером купается в ванне. Пусть он согреется в теплой воде. А потом скажите ему: "Давай мы с тобой устроим холодный дождик или побегаем по лужам". Вы открываете холодную воду, и ребенок подставляет воде свои пяточки и ладош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0" y="7215120"/>
            <a:ext cx="685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Если ребенок боится воздействия хол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душ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то можно вначале поставить таз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холодной водой и сказа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А ну, давай с тобой по лужам побегаем!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от из теплой ванны - в холодный таз (или "под дождик"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потом - опять в ванну. И так не менее трех раз. После процедуры укутайте ребенка в теплую простыню не вытирая, а промокая воду, потом оденьте его для сна и положите в кр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6" descr="C:\Users\viki\AppData\Local\Microsoft\Windows\Temporary Internet Files\Content.IE5\COU2X6RI\MCj02904460000[1].wmf"/>
          <p:cNvPicPr/>
          <p:nvPr/>
        </p:nvPicPr>
        <p:blipFill>
          <a:blip r:embed="rId3"/>
          <a:stretch/>
        </p:blipFill>
        <p:spPr>
          <a:xfrm>
            <a:off x="5572080" y="4500720"/>
            <a:ext cx="12780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38:58Z</dcterms:created>
  <dc:creator>Кузнецова Виктория</dc:creator>
  <dc:description/>
  <dc:language>en-US</dc:language>
  <cp:lastModifiedBy>Sveta</cp:lastModifiedBy>
  <dcterms:modified xsi:type="dcterms:W3CDTF">2011-10-02T16:43:01Z</dcterms:modified>
  <cp:revision>206</cp:revision>
  <dc:subject/>
  <dc:title>Слайд 1</dc:title>
</cp:coreProperties>
</file>