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2B4-4269-4A2A-A373-D758C1C1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D0C-E293-423A-87C5-1A023DF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462-3542-4695-9637-DFC52BEB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855-3424-4F30-8314-09810266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80C-2B17-4C6C-B0FB-5C530203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F5D-03A8-4FA3-9C1F-0B7451C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C40-1A69-4B15-8DE5-AE12FE5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645-D819-49BD-8655-B956BC2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8CD-7951-49AA-AF40-040640E0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78C-C00D-440C-A0C0-4A3D7F0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08D-4561-4FDE-A7ED-C3B3BDA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796-E5B7-42CF-8938-BC75290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DD4-3D39-437C-957B-1869762F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49360" y="1403280"/>
            <a:ext cx="604044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У ДОУ Д/С №2292 группа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620640" y="324000"/>
            <a:ext cx="5616720" cy="1223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286000" y="3322800"/>
            <a:ext cx="549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5" descr=""/>
          <p:cNvPicPr/>
          <p:nvPr/>
        </p:nvPicPr>
        <p:blipFill>
          <a:blip r:embed="rId1"/>
          <a:stretch/>
        </p:blipFill>
        <p:spPr>
          <a:xfrm>
            <a:off x="-1504800" y="103320"/>
            <a:ext cx="10314000" cy="2085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94320" cy="592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7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-1579680" y="201600"/>
            <a:ext cx="10315800" cy="2486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en-US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6" descr=""/>
          <p:cNvPicPr/>
          <p:nvPr/>
        </p:nvPicPr>
        <p:blipFill>
          <a:blip r:embed="rId1"/>
          <a:stretch/>
        </p:blipFill>
        <p:spPr>
          <a:xfrm>
            <a:off x="401760" y="-244440"/>
            <a:ext cx="5962680" cy="1103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7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-208080"/>
            <a:ext cx="6096240" cy="1592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4" descr=""/>
          <p:cNvPicPr/>
          <p:nvPr/>
        </p:nvPicPr>
        <p:blipFill>
          <a:blip r:embed="rId1"/>
          <a:stretch/>
        </p:blipFill>
        <p:spPr>
          <a:xfrm>
            <a:off x="-291960" y="-19080"/>
            <a:ext cx="7583400" cy="68436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-146160"/>
            <a:ext cx="7072200" cy="1596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en-US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1"/>
          <a:stretch/>
        </p:blipFill>
        <p:spPr>
          <a:xfrm>
            <a:off x="2157480" y="-171360"/>
            <a:ext cx="4938480" cy="174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6" descr=""/>
          <p:cNvPicPr/>
          <p:nvPr/>
        </p:nvPicPr>
        <p:blipFill>
          <a:blip r:embed="rId3"/>
          <a:stretch/>
        </p:blipFill>
        <p:spPr>
          <a:xfrm>
            <a:off x="133200" y="1609560"/>
            <a:ext cx="6877080" cy="35420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4" descr=""/>
          <p:cNvPicPr/>
          <p:nvPr/>
        </p:nvPicPr>
        <p:blipFill>
          <a:blip r:embed="rId1"/>
          <a:stretch/>
        </p:blipFill>
        <p:spPr>
          <a:xfrm>
            <a:off x="-324000" y="201600"/>
            <a:ext cx="7974000" cy="18032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en-US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-208080"/>
            <a:ext cx="6918480" cy="145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57480" cy="64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8520"/>
            <a:ext cx="6919920" cy="8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en-US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-165240"/>
            <a:ext cx="4945320" cy="1397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115920"/>
            <a:ext cx="588960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6931080" cy="774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404640" y="250920"/>
            <a:ext cx="6048720" cy="75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324000"/>
            <a:ext cx="5977080" cy="718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-542880" y="212760"/>
            <a:ext cx="7980480" cy="1292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Sveta</cp:lastModifiedBy>
  <dcterms:modified xsi:type="dcterms:W3CDTF">2011-10-02T16:43:01Z</dcterms:modified>
  <cp:revision>206</cp:revision>
  <dc:subject/>
  <dc:title>Слайд 1</dc:title>
</cp:coreProperties>
</file>