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7EB-668A-452E-974D-7B79B316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77F-BB1D-4A6F-8696-C85E9D00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089-CBA3-4AF2-A347-6A3DE4B8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21E-F381-4705-9FCC-A5ED7080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C6C-AC37-4112-B9FA-9E87DA2E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BA1-B9F3-45E1-894C-02CCDA33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887-D1E5-4377-BCA1-A893D824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538-E6A4-46AE-ACCD-DAEFD12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25C-6860-41F5-B046-199EF384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D0D-A5A0-4F62-A913-1DAA857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891-6B92-4F40-873C-183CA1F0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E86-993F-45BC-95A1-3415F911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B268-F930-4FFD-9295-F7AF6513D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ПРОГРАММА ЭЛЕКТИВНОГО</a:t>
            </a:r>
            <a:br>
              <a:rPr sz="4000"/>
            </a:b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Monotype Corsiva"/>
              </a:rPr>
              <a:t>«Основы русской культур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икона"/>
          <p:cNvPicPr/>
          <p:nvPr/>
        </p:nvPicPr>
        <p:blipFill>
          <a:blip r:embed="rId1"/>
          <a:stretch/>
        </p:blipFill>
        <p:spPr>
          <a:xfrm>
            <a:off x="6804000" y="3645000"/>
            <a:ext cx="2092320" cy="259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Рисунок1"/>
          <p:cNvPicPr/>
          <p:nvPr/>
        </p:nvPicPr>
        <p:blipFill>
          <a:blip r:embed="rId2"/>
          <a:stretch/>
        </p:blipFill>
        <p:spPr>
          <a:xfrm>
            <a:off x="179280" y="3621240"/>
            <a:ext cx="2473560" cy="268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Рисунок2"/>
          <p:cNvPicPr/>
          <p:nvPr/>
        </p:nvPicPr>
        <p:blipFill>
          <a:blip r:embed="rId3"/>
          <a:stretch/>
        </p:blipFill>
        <p:spPr>
          <a:xfrm>
            <a:off x="3059280" y="3645000"/>
            <a:ext cx="33130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_900"/>
          <p:cNvPicPr/>
          <p:nvPr/>
        </p:nvPicPr>
        <p:blipFill>
          <a:blip r:embed="rId1"/>
          <a:stretch/>
        </p:blipFill>
        <p:spPr>
          <a:xfrm>
            <a:off x="395280" y="907920"/>
            <a:ext cx="5400720" cy="4921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5940360" y="1557360"/>
            <a:ext cx="30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Дворцовая площадь с Александровской колонной и зданием Главного штаба (Санкт-Петербург)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971640" y="692280"/>
            <a:ext cx="748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Monotype Corsiva"/>
              </a:rPr>
              <a:t>Раздел 3: Русская художественная культура пореформенных лет.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2997360"/>
            <a:ext cx="57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Тема: Искусство художников – передвижников.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h_108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4653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501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И. И. Шишкин. «Рожь». 1878. Третьяковская галерея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k01278"/>
          <p:cNvPicPr/>
          <p:nvPr/>
        </p:nvPicPr>
        <p:blipFill>
          <a:blip r:embed="rId1"/>
          <a:stretch/>
        </p:blipFill>
        <p:spPr>
          <a:xfrm>
            <a:off x="395280" y="189000"/>
            <a:ext cx="8424720" cy="5589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55640" y="5877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А. И. Куинджи. «После дождя». 1879 год. Третьяковская галерея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ма: Вершины русской музыкальной класс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а музыкальными образами А.П.Бород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01064i"/>
          <p:cNvPicPr/>
          <p:nvPr/>
        </p:nvPicPr>
        <p:blipFill>
          <a:blip r:embed="rId1"/>
          <a:stretch/>
        </p:blipFill>
        <p:spPr>
          <a:xfrm>
            <a:off x="684360" y="2708280"/>
            <a:ext cx="3235320" cy="3600360"/>
          </a:xfrm>
          <a:prstGeom prst="rect">
            <a:avLst/>
          </a:prstGeom>
          <a:ln w="0">
            <a:noFill/>
          </a:ln>
        </p:spPr>
      </p:pic>
      <p:pic>
        <p:nvPicPr>
          <p:cNvPr id="76" name="BOROD_03.WAV" descr=""/>
          <p:cNvPicPr/>
          <p:nvPr/>
        </p:nvPicPr>
        <p:blipFill>
          <a:blip r:embed="rId2"/>
          <a:stretch/>
        </p:blipFill>
        <p:spPr>
          <a:xfrm>
            <a:off x="46432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067280" y="3284640"/>
            <a:ext cx="42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Звучит Богатырская симфония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5229"/>
                </a:solidFill>
                <a:latin typeface="Arial"/>
              </a:rPr>
              <a:t>Творчество композит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ch_006"/>
          <p:cNvPicPr/>
          <p:nvPr/>
        </p:nvPicPr>
        <p:blipFill>
          <a:blip r:embed="rId1"/>
          <a:stretch/>
        </p:blipFill>
        <p:spPr>
          <a:xfrm>
            <a:off x="468360" y="2852640"/>
            <a:ext cx="2457360" cy="2735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8360" y="5697360"/>
            <a:ext cx="24480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етр Ильич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Чайковский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1" name="Picture 6" descr="m03030i"/>
          <p:cNvPicPr/>
          <p:nvPr/>
        </p:nvPicPr>
        <p:blipFill>
          <a:blip r:embed="rId2"/>
          <a:stretch/>
        </p:blipFill>
        <p:spPr>
          <a:xfrm>
            <a:off x="3348000" y="1700280"/>
            <a:ext cx="2459160" cy="2736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3348000" y="4581360"/>
            <a:ext cx="24480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Модест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етрович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Мусоргский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3" name="Picture 8" descr="r03013i"/>
          <p:cNvPicPr/>
          <p:nvPr/>
        </p:nvPicPr>
        <p:blipFill>
          <a:blip r:embed="rId3"/>
          <a:stretch/>
        </p:blipFill>
        <p:spPr>
          <a:xfrm>
            <a:off x="6012000" y="2781360"/>
            <a:ext cx="265428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5796000" y="5877000"/>
            <a:ext cx="3058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Н.А.Римский-Корсаков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b5229"/>
                </a:solidFill>
                <a:latin typeface="Monotype Corsiva"/>
              </a:rPr>
              <a:t>Раздел 4. Проблемы национального художественного наслед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Русский модер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мся с архитектурой и живописью эпохи моде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01243i"/>
          <p:cNvPicPr/>
          <p:nvPr/>
        </p:nvPicPr>
        <p:blipFill>
          <a:blip r:embed="rId1"/>
          <a:stretch/>
        </p:blipFill>
        <p:spPr>
          <a:xfrm>
            <a:off x="324000" y="3860640"/>
            <a:ext cx="3671640" cy="2741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m_052i"/>
          <p:cNvPicPr/>
          <p:nvPr/>
        </p:nvPicPr>
        <p:blipFill>
          <a:blip r:embed="rId2"/>
          <a:stretch/>
        </p:blipFill>
        <p:spPr>
          <a:xfrm>
            <a:off x="5292720" y="3400560"/>
            <a:ext cx="3108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640" y="549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Русский авангар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кажет о творчестве художников начала 20 века: Марке Шагале, Василии Кандинском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k_306i"/>
          <p:cNvPicPr/>
          <p:nvPr/>
        </p:nvPicPr>
        <p:blipFill>
          <a:blip r:embed="rId1"/>
          <a:stretch/>
        </p:blipFill>
        <p:spPr>
          <a:xfrm>
            <a:off x="2500200" y="2428920"/>
            <a:ext cx="3818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468360" y="404640"/>
            <a:ext cx="8351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Русская музыкальная классика 20 века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  с творчеством Александра Скрябина, Альфреда Шнитке, Родиона Щедрина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92" name="Picture 6" descr="psh_080"/>
          <p:cNvPicPr/>
          <p:nvPr/>
        </p:nvPicPr>
        <p:blipFill>
          <a:blip r:embed="rId1"/>
          <a:stretch/>
        </p:blipFill>
        <p:spPr>
          <a:xfrm>
            <a:off x="3348000" y="3357720"/>
            <a:ext cx="2589120" cy="28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she_100i"/>
          <p:cNvPicPr/>
          <p:nvPr/>
        </p:nvPicPr>
        <p:blipFill>
          <a:blip r:embed="rId2"/>
          <a:stretch/>
        </p:blipFill>
        <p:spPr>
          <a:xfrm>
            <a:off x="6300720" y="3357720"/>
            <a:ext cx="252432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ps_091"/>
          <p:cNvPicPr/>
          <p:nvPr/>
        </p:nvPicPr>
        <p:blipFill>
          <a:blip r:embed="rId3"/>
          <a:stretch/>
        </p:blipFill>
        <p:spPr>
          <a:xfrm>
            <a:off x="324000" y="3357720"/>
            <a:ext cx="258732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SCR_03.WAV" descr=""/>
          <p:cNvPicPr/>
          <p:nvPr/>
        </p:nvPicPr>
        <p:blipFill>
          <a:blip r:embed="rId4"/>
          <a:stretch/>
        </p:blipFill>
        <p:spPr>
          <a:xfrm>
            <a:off x="4716360" y="-531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805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Целью элективного курса</a:t>
            </a: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«Основы русской культуры» является формирование интереса и положительной мотивации школьников к искусствоведческому направлению в контексте гуманитар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Задачи кур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редставить ученику возможность реализовать свой интерес к знанию истории искус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Уточнить готовность и способность ученика к выбору профессий, входящих в сферу искусствоведческого направления (искусствовед, музейный педагог, историк искусств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Создать условия для подготовки к экзаменам по выбору, т.е. по предметам данного профиля (история, искусство, мировая художественная культур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Курс представляет собой </a:t>
            </a:r>
            <a:br>
              <a:rPr sz="4000"/>
            </a:br>
            <a:r>
              <a:rPr b="0" lang="ru-RU" sz="4000" spc="-1" strike="noStrike">
                <a:solidFill>
                  <a:srgbClr val="996633"/>
                </a:solidFill>
                <a:latin typeface="Arial"/>
              </a:rPr>
              <a:t>4 раздел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b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Искусство Древней Ру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b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Национальное своеобразие и  самобытность русск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b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Русская художественная культура пореформенных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b52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Проблемы национального художественного наслед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Monotype Corsiva"/>
              </a:rPr>
              <a:t>Раздел 1. Искусство Древней Ру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Тема: Русский храм как модель мира и отражение средневекового мировоз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b5229"/>
                </a:solidFill>
                <a:latin typeface="Arial"/>
              </a:rPr>
              <a:t>Новгородская и Киевская архите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Рисунок3"/>
          <p:cNvPicPr/>
          <p:nvPr/>
        </p:nvPicPr>
        <p:blipFill>
          <a:blip r:embed="rId1"/>
          <a:stretch/>
        </p:blipFill>
        <p:spPr>
          <a:xfrm>
            <a:off x="2050920" y="1413000"/>
            <a:ext cx="4897440" cy="4611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692360" y="60930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Киевский собор Святой Софии 11 век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еобразие и развитие русской иконопи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Рисунок1"/>
          <p:cNvPicPr/>
          <p:nvPr/>
        </p:nvPicPr>
        <p:blipFill>
          <a:blip r:embed="rId1"/>
          <a:stretch/>
        </p:blipFill>
        <p:spPr>
          <a:xfrm>
            <a:off x="179280" y="1628640"/>
            <a:ext cx="4224600" cy="4680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4859280" y="2276640"/>
            <a:ext cx="37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«Троица» Андрея Рублева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Monotype Corsiva"/>
              </a:rPr>
              <a:t>Раздел 2. Национальное своеобразие и самобытность русского искусства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Русский портрет 18 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01087"/>
          <p:cNvPicPr/>
          <p:nvPr/>
        </p:nvPicPr>
        <p:blipFill>
          <a:blip r:embed="rId1"/>
          <a:stretch/>
        </p:blipFill>
        <p:spPr>
          <a:xfrm>
            <a:off x="250920" y="260280"/>
            <a:ext cx="4673520" cy="619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5364000" y="220500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Д. Г. Левицкий. «Портрет П. А. Демидова». 1773 год. Третьяковская галерея.</a:t>
            </a:r>
            <a:endParaRPr b="0" lang="en-US" sz="20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9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5229"/>
                </a:solidFill>
                <a:latin typeface="Arial"/>
              </a:rPr>
              <a:t>Тема: Стили Барокко и классицизм в русской архитектуре 18 века.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39640" y="2924280"/>
            <a:ext cx="8137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Это явление в архитектуре связано со строительством города Санкт-Петербурга.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6:44:23Z</dcterms:created>
  <dc:creator>slava</dc:creator>
  <dc:description/>
  <dc:language>en-US</dc:language>
  <cp:lastModifiedBy>User</cp:lastModifiedBy>
  <dcterms:modified xsi:type="dcterms:W3CDTF">2012-07-22T18:31:03Z</dcterms:modified>
  <cp:revision>8</cp:revision>
  <dc:subject/>
  <dc:title>ПРОГРАМА ЭЛЕКТИВНОГО КУРСА</dc:title>
</cp:coreProperties>
</file>