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633E-6F88-4D2B-B6C1-75D236706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926E-AB11-486E-87D2-CB2E6E96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1F6F-1E54-4E89-8C27-59E16D023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BFDD-04EA-4C67-A9F7-D2F9B5FDB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30D8-D58A-4DB2-85B8-B68639C5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B8FA-A41A-4B4A-8722-3F890EC2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A91A-5C13-4998-AD1E-B68B5B64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2F28-81C1-49F5-A681-C7D9B26E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6FE0-4FFD-43CB-AC1C-FF30752C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2B1B-BF34-4601-8242-31408A22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7F86-9855-4A87-BE8F-B2EE05ED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EBA4-CB9D-4DD9-8645-B3662777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F075-38C6-418A-86E2-EEA34243D3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33"/>
                </a:solidFill>
                <a:latin typeface="Arial"/>
              </a:rPr>
              <a:t>ПРОГРАММА ЭЛЕКТИВНОГО</a:t>
            </a:r>
            <a:br>
              <a:rPr sz="4000"/>
            </a:br>
            <a:r>
              <a:rPr b="0" lang="ru-RU" sz="4000" spc="-1" strike="noStrike">
                <a:solidFill>
                  <a:srgbClr val="996633"/>
                </a:solidFill>
                <a:latin typeface="Arial"/>
              </a:rPr>
              <a:t>КУР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Monotype Corsiva"/>
              </a:rPr>
              <a:t>«Основы русской культур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икона"/>
          <p:cNvPicPr/>
          <p:nvPr/>
        </p:nvPicPr>
        <p:blipFill>
          <a:blip r:embed="rId1"/>
          <a:stretch/>
        </p:blipFill>
        <p:spPr>
          <a:xfrm>
            <a:off x="6804000" y="3645000"/>
            <a:ext cx="2092320" cy="2592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Рисунок1"/>
          <p:cNvPicPr/>
          <p:nvPr/>
        </p:nvPicPr>
        <p:blipFill>
          <a:blip r:embed="rId2"/>
          <a:stretch/>
        </p:blipFill>
        <p:spPr>
          <a:xfrm>
            <a:off x="179280" y="3621240"/>
            <a:ext cx="2473560" cy="2687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Рисунок2"/>
          <p:cNvPicPr/>
          <p:nvPr/>
        </p:nvPicPr>
        <p:blipFill>
          <a:blip r:embed="rId3"/>
          <a:stretch/>
        </p:blipFill>
        <p:spPr>
          <a:xfrm>
            <a:off x="3059280" y="3645000"/>
            <a:ext cx="331308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s_900"/>
          <p:cNvPicPr/>
          <p:nvPr/>
        </p:nvPicPr>
        <p:blipFill>
          <a:blip r:embed="rId1"/>
          <a:stretch/>
        </p:blipFill>
        <p:spPr>
          <a:xfrm>
            <a:off x="395280" y="907920"/>
            <a:ext cx="5400720" cy="49215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5940360" y="1557360"/>
            <a:ext cx="302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Дворцовая площадь с Александровской колонной и зданием Главного штаба (Санкт-Петербург).</a:t>
            </a:r>
            <a:endParaRPr b="0" lang="en-US" sz="20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971640" y="692280"/>
            <a:ext cx="7488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Monotype Corsiva"/>
              </a:rPr>
              <a:t>Раздел 3: Русская художественная культура пореформенных лет.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979640" y="2997360"/>
            <a:ext cx="576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Arial"/>
              </a:rPr>
              <a:t>Тема: Искусство художников – передвижников.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sh_108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4653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324000" y="50133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И. И. Шишкин. «Рожь». 1878. Третьяковская галерея.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k01278"/>
          <p:cNvPicPr/>
          <p:nvPr/>
        </p:nvPicPr>
        <p:blipFill>
          <a:blip r:embed="rId1"/>
          <a:stretch/>
        </p:blipFill>
        <p:spPr>
          <a:xfrm>
            <a:off x="395280" y="189000"/>
            <a:ext cx="8424720" cy="55893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755640" y="5877000"/>
            <a:ext cx="74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Arial"/>
              </a:rPr>
              <a:t>А. И. Куинджи. «После дождя». 1879 год. Третьяковская галерея.</a:t>
            </a:r>
            <a:endParaRPr b="0" lang="en-US" sz="20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ма: Вершины русской музыкальной класси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ставлена музыкальными образами А.П.Бород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b01064i"/>
          <p:cNvPicPr/>
          <p:nvPr/>
        </p:nvPicPr>
        <p:blipFill>
          <a:blip r:embed="rId1"/>
          <a:stretch/>
        </p:blipFill>
        <p:spPr>
          <a:xfrm>
            <a:off x="684360" y="2708280"/>
            <a:ext cx="3235320" cy="3600360"/>
          </a:xfrm>
          <a:prstGeom prst="rect">
            <a:avLst/>
          </a:prstGeom>
          <a:ln w="0">
            <a:noFill/>
          </a:ln>
        </p:spPr>
      </p:pic>
      <p:pic>
        <p:nvPicPr>
          <p:cNvPr id="76" name="BOROD_03.WAV" descr=""/>
          <p:cNvPicPr/>
          <p:nvPr/>
        </p:nvPicPr>
        <p:blipFill>
          <a:blip r:embed="rId2"/>
          <a:stretch/>
        </p:blipFill>
        <p:spPr>
          <a:xfrm>
            <a:off x="4643280" y="-304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067280" y="3284640"/>
            <a:ext cx="424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Звучит Богатырская симфония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b5229"/>
                </a:solidFill>
                <a:latin typeface="Arial"/>
              </a:rPr>
              <a:t>Творчество композито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pch_006"/>
          <p:cNvPicPr/>
          <p:nvPr/>
        </p:nvPicPr>
        <p:blipFill>
          <a:blip r:embed="rId1"/>
          <a:stretch/>
        </p:blipFill>
        <p:spPr>
          <a:xfrm>
            <a:off x="468360" y="2852640"/>
            <a:ext cx="2457360" cy="27352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468360" y="5697360"/>
            <a:ext cx="244800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Петр Ильич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Чайковский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  <p:pic>
        <p:nvPicPr>
          <p:cNvPr id="81" name="Picture 6" descr="m03030i"/>
          <p:cNvPicPr/>
          <p:nvPr/>
        </p:nvPicPr>
        <p:blipFill>
          <a:blip r:embed="rId2"/>
          <a:stretch/>
        </p:blipFill>
        <p:spPr>
          <a:xfrm>
            <a:off x="3348000" y="1700280"/>
            <a:ext cx="2459160" cy="27367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7"/>
          <p:cNvSpPr/>
          <p:nvPr/>
        </p:nvSpPr>
        <p:spPr>
          <a:xfrm>
            <a:off x="3348000" y="4581360"/>
            <a:ext cx="2448000" cy="11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Модест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Петрович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Мусоргский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  <p:pic>
        <p:nvPicPr>
          <p:cNvPr id="83" name="Picture 8" descr="r03013i"/>
          <p:cNvPicPr/>
          <p:nvPr/>
        </p:nvPicPr>
        <p:blipFill>
          <a:blip r:embed="rId3"/>
          <a:stretch/>
        </p:blipFill>
        <p:spPr>
          <a:xfrm>
            <a:off x="6012000" y="2781360"/>
            <a:ext cx="2654280" cy="29527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9"/>
          <p:cNvSpPr/>
          <p:nvPr/>
        </p:nvSpPr>
        <p:spPr>
          <a:xfrm>
            <a:off x="5796000" y="5877000"/>
            <a:ext cx="305892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Н.А.Римский-Корсаков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b5229"/>
                </a:solidFill>
                <a:latin typeface="Monotype Corsiva"/>
              </a:rPr>
              <a:t>Раздел 4. Проблемы национального художественного наслед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7b5229"/>
                </a:solidFill>
                <a:latin typeface="Arial"/>
              </a:rPr>
              <a:t>Тема: Русский модер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комимся с архитектурой и живописью эпохи модер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m01243i"/>
          <p:cNvPicPr/>
          <p:nvPr/>
        </p:nvPicPr>
        <p:blipFill>
          <a:blip r:embed="rId1"/>
          <a:stretch/>
        </p:blipFill>
        <p:spPr>
          <a:xfrm>
            <a:off x="324000" y="3860640"/>
            <a:ext cx="3671640" cy="2741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m_052i"/>
          <p:cNvPicPr/>
          <p:nvPr/>
        </p:nvPicPr>
        <p:blipFill>
          <a:blip r:embed="rId2"/>
          <a:stretch/>
        </p:blipFill>
        <p:spPr>
          <a:xfrm>
            <a:off x="5292720" y="3400560"/>
            <a:ext cx="31082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55640" y="549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7b5229"/>
                </a:solidFill>
                <a:latin typeface="Arial"/>
              </a:rPr>
              <a:t>Тема: Русский авангар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кажет о творчестве художников начала 20 века: Марке Шагале, Василии Кандинском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k_306i"/>
          <p:cNvPicPr/>
          <p:nvPr/>
        </p:nvPicPr>
        <p:blipFill>
          <a:blip r:embed="rId1"/>
          <a:stretch/>
        </p:blipFill>
        <p:spPr>
          <a:xfrm>
            <a:off x="2500200" y="2428920"/>
            <a:ext cx="38181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5"/>
          <p:cNvSpPr/>
          <p:nvPr/>
        </p:nvSpPr>
        <p:spPr>
          <a:xfrm>
            <a:off x="468360" y="404640"/>
            <a:ext cx="835164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b5229"/>
                </a:solidFill>
                <a:latin typeface="Arial"/>
              </a:rPr>
              <a:t>Тема: Русская музыкальная классика 20 века.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комит  с творчеством Александра Скрябина, Альфреда Шнитке, Родиона Щедрина.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pic>
        <p:nvPicPr>
          <p:cNvPr id="92" name="Picture 6" descr="psh_080"/>
          <p:cNvPicPr/>
          <p:nvPr/>
        </p:nvPicPr>
        <p:blipFill>
          <a:blip r:embed="rId1"/>
          <a:stretch/>
        </p:blipFill>
        <p:spPr>
          <a:xfrm>
            <a:off x="3348000" y="3357720"/>
            <a:ext cx="2589120" cy="2881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she_100i"/>
          <p:cNvPicPr/>
          <p:nvPr/>
        </p:nvPicPr>
        <p:blipFill>
          <a:blip r:embed="rId2"/>
          <a:stretch/>
        </p:blipFill>
        <p:spPr>
          <a:xfrm>
            <a:off x="6300720" y="3357720"/>
            <a:ext cx="2524320" cy="280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ps_091"/>
          <p:cNvPicPr/>
          <p:nvPr/>
        </p:nvPicPr>
        <p:blipFill>
          <a:blip r:embed="rId3"/>
          <a:stretch/>
        </p:blipFill>
        <p:spPr>
          <a:xfrm>
            <a:off x="324000" y="3357720"/>
            <a:ext cx="2587320" cy="2879640"/>
          </a:xfrm>
          <a:prstGeom prst="rect">
            <a:avLst/>
          </a:prstGeom>
          <a:ln w="0">
            <a:noFill/>
          </a:ln>
        </p:spPr>
      </p:pic>
      <p:pic>
        <p:nvPicPr>
          <p:cNvPr id="95" name="SCR_03.WAV" descr=""/>
          <p:cNvPicPr/>
          <p:nvPr/>
        </p:nvPicPr>
        <p:blipFill>
          <a:blip r:embed="rId4"/>
          <a:stretch/>
        </p:blipFill>
        <p:spPr>
          <a:xfrm>
            <a:off x="4716360" y="-531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3805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Целью элективного курса</a:t>
            </a: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 «Основы русской культуры» является формирование интереса и положительной мотивации школьников к искусствоведческому направлению в контексте гуманитарно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Задачи курс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Представить ученику возможность реализовать свой интерес к знанию истории искус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Уточнить готовность и способность ученика к выбору профессий, входящих в сферу искусствоведческого направления (искусствовед, музейный педагог, историк искусств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Создать условия для подготовки к экзаменам по выбору, т.е. по предметам данного профиля (история, искусство, мировая художественная культур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5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33"/>
                </a:solidFill>
                <a:latin typeface="Arial"/>
              </a:rPr>
              <a:t>Курс представляет собой </a:t>
            </a:r>
            <a:br>
              <a:rPr sz="4000"/>
            </a:br>
            <a:r>
              <a:rPr b="0" lang="ru-RU" sz="4000" spc="-1" strike="noStrike">
                <a:solidFill>
                  <a:srgbClr val="996633"/>
                </a:solidFill>
                <a:latin typeface="Arial"/>
              </a:rPr>
              <a:t>4 раздел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b52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b5229"/>
                </a:solidFill>
                <a:latin typeface="Arial"/>
              </a:rPr>
              <a:t>Искусство Древней Ру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b52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b5229"/>
                </a:solidFill>
                <a:latin typeface="Arial"/>
              </a:rPr>
              <a:t>Национальное своеобразие и  самобытность русского искус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b52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b5229"/>
                </a:solidFill>
                <a:latin typeface="Arial"/>
              </a:rPr>
              <a:t>Русская художественная культура пореформенных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b52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b5229"/>
                </a:solidFill>
                <a:latin typeface="Arial"/>
              </a:rPr>
              <a:t>Проблемы национального художественного наслед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Monotype Corsiva"/>
              </a:rPr>
              <a:t>Раздел 1. Искусство Древней Ру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Тема: Русский храм как модель мира и отражение средневекового мировоззр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b5229"/>
                </a:solidFill>
                <a:latin typeface="Arial"/>
              </a:rPr>
              <a:t>Новгородская и Киевская архитек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Рисунок3"/>
          <p:cNvPicPr/>
          <p:nvPr/>
        </p:nvPicPr>
        <p:blipFill>
          <a:blip r:embed="rId1"/>
          <a:stretch/>
        </p:blipFill>
        <p:spPr>
          <a:xfrm>
            <a:off x="2050920" y="1413000"/>
            <a:ext cx="4897440" cy="46116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1692360" y="6093000"/>
            <a:ext cx="56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Киевский собор Святой Софии 11 век</a:t>
            </a:r>
            <a:endParaRPr b="0" lang="en-US" sz="20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воеобразие и развитие русской иконопис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Рисунок1"/>
          <p:cNvPicPr/>
          <p:nvPr/>
        </p:nvPicPr>
        <p:blipFill>
          <a:blip r:embed="rId1"/>
          <a:stretch/>
        </p:blipFill>
        <p:spPr>
          <a:xfrm>
            <a:off x="179280" y="1628640"/>
            <a:ext cx="4224600" cy="4680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4859280" y="2276640"/>
            <a:ext cx="37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«Троица» Андрея Рублева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Monotype Corsiva"/>
              </a:rPr>
              <a:t>Раздел 2. Национальное своеобразие и самобытность русского искусства</a:t>
            </a: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b5229"/>
                </a:solidFill>
                <a:latin typeface="Arial"/>
              </a:rPr>
              <a:t>Тема: Русский портрет 18 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l01087"/>
          <p:cNvPicPr/>
          <p:nvPr/>
        </p:nvPicPr>
        <p:blipFill>
          <a:blip r:embed="rId1"/>
          <a:stretch/>
        </p:blipFill>
        <p:spPr>
          <a:xfrm>
            <a:off x="250920" y="260280"/>
            <a:ext cx="4673520" cy="6193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5364000" y="2205000"/>
            <a:ext cx="309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Д. Г. Левицкий. «Портрет П. А. Демидова». 1773 год. Третьяковская галерея.</a:t>
            </a:r>
            <a:endParaRPr b="0" lang="en-US" sz="20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539640" y="62064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b5229"/>
                </a:solidFill>
                <a:latin typeface="Arial"/>
              </a:rPr>
              <a:t>Тема: Стили Барокко и классицизм в русской архитектуре 18 века.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539640" y="2924280"/>
            <a:ext cx="81378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Это явление в архитектуре связано со строительством города Санкт-Петербурга.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7T06:44:23Z</dcterms:created>
  <dc:creator>slava</dc:creator>
  <dc:description/>
  <dc:language>en-US</dc:language>
  <cp:lastModifiedBy>User</cp:lastModifiedBy>
  <dcterms:modified xsi:type="dcterms:W3CDTF">2012-07-22T18:31:03Z</dcterms:modified>
  <cp:revision>8</cp:revision>
  <dc:subject/>
  <dc:title>ПРОГРАМА ЭЛЕКТИВНОГО КУРСА</dc:title>
</cp:coreProperties>
</file>