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295D-272B-4D4C-895F-DBB1D9E61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173E-719D-478C-B9FC-AC257874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AD31-3012-462C-84CF-92DD76650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5FD2-765A-49A8-B40B-E13619287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1B0B-43E0-47B5-BFC5-04C17BA3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FD77-BB67-4226-84F9-35780F95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7B98-EC8F-44DD-9894-F42761B2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A60A-6C6B-4CBF-AA77-3F19155B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F248-AFE6-49A2-8710-77E5B1AC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65AB-B81A-4F5D-89FC-84B54279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CEB9-3978-41F1-840E-4279D266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32DD-9B90-4D3D-9CBA-F075F10E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6C3E-8CE9-4042-A06C-49C510F4A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rchives.maillist.ru/2859/497075/1645557_image005.jpg.att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Arial"/>
              </a:rPr>
              <a:t>ИМПРЕССИОНИЗ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457200" y="-360"/>
            <a:ext cx="5105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РОВЕРЬ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О каком художнике идет реч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н создал свой любимый тип женщины с пухлыми губами, вздернутым носиком, непокорной челкой и неизменной улыбкой. Этот тип он повторял во всех произведениях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F:\ArtBase\Renoir_Samari.jpg"/>
          <p:cNvPicPr/>
          <p:nvPr/>
        </p:nvPicPr>
        <p:blipFill>
          <a:blip r:embed="rId1"/>
          <a:stretch/>
        </p:blipFill>
        <p:spPr>
          <a:xfrm>
            <a:off x="5715000" y="1752480"/>
            <a:ext cx="2722680" cy="4876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523880" y="3352680"/>
            <a:ext cx="297180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ОГЮСТ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РЕНУА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>
            <a:hlinkClick r:id="" action="ppaction://hlinkshowjump?jump=endshow"/>
          </p:cNvPr>
          <p:cNvSpPr/>
          <p:nvPr/>
        </p:nvSpPr>
        <p:spPr>
          <a:xfrm>
            <a:off x="8458200" y="15228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8621" y="10800"/>
                </a:moveTo>
                <a:lnTo>
                  <a:pt x="8116" y="17806"/>
                </a:lnTo>
                <a:lnTo>
                  <a:pt x="8116" y="3794"/>
                </a:lnTo>
                <a:close/>
              </a:path>
              <a:path fill="darken" w="30244" h="21600">
                <a:moveTo>
                  <a:pt x="20466" y="3794"/>
                </a:moveTo>
                <a:lnTo>
                  <a:pt x="20466" y="17806"/>
                </a:lnTo>
                <a:lnTo>
                  <a:pt x="22129" y="17806"/>
                </a:lnTo>
                <a:lnTo>
                  <a:pt x="22129" y="37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о новое направление в искусстве конца 19-начала 20 века. От французского слова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mpressio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……………………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ак переводится это слов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3809880"/>
            <a:ext cx="55627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ВПЕЧАТ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5 мая 1863 года в Париже была открыта выставка, где были представлены первые работы художников импрессионистов. Она получил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звание «……………………………..»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Какое она получила названи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3733920"/>
            <a:ext cx="5181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Салон отвержен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Жить своим временем и изображать то, что видишь перед собой, открывая подлинную красоту и поэзию в повседневном течении жизн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Какому французском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художнику импрессионис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принадлежат эти слов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его автопортрет пере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вам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Картинка 17 из 189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42000" y="2057400"/>
            <a:ext cx="3402000" cy="4475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14400" y="5943600"/>
            <a:ext cx="4267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Эдуард Ма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огочисленная охрана была бессильна перед натиском разъяренной толпы. На следующий день ее были вынуждены были разместить так высоко, чтобы зрители не могли ее доста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О какой картине Э.Мане писали эти строки 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F:\ArtBase\Mane_olympia.jpg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343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09680" y="3276720"/>
            <a:ext cx="50292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«ОЛИМП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0000"/>
                </a:solidFill>
                <a:latin typeface="Arial"/>
              </a:rPr>
              <a:t>Перечислите особенности импрессионизм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 пленере (на открытом воздух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особой техники маз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жение мимолетности, мгновенности впечатл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ну и ту же картину художники писали много 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зображение предметов в разном состоянии (утром, днем, вечером, в туман, дождь, в солнечном свет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0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Вставьте имя худож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ам термин «импрессионизм» обязан происхожден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………………………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торый в 1867-м году выставил в Салоне картину заката солнца, озаглавленную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«Впечатлени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52480" y="2819520"/>
            <a:ext cx="55627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КЛОД МО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Как называется эта серия работ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Клода Мон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имп18"/>
          <p:cNvPicPr/>
          <p:nvPr/>
        </p:nvPicPr>
        <p:blipFill>
          <a:blip r:embed="rId1"/>
          <a:stretch/>
        </p:blipFill>
        <p:spPr>
          <a:xfrm>
            <a:off x="-380880" y="3200400"/>
            <a:ext cx="9524880" cy="2940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981080" y="2286000"/>
            <a:ext cx="5029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«Руанский собор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Кто является автором этих картин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F:\ArtBase\Dega_Blue_dancers.jpg"/>
          <p:cNvPicPr/>
          <p:nvPr/>
        </p:nvPicPr>
        <p:blipFill>
          <a:blip r:embed="rId1"/>
          <a:stretch/>
        </p:blipFill>
        <p:spPr>
          <a:xfrm>
            <a:off x="0" y="1371600"/>
            <a:ext cx="2895480" cy="2843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Картинка 8 из 1068"/>
          <p:cNvPicPr/>
          <p:nvPr/>
        </p:nvPicPr>
        <p:blipFill>
          <a:blip r:embed="rId2"/>
          <a:stretch/>
        </p:blipFill>
        <p:spPr>
          <a:xfrm>
            <a:off x="0" y="4338720"/>
            <a:ext cx="2817720" cy="2519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Картинка 8 из 1068"/>
          <p:cNvPicPr/>
          <p:nvPr/>
        </p:nvPicPr>
        <p:blipFill>
          <a:blip r:embed="rId3"/>
          <a:stretch/>
        </p:blipFill>
        <p:spPr>
          <a:xfrm>
            <a:off x="3048120" y="3124080"/>
            <a:ext cx="2460600" cy="3200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Картинка 11 из 1068"/>
          <p:cNvPicPr/>
          <p:nvPr/>
        </p:nvPicPr>
        <p:blipFill>
          <a:blip r:embed="rId4"/>
          <a:stretch/>
        </p:blipFill>
        <p:spPr>
          <a:xfrm>
            <a:off x="5943600" y="1447920"/>
            <a:ext cx="2527200" cy="2895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Картинка 12 из 1068"/>
          <p:cNvPicPr/>
          <p:nvPr/>
        </p:nvPicPr>
        <p:blipFill>
          <a:blip r:embed="rId5"/>
          <a:stretch/>
        </p:blipFill>
        <p:spPr>
          <a:xfrm>
            <a:off x="5562720" y="4502160"/>
            <a:ext cx="3352680" cy="2355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200400" y="1676520"/>
            <a:ext cx="25909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ЭДГАР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ДЕ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1-02-07T12:57:31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