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69D-A479-44DE-A828-0A2B0FCB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56B-9059-49DE-A83E-D5FB7842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1C0-D667-4EAD-96D1-09DD6C4B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405-66FA-40D5-A496-3951861A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F01-1FFF-4A3D-B23F-8656623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FCC3-D993-4168-81D8-B4C7794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F542-4076-4DFB-841B-2C3BAD26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775-4150-410D-BCF9-FA1B4EE1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983-7AC7-4BCB-BA99-5C74BCF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434-F598-47F2-928E-98D5056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C50-1EA1-415A-AABA-B0E881D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7B1-8209-45D8-B25D-EF00C3A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0BC9-CE21-472B-9A33-91E3ED391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rchives.maillist.ru/2859/497075/1645557_image005.jpg.at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cc"/>
                </a:solidFill>
                <a:latin typeface="Arial"/>
              </a:rPr>
              <a:t>ИМПРЕССИОН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457200" y="-36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 каком художнике идет реч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н создал свой любимый тип женщины с пухлыми губами, вздернутым носиком, непокорной челкой и неизменной улыбкой. Этот тип он повторял во всех произведения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:\ArtBase\Renoir_Samari.jpg"/>
          <p:cNvPicPr/>
          <p:nvPr/>
        </p:nvPicPr>
        <p:blipFill>
          <a:blip r:embed="rId1"/>
          <a:stretch/>
        </p:blipFill>
        <p:spPr>
          <a:xfrm>
            <a:off x="5715000" y="1752480"/>
            <a:ext cx="272268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523880" y="3352680"/>
            <a:ext cx="29718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ГЮСТ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РЕН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" action="ppaction://hlinkshowjump?jump=endshow"/>
          </p:cNvPr>
          <p:cNvSpPr/>
          <p:nvPr/>
        </p:nvSpPr>
        <p:spPr>
          <a:xfrm>
            <a:off x="8458200" y="152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18621" y="10800"/>
                </a:moveTo>
                <a:lnTo>
                  <a:pt x="8116" y="17806"/>
                </a:lnTo>
                <a:lnTo>
                  <a:pt x="8116" y="3794"/>
                </a:lnTo>
                <a:close/>
              </a:path>
              <a:path fill="darken" w="30244" h="21600">
                <a:moveTo>
                  <a:pt x="20466" y="3794"/>
                </a:moveTo>
                <a:lnTo>
                  <a:pt x="20466" y="17806"/>
                </a:lnTo>
                <a:lnTo>
                  <a:pt x="22129" y="17806"/>
                </a:lnTo>
                <a:lnTo>
                  <a:pt x="22129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новое направление в искусстве конца 19-начала 20 века. От французского слов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mpressio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……………………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к переводится это сло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09880"/>
            <a:ext cx="556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ПЕЧАТ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 мая 1863 года в Париже была открыта выставка, где были представлены первые работы художников импрессионистов. Она получи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вание «……………………………..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Какое она получила назван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3733920"/>
            <a:ext cx="5181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Салон отверж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Жить своим временем и изображать то, что видишь перед собой, открывая подлинную красоту и поэзию в повседневном течении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му француз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художнику импрессионис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надлежат эти сл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го автопортрет пе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м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7 из 18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42000" y="2057400"/>
            <a:ext cx="3402000" cy="447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5943600"/>
            <a:ext cx="4267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Эдуард М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численная охрана была бессильна перед натиском разъяренной толпы. На следующий день ее были вынуждены были разместить так высоко, чтобы зрители не могли ее дост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 какой картине Э.Мане писали эти строки 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F:\ArtBase\Mane_olympia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3276720"/>
            <a:ext cx="5029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«ОЛИМП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Arial"/>
              </a:rPr>
              <a:t>Перечислите особенности импрессиониз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 пленере (на открытом воздух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особой техники маз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мимолетности, мгновенности впечат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ну и ту же картину художники писали много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ображение предметов в разном состоянии (утром, днем, вечером, в туман, дождь, в солнечном свет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ставьте имя худож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ам термин «импрессионизм» обязан происх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торый в 1867-м году выставил в Салоне картину заката солнца, озаглавленную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Впечатле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2819520"/>
            <a:ext cx="5562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ЛОД М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ак называется эта серия работ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лода Мон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имп18"/>
          <p:cNvPicPr/>
          <p:nvPr/>
        </p:nvPicPr>
        <p:blipFill>
          <a:blip r:embed="rId1"/>
          <a:stretch/>
        </p:blipFill>
        <p:spPr>
          <a:xfrm>
            <a:off x="-380880" y="3200400"/>
            <a:ext cx="9524880" cy="294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81080" y="2286000"/>
            <a:ext cx="5029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Руанский собор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то является автором этих карт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ArtBase\Dega_Blue_dancers.jpg"/>
          <p:cNvPicPr/>
          <p:nvPr/>
        </p:nvPicPr>
        <p:blipFill>
          <a:blip r:embed="rId1"/>
          <a:stretch/>
        </p:blipFill>
        <p:spPr>
          <a:xfrm>
            <a:off x="0" y="1371600"/>
            <a:ext cx="2895480" cy="284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а 8 из 1068"/>
          <p:cNvPicPr/>
          <p:nvPr/>
        </p:nvPicPr>
        <p:blipFill>
          <a:blip r:embed="rId2"/>
          <a:stretch/>
        </p:blipFill>
        <p:spPr>
          <a:xfrm>
            <a:off x="0" y="4338720"/>
            <a:ext cx="281772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Картинка 8 из 1068"/>
          <p:cNvPicPr/>
          <p:nvPr/>
        </p:nvPicPr>
        <p:blipFill>
          <a:blip r:embed="rId3"/>
          <a:stretch/>
        </p:blipFill>
        <p:spPr>
          <a:xfrm>
            <a:off x="3048120" y="3124080"/>
            <a:ext cx="246060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11 из 1068"/>
          <p:cNvPicPr/>
          <p:nvPr/>
        </p:nvPicPr>
        <p:blipFill>
          <a:blip r:embed="rId4"/>
          <a:stretch/>
        </p:blipFill>
        <p:spPr>
          <a:xfrm>
            <a:off x="5943600" y="1447920"/>
            <a:ext cx="25272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Картинка 12 из 1068"/>
          <p:cNvPicPr/>
          <p:nvPr/>
        </p:nvPicPr>
        <p:blipFill>
          <a:blip r:embed="rId5"/>
          <a:stretch/>
        </p:blipFill>
        <p:spPr>
          <a:xfrm>
            <a:off x="5562720" y="4502160"/>
            <a:ext cx="3352680" cy="2355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1676520"/>
            <a:ext cx="25909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ЭДГАР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Е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XP</cp:lastModifiedBy>
  <dcterms:modified xsi:type="dcterms:W3CDTF">2011-02-07T12:57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