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18.jpeg" ContentType="image/jpeg"/>
  <Override PartName="/ppt/media/image7.png" ContentType="image/png"/>
  <Override PartName="/ppt/media/image22.jpeg" ContentType="image/jpe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5.wmf" ContentType="image/x-wmf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EDA0-3DBF-463E-A82D-1EC93A79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81CE-45FC-4094-A471-0C9A0BBA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4EB-BDDA-4FA1-8DEC-9613B6F3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927-0C08-42CF-A9B9-E37DD5B4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2C6A-246B-4158-911E-BF66DEFB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8A9F-1D13-4E7D-94C7-C4A4AE3D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79FC-D6F7-472B-AFE8-9A68EC1E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4BD4-F110-4049-BB90-31C99CE3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B01D-149E-41E0-B4AE-A2C21B95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9575-C9BF-498B-9CB4-BA8C53F2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D0A8-43C7-4EC2-8328-1ACDE437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5A11-9EC0-43D9-A76A-F78CFCE0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CCEA-F2B2-46B8-A913-FD1AAA55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4E85-6D39-4FF1-8ACC-16C2DDEB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85CD-768A-4E1D-B3F7-E11973F4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98FF-47A4-4AB4-A924-1C7ED18D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6186-003F-46C3-A129-6452E69B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9E7E-BA20-404A-B8F7-42BB7BE2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2E5-2083-4B19-8077-DDE4C6E6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BCA9-A3C2-4771-AEE5-10EBA477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967-739C-4944-A285-BD3E8B69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D108-9E24-41BB-8E97-C820EB7B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5D0C-71B8-4990-8BDA-DBB29A41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1F7E-D168-4DD3-AD56-E6112F6C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2DDC-80C0-4E58-81A0-A4ADFF3CC9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prstGeom prst="pie">
            <a:avLst/>
          </a:pr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3491-98BD-4DC8-96F8-C777C544A1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5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одительское собрание в начальной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792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Составила и провела учитель 1 кв.категории Чикилева Ирина Алексе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Упражнения для улучшения памя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ладываются большой и указательный пальцы концами вместе, с усилием прижимая их друг к другу в наружную сторону. То же упражнение делают также для большого и среднего, большого и безымянного пальцев, большого пальца и мизинца (для каждой руки 20 раз). Затем кончиком большого пальца сильно надавливают на основание каждого пальца (для каждой руки 20 раз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ья – одна из самых древних форм человеческого общения. Именно в семье передаются от поколения к поколению трудовые навыки, привычки, взгляды, вкусы. Никто не заменит человеку семью. Он рождается в ней и проводит большую часть своей жизни: сначала в семье своих родителей, а затем в своей собственно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ёнок с первых шагов своей  сознательной жизни должен понять, что есть три вещи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жно, нельзя и надо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ет до 12, иногда до 13-14, а бывает и до 15-16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кормят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дним блюдом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жно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ёнку, а потом подростку всё можно, всё разрешается. Он чуть ли не центр вселенной для окружающих его близких, всё вращается вокруг него. Потом, когда вдруг оказывается, что ребёнок, как говорят в народе, сел на шею родителей, мать и отец быстро меняют блюдо и начинают усиленн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кормить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г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люд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льз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 подростком открывается совершенно новая, неизвестная ему доселе сторона окружающего мира: это запрещается, это не разрешается. Он чувствует себя оскорблённым. У него возникает извращённое представление о добре и зле, справедливости и несправедливости. До сих пор он каждой клеточкой своего существа чувствовал, что он приносит родителям только радость: что бы не делал – мать и отец только хвалили (даже если бабушке пригрозил маленьким кулачко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тут вдруг оказывается, что он приносит не радость, а одни беды и огорчения, он уже не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олотк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и н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наглядный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божье наказание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место ласкового пустословия появляется подзатыльник, а то и ремень. У ребёнка разыгрывается болезненное самолюбие. Каждое новое резкое слово родителей – это мелкая соль, на ранки самолюбия. Жалость к самому себе – вот душевное состояние, которое без преувеличения можно назвать неисчерпаемым источником эгоизма. Нельзя допускать, чтобы у детей зародилось это состояние, оно породит ожесточённость. Необходимо с малолетства дать понять, что есть 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ожно, и нельзя, и над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523880" y="609120"/>
            <a:ext cx="7315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кета для учащих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одержите ли вы свою комнату в чистоте и поряд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Можете ли вы придти в школу неопрятным? (грязными руками, мятой одежд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оветуются ли с вами ваши родители при распределении семейного бюдже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Знаете ли вы, откуда берутся деньги в вашей сем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Обманываете ли вы своих родител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Спрашиваете ли вы разрешения, если хотите что-то взя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Поздравляете ли вы вместе с родителями родственников и знакомых с праздник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Расположите эти слова по принципу, что чаще говорят вам родители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              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 Надо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омните, ч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доровье и воспитание      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          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начинается в сем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одительское собрание в начальной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92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м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«Здоровье – это жизн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05120" y="380520"/>
            <a:ext cx="68580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ье до того перевешивает все блага жизни, что воистину здоровый нищий счастливее больного корол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349379d7c95748e85da1d3ee48ff221b71288_b"/>
          <p:cNvPicPr/>
          <p:nvPr/>
        </p:nvPicPr>
        <p:blipFill>
          <a:blip r:embed="rId1"/>
          <a:stretch/>
        </p:blipFill>
        <p:spPr>
          <a:xfrm>
            <a:off x="380880" y="3124080"/>
            <a:ext cx="2438640" cy="2362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28609aed413fc45c5b0afccafc1acb7104a2b_s"/>
          <p:cNvPicPr/>
          <p:nvPr/>
        </p:nvPicPr>
        <p:blipFill>
          <a:blip r:embed="rId2"/>
          <a:stretch/>
        </p:blipFill>
        <p:spPr>
          <a:xfrm>
            <a:off x="1523880" y="4114800"/>
            <a:ext cx="2955960" cy="2438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1652640884197b9_s"/>
          <p:cNvPicPr/>
          <p:nvPr/>
        </p:nvPicPr>
        <p:blipFill>
          <a:blip r:embed="rId3"/>
          <a:stretch/>
        </p:blipFill>
        <p:spPr>
          <a:xfrm>
            <a:off x="4114800" y="3200400"/>
            <a:ext cx="2403360" cy="2895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images8"/>
          <p:cNvPicPr/>
          <p:nvPr/>
        </p:nvPicPr>
        <p:blipFill>
          <a:blip r:embed="rId4"/>
          <a:stretch/>
        </p:blipFill>
        <p:spPr>
          <a:xfrm>
            <a:off x="6324480" y="3751200"/>
            <a:ext cx="281952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18516a1faedce90_s"/>
          <p:cNvPicPr/>
          <p:nvPr/>
        </p:nvPicPr>
        <p:blipFill>
          <a:blip r:embed="rId1"/>
          <a:stretch/>
        </p:blipFill>
        <p:spPr>
          <a:xfrm>
            <a:off x="6172200" y="4800600"/>
            <a:ext cx="2971800" cy="1849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 - бесценное достояние не только каждого человека, но и всего общества. При встречах, расставаниях мы 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аем доброго здоровья, т.к. это - основное условие и залог полноценной и счастливой жизн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 помогает выполнять наши планы, решать жизненные задачи, преодолевать трудности. Согласно определению Всемирной организации здравоохранения, здоровье - это полное физическое, психологическое и социальное благополучие. За последние 15-16 лет почти втрое увеличилось количество детей с хронической патологией. Годы учебы в школе не только пополняют багаж знаний, умений, навыков, но и ухудшают состояние здоровья настолько, что пришлось ввести термин «школьные формы» патолог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томляем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из определяющих истоков школьного нездоровья - это хроническая утомляемость детей из-за сложившихся способов конструирования учебного процесса и передачи информации, приводящей к большим перегрузкам. Вот почему бледнеют румяные щечки детей,  раздаются постоянные жалобы на отсутствие аппетита, головные боли и прочее, иными словами, развиваются явления настоящей неврастении. Несколько неправильная система воспитания расшатывает у детей нервную систему в школьном возрас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561442288bff25d137c72738ead26c8be312492c2_b"/>
          <p:cNvPicPr/>
          <p:nvPr/>
        </p:nvPicPr>
        <p:blipFill>
          <a:blip r:embed="rId1"/>
          <a:stretch/>
        </p:blipFill>
        <p:spPr>
          <a:xfrm>
            <a:off x="152280" y="4896000"/>
            <a:ext cx="3353040" cy="174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533392135421da03711c0a3b5582116af9b7bce3b_b"/>
          <p:cNvPicPr/>
          <p:nvPr/>
        </p:nvPicPr>
        <p:blipFill>
          <a:blip r:embed="rId2"/>
          <a:stretch/>
        </p:blipFill>
        <p:spPr>
          <a:xfrm>
            <a:off x="7083360" y="0"/>
            <a:ext cx="2060640" cy="2438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23808139142bfbf2b8637430aefae3e824d46_b"/>
          <p:cNvPicPr/>
          <p:nvPr/>
        </p:nvPicPr>
        <p:blipFill>
          <a:blip r:embed="rId3"/>
          <a:stretch/>
        </p:blipFill>
        <p:spPr>
          <a:xfrm>
            <a:off x="5943600" y="4083120"/>
            <a:ext cx="3200400" cy="24699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и ц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чь и укреплять здоровье наших детей. Нужно помнить об этом всегда и уметь защищать здоровье будущего поколения. В этом и должна состоять работа семьи, школы и государства в цел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15506aa37c34038_s"/>
          <p:cNvPicPr/>
          <p:nvPr/>
        </p:nvPicPr>
        <p:blipFill>
          <a:blip r:embed="rId4"/>
          <a:stretch/>
        </p:blipFill>
        <p:spPr>
          <a:xfrm>
            <a:off x="4564080" y="3424320"/>
            <a:ext cx="17280" cy="11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15506aa37c34038_s"/>
          <p:cNvPicPr/>
          <p:nvPr/>
        </p:nvPicPr>
        <p:blipFill>
          <a:blip r:embed="rId5"/>
          <a:stretch/>
        </p:blipFill>
        <p:spPr>
          <a:xfrm>
            <a:off x="4564080" y="3424320"/>
            <a:ext cx="17280" cy="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3377473118962ec885d350f9481ea50d181c2_s"/>
          <p:cNvPicPr/>
          <p:nvPr/>
        </p:nvPicPr>
        <p:blipFill>
          <a:blip r:embed="rId1"/>
          <a:stretch/>
        </p:blipFill>
        <p:spPr>
          <a:xfrm>
            <a:off x="7797960" y="2514600"/>
            <a:ext cx="1314360" cy="1828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ДЬ ЭТО ТАК ПРОСТО…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(Советы доктора Смирнов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ы хотите стать по крайней мере на 50%  более здоровыми, а значит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28600" y="2574360"/>
            <a:ext cx="868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. ДВИГАЙТЕСЬ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ЖЕДНЕВНО НЕ МЕНЕЕ ПОЛУТОРА ЧАСОВ ХОДЬБЫ. ЕЖЕДНЕВНО НЕ МЕНЕЕ 15 МИНУТ ФИЗИЧЕСКИХ УПРАЖНЕНИЙ.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. ПРАВИЛЬНО ПИТАЙТЕСЬ!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. СОН.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. ДОБРОЖЕЛАТЕЛЬНОСТЬ В ОБЩЕНИИ, ТЕРПИМОСТЬ, СТРЕМЛЕНИЕ СДЕЛАТЬ ДРУГИМ ЛЮДЯМ ЧТО-ТО ХОРОШЕЕ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18516a1faedce90_s"/>
          <p:cNvPicPr/>
          <p:nvPr/>
        </p:nvPicPr>
        <p:blipFill>
          <a:blip r:embed="rId2"/>
          <a:stretch/>
        </p:blipFill>
        <p:spPr>
          <a:xfrm>
            <a:off x="3733920" y="3429000"/>
            <a:ext cx="2743200" cy="1673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47567213515ce5773e14b8f64f88f171601ac9b68_s"/>
          <p:cNvPicPr/>
          <p:nvPr/>
        </p:nvPicPr>
        <p:blipFill>
          <a:blip r:embed="rId3"/>
          <a:stretch/>
        </p:blipFill>
        <p:spPr>
          <a:xfrm>
            <a:off x="1219320" y="4343400"/>
            <a:ext cx="205740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МАШНЕЕ ЗАДАНИЕ БЕЗ ПЕРЕГРУЗО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учитывать и продолжительность приготовления уроков в среднем, и какие отклонения от этого времени допустимы для некоторых детей с учетом их индивидуальных особенностей и темпов развития. </a:t>
            </a: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Для учеников 1 класса – 1ч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ля учеников 2-4 класса - до 2 часов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ется приготовление д/з с задания средней тяжести, трудный предмет, легкое задание. </a:t>
            </a:r>
            <a:br>
              <a:rPr sz="2400"/>
            </a:b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Через каждые 40 минут -делать перерыв по 10 мин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выполнить физические упражнения, упражнения для гл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585471758a8560a8e423bd34258dcfe5d9119d019_s"/>
          <p:cNvPicPr/>
          <p:nvPr/>
        </p:nvPicPr>
        <p:blipFill>
          <a:blip r:embed="rId1"/>
          <a:stretch/>
        </p:blipFill>
        <p:spPr>
          <a:xfrm>
            <a:off x="609480" y="5257800"/>
            <a:ext cx="2210040" cy="1338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586971758843e662977b6f163d8326d3ffb46a554_s"/>
          <p:cNvPicPr/>
          <p:nvPr/>
        </p:nvPicPr>
        <p:blipFill>
          <a:blip r:embed="rId2"/>
          <a:stretch/>
        </p:blipFill>
        <p:spPr>
          <a:xfrm>
            <a:off x="3505320" y="5181480"/>
            <a:ext cx="2057400" cy="1392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5869317586fd3712ad508f348c38a7d81dc7089a5_s"/>
          <p:cNvPicPr/>
          <p:nvPr/>
        </p:nvPicPr>
        <p:blipFill>
          <a:blip r:embed="rId3"/>
          <a:stretch/>
        </p:blipFill>
        <p:spPr>
          <a:xfrm>
            <a:off x="7610400" y="4495680"/>
            <a:ext cx="1533600" cy="2133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Упражнения для снятия возбу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оединить ладони перед собой и давить одной рукой на другу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цепить кисти пальцами, одна ладонь направлена вниз, другая вверх. Затем с силой потянуть руки в противоположные стор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Ухватиться руками за сиденье стула, и сильно потянуть его к себе, спину держать прям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цепить пальцы за головой и давить ладонями на затылок, не меняя положения голов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Admin</cp:lastModifiedBy>
  <dcterms:modified xsi:type="dcterms:W3CDTF">2012-07-22T18:47:18Z</dcterms:modified>
  <cp:revision>15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