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FA0-9A7A-492D-9F09-F4FFE223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FB5-F798-4075-B9DE-C2787A6A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F539-41F1-4EA5-8A90-63DC7237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512C-32CE-427F-A311-D5FEA4BD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640-84B6-4F01-9036-C07D8BAD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72E-DEBC-48B1-9DD2-6652B87D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595-EC52-47F7-BADD-CD074CEA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600-E4EA-4459-A547-4C0A35C9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02A-3718-4876-8F93-DCF434EB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574-C7B6-4209-9DBC-3CCB6A77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2D8-B371-4DC7-A2C3-E09F1C75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97B-1BA5-4C09-A84A-4F2BCC52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B129-6897-4184-8D9B-76515177D1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240" y="549000"/>
            <a:ext cx="752148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Здоровье и воспитание начинается в семье.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ла и провела учитель начальной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килева Ирина Алексее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ообще ребёнок с первых шагов своей сознательной жизни должен понять, что есть три вещи: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жно, нельзя и надо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Лет до 12, иногда до 13-14, а бывает и до 15-16 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«кормят»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одним блюдом: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жно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6828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гда оказывается, что ребёнок, как говорят в народе, сел на шею родителей, они вводят понятие: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льзя.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д подростком открывается совершенно новая, неизвестная ему доселе сторона окружающего мира: это запрещается, это не разрешается. Он чувствует себя оскорблённы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07760" y="189000"/>
            <a:ext cx="8435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тут вдруг оказывается, что он приносит не радость, а одни беды и огорчения, он уже не «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золотк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 и не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«наглядный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«божье наказание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место ласкового пустословия появляется подзатыльник, а то и ремень. Жалость к самому себе – вот душевное состояние, которое без преувеличения можно назвать неисчерпаемым источником эгоизма. Нельзя допускать, чтобы у детей зародилось это состояние, оно породит ожесточённость. Необходимо с малолетства дать понять, что есть 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жно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льзя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до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кета для учащих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Содержите ли вы свою комнату в чистоте и поряд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Можете ли вы придти в школу неопрятным? (грязными руками, мятой одежд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Советуются ли с вами ваши родители при распределении семейного бюдж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Знаете ли вы, откуда берутся деньги в вашей сем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Обманываете ли вы своих родител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.Спрашиваете ли вы разрешения, если хотите что-то взя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.Поздравляете ли вы вместе с родителями родственников и знакомых с праздник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.Расположите эти слова по принципу, что чаще говорят вам родители: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          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                            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льз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                              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до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                                                                    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636640"/>
            <a:ext cx="856908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емья – одна из самых древних форм человеческого общения. Именно в семье передаются от поколения к поколению трудовые навыки, привычки, взгляды, вкусы. Никто не заменит человеку семью. Он рождается в ней и проводит большую часть своей жизни: сначала в семье своих родителей, а затем в своей собственной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0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д родителями стоит серьёзная задача – приучить детей к чистоте. И правильно говорится в народе: «Чистота – залог здоровья». Родители никогда не забывайте следить за соблюдением чистоты комнаты, постели, стола, одежды вашего ребёнка, помогайте ему, если он с этим не справляет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12640"/>
            <a:ext cx="82296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ходит время, когда сам ребёнок не может сесть за стол с грязными руками, не пойдёт в мятой одежде в школу – можно говорить о том, что цель вами достигнута. И как приятно смотреть на опрятного ученика, можно с уверенностью сказать, что и дома у таких детей всё в порядке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ведь дети – это наше отражени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одители должны внимательно следить за развитие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честности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 детей, ведь она воспитывается в семь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23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ыдающийся педагог Макаренко писал: «Если у вас  в семье постоянный порядок и отец и мать знают, где что лежит, никогда в вашем доме воровства не будет». Первый случай детского воровства – это «взял без спросу». И плохо, если это делается привычкой – воровство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можно раньше ребёнок должен узнать о работе его матери и отца и что те деньги, которые они приносят домой, не просто вещь, которую можно легко истратить, но и заработок  большого и полезного труд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81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комьте ребёнка с семейным бюджетом. Постепенно привлекайте к обсуждению семейных финансовых расходов. Он должен знать, в чём нуждается мать ли отец. Учите ребёнка отказываться иногда от своих потребностей, ради другого члена семь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месте с детьми не забывайте поздравлять с праздниками родных. Часто бывает так, что  мы забываем о близких  людях. И потом будет неудивительно, если   ребёнок забудет поздравить вас. Кто будет виноват?  Мы закладываем в детях всё лучшее и иногда, к сожалению и худшее. Всё в наших руках.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6:00:22Z</dcterms:created>
  <dc:creator>Admin</dc:creator>
  <dc:description/>
  <dc:language>en-US</dc:language>
  <cp:lastModifiedBy>Admin</cp:lastModifiedBy>
  <dcterms:modified xsi:type="dcterms:W3CDTF">2012-07-22T18:49:09Z</dcterms:modified>
  <cp:revision>3</cp:revision>
  <dc:subject/>
  <dc:title>Слайд 1</dc:title>
</cp:coreProperties>
</file>