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539-66EB-44AC-965A-803C99C0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896-361A-4B0B-8E60-07645E0B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DDC-D70F-413E-98C1-094CC128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C5F-51B7-4CF9-9C06-37905C53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E8D-2CF6-419F-8018-043B539E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BC7-55EE-4F45-B84D-7289D6A5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E25-9F3F-4B04-B513-649C25E7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D0D-BA6D-4F6D-94D7-E47ACBEA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CD0-F704-4EB7-90A2-70A3195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260-26D1-4207-B160-9C3EF81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974-1E5C-4BB0-A105-8B70DDF0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1CC-6495-45C7-AA82-47EDB4D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4944-EA7D-4783-9B0B-E99E15FC0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549000"/>
            <a:ext cx="75214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доровье и воспитание начинается в семье.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а и провела учитель начальн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илева Ирина Алекс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обще ребёнок с первых шагов своей сознательной жизни должен понять, что есть три вещи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жно, нельзя и надо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Лет до 12, иногда до 13-14, а бывает и до 15-16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«кормят»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дним блюдом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ж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68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гда оказывается, что ребёнок, как говорят в народе, сел на шею родителей, они вводят понятие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льзя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д подростком открывается совершенно новая, неизвестная ему доселе сторона окружающего мира: это запрещается, это не разрешается. Он чувствует себя оскорблённы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77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ут вдруг оказывается, что он приносит не радость, а одни беды и огорчения, он уже не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олотк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и н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наглядный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божье наказание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место ласкового пустословия появляется подзатыльник, а то и ремень. Жалость к самому себе – вот душевное состояние, которое без преувеличения можно назвать неисчерпаемым источником эгоизма. Нельзя допускать, чтобы у детей зародилось это состояние, оно породит ожесточённость. Необходимо с малолетства дать понять, что есть 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льзя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кета для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Содержите ли вы свою комнату в чистоте и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Можете ли вы придти в школу неопрятным? (грязными руками, мятой одежд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Советуются ли с вами ваши родители при распределении семейного бюдж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Знаете ли вы, откуда берутся деньги в вашей сем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Обманываете ли вы своих роди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Спрашиваете ли вы разрешения, если хотите что-то взя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Поздравляете ли вы вместе с родителями родственников и знакомых с праздни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.Расположите эти слова по принципу, что чаще говорят вам родители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        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                      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                        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до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                                                    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636640"/>
            <a:ext cx="856908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мья – одна из самых древних форм человеческого общения. Именно в семье передаются от поколения к поколению трудовые навыки, привычки, взгляды, вкусы. Никто не заменит человеку семью. Он рождается в ней и проводит большую часть своей жизни: сначала в семье своих родителей, а затем в своей собственно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д родителями стоит серьёзная задача – приучить детей к чистоте. И правильно говорится в народе: «Чистота – залог здоровья». Родители никогда не забывайте следить за соблюдением чистоты комнаты, постели, стола, одежды вашего ребёнка, помогайте ему, если он с этим не справляе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ходит время, когда сам ребёнок не может сесть за стол с грязными руками, не пойдёт в мятой одежде в школу – можно говорить о том, что цель вами достигнута. И как приятно смотреть на опрятного ученика, можно с уверенностью сказать, что и дома у таких детей всё в порядке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едь дети – это наше отраж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дители должны внимательно следить за развити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честности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детей, ведь она воспитывается в семь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дающийся педагог Макаренко писал: «Если у вас  в семье постоянный порядок и отец и мать знают, где что лежит, никогда в вашем доме воровства не будет». Первый случай детского воровства – это «взял без спросу». И плохо, если это делается привычкой – воровств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можно раньше ребёнок должен узнать о работе его матери и отца и что те деньги, которые они приносят домой, не просто вещь, которую можно легко истратить, но и заработок  большого и полезного тру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8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комьте ребёнка с семейным бюджетом. Постепенно привлекайте к обсуждению семейных финансовых расходов. Он должен знать, в чём нуждается мать ли отец. Учите ребёнка отказываться иногда от своих потребностей, ради другого члена семь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месте с детьми не забывайте поздравлять с праздниками родных. Часто бывает так, что  мы забываем о близких  людях. И потом будет неудивительно, если   ребёнок забудет поздравить вас. Кто будет виноват?  Мы закладываем в детях всё лучшее и иногда, к сожалению и худшее. Всё в наших руках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00:22Z</dcterms:created>
  <dc:creator>Admin</dc:creator>
  <dc:description/>
  <dc:language>en-US</dc:language>
  <cp:lastModifiedBy>Admin</cp:lastModifiedBy>
  <dcterms:modified xsi:type="dcterms:W3CDTF">2012-07-22T18:49:09Z</dcterms:modified>
  <cp:revision>3</cp:revision>
  <dc:subject/>
  <dc:title>Слайд 1</dc:title>
</cp:coreProperties>
</file>