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CEC-E0AA-40F9-9FB8-672DE5F9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A3C-7645-455D-955B-C1C9BCBB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EB0-D1EA-4B8D-8C23-FD6E442F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CE8-AB0D-4AC4-B272-1B3A0495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10C-17D0-4909-9C94-B8E79928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E1F-97EB-45E7-8D1C-983674D4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8AA-9453-41A7-B3DA-E14F6A78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D55-A49C-4DA0-97A5-73EE9AFA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0A4-239E-4364-B11B-B7244C47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216-4E15-4E7F-B0EF-366279FE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AE4-1D20-4F5E-9A85-7AB1B185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A88-566D-4106-99B0-6E0EA42D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7C1A-2B11-438A-AC6F-25133039F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4723920"/>
            <a:ext cx="8028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зентация подготовлена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мбантовой Ладой Викторовной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учителем ИЗО и МХК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КУ «Средняя общеобразовательная школа с. Сальское»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альнереченского район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риморского края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01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Пейзаж в технике пуантилиз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6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звание используемой тех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Технология 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звание приёма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Пробуем себя в хокку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удожественная форма письменной рефлексии, которая позволяет оценить изученное понятие, процесс или явление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143080" y="5000760"/>
            <a:ext cx="6840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рок и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умались как тихий вете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движенье только ру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907920"/>
            <a:ext cx="223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H:\фото школа\P1020945.JPG"/>
          <p:cNvPicPr/>
          <p:nvPr/>
        </p:nvPicPr>
        <p:blipFill>
          <a:blip r:embed="rId4"/>
          <a:stretch/>
        </p:blipFill>
        <p:spPr>
          <a:xfrm>
            <a:off x="17002080" y="10501200"/>
            <a:ext cx="21945600" cy="1645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:\Documents and Settings\User\Рабочий стол\P1020945.JPG"/>
          <p:cNvPicPr/>
          <p:nvPr/>
        </p:nvPicPr>
        <p:blipFill>
          <a:blip r:embed="rId5"/>
          <a:stretch/>
        </p:blipFill>
        <p:spPr>
          <a:xfrm rot="20338200">
            <a:off x="547200" y="1779120"/>
            <a:ext cx="2416320" cy="270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H:\Documents and Settings\User\Рабочий стол\P1020946.JPG"/>
          <p:cNvPicPr/>
          <p:nvPr/>
        </p:nvPicPr>
        <p:blipFill>
          <a:blip r:embed="rId6"/>
          <a:stretch/>
        </p:blipFill>
        <p:spPr>
          <a:xfrm>
            <a:off x="6929280" y="5000760"/>
            <a:ext cx="1643400" cy="1628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:\Documents and Settings\User\Рабочий стол\P1020947.JPG"/>
          <p:cNvPicPr/>
          <p:nvPr/>
        </p:nvPicPr>
        <p:blipFill>
          <a:blip r:embed="rId7"/>
          <a:stretch/>
        </p:blipFill>
        <p:spPr>
          <a:xfrm rot="1576800">
            <a:off x="6094440" y="1545840"/>
            <a:ext cx="2519280" cy="298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H:\Documents and Settings\User\Рабочий стол\P1020946.JPG"/>
          <p:cNvPicPr/>
          <p:nvPr/>
        </p:nvPicPr>
        <p:blipFill>
          <a:blip r:embed="rId8"/>
          <a:stretch/>
        </p:blipFill>
        <p:spPr>
          <a:xfrm>
            <a:off x="3286080" y="1285920"/>
            <a:ext cx="238140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:\Documents and Settings\User\Рабочий стол\P1020926.JPG"/>
          <p:cNvPicPr/>
          <p:nvPr/>
        </p:nvPicPr>
        <p:blipFill>
          <a:blip r:embed="rId9"/>
          <a:stretch/>
        </p:blipFill>
        <p:spPr>
          <a:xfrm>
            <a:off x="428760" y="4714920"/>
            <a:ext cx="15714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280" y="5157720"/>
            <a:ext cx="8147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сё получ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счастлив, я могу, я зн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0" y="907920"/>
            <a:ext cx="223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:\Documents and Settings\User\Рабочий стол\P1020926.JPG"/>
          <p:cNvPicPr/>
          <p:nvPr/>
        </p:nvPicPr>
        <p:blipFill>
          <a:blip r:embed="rId4"/>
          <a:stretch/>
        </p:blipFill>
        <p:spPr>
          <a:xfrm>
            <a:off x="5500800" y="1285920"/>
            <a:ext cx="3019320" cy="5214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:\Documents and Settings\User\Рабочий стол\P1020924.JPG"/>
          <p:cNvPicPr/>
          <p:nvPr/>
        </p:nvPicPr>
        <p:blipFill>
          <a:blip r:embed="rId5"/>
          <a:stretch/>
        </p:blipFill>
        <p:spPr>
          <a:xfrm>
            <a:off x="857160" y="1785960"/>
            <a:ext cx="36324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5157720"/>
            <a:ext cx="8147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539640" y="5157720"/>
            <a:ext cx="8147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ы у до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сказываем всем, что получ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от здоро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907920"/>
            <a:ext cx="223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H:\Documents and Settings\User\Рабочий стол\P1020933.JPG"/>
          <p:cNvPicPr/>
          <p:nvPr/>
        </p:nvPicPr>
        <p:blipFill>
          <a:blip r:embed="rId4"/>
          <a:stretch/>
        </p:blipFill>
        <p:spPr>
          <a:xfrm rot="20968200">
            <a:off x="159840" y="1616040"/>
            <a:ext cx="2230560" cy="19540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0"/>
          <p:cNvSpPr/>
          <p:nvPr/>
        </p:nvSpPr>
        <p:spPr>
          <a:xfrm rot="20927400">
            <a:off x="166320" y="360216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сна пришл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H:\Documents and Settings\User\Рабочий стол\P1020934.JPG"/>
          <p:cNvPicPr/>
          <p:nvPr/>
        </p:nvPicPr>
        <p:blipFill>
          <a:blip r:embed="rId5"/>
          <a:stretch/>
        </p:blipFill>
        <p:spPr>
          <a:xfrm>
            <a:off x="2643120" y="2428920"/>
            <a:ext cx="2471760" cy="21654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2"/>
          <p:cNvSpPr/>
          <p:nvPr/>
        </p:nvSpPr>
        <p:spPr>
          <a:xfrm>
            <a:off x="2357280" y="192888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ний ден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H:\Documents and Settings\User\Рабочий стол\P1020936.JPG"/>
          <p:cNvPicPr/>
          <p:nvPr/>
        </p:nvPicPr>
        <p:blipFill>
          <a:blip r:embed="rId6"/>
          <a:stretch/>
        </p:blipFill>
        <p:spPr>
          <a:xfrm>
            <a:off x="5643720" y="1357200"/>
            <a:ext cx="2228760" cy="23529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4"/>
          <p:cNvSpPr/>
          <p:nvPr/>
        </p:nvSpPr>
        <p:spPr>
          <a:xfrm>
            <a:off x="6429240" y="92880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олотая осен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H:\Documents and Settings\User\Рабочий стол\P1020937.JPG"/>
          <p:cNvPicPr/>
          <p:nvPr/>
        </p:nvPicPr>
        <p:blipFill>
          <a:blip r:embed="rId7"/>
          <a:stretch/>
        </p:blipFill>
        <p:spPr>
          <a:xfrm>
            <a:off x="6357960" y="4214880"/>
            <a:ext cx="2387520" cy="22953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6"/>
          <p:cNvSpPr/>
          <p:nvPr/>
        </p:nvSpPr>
        <p:spPr>
          <a:xfrm>
            <a:off x="6357960" y="371484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тняя сказк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кку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33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шла весн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зде грязно, тает сн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ду л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2708280"/>
            <a:ext cx="4906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32480" y="1052640"/>
            <a:ext cx="45115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00720" y="2421000"/>
            <a:ext cx="4906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, худож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исую лето, чувствую теп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доро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3789360"/>
            <a:ext cx="40338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,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ех мор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х, холод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2421000"/>
            <a:ext cx="40338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олотая осен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елтая, красная, раз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т красо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427640" y="907920"/>
            <a:ext cx="40338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деревьях листьев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нег лежит пушис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им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500720" y="3789360"/>
            <a:ext cx="403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лнце светит яр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летели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ра, вес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556000" y="5275440"/>
            <a:ext cx="54734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сное неб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аркий денёк, солнышко све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мое л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3203640" y="1989000"/>
            <a:ext cx="208908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ЧТО ДАЁ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ИСПОЛЬ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ПРИЁ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«ПРОБУ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ПИС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ХОККУ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68360" y="1052640"/>
            <a:ext cx="2160720" cy="129672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мо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тандар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867280" y="1197000"/>
            <a:ext cx="2519640" cy="115236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 азам поэ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50920" y="2781360"/>
            <a:ext cx="2448000" cy="151128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могает у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учащемся,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оя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826920" y="4869000"/>
            <a:ext cx="3600720" cy="172692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при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показ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д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риним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5724360" y="2852640"/>
            <a:ext cx="3095640" cy="165600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оце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собенно у слаб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х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5292720" y="191628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 flipV="1">
            <a:off x="2700360" y="19890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 flipH="1">
            <a:off x="284292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5292720" y="3357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3419640" y="40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4572000" y="4869000"/>
            <a:ext cx="3600360" cy="172692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воляет оце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ял ли уче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енное понят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 или 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485928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0920" y="1412640"/>
            <a:ext cx="7705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Arial"/>
              </a:rPr>
              <a:t>Приём формиру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е осмысливать свой опы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е давать личностную оценку событиям, явлениям, факта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ностное отношение к окружающему миру и самому себ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252360" y="5130720"/>
            <a:ext cx="889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, скажу коллег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ить – не главное, главное – видеть   счастливые лица дет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от оно, счасть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H:\Documents and Settings\User\Рабочий стол\P1020939.JPG"/>
          <p:cNvPicPr/>
          <p:nvPr/>
        </p:nvPicPr>
        <p:blipFill>
          <a:blip r:embed="rId4"/>
          <a:stretch/>
        </p:blipFill>
        <p:spPr>
          <a:xfrm>
            <a:off x="2071800" y="1285920"/>
            <a:ext cx="5202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619280" y="4600440"/>
            <a:ext cx="708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50920" y="1844640"/>
            <a:ext cx="88930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Приё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«Пробуем себя в хокку» -  это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удожественная форма письменной рефлексии, которая </a:t>
            </a: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позволяет оценить изученное понятие, процесс или я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Рефлекс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размышл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человека, </a:t>
            </a: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направленное на анализ самого себ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самоанализ) – собственных состояний, своих поступков и прошедших собы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Рефлекс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в упрощённом определении, - это «</a:t>
            </a: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разговор с самим соб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826920" y="39337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Чужих меж нами н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ы все друг другу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од вишнями в цвет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6646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954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кку - это жанр японской поэзии, который строится на соотнесении человека и мира природы,  может быть и на комические, любовные, исторические и другие сюжет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39640" y="5445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п-топ-лошадка м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жу себя на картин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сторе летних лу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932360" y="4221000"/>
            <a:ext cx="40384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д за годом всё то 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зьяна толпу поте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аске обезья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859280" y="2708280"/>
            <a:ext cx="475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щальные сти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еере хотел я написать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уке сломался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haiku4"/>
          <p:cNvPicPr/>
          <p:nvPr/>
        </p:nvPicPr>
        <p:blipFill>
          <a:blip r:embed="rId4"/>
          <a:stretch/>
        </p:blipFill>
        <p:spPr>
          <a:xfrm>
            <a:off x="1476360" y="2565360"/>
            <a:ext cx="30020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4"/>
          <a:stretch/>
        </p:blipFill>
        <p:spPr>
          <a:xfrm>
            <a:off x="-1189080" y="1413000"/>
            <a:ext cx="10333080" cy="2879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1619280" y="4387320"/>
            <a:ext cx="70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переводчик японской поэ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колова-Делюсин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0" y="981000"/>
            <a:ext cx="9144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ческие хокку (хайку) строятся на соотнесении человека и мира прир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33cc"/>
                </a:solidFill>
                <a:uFillTx/>
                <a:latin typeface="Arial"/>
              </a:rPr>
              <a:t>при э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должна быть определена относительно времени года — для этого в качестве обязательного элемента текста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использу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яп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.«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сезонное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слово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всего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повеств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дётся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в настоящем 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автор представляет свои пережи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риф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хокку в европейском понимании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скольку здесь используются другие принципы построения сти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кку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должно быть корот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мерно три строки) так, чтобы оно читалось на одном дыхании в прямом смысле (хотя читать его надо с остановками перед каждой часть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хокку получались достаточно компактными, нужно сохраня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н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слогов по схеме 5+7+5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245200" y="1916280"/>
            <a:ext cx="3898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Хокку сродни искусству живописи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нередко писались  на сюжеты картин и вдохновляли художников, превращаясь в компонент карт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636124.jpg"/>
          <p:cNvPicPr/>
          <p:nvPr/>
        </p:nvPicPr>
        <p:blipFill>
          <a:blip r:embed="rId4"/>
          <a:stretch/>
        </p:blipFill>
        <p:spPr>
          <a:xfrm>
            <a:off x="179280" y="1628640"/>
            <a:ext cx="5400720" cy="4149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3"/>
          <p:cNvSpPr/>
          <p:nvPr/>
        </p:nvSpPr>
        <p:spPr>
          <a:xfrm>
            <a:off x="2050920" y="4941720"/>
            <a:ext cx="381636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етер разнос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клочьями лёгкий туман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утро на взморь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loud"/>
          <p:cNvSpPr/>
          <p:nvPr/>
        </p:nvSpPr>
        <p:spPr>
          <a:xfrm>
            <a:off x="6732720" y="549360"/>
            <a:ext cx="2232000" cy="1035000"/>
          </a:xfrm>
          <a:prstGeom prst="pie">
            <a:avLst/>
          </a:prstGeom>
          <a:gradFill rotWithShape="0">
            <a:gsLst>
              <a:gs pos="0">
                <a:srgbClr val="ffb7db"/>
              </a:gs>
              <a:gs pos="50000">
                <a:srgbClr val="ffff93"/>
              </a:gs>
              <a:gs pos="100000">
                <a:srgbClr val="ffb7db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И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"/>
          <p:cNvSpPr/>
          <p:nvPr/>
        </p:nvSpPr>
        <p:spPr>
          <a:xfrm>
            <a:off x="3851280" y="2997360"/>
            <a:ext cx="4175280" cy="1854000"/>
          </a:xfrm>
          <a:prstGeom prst="pie">
            <a:avLst/>
          </a:prstGeom>
          <a:gradFill rotWithShape="0">
            <a:gsLst>
              <a:gs pos="0">
                <a:srgbClr val="ffffbd"/>
              </a:gs>
              <a:gs pos="100000">
                <a:srgbClr val="f8ccf2"/>
              </a:gs>
            </a:gsLst>
            <a:lin ang="540000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ЛО 17 СЛ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строка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строка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строка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/>
          <p:cNvSpPr/>
          <p:nvPr/>
        </p:nvSpPr>
        <p:spPr>
          <a:xfrm>
            <a:off x="1258920" y="3068640"/>
            <a:ext cx="2735280" cy="100800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0b9f9"/>
              </a:gs>
            </a:gsLst>
            <a:lin ang="0"/>
          </a:gradFill>
          <a:ln w="1908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 РИФ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284720" y="0"/>
            <a:ext cx="3024000" cy="266400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К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>
            <a:off x="611280" y="1916280"/>
            <a:ext cx="4860720" cy="1025280"/>
          </a:xfrm>
          <a:prstGeom prst="pie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ТОЯЩЕЕ ВРЕМЯ ПОВ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826920" y="476280"/>
            <a:ext cx="3888000" cy="1035000"/>
          </a:xfrm>
          <a:prstGeom prst="pie">
            <a:avLst/>
          </a:prstGeom>
          <a:gradFill rotWithShape="0">
            <a:gsLst>
              <a:gs pos="0">
                <a:srgbClr val="d99bed"/>
              </a:gs>
              <a:gs pos="50000">
                <a:srgbClr val="ffff93"/>
              </a:gs>
              <a:gs pos="100000">
                <a:srgbClr val="d99bed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АЖАЕТ ОДНО МГ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6012000" y="2060640"/>
            <a:ext cx="2879640" cy="1035000"/>
          </a:xfrm>
          <a:prstGeom prst="pie">
            <a:avLst/>
          </a:prstGeom>
          <a:gradFill rotWithShape="0">
            <a:gsLst>
              <a:gs pos="0">
                <a:srgbClr val="c49bed"/>
              </a:gs>
              <a:gs pos="50000">
                <a:srgbClr val="ffff93"/>
              </a:gs>
              <a:gs pos="100000">
                <a:srgbClr val="c49bed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ЕЛЬНАЯ КРАТ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71680" y="3786120"/>
            <a:ext cx="814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учит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 вот вам и задание, творите, сочиня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мотр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643720" y="1285920"/>
            <a:ext cx="22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H:\Documents and Settings\User\Рабочий стол\P1020950.JPG"/>
          <p:cNvPicPr/>
          <p:nvPr/>
        </p:nvPicPr>
        <p:blipFill>
          <a:blip r:embed="rId4"/>
          <a:stretch/>
        </p:blipFill>
        <p:spPr>
          <a:xfrm>
            <a:off x="5643720" y="1857240"/>
            <a:ext cx="2214360" cy="2265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:\Documents and Settings\User\Рабочий стол\P1020924.JPG"/>
          <p:cNvPicPr/>
          <p:nvPr/>
        </p:nvPicPr>
        <p:blipFill>
          <a:blip r:embed="rId5"/>
          <a:stretch/>
        </p:blipFill>
        <p:spPr>
          <a:xfrm>
            <a:off x="1571760" y="1143000"/>
            <a:ext cx="2928960" cy="204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H:\Documents and Settings\User\Рабочий стол\P1020925.JPG"/>
          <p:cNvPicPr/>
          <p:nvPr/>
        </p:nvPicPr>
        <p:blipFill>
          <a:blip r:embed="rId6"/>
          <a:stretch/>
        </p:blipFill>
        <p:spPr>
          <a:xfrm>
            <a:off x="2071800" y="5000760"/>
            <a:ext cx="457200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8:48:02Z</dcterms:created>
  <dc:creator>User</dc:creator>
  <dc:description/>
  <dc:language>en-US</dc:language>
  <cp:lastModifiedBy>User</cp:lastModifiedBy>
  <dcterms:modified xsi:type="dcterms:W3CDTF">2012-07-22T13:46:52Z</dcterms:modified>
  <cp:revision>32</cp:revision>
  <dc:subject/>
  <dc:title>Слайд 1</dc:title>
</cp:coreProperties>
</file>