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6EC-6A7D-4581-90FB-F842D4C7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D6B-B459-40AA-A86D-CF10F74D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14C-F6F5-47A1-B2B4-B0262863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683-4B42-4060-BC95-1E2D9342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E803-D9CF-4DC5-9679-88008AFB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DDD6-1DA9-4FBE-B894-3A09CB7E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9E76-4544-4AB0-86EC-8B380810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0C18-CFAF-474F-84C2-A4927563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5A38-869E-4DF7-A834-6811B86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15EF-64DA-4670-A7DB-DA4146CF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A702-6516-4396-815E-E1E2BF6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529-12FA-4238-A0B5-D587D74E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7052-229B-4559-A6AF-BFBF5581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A7D1-E04A-402D-ACC2-D362B95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509D-38D3-4D74-BA85-2375C788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E0B4-6B10-4703-92BE-20A7C514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6A0E-8225-4529-9E3E-2E75F6B8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DD2-B7F9-4476-8856-0BB9B489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452-7DD8-46D8-A716-A9A4436A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4F8-3915-4E53-B9CF-9A97A18B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0EE-84E0-401D-842F-F0955CB5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2C9-B6B8-42AE-842C-6F592E2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38B-E25D-48F4-94CD-1576B646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051-DAD8-49A3-BFC9-C8441C8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1BA8-A486-41EE-97CB-D7912A7FC9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D58F-8070-46CF-A356-613A05FBF7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Дроби и процен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Работа ученицы 6 «В» 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Норцевой Еле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4864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28960" y="457200"/>
            <a:ext cx="391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Петя и Саша делили конф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Пете досталось 39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а Саше 4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от общего числа конф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Сколько всего было конф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838080"/>
            <a:ext cx="60199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Швейная фабрика выпустила 1200 костю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з них 32% составляют костюмы нового фас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колько костюмов нового фасона выпустила фабрика?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19320" y="2743200"/>
            <a:ext cx="38862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Проценты на выпускном экзамене</a:t>
            </a:r>
            <a:br>
              <a:rPr sz="3200"/>
            </a:br>
            <a:r>
              <a:rPr b="1" lang="en-US" sz="3200" spc="-1" strike="noStrike">
                <a:solidFill>
                  <a:srgbClr val="330066"/>
                </a:solidFill>
                <a:latin typeface="Comic Sans MS"/>
              </a:rPr>
              <a:t> в 11 классе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В школьных соревнованиях уча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150 девочек и 250 мальч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Сколько процентов всех учас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составляют девоч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2670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Спасибо за внимание!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До завтра, до свидания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3308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Дроб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019560" cy="30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Алиса упала в сказочны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олодец и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 1 минуту пролетел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0 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акова глубина колодц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если за 1 минуту Алис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олетел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сего расстояния?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3130560" cy="533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62120" y="2743200"/>
                <a:ext cx="442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685800"/>
            <a:ext cx="365760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чеха перед балом задала  Золу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 работы. Чтобы выпол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й рабо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олушке понадоб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какое время Зол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ит всю работу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06360" y="1981080"/>
                <a:ext cx="354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383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курятнике было 40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неделю лиса утащ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ех   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ко кур утащила ли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зьянке в зоопарке на завтрак дали пучок из 36 бан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а съела                   п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лько бананов съ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зьян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791320" y="382680"/>
            <a:ext cx="2743200" cy="2736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105520" y="35053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271440" cy="695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38280" y="4495680"/>
                <a:ext cx="3096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тихотворение про дробь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бь жила - была на св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ы узнаешь по примет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верхнем домике жи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мечательный наро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вать его Числи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огучий Повел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ижнем домике жи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менатель – злой  нар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го всегда все дел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злиться он хоть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Числителя всегда все оружье пустит в 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А Числитель без труда защищает всех всег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190368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хотворение про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жды по дорож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в школу шла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трю и вижу: д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м сидят к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чу я им: Эй, дроб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йдемте-ка со м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йдемте по дор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в школу привед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х, нет! - сказали дроби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Останемся мы т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ались эти дроб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дальше не и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3429000" cy="3008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41911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Comic Sans MS"/>
              </a:rPr>
              <a:t>Процент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435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144792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В парке посажено 120 деревьев: лип и бере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Липы составляют 6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от всех дерев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Сколько берез в пар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57600" y="609480"/>
            <a:ext cx="3092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2-07-20T08:38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