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B94-0A2F-4171-9187-EF885B26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0A8-2F37-4F07-B556-942BDF1D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D73-E68F-4779-9D59-6D6B1935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F433-A40C-41E4-86DF-CE9BDE0C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0657-D439-4D8A-B9DA-F4114AEF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DB5A-3DA2-488A-8E3A-F66B0E7C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97B5-3713-41E9-B162-0C092311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B9FD-05F2-4F00-9D0F-F25ACB29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3E2B-E07E-463E-9FFF-B878B814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048E-73FF-40F4-B1EA-2B10AAF3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6E9A-9EC3-4AC1-9D50-2FCD0622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C98-E20D-4654-A7D4-6CA0771B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AF0B-BD53-45E4-9D5D-4E9BC8E5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0EBA-DCE2-40D7-823A-A2CD1357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41AA-EB36-4AA0-BBC7-82521C30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D21D-09E9-44BB-B7AC-0CF2D7A1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2BC5-1496-4049-9DDD-9BC2095F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5EA7-1ED8-4DDF-BAA0-36AEE560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24EC-12BC-46F2-AC13-C994CAED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518-BC8F-4E1F-98C3-13EF36FA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56C-5DFF-4692-9896-F7B3CB27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6B7-1014-4C29-92A8-DAAD766B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7C4-C93D-45DF-A08D-6902BCB0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F0A-828A-4BC6-9CCA-932E21E0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F340-2845-49D9-BE5C-656279369D2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F68E-9E7A-4D80-B18F-E889CB1CF5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Дроби и процен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Работа ученицы 6 «В» клас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Норцевой Еле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76520" y="3352680"/>
            <a:ext cx="54864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28960" y="457200"/>
            <a:ext cx="391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Петя и Саша делили конф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Пете досталось 39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а Саше 48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от общего числа конф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Сколько всего было конф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838080"/>
            <a:ext cx="60199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Швейная фабрика выпустила 1200 костюм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Из них 32% составляют костюмы нового фас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колько костюмов нового фасона выпустила фабрика?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19320" y="2743200"/>
            <a:ext cx="38862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Проценты на выпускном экзамене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 в 11 классе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В школьных соревнованиях уча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150 девочек и 250 мальч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Сколько процентов всех учас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составляют дево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426708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Спасибо за внимание!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До завтра, до свидания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33084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Дроби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6019560" cy="30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лиса упала в сказочный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колодец 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за 1 минуту пролетел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90 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Какова глубина колодца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если за 1 минуту Алис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ролетел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всего расстояния?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800600" y="838080"/>
            <a:ext cx="3130560" cy="533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62120" y="2743200"/>
                <a:ext cx="4428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685800"/>
            <a:ext cx="36576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чеха перед балом задала  Золу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ного работы. Чтобы выполн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й рабо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олушке понадоби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ча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 какое время Зол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олнит всю работу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206360" y="1981080"/>
                <a:ext cx="354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4383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курятнике было 40 к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 неделю лиса утащ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ех    к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олько кур утащила ли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езьянке в зоопарке на завтрак дали пучок из 36 бана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на съела                   пу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олько бананов съ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езьян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791320" y="382680"/>
            <a:ext cx="2743200" cy="2736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105520" y="35053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914400" y="2362320"/>
            <a:ext cx="271440" cy="695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438280" y="4495680"/>
                <a:ext cx="3096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тихотворение про дробь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обь жила - была на св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ы узнаешь по примет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верхнем домике жи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мечательный народ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вать его Числи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Могучий Повел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ижнем домике жи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менатель – злой  нар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него всегда все дел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злиться он хоть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Числителя всегда все оружье пустит в 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А Числитель без труда защищает всех всег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190368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ихотворение про 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ажды по дорож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в школу шла к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отрю и вижу: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цом сидят ко м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чу я им: Эй, дроб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йдемте-ка со м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йдемте по дорож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в школу привед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х, нет! - сказали дроби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Останемся мы т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ались эти дроб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дальше не ид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114800" y="380880"/>
            <a:ext cx="3429000" cy="3008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657600" y="3657600"/>
            <a:ext cx="419112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Процен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7435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144792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В парке посажено 120 деревьев: лип и бере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Липы составляют 6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от всех дерев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Сколько берез в пар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657600" y="609480"/>
            <a:ext cx="30924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2-07-20T08:38:5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