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D26-3C03-4BB7-97F1-19F1CC65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9E8-DDB2-4232-99F0-73EDAC5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04A-593C-4613-97FB-438959B4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D92-0206-4A26-B80B-60763CAA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BAF-B093-4753-B5BB-BAFE5E74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646-B66B-4E3B-8474-A27C49A1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193-28A8-4D30-921F-ED36AEA5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282-C5BE-4D49-BF03-4A3FE33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815-9F43-42C6-8F41-8DAE227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66E-AF62-47DE-BC72-DA6B951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3B7-DA48-48A6-8329-5A914F0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FEE-BF39-4877-8FB8-891FB99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F769-F3F3-4465-BE02-E1F68271F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552c4b7a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 rot="20998800">
            <a:off x="726840" y="1553760"/>
            <a:ext cx="76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й компетен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развитие социо-культур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в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2"/>
          <p:cNvSpPr/>
          <p:nvPr/>
        </p:nvSpPr>
        <p:spPr>
          <a:xfrm rot="21053400">
            <a:off x="4741920" y="4218120"/>
            <a:ext cx="285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лова Валенти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подав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64000" y="4723920"/>
            <a:ext cx="316872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Борис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6553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рат ваш - не вашей ма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 в этом он винов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же рвете его на ча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он вам уже и не бра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692360" y="692280"/>
            <a:ext cx="5688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«Чутье 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Толкование понятия толерантность в языках ми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19120" y="20080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08200" y="191628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573360"/>
            <a:ext cx="33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Араб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сходи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радание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0920" y="2133720"/>
            <a:ext cx="40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Исп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знавать, отличные от своего,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76720" y="357336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Француз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, при которых допускается, что другие могут думать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427640" y="2133720"/>
            <a:ext cx="44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Англи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быть терпимым и снисход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227640" y="357336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Кит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по отношению к другим великодуш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Виды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1341360"/>
            <a:ext cx="828036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итическая 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власти допускать инакомыс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дицинская 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рганизма не реагировать на дей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циальная 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принятию иных логик и взглядов, право на отличия, непохожесть, инако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620720" y="404640"/>
            <a:ext cx="580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Типология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1197000"/>
            <a:ext cx="749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ешняя толерантност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беждение, что другие люди могут иметь св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ю, видеть вещи с иных точек з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ь к другим характеризует культуру отношений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84360" y="3860640"/>
            <a:ext cx="81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утренняя толерантност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 сохранять равновесие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м ситуациям: к конфликтам, риску, стрессу; способ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реш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7:13:46Z</dcterms:created>
  <dc:creator>user</dc:creator>
  <dc:description/>
  <dc:language>en-US</dc:language>
  <cp:lastModifiedBy>nobody</cp:lastModifiedBy>
  <dcterms:modified xsi:type="dcterms:W3CDTF">2012-07-23T10:25:16Z</dcterms:modified>
  <cp:revision>6</cp:revision>
  <dc:subject/>
  <dc:title>Слайд 1</dc:title>
</cp:coreProperties>
</file>