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E824-F74E-42E8-B280-6BDF4D4E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835A-3053-47D9-AC6D-688ABA86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FD6-22BA-4141-B7ED-65F19736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4DBE-4103-4A4A-8A25-B3C2C1C8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441-6712-4C4A-9E5C-C688999C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C1E-BAB4-4899-BBB8-B2A74B1E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760-4C04-4F9C-8858-00FA2C77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4DB-2C8A-4890-B840-F8849539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544-C68E-48F9-84E6-8859EABC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A4C-2157-4B88-8BBD-55FFF3F4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6DF-5862-4495-98B5-81C0342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D25-8B9E-4569-8800-21F94E5A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1889-073A-44F0-90A9-1382E28BC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552c4b7a0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 rot="20998800">
            <a:off x="726840" y="1553760"/>
            <a:ext cx="76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й компетен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развитие социо-культур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ов об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2"/>
          <p:cNvSpPr/>
          <p:nvPr/>
        </p:nvSpPr>
        <p:spPr>
          <a:xfrm rot="21053400">
            <a:off x="4741920" y="4218120"/>
            <a:ext cx="285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слова Валенти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еподав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64000" y="4723920"/>
            <a:ext cx="316872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Борис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6553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брат ваш - не вашей ма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 в этом он винов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же рвете его на ча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он вам уже и не бра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6"/>
          <p:cNvSpPr/>
          <p:nvPr/>
        </p:nvSpPr>
        <p:spPr>
          <a:xfrm>
            <a:off x="1692360" y="692280"/>
            <a:ext cx="5688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«Чутье  толерантн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Толкование понятия толерантность в языках ми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19120" y="20080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08200" y="1916280"/>
            <a:ext cx="73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3573360"/>
            <a:ext cx="33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Араб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щ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сходитель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радание к друг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50920" y="2133720"/>
            <a:ext cx="40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Исп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признавать, отличные от своего, м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76720" y="357336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Француз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, при которых допускается, что другие могут думать ин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427640" y="2133720"/>
            <a:ext cx="443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Англи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быть терпимым и снисход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227640" y="357336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Китай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по отношению к другим великодуш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Виды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68360" y="1341360"/>
            <a:ext cx="828036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литическая 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власти допускать инакомыс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едицинская 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организма не реагировать на дей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ых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оциальная 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ость к принятию иных логик и взглядов, право на отличия, непохожесть, инако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620720" y="404640"/>
            <a:ext cx="580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Типология 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84360" y="1197000"/>
            <a:ext cx="7494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нешняя толерантност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убеждение, что другие люди могут иметь св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цию, видеть вещи с иных точек з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тность к другим характеризует культуру отношений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84360" y="3860640"/>
            <a:ext cx="81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нутренняя толерантност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–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 сохранять равновесие 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м ситуациям: к конфликтам, риску, стрессу; способ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решен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7:13:46Z</dcterms:created>
  <dc:creator>user</dc:creator>
  <dc:description/>
  <dc:language>en-US</dc:language>
  <cp:lastModifiedBy>nobody</cp:lastModifiedBy>
  <dcterms:modified xsi:type="dcterms:W3CDTF">2012-07-23T10:25:16Z</dcterms:modified>
  <cp:revision>6</cp:revision>
  <dc:subject/>
  <dc:title>Слайд 1</dc:title>
</cp:coreProperties>
</file>