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575-2890-4657-8A56-E9C28DEC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0EB-633D-4E41-AE61-FA9A259E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1B9-0BCC-4F4C-BAF1-CCAE66EA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B3D-BEB5-410F-A205-139F5917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2A04-7162-474C-A739-2E740E6F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7886-182D-4AEE-881C-CD61E7B8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6546-B2CE-4F3C-BE5C-F1C2E876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90F6-01CF-43CB-BE45-AF42D575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5F33-B798-4F70-BD73-E262C1C9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C0AD-B733-4752-B5DA-F7CEDC9F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191C-A5E4-4C1C-B672-C2AC258A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D46-1D14-439D-8244-C3FFAF4E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D5BA-A217-46FD-A819-417AAD2E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EB42-BE39-4E11-AEEF-819719A2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B8AC-8FAE-4DD8-9FFE-AB588B13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28CD-EE27-496D-B43C-17BC274A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9F97-0855-4FDD-A75F-D3DC01E0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E92-6E8F-4D65-9FBC-B3A8B8BD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929-8EF5-4893-AD48-DBCE00BD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8D1-156E-4D65-9E88-B947BE7C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F60-6525-49D6-BBCD-DDC7FBB2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015-179F-485C-9C3D-F6272AAB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7B0-8E96-4958-8778-3326E91C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D92-EF93-48A4-87D3-65E5392B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8CCB-C190-4D59-AE96-D77790453B8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9D06-8451-44EA-A4C7-EDA03FB1B1A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900000" y="3357720"/>
            <a:ext cx="6120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spcBef>
                <a:spcPts val="901"/>
              </a:spcBef>
              <a:buClr>
                <a:srgbClr val="6633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Что такое экзаменационный стресс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901"/>
              </a:spcBef>
              <a:buClr>
                <a:srgbClr val="6633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901"/>
              </a:spcBef>
              <a:buClr>
                <a:srgbClr val="6633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549360"/>
            <a:ext cx="7848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>
                    <a:alphaModFix amt="77000"/>
                  </a:blip>
                  <a:srcRect/>
                  <a:tile tx="0" ty="0" sx="100000" sy="100000" algn="ctr"/>
                </a:blipFill>
                <a:latin typeface="Arial"/>
              </a:rPr>
              <a:t>Психологические 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>
                  <a:alphaModFix amt="77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>
                    <a:alphaModFix amt="77000"/>
                  </a:blip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>
                    <a:alphaModFix amt="77000"/>
                  </a:blip>
                  <a:srcRect/>
                  <a:tile tx="0" ty="0" sx="100000" sy="100000" algn="ctr"/>
                </a:blipFill>
                <a:latin typeface="Arial"/>
              </a:rPr>
              <a:t>по подготов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>
                  <a:alphaModFix amt="77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>
                    <a:alphaModFix amt="77000"/>
                  </a:blip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>
                    <a:alphaModFix amt="77000"/>
                  </a:blip>
                  <a:srcRect/>
                  <a:tile tx="0" ty="0" sx="100000" sy="100000" algn="ctr"/>
                </a:blipFill>
                <a:latin typeface="Arial"/>
              </a:rPr>
              <a:t>к ЕГ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>
                  <a:alphaModFix amt="77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571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Помогите детям распределить темы подготовки по дням. Очень полезно делать краткие схематические выписки и таблицы, упорядочивая изучаемый материал по плану. Основные формулы и определения можно выписать на листочках и повесить над письменным столом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590364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Во время тренировки по тестовым заданиям приучайте ребёнка ориентироваться во времени и уметь его распределять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Подбадривайте детей, хвалите их за то , что они делают хорошо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Повышайте их уверенность в себе, так как чем больше ребенок боится неудачи, тем более вероятности допущения ошибок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Контролируйте режим подготовки ребёнка к экзаменам, не допускайте перегрузок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571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Обратите внимание на питание ребёнка. Такие продукты, как рыба, творог, орехи, курага и т. д. стимулируют работу головного мозга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Накануне экзамена обеспечьте ребёнку полноценный отдых, он должен отдохнуть и как следует выспаться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Не критикуете ребёнка после экзамена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Помните: главное – снизить напряжение и тревожность ребёнка и обеспечить ему подходящие условия для занятий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6192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Century Gothic"/>
              </a:rPr>
              <a:t>Посоветуйте детям во время экзамена обратить внимание на следующее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пробежать  глазами весь тест, чтобы увидеть, какого типа задания в нем содержаться (это поможет настроиться на работу)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внимательно прочитать вопрос до конца и понять его смысл (характерная ошибка во время тестирования- не дочитав до конца, по первым словам уже предполагают ответ и торопятся его вписать)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если не знаешь ответа на вопрос или не уверен, пропусти его и отметь, чтобы потом к нему вернуться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если не смог в течение отведенного времени ответить на вопрос, есть смысл положиться на свою интуицию и указать наиболее вероятный вариант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     </a:t>
            </a:r>
            <a:r>
              <a:rPr b="1" lang="ru-RU" sz="1800" spc="-1" strike="noStrike" u="sng">
                <a:solidFill>
                  <a:srgbClr val="663300"/>
                </a:solidFill>
                <a:uFillTx/>
                <a:latin typeface="Century Gothic"/>
              </a:rPr>
              <a:t>И помните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самое главное- это снизить напряжение и тревожность ребенка и обеспечить подходящие условия для занятий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 rot="20525400">
            <a:off x="684000" y="1557000"/>
            <a:ext cx="73342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onotype Corsiva"/>
              </a:rPr>
              <a:t>Успешной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Monotype Corsiva"/>
              </a:rPr>
              <a:t>сдачи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Monotype Corsiva"/>
              </a:rPr>
              <a:t>экзаменов!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Что такое стресс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6192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3300"/>
                </a:solidFill>
                <a:uFillTx/>
                <a:latin typeface="Century Gothic"/>
              </a:rPr>
              <a:t>Стресс</a:t>
            </a:r>
            <a:r>
              <a:rPr b="1" lang="ru-RU" sz="2600" spc="-1" strike="noStrike">
                <a:solidFill>
                  <a:srgbClr val="663300"/>
                </a:solidFill>
                <a:latin typeface="Century Gothic"/>
              </a:rPr>
              <a:t> — состояние психического напряжения, возникающее у человека под влиянием сильных воздействий. Может оказывать как положительное, так и отрицательное влияние на жизнедеятельность, вплоть до ее полной дезорганизации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entury Gothic"/>
              </a:rPr>
              <a:t>физиологическая реакция организма, выражающаяся в состоянии напряжения, подавленности, спада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entury Gothic"/>
              </a:rPr>
              <a:t>Симптомы экзаменационного стресс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54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ФИЗИОЛОГИЧЕСКИЕ СИМПТОМЫ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усиление кожной сыпи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головные боли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тошнота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«медвежья болезнь» (диарея)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мышечное напряжение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углубление и учащение дыхани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учащённый пульс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перепады артериального давлени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entury Gothic"/>
              </a:rPr>
              <a:t>Симптомы экзаменационного стресс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ЭМОЦИОНАЛЬНЫЕ СИМПТОМЫ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чувство общего недомогани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растерянност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паника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страх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неуверенност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тревога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депресси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подавленност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раздражительност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entury Gothic"/>
              </a:rPr>
              <a:t>Симптомы экзаменационного стресс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58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entury Gothic"/>
              </a:rPr>
              <a:t>КОГНИТИВНЫЕ (ИНТЕЛЛЕКТУАЛЬНЫЕ) СИМПТОМЫ: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чрезмерная самокритика, сравнение своей подготовленности с другими в невыгодном для себя свете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неприятные воспоминания о провалах на экзаменах в прошлом (своих или чужих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воображение отрицательных последствий неудачи на экзамене (исключение из вуза, лишение стипендии и т.п.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кошмарные сновидения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ухудшение памяти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снижение способности к концентрации внимания, рассеянность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entury Gothic"/>
              </a:rPr>
              <a:t>Симптомы экзаменационного стресс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entury Gothic"/>
              </a:rPr>
              <a:t>ПОВЕДЕНЧЕСКИЕ СИМПТОМЫ:</a:t>
            </a:r>
            <a:r>
              <a:rPr b="0" lang="ru-RU" sz="2000" spc="-1" strike="noStrike">
                <a:solidFill>
                  <a:srgbClr val="6633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стремление заниматься любым другим делом, лишь бы не готовиться к экзамену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избегание любых напоминаний об экзаменах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уменьшение эффективности в учёбе в экзаменационный период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вовлечение других людей в тревожные разговоры о предстоящих экзаменах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увеличение употребления кофеина и алкоголя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ухудшение сна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ухудшение аппетит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Стрессоустойчивость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633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Century Gothic"/>
              </a:rPr>
              <a:t>определяется совокупностью личностных качеств, позволяющих человеку переносить значительные интеллектуальные, волевые и эмоциональные нагрузки, обусловленные особенностями профессиональной деятельности, без особых вредных последствий для деятельности, окружающих и своего здоровь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Экзаменационный стресс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Century Gothic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интенсивная умственная деятельность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нагрузка на одни и те же мышцы и органы из-за длительного сидения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нарушение режима сна и отдыха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негативные переживания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6121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Внушайте ребёнку мысль, что количество баллов не является совершенным измерением его возможностей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Не повышайте тревожность ребёнка накануне экзаменов. Ребенку всегда передается волнение родителей, и если взрослые в ответственный момент могут справиться со своими эмоциями, то ребёнок в силу возрастных особенностей может не справиться со своими эмоциями и «сорваться»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Обеспечьте дома удобное место для занятий, проследите, чтобы никто из домашних не мешал.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7:04Z</dcterms:created>
  <dc:creator>Katunina</dc:creator>
  <dc:description/>
  <cp:keywords/>
  <dc:language>en-US</dc:language>
  <cp:lastModifiedBy>Admin</cp:lastModifiedBy>
  <dcterms:modified xsi:type="dcterms:W3CDTF">2011-05-01T16:20:43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