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E5A-6ABC-469C-94FC-1752C60B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7F2-1306-4F6B-9A07-3EE8ABF7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1E6-56F8-48A9-A7F5-7D781F06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D59-AAE0-47CF-BE25-9D0E08A2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B242-A3D7-42D7-A273-1B9745BD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208C-FDA1-498A-B6A5-5E981701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83C3-E488-441A-AA81-9B851031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5CE1-2767-44D0-98A4-9389382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815-4A46-4B77-9B6B-61833083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2CB4-C3DD-4361-804D-2F8E2996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05F9-467F-42E7-8BAF-E8BACB7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926-6C02-47BC-A989-9DAAF58D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7233-2977-408E-BD79-2EE1C4A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00B-B99D-49E8-AC1E-BB5FBC6D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C413-7C4B-4675-8480-D8D6D63C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78A8-1443-47D1-A625-951C07D1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2901-E9D9-411D-9816-B19AEAC8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A32-54BB-4B91-9BEA-23A12096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DB5-83A4-43F7-A39A-4DED1CA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F31-AB36-417A-8CD0-F77570D2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222-8ACF-4566-B7DA-2A057DD9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1C9-3B30-4D57-876C-923508C2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B4E-C1D2-406A-84AD-18539B0C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445-547A-4D05-9435-5F177832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88B2-D2E2-4EDA-B107-9AF5C5937E5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B90D-7382-4FB1-8FF6-4DA6CC04D5F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00000" y="3357720"/>
            <a:ext cx="612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Что такое экзаменационный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901"/>
              </a:spcBef>
              <a:buClr>
                <a:srgbClr val="6633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549360"/>
            <a:ext cx="7848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сихологические 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по подготов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>
                    <a:alphaModFix amt="77000"/>
                  </a:blip>
                  <a:srcRect/>
                  <a:tile tx="0" ty="0" sx="100000" sy="100000" algn="ctr"/>
                </a:blipFill>
                <a:latin typeface="Arial"/>
              </a:rPr>
              <a:t>к ЕГ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>
                  <a:alphaModFix amt="77000"/>
                </a:blip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90364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Во время тренировки по тестовым заданиям приучайте ребёнка ориентироваться во времени и уметь его распределять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бадривайте детей, хвалите их за то , что они делают хорошо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вышайте их уверенность в себе, так как чем больше ребенок боится неудачи, тем более вероятности допущения ошибок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Контролируйте режим подготовки ребёнка к экзаменам, не допускайте перегрузок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571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ратите внимание на питание ребёнка. Такие продукты, как рыба, творог, орехи, курага и т. д. стимулируют работу головного мозг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акануне экзамена обеспечьте ребёнку полноценный отдых, он должен отдохнуть и как следует выспаться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критикуете ребёнка после экзамена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61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3300"/>
                </a:solidFill>
                <a:latin typeface="Century Gothic"/>
              </a:rPr>
              <a:t>Посоветуйте детям во время экзамена обратить внимание на следующее: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</a:t>
            </a:r>
            <a:r>
              <a:rPr b="1" lang="ru-RU" sz="1800" spc="-1" strike="noStrike" u="sng">
                <a:solidFill>
                  <a:srgbClr val="663300"/>
                </a:solidFill>
                <a:uFillTx/>
                <a:latin typeface="Century Gothic"/>
              </a:rPr>
              <a:t>И помните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      </a:t>
            </a:r>
            <a:r>
              <a:rPr b="1" lang="ru-RU" sz="1600" spc="-1" strike="noStrike">
                <a:solidFill>
                  <a:srgbClr val="663300"/>
                </a:solidFill>
                <a:latin typeface="Century Gothic"/>
              </a:rPr>
              <a:t>самое главное- это снизить напряжение и тревожность ребенка и обеспечить подходящие условия для занят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Успешной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сдачи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Corsiva"/>
              </a:rPr>
              <a:t>экзаменов!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Что такое стресс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6192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3300"/>
                </a:solidFill>
                <a:uFillTx/>
                <a:latin typeface="Century Gothic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Century Gothic"/>
              </a:rPr>
              <a:t>физиологическая реакция организма, выражающаяся в состоянии напряжения, подавленности, спада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4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ФИЗИОЛОГИЧЕСКИ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силение кожной сып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головные боли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ошнот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«медвежья болезнь» (диарея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мышечное напряжение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глубление и учащение дых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учащённый пульс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ерепады артериального давле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ЭМОЦИОНАЛЬНЫЕ СИМПТОМЫ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чувство общего недомоган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стеря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аник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страх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неувер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тревога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депрессия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подавлен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раздражительнос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58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КОГНИТИВНЫЕ (ИНТЕЛЛЕКТУАЛЬНЫЕ) СИМПТОМЫ: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неприятные воспоминания о провалах на экзаменах в прошлом (своих или чужих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кошмарные сновидени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памяти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нижение способности к концентрации внимания, рассеянност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Century Gothic"/>
              </a:rPr>
              <a:t>Симптомы экзаменационного стресс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entury Gothic"/>
              </a:rPr>
              <a:t>ПОВЕДЕНЧЕСКИЕ СИМПТОМЫ:</a:t>
            </a:r>
            <a:r>
              <a:rPr b="0" lang="ru-RU" sz="2000" spc="-1" strike="noStrike">
                <a:solidFill>
                  <a:srgbClr val="6633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стремление заниматься любым другим делом, лишь бы не готовиться к экзамену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избегание любых напоминаний об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меньшение эффективности в учёбе в экзаменационный период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вовлечение других людей в тревожные разговоры о предстоящих экзаменах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величение употребления кофеина и алкоголя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сн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Century Gothic"/>
              </a:rPr>
              <a:t>ухудшение аппетит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Стрессоустойчивость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6337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663300"/>
                </a:solidFill>
                <a:latin typeface="Century Gothic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3300"/>
                </a:solidFill>
                <a:latin typeface="Century Gothic"/>
              </a:rPr>
              <a:t>Экзаменационный стрес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Century Gothic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интенсивная умственная деятельность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грузка на одни и те же мышцы и органы из-за длительного сидения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арушение режима сна и отдыха;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entury Gothic"/>
              </a:rPr>
              <a:t>негативные переживания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Century Gothic"/>
              </a:rPr>
              <a:t>Памятки родителям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6121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Внушайте ребёнку мысль, что количество баллов не является совершенным измерением его возможностей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6633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Century Gothic"/>
              </a:rPr>
              <a:t>Обеспечьте дома удобное место для занятий, проследите, чтобы никто из домашних не мешал.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cp:keywords/>
  <dc:language>en-US</dc:language>
  <cp:lastModifiedBy>Admin</cp:lastModifiedBy>
  <dcterms:modified xsi:type="dcterms:W3CDTF">2011-05-01T16:20:43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