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7.png" ContentType="image/png"/>
  <Override PartName="/ppt/media/image34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12.jpeg" ContentType="image/jpeg"/>
  <Override PartName="/ppt/media/image31.png" ContentType="image/png"/>
  <Override PartName="/ppt/media/image9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264-D03E-4936-88AE-E39EC507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050-C47D-48C5-903C-43740BC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A56-A1EF-40AA-A567-2E230919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B9A-3232-4018-80E1-CFA6E577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AAD-F266-4AC1-94B0-996FC67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802-94D1-4FAC-B8DC-F7027E70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5F1-B17F-45B0-B18B-F161755C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3F7-66FE-47B1-BA4E-9C826B1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3D1-55E1-4271-9748-1351A4F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0BF-CCE2-4FD3-A7FE-F86BCCD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494-28FA-41C0-84D2-AC135532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2022-DB08-477B-A239-4DDA928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5002-F981-447F-A24E-4883F7BC4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ЛЕКСАНДР НЕ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дость н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ую славу молодому князю принесла победа, одержанная им на берегу Невы, в устье реки Ижоры 15 июля 1240 над шведским отрядом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786200" y="142884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585792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читается, что именно за эту победу князя стали называть Невским, но впервые это прозвище встречается в источниках только с 14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кольку известно, что некоторые потомки князя также носили прозвище Невских, то возможно таким образом за ними закреплялись владения в этой мест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4"/>
          <p:cNvPicPr/>
          <p:nvPr/>
        </p:nvPicPr>
        <p:blipFill>
          <a:blip r:embed="rId1"/>
          <a:stretch/>
        </p:blipFill>
        <p:spPr>
          <a:xfrm>
            <a:off x="6000840" y="714240"/>
            <a:ext cx="22161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агают, что сражение 1240 предотвратило потерю Русью берегов Финского залива, остановило шведскую агрессию на новгородско-псковские земл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068349685ce4"/>
          <p:cNvPicPr/>
          <p:nvPr/>
        </p:nvPicPr>
        <p:blipFill>
          <a:blip r:embed="rId1"/>
          <a:stretch/>
        </p:blipFill>
        <p:spPr>
          <a:xfrm>
            <a:off x="5076720" y="3127320"/>
            <a:ext cx="378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6732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озвращении с берегов Невы из-за очередного конфликта Александр был вынужден покинуть Новгород и уехать в Переяславль-Залес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временем над Новгородом нависла угроза с запада. Ливонский орден, собрав немецких крестоносцев Прибалтики, датских рыцарей из Ревеля вторгся в пределы новгородских земел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-7-1"/>
          <p:cNvPicPr/>
          <p:nvPr/>
        </p:nvPicPr>
        <p:blipFill>
          <a:blip r:embed="rId1"/>
          <a:stretch/>
        </p:blipFill>
        <p:spPr>
          <a:xfrm>
            <a:off x="6659640" y="620640"/>
            <a:ext cx="22734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Новгорода было отправлено посольство к Ярославу Всеволодовичу с просьбой о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т направил в Новгород вооруженный отряд во главе со своим сыном Андреем Ярославичем, которого вскоре заменил Алексан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42 году немцам удалось захватить Псков. Враги похвалялись "подчинить себе весь славянский народ".  Александр, выступив в зимний поход, освободил Псков, а весной 1242 года дал Тевтонскому ордену решительное сраж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5716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льду Чудского озера 5 апреля 1242 года сошлись оба войс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стоносцы были полностью разгромле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а страшная сеча, такой треск раздавался от ломающихся копий и мечей, что, казалось, будто замерзшее озеро двинулось, и не было видно льда, ибо он покрылся кровью. Обращенных в бегство врагов гнали и секли воины Александровы, "словно неслись  они по воздуху, и некуда было бежать врагу". Множество пленных вели потом вслед святому князю, и шли они посрамл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ики ясно понимали всемирное историческое значение Ледового побоища: прославилось имя святого Александра по всей Святой Руси, "по всем странам, до моря Египетского и до гор Араратских, по обе стороны Варяжского моря и до великого Рима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37ba84a71f7461d7361451c8456f078b_full"/>
          <p:cNvPicPr/>
          <p:nvPr/>
        </p:nvPicPr>
        <p:blipFill>
          <a:blip r:embed="rId1"/>
          <a:stretch/>
        </p:blipFill>
        <p:spPr>
          <a:xfrm>
            <a:off x="395280" y="333360"/>
            <a:ext cx="3062160" cy="3338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serov"/>
          <p:cNvPicPr/>
          <p:nvPr/>
        </p:nvPicPr>
        <p:blipFill>
          <a:blip r:embed="rId2"/>
          <a:stretch/>
        </p:blipFill>
        <p:spPr>
          <a:xfrm>
            <a:off x="5076720" y="552600"/>
            <a:ext cx="3095640" cy="2759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ledov"/>
          <p:cNvPicPr/>
          <p:nvPr/>
        </p:nvPicPr>
        <p:blipFill>
          <a:blip r:embed="rId3"/>
          <a:stretch/>
        </p:blipFill>
        <p:spPr>
          <a:xfrm>
            <a:off x="3286080" y="3714840"/>
            <a:ext cx="252108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692280"/>
            <a:ext cx="86043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адные пределы Русской земли были надежно ограждены, настало время оградить Русь с Вос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42 году святой Александр Невский со своим отцом, Ярославом, выехал в Орд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было превратить татар из врагов и грабителей в почтительных союзников, нужна был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кротость голубя и мудрость зме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 Ярославич (Феодорович) НЕВ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(13 мая 1221 - 14 ноября 1263), князь новгородский (c 1236), великий князь владимирский (с 1252)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nevskij"/>
          <p:cNvPicPr/>
          <p:nvPr/>
        </p:nvPicPr>
        <p:blipFill>
          <a:blip r:embed="rId1"/>
          <a:stretch/>
        </p:blipFill>
        <p:spPr>
          <a:xfrm>
            <a:off x="5292720" y="1989000"/>
            <a:ext cx="263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500040"/>
            <a:ext cx="46432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ив союз с ханом Батыем, Ярослав должен был, однако, ехать в 1246 году в далекую Монголию, в столицу всей кочевой имп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е самого Батыя было трудным, он искал поддержки у русских князей, желая отделиться со своей Золотой Ордой от дальней Монго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м, в свою очередь, не доверяли ни Батыю, ни рус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нязь Ярослав был отравлен. Он скончался в муч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214960" y="642960"/>
            <a:ext cx="3489480" cy="26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5643720" y="3714840"/>
            <a:ext cx="20826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4956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ещанный отцом союз с Золотой Ордой - необходимый тогда для предотвращения нового разгрома Руси - продолжал крепить святой Александр Невск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429080" y="1643040"/>
            <a:ext cx="449568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8760" y="92880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53 году Александр отразил новый немецкий набег на Пс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54 году заключил договор о мирных границах с Норвеги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56 году ходил походом в Финскую землю. Летописец назвал его "темным походом", русское войско шло сквозь полярную но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идоша непроходными местами, яко не видеть ни дня, ни ноч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928440"/>
            <a:ext cx="65437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56 году умер хан Батый, а вскоре был отравлен его сын Сартак, побратим Александра Невск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той князь в третий раз поехал в Сарай-столицу Золотой Орды, чтобы подтвердить мирные отношения Руси и Орды с новым ханом Бер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6786720" y="1428840"/>
            <a:ext cx="1523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630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н удерживал князя подле себя всю зиму и ле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ько осенью Александр получил возможность вернуться во Владимир, но по дороге занемог и 14 ноября 1263 в Городце скончал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о его было погребено во владимирском монастыре Рождества Богородиц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index"/>
          <p:cNvPicPr/>
          <p:nvPr/>
        </p:nvPicPr>
        <p:blipFill>
          <a:blip r:embed="rId1"/>
          <a:stretch/>
        </p:blipFill>
        <p:spPr>
          <a:xfrm>
            <a:off x="6286680" y="1000080"/>
            <a:ext cx="24285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428400"/>
            <a:ext cx="4791240" cy="63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280-х годах во Владимире начинается почитание Александра Невского как святого, позднее он был официально канонизирован Русской православной церк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ександр Невский был единственным православным светским правителем не только на Руси, но и во всей Европе, который не пошел на компромисс с католической церковью ради сохранения в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m_20930"/>
          <p:cNvPicPr/>
          <p:nvPr/>
        </p:nvPicPr>
        <p:blipFill>
          <a:blip r:embed="rId1"/>
          <a:stretch/>
        </p:blipFill>
        <p:spPr>
          <a:xfrm>
            <a:off x="4857840" y="785880"/>
            <a:ext cx="40384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24 Петр I основал в Петербурге монастырь в честь своего великого соотечественника (ныне Александро-Невская лавра) и повелел перевезти туда останки княз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же постановил отмечать память Александра Невского 30 августа в день заключения победоносного Ништадтского мира со Шве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715160" y="1143000"/>
            <a:ext cx="86688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000754503"/>
          <p:cNvPicPr/>
          <p:nvPr/>
        </p:nvPicPr>
        <p:blipFill>
          <a:blip r:embed="rId2"/>
          <a:stretch/>
        </p:blipFill>
        <p:spPr>
          <a:xfrm>
            <a:off x="7155000" y="4508640"/>
            <a:ext cx="14554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о-Невская лав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:\Documents and Settings\Zhanna\Рабочий стол\ьь=.jpg"/>
          <p:cNvPicPr/>
          <p:nvPr/>
        </p:nvPicPr>
        <p:blipFill>
          <a:blip r:embed="rId1"/>
          <a:stretch/>
        </p:blipFill>
        <p:spPr>
          <a:xfrm>
            <a:off x="1714680" y="1643040"/>
            <a:ext cx="59990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мятник Александру Невско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Zhanna\Рабочий стол\111=.jpg"/>
          <p:cNvPicPr/>
          <p:nvPr/>
        </p:nvPicPr>
        <p:blipFill>
          <a:blip r:embed="rId1"/>
          <a:stretch/>
        </p:blipFill>
        <p:spPr>
          <a:xfrm>
            <a:off x="3000240" y="1714680"/>
            <a:ext cx="3214800" cy="44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т Александра Не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s and Settings\Zhanna\Рабочий стол\222=.jpg"/>
          <p:cNvPicPr/>
          <p:nvPr/>
        </p:nvPicPr>
        <p:blipFill>
          <a:blip r:embed="rId1"/>
          <a:stretch/>
        </p:blipFill>
        <p:spPr>
          <a:xfrm>
            <a:off x="1285920" y="2143080"/>
            <a:ext cx="6615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андр Невский родился 30 мая 1220 года в г. Переславле-Залесском. Отец его, Ярослав, в Крещении Феодор ,"князь кроткий, милостивый и человеколюбивый", был младшим сыном Всеволода III Большое Гнездо , братом святого благоверного князя Юрия Всеволодович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ция метро «Площад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ександра Невско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:\Documents and Settings\Zhanna\Рабочий стол\333=.jpg"/>
          <p:cNvPicPr/>
          <p:nvPr/>
        </p:nvPicPr>
        <p:blipFill>
          <a:blip r:embed="rId1"/>
          <a:stretch/>
        </p:blipFill>
        <p:spPr>
          <a:xfrm>
            <a:off x="2571840" y="2143080"/>
            <a:ext cx="45352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499760"/>
            <a:ext cx="5643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25 императрица Екатерина I учредила орден Александра Невского - одну из высших наград России, существовавших до 1917.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500880" y="571680"/>
            <a:ext cx="2144520" cy="311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6500880" y="3929040"/>
            <a:ext cx="22510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2560" y="1000080"/>
            <a:ext cx="5940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еликой Отечественной войны в 1942 был учрежден советский орден Александра Невского, которым награждались командиры от взводов до дивизий включительно, проявившие личную отвагу и обеспечившие успешные действия своих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000840" y="1071720"/>
            <a:ext cx="2952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4929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оведовал хранить отчую землю великий Александр: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"Кто с мечом к нам придет, от меча и погибнет"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000760" y="1143000"/>
            <a:ext cx="3714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мятники Александру Невско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лавль-Залес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Zhanna\Рабочий стол\а.jpg"/>
          <p:cNvPicPr/>
          <p:nvPr/>
        </p:nvPicPr>
        <p:blipFill>
          <a:blip r:embed="rId1"/>
          <a:stretch/>
        </p:blipFill>
        <p:spPr>
          <a:xfrm>
            <a:off x="2428920" y="2143080"/>
            <a:ext cx="48718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Усть-Иж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Documents and Settings\Zhanna\Рабочий стол\б.jpg"/>
          <p:cNvPicPr/>
          <p:nvPr/>
        </p:nvPicPr>
        <p:blipFill>
          <a:blip r:embed="rId1"/>
          <a:stretch/>
        </p:blipFill>
        <p:spPr>
          <a:xfrm>
            <a:off x="2857680" y="1428840"/>
            <a:ext cx="3286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Влади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Zhanna\Рабочий стол\в.jpg"/>
          <p:cNvPicPr/>
          <p:nvPr/>
        </p:nvPicPr>
        <p:blipFill>
          <a:blip r:embed="rId1"/>
          <a:stretch/>
        </p:blipFill>
        <p:spPr>
          <a:xfrm>
            <a:off x="2928960" y="1714680"/>
            <a:ext cx="3429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Пск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Zhanna\Рабочий стол\г.jpg"/>
          <p:cNvPicPr/>
          <p:nvPr/>
        </p:nvPicPr>
        <p:blipFill>
          <a:blip r:embed="rId1"/>
          <a:stretch/>
        </p:blipFill>
        <p:spPr>
          <a:xfrm>
            <a:off x="3143160" y="1428840"/>
            <a:ext cx="30718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Александра Невского - одно из самых славных в истории нашей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е только славных, но что, пожалуй, еще значительнее,- одно из самых светлых и любимых русским народ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оев наша история дала немало, но почти никого из них не вспоминают потомки с таким теплым чувством, как Алекса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много потрудился для Русской земли и мечом и головой - вклад его в строительство Российского государства бесценен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50004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ь святого Александра, Феодосия Игоревна, рязанская княжна, была третьей супругой Яросла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ршим сыном был князь Феодор, который умер в возрасте 15 лет. Александр был вторым сы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о Александра прошло в Переславле-Залесском, где княжил оте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:\Documents and Settings\Zhanna\Рабочий стол\qqqq=.png"/>
          <p:cNvPicPr/>
          <p:nvPr/>
        </p:nvPicPr>
        <p:blipFill>
          <a:blip r:embed="rId1"/>
          <a:stretch/>
        </p:blipFill>
        <p:spPr>
          <a:xfrm>
            <a:off x="5643720" y="1285920"/>
            <a:ext cx="2862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9680" y="1356840"/>
            <a:ext cx="4714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нних лет Александр сопровождал в походах от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35 году он был участником битвы на р. Эмайыги (в нынешней Эстонии), где войска Ярослава наголову разгромили немц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Documents and Settings\Zhanna\Рабочий стол\www=.jpg"/>
          <p:cNvPicPr/>
          <p:nvPr/>
        </p:nvPicPr>
        <p:blipFill>
          <a:blip r:embed="rId1"/>
          <a:stretch/>
        </p:blipFill>
        <p:spPr>
          <a:xfrm>
            <a:off x="5572080" y="1928880"/>
            <a:ext cx="256536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499680"/>
            <a:ext cx="4753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ледующем, 1236 году Ярослав уезжает в Киев, "посадив" своего сына, Александра, самостоятельно княжить в Новго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239 году Александр вступил в брак, взяв в жены дочь Полоцкого князя Брячисла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814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лось самое трудное время в истории Руси: с востока шли, уничтожая всё на своем пути, монгольские орды, с запада надвигались германские рыцарские полчища ,кощунственно называвшие себя, с благословения Римского папы, "крестоносцами", носителями Креста Господ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6286680" y="285840"/>
            <a:ext cx="253044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820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ользовавшись нашествием Батыя, разгромом русских городов, смятением и горем народа, гибелью его лучших сынов и вождей, полчища крестоносцев вторглись в пределы Отеч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ми были шве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ороль римской веры из Полуночной страны", Швеции, собрал в 1240 году великое войско и на множестве кораблей послал к Неве под командованием своего зятя, ярла (т. е. князя) Бирге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ый швед прислал в Новгород к святому Александру гонцов: "Если можешь, сопротивляйся, - я уже здесь и пленяю твою землю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858080" y="2142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4281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ександр, ему не было тогда еще 20 лет, с небольшой дружиной, поспешил на врагов, - ждать подмоги от отца, незнавшего еще о нападении неприятелей, не было времен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Zhanna\Рабочий стол\rrr=.jpg"/>
          <p:cNvPicPr/>
          <p:nvPr/>
        </p:nvPicPr>
        <p:blipFill>
          <a:blip r:embed="rId1"/>
          <a:stretch/>
        </p:blipFill>
        <p:spPr>
          <a:xfrm>
            <a:off x="4786200" y="1643040"/>
            <a:ext cx="36705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19:47Z</dcterms:created>
  <dc:creator>_Wizard_</dc:creator>
  <dc:description/>
  <dc:language>en-US</dc:language>
  <cp:lastModifiedBy>Zhanna</cp:lastModifiedBy>
  <dcterms:modified xsi:type="dcterms:W3CDTF">2012-07-24T16:35:35Z</dcterms:modified>
  <cp:revision>98</cp:revision>
  <dc:subject/>
  <dc:title>Слайд 1</dc:title>
</cp:coreProperties>
</file>