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12.jpeg" ContentType="image/jpeg"/>
  <Override PartName="/ppt/media/image31.png" ContentType="image/pn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50A-7D3F-40C9-B4C6-139B8632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44E-25EB-4D0E-B12C-6518CF2C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669-F942-41B7-9814-690CBE0F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D2B-3646-4880-9610-0A8D8B8B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EF9-C6A4-44E9-A10A-87253A3B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D1E-B1B8-49B3-B7D1-22CA5DE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7D4-3DE4-47F8-AFF5-9303D05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6FB-9836-4264-B1CD-E70E5E4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568-36C8-492E-8C27-A34DC25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624-2736-450F-A456-1C310AE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0A5-5EE0-45AF-AECD-F2F5D15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37D-FF8A-486A-8317-CBA884C2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4BCA-9BBB-4260-AB13-005E42394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сть н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ую славу молодому князю принесла победа, одержанная им на берегу Невы, в устье реки Ижоры 15 июля 1240 над шведским отрядом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786200" y="142884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585792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итается, что именно за эту победу князя стали называть Невским, но впервые это прозвище встречается в источниках только с 14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известно, что некоторые потомки князя также носили прозвище Невских, то возможно таким образом за ними закреплялись владения в этой мес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4"/>
          <p:cNvPicPr/>
          <p:nvPr/>
        </p:nvPicPr>
        <p:blipFill>
          <a:blip r:embed="rId1"/>
          <a:stretch/>
        </p:blipFill>
        <p:spPr>
          <a:xfrm>
            <a:off x="6000840" y="714240"/>
            <a:ext cx="22161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агают, что сражение 1240 предотвратило потерю Русью берегов Финского залива, остановило шведскую агрессию на новгородско-псковские земл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68349685ce4"/>
          <p:cNvPicPr/>
          <p:nvPr/>
        </p:nvPicPr>
        <p:blipFill>
          <a:blip r:embed="rId1"/>
          <a:stretch/>
        </p:blipFill>
        <p:spPr>
          <a:xfrm>
            <a:off x="5076720" y="3127320"/>
            <a:ext cx="378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6732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озвращении с берегов Невы из-за очередного конфликта Александр был вынужден покинуть Новгород и уехать в Переяславль-Залес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временем над Новгородом нависла угроза с запада. Ливонский орден, собрав немецких крестоносцев Прибалтики, датских рыцарей из Ревеля вторгся в пределы новгородских земел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-7-1"/>
          <p:cNvPicPr/>
          <p:nvPr/>
        </p:nvPicPr>
        <p:blipFill>
          <a:blip r:embed="rId1"/>
          <a:stretch/>
        </p:blipFill>
        <p:spPr>
          <a:xfrm>
            <a:off x="6659640" y="620640"/>
            <a:ext cx="2273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овгорода было отправлено посольство к Ярославу Всеволодовичу с просьбой о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 направил в Новгород вооруженный отряд во главе со своим сыном Андреем Ярославичем, которого вскоре заменил Алексан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42 году немцам удалось захватить Псков. Враги похвалялись "подчинить себе весь славянский народ".  Александр, выступив в зимний поход, освободил Псков, а весной 1242 года дал Тевтонскому ордену решительное сра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ьду Чудского озера 5 апреля 1242 года сошлись оба вой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стоносцы были полностью разгромл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а страшная сеча, такой треск раздавался от ломающихся копий и мечей, что, казалось, будто замерзшее озеро двинулось, и не было видно льда, ибо он покрылся кровью. Обращенных в бегство врагов гнали и секли воины Александровы, "словно неслись  они по воздуху, и некуда было бежать врагу". Множество пленных вели потом вслед святому князю, и шли они посрамл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ики ясно понимали всемирное историческое значение Ледового побоища: прославилось имя святого Александра по всей Святой Руси, "по всем странам, до моря Египетского и до гор Араратских, по обе стороны Варяжского моря и до великого Рима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37ba84a71f7461d7361451c8456f078b_full"/>
          <p:cNvPicPr/>
          <p:nvPr/>
        </p:nvPicPr>
        <p:blipFill>
          <a:blip r:embed="rId1"/>
          <a:stretch/>
        </p:blipFill>
        <p:spPr>
          <a:xfrm>
            <a:off x="395280" y="333360"/>
            <a:ext cx="3062160" cy="33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serov"/>
          <p:cNvPicPr/>
          <p:nvPr/>
        </p:nvPicPr>
        <p:blipFill>
          <a:blip r:embed="rId2"/>
          <a:stretch/>
        </p:blipFill>
        <p:spPr>
          <a:xfrm>
            <a:off x="5076720" y="552600"/>
            <a:ext cx="3095640" cy="275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ledov"/>
          <p:cNvPicPr/>
          <p:nvPr/>
        </p:nvPicPr>
        <p:blipFill>
          <a:blip r:embed="rId3"/>
          <a:stretch/>
        </p:blipFill>
        <p:spPr>
          <a:xfrm>
            <a:off x="3286080" y="3714840"/>
            <a:ext cx="2521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6043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ые пределы Русской земли были надежно ограждены, настало время оградить Русь с Вос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42 году святой Александр Невский со своим отцом, Ярославом, выехал в Ор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было превратить татар из врагов и грабителей в почтительных союзников, нужна бы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кротость голубя и мудрость зме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 Ярославич (Феодорович) НЕВ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(13 мая 1221 - 14 ноября 1263), князь новгородский (c 1236), великий князь владимирский (с 1252)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nevskij"/>
          <p:cNvPicPr/>
          <p:nvPr/>
        </p:nvPicPr>
        <p:blipFill>
          <a:blip r:embed="rId1"/>
          <a:stretch/>
        </p:blipFill>
        <p:spPr>
          <a:xfrm>
            <a:off x="5292720" y="1989000"/>
            <a:ext cx="263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4643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в союз с ханом Батыем, Ярослав должен был, однако, ехать в 1246 году в далекую Монголию, в столицу всей кочевой имп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е самого Батыя было трудным, он искал поддержки у русских князей, желая отделиться со своей Золотой Ордой от дальней Монго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м, в свою очередь, не доверяли ни Батыю, ни рус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 Ярослав был отравлен. Он скончался в муч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8948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643720" y="3714840"/>
            <a:ext cx="20826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ещанный отцом союз с Золотой Ордой - необходимый тогда для предотвращения нового разгрома Руси - продолжал крепить святой Александр Нев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429080" y="1643040"/>
            <a:ext cx="44956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3 году Александр отразил новый немецкий набег на Пс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4 году заключил договор о мирных границах с Норвеги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6 году ходил походом в Финскую землю. Летописец назвал его "темным походом", русское войско шло сквозь полярную но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идоша непроходными местами, яко не видеть ни дня, ни ноч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928440"/>
            <a:ext cx="6543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56 году умер хан Батый, а вскоре был отравлен его сын Сартак, побратим Александра Не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той князь в третий раз поехал в Сарай-столицу Золотой Орды, чтобы подтвердить мирные отношения Руси и Орды с новым ханом Бе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786720" y="142884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63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 удерживал князя подле себя всю зиму и ле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осенью Александр получил возможность вернуться во Владимир, но по дороге занемог и 14 ноября 1263 в Городце сконча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его было погребено во владимирском монастыре Рождества Богородиц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ndex"/>
          <p:cNvPicPr/>
          <p:nvPr/>
        </p:nvPicPr>
        <p:blipFill>
          <a:blip r:embed="rId1"/>
          <a:stretch/>
        </p:blipFill>
        <p:spPr>
          <a:xfrm>
            <a:off x="6286680" y="1000080"/>
            <a:ext cx="24285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428400"/>
            <a:ext cx="4791240" cy="63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280-х годах во Владимире начинается почитание Александра Невского как святого, позднее он был официально канонизирован Русской православной церк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Невский был единственным православным светским правителем не только на Руси, но и во всей Европе, который не пошел на компромисс с католической церковью ради сохранения в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m_20930"/>
          <p:cNvPicPr/>
          <p:nvPr/>
        </p:nvPicPr>
        <p:blipFill>
          <a:blip r:embed="rId1"/>
          <a:stretch/>
        </p:blipFill>
        <p:spPr>
          <a:xfrm>
            <a:off x="4857840" y="785880"/>
            <a:ext cx="40384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24 Петр I основал в Петербурге монастырь в честь своего великого соотечественника (ныне Александро-Невская лавра) и повелел перевезти туда останки кня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же постановил отмечать память Александра Невского 30 августа в день заключения победоносного Ништадтского мира со Шве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86688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000754503"/>
          <p:cNvPicPr/>
          <p:nvPr/>
        </p:nvPicPr>
        <p:blipFill>
          <a:blip r:embed="rId2"/>
          <a:stretch/>
        </p:blipFill>
        <p:spPr>
          <a:xfrm>
            <a:off x="7155000" y="4508640"/>
            <a:ext cx="1455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о-Невская лав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Zhanna\Рабочий стол\ьь=.jpg"/>
          <p:cNvPicPr/>
          <p:nvPr/>
        </p:nvPicPr>
        <p:blipFill>
          <a:blip r:embed="rId1"/>
          <a:stretch/>
        </p:blipFill>
        <p:spPr>
          <a:xfrm>
            <a:off x="1714680" y="1643040"/>
            <a:ext cx="5999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Александру Невск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Zhanna\Рабочий стол\111=.jpg"/>
          <p:cNvPicPr/>
          <p:nvPr/>
        </p:nvPicPr>
        <p:blipFill>
          <a:blip r:embed="rId1"/>
          <a:stretch/>
        </p:blipFill>
        <p:spPr>
          <a:xfrm>
            <a:off x="3000240" y="1714680"/>
            <a:ext cx="321480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т Александра Не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s and Settings\Zhanna\Рабочий стол\222=.jpg"/>
          <p:cNvPicPr/>
          <p:nvPr/>
        </p:nvPicPr>
        <p:blipFill>
          <a:blip r:embed="rId1"/>
          <a:stretch/>
        </p:blipFill>
        <p:spPr>
          <a:xfrm>
            <a:off x="1285920" y="2143080"/>
            <a:ext cx="6615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Невский родился 30 мая 1220 года в г. Переславле-Залесском. Отец его, Ярослав, в Крещении Феодор ,"князь кроткий, милостивый и человеколюбивый", был младшим сыном Всеволода III Большое Гнездо , братом святого благоверного князя Юрия Всеволодович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ция метро «Площад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а Невско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Zhanna\Рабочий стол\333=.jpg"/>
          <p:cNvPicPr/>
          <p:nvPr/>
        </p:nvPicPr>
        <p:blipFill>
          <a:blip r:embed="rId1"/>
          <a:stretch/>
        </p:blipFill>
        <p:spPr>
          <a:xfrm>
            <a:off x="2571840" y="2143080"/>
            <a:ext cx="45352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499760"/>
            <a:ext cx="5643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25 императрица Екатерина I учредила орден Александра Невского - одну из высших наград России, существовавших до 1917.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500880" y="571680"/>
            <a:ext cx="2144520" cy="311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500880" y="3929040"/>
            <a:ext cx="2251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2560" y="1000080"/>
            <a:ext cx="5940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в 1942 был учрежден советский орден Александра Невского, которым награждались командиры от взводов до дивизий включительно, проявившие личную отвагу и обеспечившие успешные действия свои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000840" y="107172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4929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ведовал хранить отчую землю великий Александр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"Кто с мечом к нам придет, от меча и погибнет"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714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и Александру Невско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лавль-Зале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Zhanna\Рабочий стол\а.jpg"/>
          <p:cNvPicPr/>
          <p:nvPr/>
        </p:nvPicPr>
        <p:blipFill>
          <a:blip r:embed="rId1"/>
          <a:stretch/>
        </p:blipFill>
        <p:spPr>
          <a:xfrm>
            <a:off x="2428920" y="2143080"/>
            <a:ext cx="4871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сть-Иж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Documents and Settings\Zhanna\Рабочий стол\б.jpg"/>
          <p:cNvPicPr/>
          <p:nvPr/>
        </p:nvPicPr>
        <p:blipFill>
          <a:blip r:embed="rId1"/>
          <a:stretch/>
        </p:blipFill>
        <p:spPr>
          <a:xfrm>
            <a:off x="2857680" y="1428840"/>
            <a:ext cx="3286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Влади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Zhanna\Рабочий стол\в.jpg"/>
          <p:cNvPicPr/>
          <p:nvPr/>
        </p:nvPicPr>
        <p:blipFill>
          <a:blip r:embed="rId1"/>
          <a:stretch/>
        </p:blipFill>
        <p:spPr>
          <a:xfrm>
            <a:off x="2928960" y="1714680"/>
            <a:ext cx="3429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Пск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Zhanna\Рабочий стол\г.jpg"/>
          <p:cNvPicPr/>
          <p:nvPr/>
        </p:nvPicPr>
        <p:blipFill>
          <a:blip r:embed="rId1"/>
          <a:stretch/>
        </p:blipFill>
        <p:spPr>
          <a:xfrm>
            <a:off x="3143160" y="1428840"/>
            <a:ext cx="30718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Александра Невского - одно из самых славных в истории нашей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е только славных, но что, пожалуй, еще значительнее,- одно из самых светлых и любимых русским наро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оев наша история дала немало, но почти никого из них не вспоминают потомки с таким теплым чувством, как Алекса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много потрудился для Русской земли и мечом и головой - вклад его в строительство Российского государства бесценен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50004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 святого Александра, Феодосия Игоревна, рязанская княжна, была третьей супругой Яросл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им сыном был князь Феодор, который умер в возрасте 15 лет. Александр был вторым сы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о Александра прошло в Переславле-Залесском, где княжил оте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Documents and Settings\Zhanna\Рабочий стол\qqqq=.png"/>
          <p:cNvPicPr/>
          <p:nvPr/>
        </p:nvPicPr>
        <p:blipFill>
          <a:blip r:embed="rId1"/>
          <a:stretch/>
        </p:blipFill>
        <p:spPr>
          <a:xfrm>
            <a:off x="5643720" y="1285920"/>
            <a:ext cx="2862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9680" y="1356840"/>
            <a:ext cx="4714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нних лет Александр сопровождал в походах от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35 году он был участником битвы на р. Эмайыги (в нынешней Эстонии), где войска Ярослава наголову разгромили нем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Zhanna\Рабочий стол\www=.jpg"/>
          <p:cNvPicPr/>
          <p:nvPr/>
        </p:nvPicPr>
        <p:blipFill>
          <a:blip r:embed="rId1"/>
          <a:stretch/>
        </p:blipFill>
        <p:spPr>
          <a:xfrm>
            <a:off x="5572080" y="1928880"/>
            <a:ext cx="25653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499680"/>
            <a:ext cx="4753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м, 1236 году Ярослав уезжает в Киев, "посадив" своего сына, Александра, самостоятельно княжить в Новг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39 году Александр вступил в брак, взяв в жены дочь Полоцкого князя Брячисл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81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лось самое трудное время в истории Руси: с востока шли, уничтожая всё на своем пути, монгольские орды, с запада надвигались германские рыцарские полчища ,кощунственно называвшие себя, с благословения Римского папы, "крестоносцами", носителями Креста Господ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286680" y="285840"/>
            <a:ext cx="25304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820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ользовавшись нашествием Батыя, разгромом русских городов, смятением и горем народа, гибелью его лучших сынов и вождей, полчища крестоносцев вторглись в пределы Оте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ми были шв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ороль римской веры из Полуночной страны", Швеции, собрал в 1240 году великое войско и на множестве кораблей послал к Неве под командованием своего зятя, ярла (т. е. князя) Бирг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ый швед прислал в Новгород к святому Александру гонцов: "Если можешь, сопротивляйся, - я уже здесь и пленяю твою землю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858080" y="2142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4281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, ему не было тогда еще 20 лет, с небольшой дружиной, поспешил на врагов, - ждать подмоги от отца, незнавшего еще о нападении неприятелей, не было време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Zhanna\Рабочий стол\rrr=.jpg"/>
          <p:cNvPicPr/>
          <p:nvPr/>
        </p:nvPicPr>
        <p:blipFill>
          <a:blip r:embed="rId1"/>
          <a:stretch/>
        </p:blipFill>
        <p:spPr>
          <a:xfrm>
            <a:off x="4786200" y="1643040"/>
            <a:ext cx="36705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Zhanna</cp:lastModifiedBy>
  <dcterms:modified xsi:type="dcterms:W3CDTF">2012-07-24T16:35:35Z</dcterms:modified>
  <cp:revision>98</cp:revision>
  <dc:subject/>
  <dc:title>Слайд 1</dc:title>
</cp:coreProperties>
</file>