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F8B-5119-4D1E-A17C-473B510D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B45-4CBF-46C6-A8EA-69B06532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475-74AB-47A7-B938-D4E00A43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E77-CAEC-4B53-AD78-9ED4824D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2E1-408F-4E57-B160-734AD9F2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F60-3233-4403-9381-0F034FFF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7F9-62B5-40E6-BD17-5903F61B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87A-B829-42D8-852E-CE941BE9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BAE-3BE7-49C6-A9D7-732FE016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6F5-22F2-4896-8434-30A7BAB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1EB-632D-45A8-81E4-114EF7C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0E3-E9FE-468D-BF47-E343363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6600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362E-AAEF-4612-AEC6-0B8296F74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3000" y="1295280"/>
            <a:ext cx="7010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кадие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048120" y="3147840"/>
            <a:ext cx="304776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класс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yeshik"/>
          <p:cNvPicPr/>
          <p:nvPr/>
        </p:nvPicPr>
        <p:blipFill>
          <a:blip r:embed="rId1"/>
          <a:stretch/>
        </p:blipFill>
        <p:spPr>
          <a:xfrm>
            <a:off x="0" y="0"/>
            <a:ext cx="3276720" cy="2268360"/>
          </a:xfrm>
          <a:prstGeom prst="rect">
            <a:avLst/>
          </a:prstGeom>
          <a:ln w="0">
            <a:noFill/>
          </a:ln>
        </p:spPr>
      </p:pic>
      <p:sp>
        <p:nvSpPr>
          <p:cNvPr id="75" name="WordArt 3"/>
          <p:cNvSpPr txBox="1"/>
          <p:nvPr/>
        </p:nvSpPr>
        <p:spPr>
          <a:xfrm rot="21532200">
            <a:off x="3508200" y="457200"/>
            <a:ext cx="5337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ЖУ ПОНЯТНО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2819520"/>
            <a:ext cx="79246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Назовите этот углеводор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= СН – 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– СН = 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66680" y="478296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Напишите формулу по назван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3-метилпентадиен–1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09480" y="457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Химические свойства алкади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2120" y="1600200"/>
            <a:ext cx="76197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= СН – 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– СН = 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2209680" y="2057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6705720" y="2057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762120" y="3657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Реакции присо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 flipH="1" flipV="1">
            <a:off x="2361960" y="2209680"/>
            <a:ext cx="152280" cy="1524240"/>
          </a:xfrm>
          <a:prstGeom prst="line">
            <a:avLst/>
          </a:prstGeom>
          <a:ln w="108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2666880" y="2209680"/>
            <a:ext cx="4191120" cy="1524240"/>
          </a:xfrm>
          <a:prstGeom prst="line">
            <a:avLst/>
          </a:prstGeom>
          <a:ln w="108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33520" y="51213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авайте попробуем составить уравнение реакции между бутадиеном-1,3 и водородом                      (реакция гидрирова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838080" y="950760"/>
            <a:ext cx="8458200" cy="75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СН – СН =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 – СН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+ 2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2038320" y="316224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352680" y="314316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33840" y="316224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5715000" y="316224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6934320" y="1219320"/>
            <a:ext cx="121896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609480" y="2895480"/>
            <a:ext cx="9144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7924680" y="2819520"/>
            <a:ext cx="8384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295280" y="4495680"/>
            <a:ext cx="121932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828800" y="1447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тадиен–1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4495680" y="4800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3808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А вот реакция галогенирования протекает  по – друго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838080" y="2057400"/>
            <a:ext cx="8458200" cy="70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СН – СН =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 – СН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+ 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 – СН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                         Br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057400" y="34290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295800" y="340992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495680" y="34290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638680" y="34290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6553080" y="504828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2876400" y="504828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3505320" y="36576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7086600" y="2362320"/>
            <a:ext cx="9144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685800" y="3200400"/>
            <a:ext cx="9144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1523880" y="4876920"/>
            <a:ext cx="9144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8077320" y="3200400"/>
            <a:ext cx="53316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3505320" y="5867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,4 - дибром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yeshik"/>
          <p:cNvPicPr/>
          <p:nvPr/>
        </p:nvPicPr>
        <p:blipFill>
          <a:blip r:embed="rId1"/>
          <a:stretch/>
        </p:blipFill>
        <p:spPr>
          <a:xfrm>
            <a:off x="0" y="0"/>
            <a:ext cx="3276720" cy="22683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 rot="21532200">
            <a:off x="3508200" y="457200"/>
            <a:ext cx="5337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ЖУ ПОНЯТНО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" y="303228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оставьте уравнение реакции между бутадиеном–1,3 и хл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айте название продукту ре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762120" y="1522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риме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35004" t="12669" r="34999" b="42002"/>
          <a:stretch/>
        </p:blipFill>
        <p:spPr>
          <a:xfrm>
            <a:off x="228600" y="1676520"/>
            <a:ext cx="2890800" cy="327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267080" y="1009800"/>
            <a:ext cx="4191120" cy="73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Алкадиены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Каучук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ез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6248520" y="2057400"/>
            <a:ext cx="0" cy="91440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6248520" y="4114800"/>
            <a:ext cx="0" cy="91440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rcRect l="8999" t="26832" r="57003" b="27336"/>
          <a:stretch/>
        </p:blipFill>
        <p:spPr>
          <a:xfrm>
            <a:off x="117360" y="1905120"/>
            <a:ext cx="376884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rcRect l="11002" t="70673" r="11002" b="9337"/>
          <a:stretch/>
        </p:blipFill>
        <p:spPr>
          <a:xfrm>
            <a:off x="0" y="0"/>
            <a:ext cx="9144000" cy="175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rcRect l="56002" t="30668" r="8002" b="30668"/>
          <a:stretch/>
        </p:blipFill>
        <p:spPr>
          <a:xfrm>
            <a:off x="3581280" y="3809880"/>
            <a:ext cx="3733920" cy="300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rcRect l="8002" t="25332" r="55005" b="36005"/>
          <a:stretch/>
        </p:blipFill>
        <p:spPr>
          <a:xfrm>
            <a:off x="6172200" y="18288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990720" y="3049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Натуральный кау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43000" y="1600200"/>
            <a:ext cx="70102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 - 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– С – СН = 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- )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3733920" y="227160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914400" y="3886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олиизоп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rcRect l="14550" t="17999" r="16009" b="64670"/>
          <a:stretch/>
        </p:blipFill>
        <p:spPr>
          <a:xfrm>
            <a:off x="0" y="1565280"/>
            <a:ext cx="9144000" cy="171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rcRect l="11002" t="66005" r="13000" b="23335"/>
          <a:stretch/>
        </p:blipFill>
        <p:spPr>
          <a:xfrm>
            <a:off x="0" y="4054320"/>
            <a:ext cx="9144000" cy="1227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914400" y="2890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пособы получения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rcRect l="14332" t="15334" r="18886" b="17999"/>
          <a:stretch/>
        </p:blipFill>
        <p:spPr>
          <a:xfrm>
            <a:off x="14400" y="53352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66680" y="762120"/>
            <a:ext cx="693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Алкадие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V="1">
            <a:off x="4267080" y="685800"/>
            <a:ext cx="457200" cy="3808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4724280" y="685800"/>
            <a:ext cx="457200" cy="3808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 flipV="1">
            <a:off x="5257800" y="685800"/>
            <a:ext cx="457200" cy="3808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5715000" y="685800"/>
            <a:ext cx="457200" cy="3808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5410080" y="1828800"/>
            <a:ext cx="838440" cy="1143000"/>
          </a:xfrm>
          <a:prstGeom prst="downArrow">
            <a:avLst>
              <a:gd name="adj1" fmla="val 50000"/>
              <a:gd name="adj2" fmla="val 34081"/>
            </a:avLst>
          </a:prstGeom>
          <a:solidFill>
            <a:srgbClr val="ff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343400" y="1828800"/>
            <a:ext cx="838080" cy="1143000"/>
          </a:xfrm>
          <a:prstGeom prst="downArrow">
            <a:avLst>
              <a:gd name="adj1" fmla="val 50000"/>
              <a:gd name="adj2" fmla="val 34096"/>
            </a:avLst>
          </a:prstGeom>
          <a:solidFill>
            <a:srgbClr val="ff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4419720" y="3200400"/>
            <a:ext cx="6094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5486400" y="3352680"/>
            <a:ext cx="6094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5486400" y="3200400"/>
            <a:ext cx="6094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2514600" y="4205160"/>
            <a:ext cx="4038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= СН – СН = 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514600" y="5257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= СН = СН - 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1002" t="75335" r="11999" b="13999"/>
          <a:stretch/>
        </p:blipFill>
        <p:spPr>
          <a:xfrm>
            <a:off x="0" y="4503600"/>
            <a:ext cx="9220320" cy="982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rcRect l="14739" t="35337" r="14583" b="51339"/>
          <a:stretch/>
        </p:blipFill>
        <p:spPr>
          <a:xfrm>
            <a:off x="0" y="2038320"/>
            <a:ext cx="92962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676520" y="3808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интетический кау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1828800"/>
            <a:ext cx="723924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 -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 = СН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бутади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 -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 = СН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хлороп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114800" y="4495680"/>
            <a:ext cx="0" cy="3049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066680" y="685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Благодарю вас за работу на уро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219320" y="25588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Запишите, пожалуйста, 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57200" y="457200"/>
            <a:ext cx="8305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§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11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Упр. 8, стр. 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6858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Общая формула  алкадие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905120" y="2209680"/>
            <a:ext cx="5486400" cy="327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057400" y="2773440"/>
            <a:ext cx="510552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1" lang="en-US" sz="11700" spc="-1" strike="noStrike" baseline="-25000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en-US" sz="117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US" sz="11700" spc="-1" strike="noStrike" baseline="-25000">
                <a:solidFill>
                  <a:srgbClr val="ff0000"/>
                </a:solidFill>
                <a:latin typeface="Comic Sans MS"/>
              </a:rPr>
              <a:t>2n-2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4572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иболее важное значение име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447920" y="16002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676520" y="1752480"/>
            <a:ext cx="586728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= СН – СН = 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47920" y="2590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утадиен-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295280" y="3581280"/>
            <a:ext cx="7848720" cy="27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= С – СН = 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3200400" y="4267080"/>
            <a:ext cx="0" cy="990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886200" y="4800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2-метилбутадиен–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510552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(изопре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</cp:lastModifiedBy>
  <dcterms:modified xsi:type="dcterms:W3CDTF">2012-07-24T11:33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