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6737-23C9-4838-8618-786EAC06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B11-C46E-4A5F-BF10-A5404969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70EB-CCA4-4870-8F7E-FE7E5EC7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410F-8613-4F57-8E13-FC0E44F6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CE10-6D3C-42E3-9DA5-E161A6FC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D20-BA7F-4855-9457-F8623C71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522C-D8F6-4CE2-82C1-4A973D8C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FE69-E71B-4E60-9A23-A0B4CCFF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AAC-C7C4-44D7-9749-A9CEDCC1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3EDD-EE53-4779-A1F1-E3C7F636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3A0-F222-4A2A-B50E-A1F4EB89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A15-6823-484B-9F31-6A2914B0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006600"/>
            </a:gs>
            <a:gs pos="100000">
              <a:srgbClr val="66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B944-2041-43C3-9830-8931CF2B73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43000" y="1295280"/>
            <a:ext cx="70102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лкадие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3048120" y="3147840"/>
            <a:ext cx="3047760" cy="5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класс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yeshik"/>
          <p:cNvPicPr/>
          <p:nvPr/>
        </p:nvPicPr>
        <p:blipFill>
          <a:blip r:embed="rId1"/>
          <a:stretch/>
        </p:blipFill>
        <p:spPr>
          <a:xfrm>
            <a:off x="0" y="0"/>
            <a:ext cx="3276720" cy="2268360"/>
          </a:xfrm>
          <a:prstGeom prst="rect">
            <a:avLst/>
          </a:prstGeom>
          <a:ln w="0">
            <a:noFill/>
          </a:ln>
        </p:spPr>
      </p:pic>
      <p:sp>
        <p:nvSpPr>
          <p:cNvPr id="75" name="WordArt 3"/>
          <p:cNvSpPr txBox="1"/>
          <p:nvPr/>
        </p:nvSpPr>
        <p:spPr>
          <a:xfrm rot="21532200">
            <a:off x="3508200" y="457200"/>
            <a:ext cx="53373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ЕЖУ ПОНЯТНО !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2819520"/>
            <a:ext cx="79246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Назовите этот углеводор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СН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= СН – СН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– СН = СН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066680" y="478296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Напишите формулу по назван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3-метилпентадиен–1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609480" y="457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Химические свойства алкадие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762120" y="1600200"/>
            <a:ext cx="76197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= СН – СН</a:t>
            </a:r>
            <a:r>
              <a:rPr b="1" lang="ru-RU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– СН = СН</a:t>
            </a:r>
            <a:r>
              <a:rPr b="1" lang="ru-RU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2209680" y="20574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6705720" y="20574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762120" y="36576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Реакции присо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 flipH="1" flipV="1">
            <a:off x="2361960" y="2209680"/>
            <a:ext cx="152280" cy="1524240"/>
          </a:xfrm>
          <a:prstGeom prst="line">
            <a:avLst/>
          </a:prstGeom>
          <a:ln w="108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 flipV="1">
            <a:off x="2666880" y="2209680"/>
            <a:ext cx="4191120" cy="1524240"/>
          </a:xfrm>
          <a:prstGeom prst="line">
            <a:avLst/>
          </a:prstGeom>
          <a:ln w="1080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533520" y="512136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Давайте попробуем составить уравнение реакции между бутадиеном-1,3 и водородом                      (реакция гидрирова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838080" y="950760"/>
            <a:ext cx="8458200" cy="75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= СН – СН = 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+ 2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СН – СН – 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+ 2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2038320" y="3162240"/>
            <a:ext cx="0" cy="304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3352680" y="3143160"/>
            <a:ext cx="0" cy="304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4533840" y="3162240"/>
            <a:ext cx="0" cy="304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5715000" y="3162240"/>
            <a:ext cx="0" cy="304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6934320" y="1219320"/>
            <a:ext cx="121896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609480" y="2895480"/>
            <a:ext cx="91440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7924680" y="2819520"/>
            <a:ext cx="83844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1295280" y="4495680"/>
            <a:ext cx="121932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1828800" y="14479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тадиен–1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4495680" y="4800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533520" y="3808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А вот реакция галогенирования протекает  по – другом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838080" y="2057400"/>
            <a:ext cx="8458200" cy="70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= СН – СН = 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СН – СН – СН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+ 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r</a:t>
            </a:r>
            <a:r>
              <a:rPr b="1" lang="ru-RU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СН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Н – СН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r                         Br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2057400" y="3429000"/>
            <a:ext cx="0" cy="3808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3295800" y="3409920"/>
            <a:ext cx="0" cy="3808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4495680" y="3429000"/>
            <a:ext cx="0" cy="3808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5638680" y="3429000"/>
            <a:ext cx="0" cy="3808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6553080" y="5048280"/>
            <a:ext cx="0" cy="3808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2876400" y="5048280"/>
            <a:ext cx="0" cy="38088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3505320" y="3657600"/>
            <a:ext cx="838080" cy="228600"/>
          </a:xfrm>
          <a:prstGeom prst="leftRightArrow">
            <a:avLst>
              <a:gd name="adj1" fmla="val 50000"/>
              <a:gd name="adj2" fmla="val 72983"/>
            </a:avLst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7086600" y="2362320"/>
            <a:ext cx="91440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685800" y="3200400"/>
            <a:ext cx="91440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1523880" y="4876920"/>
            <a:ext cx="91440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8077320" y="3200400"/>
            <a:ext cx="533160" cy="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3505320" y="5867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,4 - дибромбу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yeshik"/>
          <p:cNvPicPr/>
          <p:nvPr/>
        </p:nvPicPr>
        <p:blipFill>
          <a:blip r:embed="rId1"/>
          <a:stretch/>
        </p:blipFill>
        <p:spPr>
          <a:xfrm>
            <a:off x="0" y="0"/>
            <a:ext cx="3276720" cy="2268360"/>
          </a:xfrm>
          <a:prstGeom prst="rect">
            <a:avLst/>
          </a:prstGeom>
          <a:ln w="0">
            <a:noFill/>
          </a:ln>
        </p:spPr>
      </p:pic>
      <p:sp>
        <p:nvSpPr>
          <p:cNvPr id="112" name="WordArt 4"/>
          <p:cNvSpPr txBox="1"/>
          <p:nvPr/>
        </p:nvSpPr>
        <p:spPr>
          <a:xfrm rot="21532200">
            <a:off x="3508200" y="457200"/>
            <a:ext cx="53373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ЕЖУ ПОНЯТНО !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57200" y="3032280"/>
            <a:ext cx="8229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оставьте уравнение реакции между бутадиеном–1,3 и хл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айте название продукту реа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762120" y="1522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Приме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rcRect l="35004" t="12669" r="34999" b="42002"/>
          <a:stretch/>
        </p:blipFill>
        <p:spPr>
          <a:xfrm>
            <a:off x="228600" y="1676520"/>
            <a:ext cx="2890800" cy="3276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4267080" y="1009800"/>
            <a:ext cx="4191120" cy="73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Алкадиены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Каучук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ез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6248520" y="2057400"/>
            <a:ext cx="0" cy="91440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6248520" y="4114800"/>
            <a:ext cx="0" cy="91440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"/>
          <p:cNvPicPr/>
          <p:nvPr/>
        </p:nvPicPr>
        <p:blipFill>
          <a:blip r:embed="rId1"/>
          <a:srcRect l="8999" t="26832" r="57003" b="27336"/>
          <a:stretch/>
        </p:blipFill>
        <p:spPr>
          <a:xfrm>
            <a:off x="117360" y="1905120"/>
            <a:ext cx="3768840" cy="3809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rcRect l="11002" t="70673" r="11002" b="9337"/>
          <a:stretch/>
        </p:blipFill>
        <p:spPr>
          <a:xfrm>
            <a:off x="0" y="0"/>
            <a:ext cx="9144000" cy="175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3"/>
          <a:srcRect l="56002" t="30668" r="8002" b="30668"/>
          <a:stretch/>
        </p:blipFill>
        <p:spPr>
          <a:xfrm>
            <a:off x="3581280" y="3809880"/>
            <a:ext cx="3733920" cy="300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4"/>
          <a:srcRect l="8002" t="25332" r="55005" b="36005"/>
          <a:stretch/>
        </p:blipFill>
        <p:spPr>
          <a:xfrm>
            <a:off x="6172200" y="182880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990720" y="3049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Натуральный кауч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143000" y="1600200"/>
            <a:ext cx="701028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( - СН</a:t>
            </a:r>
            <a:r>
              <a:rPr b="1" lang="ru-RU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– С – СН = СН</a:t>
            </a:r>
            <a:r>
              <a:rPr b="1" lang="ru-RU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- )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3733920" y="2271600"/>
            <a:ext cx="0" cy="381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914400" y="3886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олиизопр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rcRect l="14550" t="17999" r="16009" b="64670"/>
          <a:stretch/>
        </p:blipFill>
        <p:spPr>
          <a:xfrm>
            <a:off x="0" y="1565280"/>
            <a:ext cx="9144000" cy="171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rcRect l="11002" t="66005" r="13000" b="23335"/>
          <a:stretch/>
        </p:blipFill>
        <p:spPr>
          <a:xfrm>
            <a:off x="0" y="4054320"/>
            <a:ext cx="9144000" cy="1227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914400" y="2890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Способы получения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rcRect l="14332" t="15334" r="18886" b="17999"/>
          <a:stretch/>
        </p:blipFill>
        <p:spPr>
          <a:xfrm>
            <a:off x="14400" y="533520"/>
            <a:ext cx="914400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1066680" y="762120"/>
            <a:ext cx="6934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Алкадиен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 flipV="1">
            <a:off x="4267080" y="685800"/>
            <a:ext cx="457200" cy="3808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4724280" y="685800"/>
            <a:ext cx="457200" cy="3808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 flipV="1">
            <a:off x="5257800" y="685800"/>
            <a:ext cx="457200" cy="3808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5715000" y="685800"/>
            <a:ext cx="457200" cy="38088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5410080" y="1828800"/>
            <a:ext cx="838440" cy="1143000"/>
          </a:xfrm>
          <a:prstGeom prst="downArrow">
            <a:avLst>
              <a:gd name="adj1" fmla="val 50000"/>
              <a:gd name="adj2" fmla="val 34081"/>
            </a:avLst>
          </a:prstGeom>
          <a:solidFill>
            <a:srgbClr val="ff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4343400" y="1828800"/>
            <a:ext cx="838080" cy="1143000"/>
          </a:xfrm>
          <a:prstGeom prst="downArrow">
            <a:avLst>
              <a:gd name="adj1" fmla="val 50000"/>
              <a:gd name="adj2" fmla="val 34096"/>
            </a:avLst>
          </a:prstGeom>
          <a:solidFill>
            <a:srgbClr val="ff66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4419720" y="3200400"/>
            <a:ext cx="6094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>
            <a:off x="4419720" y="3352680"/>
            <a:ext cx="6094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5486400" y="3352680"/>
            <a:ext cx="6094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5486400" y="3200400"/>
            <a:ext cx="6094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2514600" y="4205160"/>
            <a:ext cx="4038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СН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= СН – СН = СН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2514600" y="525780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СН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 = СН = СН - СН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11002" t="75335" r="11999" b="13999"/>
          <a:stretch/>
        </p:blipFill>
        <p:spPr>
          <a:xfrm>
            <a:off x="0" y="4503600"/>
            <a:ext cx="9220320" cy="982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rcRect l="14739" t="35337" r="14583" b="51339"/>
          <a:stretch/>
        </p:blipFill>
        <p:spPr>
          <a:xfrm>
            <a:off x="0" y="2038320"/>
            <a:ext cx="92962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1676520" y="38088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Синтетический кауч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066680" y="1828800"/>
            <a:ext cx="723924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 -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Н = СН –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бутади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 -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 = СН – СН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)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лихлоропр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4114800" y="4495680"/>
            <a:ext cx="0" cy="30492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066680" y="6858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Благодарю вас за работу на урок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219320" y="25588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Запишите, пожалуйста, 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457200" y="457200"/>
            <a:ext cx="8305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§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 11,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Упр. 8, стр. 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62120" y="6858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Общая формула  алкадие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905120" y="2209680"/>
            <a:ext cx="5486400" cy="32767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057400" y="2773440"/>
            <a:ext cx="510552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ff0000"/>
                </a:solidFill>
                <a:latin typeface="Comic Sans MS"/>
              </a:rPr>
              <a:t>С</a:t>
            </a:r>
            <a:r>
              <a:rPr b="1" lang="en-US" sz="11700" spc="-1" strike="noStrike" baseline="-25000">
                <a:solidFill>
                  <a:srgbClr val="ff0000"/>
                </a:solidFill>
                <a:latin typeface="Comic Sans MS"/>
              </a:rPr>
              <a:t>n</a:t>
            </a:r>
            <a:r>
              <a:rPr b="1" lang="en-US" sz="117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US" sz="11700" spc="-1" strike="noStrike" baseline="-25000">
                <a:solidFill>
                  <a:srgbClr val="ff0000"/>
                </a:solidFill>
                <a:latin typeface="Comic Sans MS"/>
              </a:rPr>
              <a:t>2n-2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4572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иболее важное значение име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447920" y="16002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676520" y="1752480"/>
            <a:ext cx="586728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СН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Comic Sans MS"/>
              </a:rPr>
              <a:t>2 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= СН – СН = СН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447920" y="25909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утадиен-1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295280" y="3581280"/>
            <a:ext cx="7848720" cy="27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СН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 = С – СН = СН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СН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>
            <a:off x="3200400" y="4267080"/>
            <a:ext cx="0" cy="990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886200" y="4800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2-метилбутадиен–1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5105520" y="5257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(изопре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</cp:lastModifiedBy>
  <dcterms:modified xsi:type="dcterms:W3CDTF">2012-07-24T11:33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