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  <p:custShowLst>
    <p:custShow name="Произвольный показ 1" id="0">
      <p:sldLst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3CD-B831-44E1-BFE8-7C5D52FD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AE8-13AF-43A6-B94E-6EF2E517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73B-226F-4043-907F-ED96264D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59F-02CA-4A01-85B1-2CBCEA3D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BF0-9E20-46C9-82B0-09ECADD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4AA-499C-4F8F-BDB9-98C5FD2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1E3-320C-4895-8BCF-ECC9B3AC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8F5-4FCF-424E-9993-B37E9C2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80E-CAC3-4A48-8122-30E91D9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AF3-4441-4077-B735-6709B5F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6FE-BAAC-4124-9E1E-AF96BE9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D38-5AC6-4A65-B49C-ABFE954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0A48-1E18-42A8-A991-698D4DEB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ivazovsky_27-1-.jpg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МАНТИЗМ В ТВОРЧ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Ивана Константиновича Айвазов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с.Сальск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07200" y="4554360"/>
            <a:ext cx="373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11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ОШ с. Саль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аженова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: Ламбантов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ад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3933360"/>
            <a:ext cx="303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бушка Айваз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698920" cy="314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281304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08720" y="5445000"/>
            <a:ext cx="30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ат Айваз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аня родился и жил в доме, увитом виноградом, у самого моря, на окраине Феодосии. Он готов был проводить на берегу сутки напролет, жадно глядя, как волны вскипают пенными гребнями и развиваются о скалы. От красоты захватывало дух. И до слез обидно, что красота эта исчезает бесследно. Ведь море все время меняется, и того, каким оно было минуту назад, уже никогда не буд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 ты возьми да нарисуй, - подсказал однажды сосед, старый моряк, - вот красота людям и остан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одосийский архитектор Я. Х. Кох, первым обративший внимание на художественные способности мальчика, дал ему и первые уроки мастерства. Яков Христианович также всячески помогал юному Айвазовскому, периодически даря ему карандаши, бумагу, кра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-243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оре! До чего же оно красивое! В молочном предутреннем тумане и в золотых блестках солнца, в печальном свете заката и ночью, под звездами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310500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Ч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окончания феодосийского уездного училища, он был зачислен в симферопольскую гимназию. Затем он был принят на казённый счёт в Академию художеств Санкт-Петербурга  и зачислен в пейзажный класс профессора Максима Воробьё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8 августа 1833 г. он приехал  в Петербург. В 1835 году за пейзажи «Вид на взморье в окрестностях Петербурга» и «Этюд воздуха над морем» получил серебряную медаль и был определён помощником к модному французскому пейзажисту Филиппу Танн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ь у Таннера, Айвазовский, несмотря на запрет последнего работать самостоятельно, продолжал писать пейзажи и выставил пять картин на осенней выставке Академии художеств 1836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ы Айвазовского получили благожелательные отзывы критики, выставленные же работы Таннера, наоборот, критиковались за манерность. Таннер пожаловался на Айвазовского Николаю I, и по распоряжению царя все картины Айвазовского были сняты с выста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удожник был прощён лишь через полгода и определён в класс батальной живописи к профессору Зауэрвейду для занятий морской военной живопис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учившись в классе Зауэрвейда всего несколько месяцев, в сентябре 1837 года Айвазовский получил Большую золотую медаль за картину «Штиль». Это дало ему право на двухлетнюю поездку в Крым и в Европу как пенсионеру Академ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0360" y="8748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Ш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604800"/>
            <a:ext cx="83516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казочная страна. Серебро оливковых рощ, античные руины, беспечный смех и переливы чудесной музыки над пронзительно-синей водой Средиземного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вым городом, где художник сделал остановку, была Венеция. Она покорила своей неповторимой красотой  и очарованием. Большой канал с величественными дворцами, переплетение малых каналов, на их скрещении – уютные тихие площади, а сердце Венеции – площадь Святого Марка с прекрасным собором. За площадью – знаменитая венецианская лагун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27640" y="2602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Венеция 184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507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оренция поразила его величественными соборами, прекрасными коллекциями картин великих мастеров Возрождения в галереях Уффици и Питти. Художник объехал все Неаполитанское побережье, работал в Сорренто, Амальфи, Вико; В самом Неаполе ему не терпелось ощутить особенность ландшафта, увидеть прибрежные пейзажи, побывать в тех местах, где работал любимый и высокочтимый им Сильвестр Щед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уроках МХК мы знакомились с творчеством многих русских художников в том числе и И.К. Айвазовского, я получила задание  выяснить к какому направлению искусства можно отнести его живописны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Туманное утро в Неапол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1847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9720"/>
            <a:ext cx="7704000" cy="57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6436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 Кавказе шла война, и художник Айвазовский добился разрешения участвовать в боевом походе. Он доказал, что прекрасно умеет владеть не только кистью, но и оружием! Посмотрите на картину «Десант в Субаши». Представьте: все, что на ней изображено, было наяву. И среди храбрецов, рискующих жизнью  - он, Иван Айвазов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428760"/>
            <a:ext cx="8280360" cy="612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4320" y="119628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сант в Субаши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ХУДОЖНИК ГЛАВНОГО МОРСКОГО ШТ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842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ередине лета 1844 года завершилось четырехлетнее пребывание Айвазовского в Европе. Академия художеств в сентябре удостоила своего бывшего ученика званием академика, а через несколько дней последовало распоряжение Министерства Императорского двора о причислении его к этому ведомству со званием живописца Главного Морского штаба «с правом ношения мундира Морского Министерств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1440"/>
            <a:ext cx="87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риг «Меркурий» после победы над двумя турецкими судами, 1848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честями встретили живописца Главного Морского штаба в Петербурге. Однако его не прельщала беспримерная слава. Многие были изумлены решением молодого академика уехать в Феодосию. «Сколько волка ни корми, он все в лес смотрит», – заявил царь, узнав о его отъезде из стол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НЦИПЫ РОМАНТИЗМА</a:t>
            </a:r>
            <a:br>
              <a:rPr sz="44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 произведениях Айваз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НЕПРИЯТИЕ РЕАЛЬНОЙ ЖИЗНИ, СТРЕМЛЕНИЕ ПОЗНАТЬ НЕПОЗН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омантики, пережившие разочарование во Французской революции, не оправдавшей их надежд, обратили свои взоры к миру чувств и переживаний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ти идеи возникли на почве неудовлетворенности действи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жизнь, когда в ней нет очарован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женство знать, к нему лететь душ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пропасть зреть меж ним и меж с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лать всяк час и трепетать желань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.А.Жуковский «Пев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верил в демократические идеалы, его сердце было с Россией, которую для него олицетворяли декабристы, Пушкин, Гоголь, Белинский, Глинка. С некоторыми из них художника связывали дружеские отно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орчество И.К.Айвазовского относится к направлению в искусстве 18 века - романт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645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285264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29264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оказать, что в творчестве художника прослеживаются принципы романт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96000" y="691920"/>
            <a:ext cx="3348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Прощание А.С.Пушкина 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с мо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580000" y="907560"/>
            <a:ext cx="310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7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1242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работал не покладая рук. Бывали дни, когда он создавал по нескольку карт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Иметь, чтобы помогать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ов девиз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ую часть средств, которые приносили многочисленные полотна, тратил на благотворительные цел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сов отмечал, что всем следует помнить о патриотизме Айвазовского. Сыновняя любовь мастера к России была одновременно проявлением тех чувств, которые он питал к Армении. Эти чувства побудили его создать ряд полотен, изображающих победу русского оружия над турками в ожесточенных морских сражениях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00" y="-7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иноп» 185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ЧЕСМЕНСКИЙ БОЙ. 1848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есменское сражение – одна из самых главных и героических страниц в истории российского флота. Взрываются  и горят корабли, взлетают к небу обломки матч, поднимается пламя, и ало-сизые дымы смешиваются с облаками, сквозь которые смотрит на происходящее лун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9844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60360" y="90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сменский бо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н был настоящим патриотом своей Род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57 году он вместе с братом посетил Константинополь, где гостил у главного архитектора дворцовых сооружений С. Паляна. Айвазовский подарил ему один из своих пейзажей. Тот преподнес картину султану. Восхищенный султан попросил заказать мастеру несколько десятков полотен с видами Босфора. В надежде принести пользу живущим в Турции армянам Айвазовский выполнил заказ. В 1874 году его наградили высшим турецким орде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95 году османские власти учинили резню, жертвами которой пали сотни тысяч армян. Разрушались и сжигались многочисленные памятники древней культуры. Старый художник написал и выставил в Москве, Одессе, других городах картины, посвященные этой траге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швырнул в море полученный когда-то орден и заявил турецкому консулу: «Передайте своему кровавому хозяину – пусть и он выбросит мои картины, мне не жал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ИСКЛЮЧИТЕЛЬНОСТЬ РОМАНТИЧЕСКОГО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ероями романтических произведений становятся не обычные люди в их повседневной жизни, а исключительные характеры в исключительных обстоятельст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ЯТЫЙ ВАЛ. 18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ушует грозная морская стихия. Бездонную толщу воды, бурлящую пену морских волн окрашивает в синий, бирюзовый, розовый, красный, белый цвета просвечивающее сквозь марево облаков оранжево-желтое солнце. Утихнет ли океан? Придет ли спасение для люд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ы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642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ные рамки существования на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ые принципы романтиз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леживаются ли принципы направления в творчестве Айвазов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знакомитьс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графией худож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пами твор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ями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00" y="11520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евятый 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00" y="1882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асённые 18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7716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" y="-72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ас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ПРИРОДА КАК ВЫРАЖЕНИЕ СТИХИЙНОГО НАЧАЛА ЖИЗНИ, ПРООБРАЗ СВОБ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жизни Природы герой – романтик всегда видит либо отражение своей собственной души, либо идеальной жизни, составляющей предмет его мечтаний. Перед стихией природы человек беспомощен и сла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3080" y="25956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рабль в шт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91764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0" y="-72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ейзаж с ветряными мельниц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0" y="-7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реди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РЕДИ ВОЛН. 18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гляд погружается в хаос  водной стихии, но ему не скучно следить за изменениями цвета бушующего моря и тонко разработанным освещением волн и неба. В глухой черноте облаков вдруг возникает робкий луч света, и в центре картины, на гребнях рождающихся волн, в их глубине, на кружеве пены свет начинает разыгрывать сложную и богатую живописную симфонию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КУЛЬТ ПРОШЛОГО: ИДЕАЛИЗАЦИЯ АНТИЧНОСТИ И СРЕДНЕВЕКОВЬЯ, ИНТЕРЕС К ФОЛЬКЛ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но ушедшие исторические эпохи, «даль времен»стали художественной метафорой романтическ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алеком прошлом романтики надеялись найти гармонию и красоту, не существующие в соврем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40" y="-72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крополь в Афинах в лунную ночь 18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МАНТИЗМ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ейное и художественное направление в европейской и американской живописи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н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18 века - начала 19 век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вигавшее на первый план индивидуальность, наделяя ее идеальными устремлениями. Романтизм выделял главенство воображения и чув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ЭКЗОТИКА ДАЛЬН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удожников-романтиков привлекала экзотика дальн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рой поэмы Дж.Байрона «Гяур» восклиц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, дивный край, где кругл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на природе ласку ш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огда же путник уми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 высот Колонны отда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рит ту страну, то весе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рдца ее счастливый ви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00360" y="0"/>
            <a:ext cx="64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Побережье в Амальф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00" y="1152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ыболовное судно в га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прошел академическую школу, оставаясь в душе поэтом. Уже в ранних вещах достиг удивительной жизненности, эмоциональности, не свойственных, пожалуй, никому в такой степени, выработал оригинальную живописную манеру. Палитра художника с годами становилась все более светлой, экономной. Умение видеть в самом прозаическом поэзию выдавало в нем личность романтическ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принципы романтизма присутствуют в произведениях Айвазовского, жил он именно в эпоху развития этого направления в искусстве,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НА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я гипотеза ве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ИВАН КОНСТАНТИНОВИЧ АЙВАЗОВСКИ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художник-роман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дной Феодосии живописец построил на берегу моря дом, где трудился до конца жизни, оставив потомкам около шести тысяч картин. Безусловно, не все из них равноценны. Главное в наследии Айвазовского – марины, где воплощен могучий образ моря. Почти ежегодно художник устраивал выставки произведений в различных городах России, Европы и Америки. Он прославил русскую школу живописи за границ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406-004" descr="И. Айвазовский. «Лунная ночь». Масло. 1840.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59688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унная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20" y="-72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ид на Аю-Даг. Кр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048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wiki/Файл:Aivazovsky_27-1-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«Энциклопедия малы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рия «Сказки о художник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. Издательство «Белый го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мантизм - это не стиль, не живописная манера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 определенный эмоциональный на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. Бод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НЦИПЫ РОМАНТИЗ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риятие реальной жизни, стремление познать непозна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ключительность романтического гер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а как выражение стихийного начала жизни, прообраз своб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ьт прошлого: идеализация Античности и Средневековья, интерес к фолькло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зотика дальн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40360" y="2133360"/>
            <a:ext cx="5581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Айвазовский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Ива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 Константинови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29 июля 1817 —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2 мая 1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3275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Д АЙВАЗОВС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анес (Иван Константинович) Айвазовский родился в семье купца Константина (Геворг) и Рипсиме Гайвазовских. 17  июля 1817 года священник армянской церкви города Феодосии сделал запись о том, что у Константина Гайвазовского и его жены родился «Ованес, сын Геворга Айвазян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ки Айвазовского были из галицийских армян, переселившихся в Галицию из турецкой Армении в XVIII в. Известно, что его родственники владели крупной земельной собственностью в районе Львова, однако никаких документов, бросающих более подробный свет на происхождение Айвазовского, не сохранилось. Его отец Константин и после переселения в Феодосию писал фамилию на польский манер: «Гайвазовский» (фамилия — полонизированная форма армянской фамилии Айвазя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1:25:18Z</dcterms:created>
  <dc:creator>Елена</dc:creator>
  <dc:description/>
  <dc:language>en-US</dc:language>
  <cp:lastModifiedBy>UserXP</cp:lastModifiedBy>
  <dcterms:modified xsi:type="dcterms:W3CDTF">2012-06-23T07:03:12Z</dcterms:modified>
  <cp:revision>24</cp:revision>
  <dc:subject/>
  <dc:title>Айвазовский Иван Константинович</dc:title>
</cp:coreProperties>
</file>