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5.jpeg" ContentType="image/jpeg"/>
  <Override PartName="/ppt/media/image24.png" ContentType="image/png"/>
  <Override PartName="/ppt/media/image2.jpeg" ContentType="image/jpe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  <p:custShowLst>
    <p:custShow name="Произвольный показ 1" id="0">
      <p:sldLst>
        <p:sld r:id="rId2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4A2-4E32-48F0-A234-766B8B8F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E42-FF19-4296-9A33-C861A8C6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5FC-59B1-4B92-A2A3-94F54159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024-9623-42DE-8AA0-794996E0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80C-5A88-4229-9387-5BE3E17A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104-283A-48D8-8C12-935C2833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A8AF-ABDB-4F79-B460-834FC1F8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3FD-5146-46DA-BF32-9D9F194D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3B1-DD4F-4B18-9ED4-25A98928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230-4D96-43BF-9AFE-E5CB0D36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F17-1976-48E4-8DA5-F387CFB0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6AF-A678-45E0-9033-81A43C8E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E834-ADF4-4D53-B262-9B12BEAF5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ivazovsky_27-1-.jpg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ОМАНТИЗМ В ТВОРЧЕСТ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onotype Corsiva"/>
              </a:rPr>
              <a:t>Ивана Константиновича Айвазовск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89000"/>
            <a:ext cx="871380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Средняя общеобразовательная школа с.Сальск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07200" y="4554360"/>
            <a:ext cx="373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ца 11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У «СОШ с. Сальско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Баженова Е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подаватель: Ламбантова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Лад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58560" y="3933360"/>
            <a:ext cx="3035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абушка Айваз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698920" cy="3141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2813040" cy="3429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08720" y="5445000"/>
            <a:ext cx="3035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рат Айвазов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ЕТ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аня родился и жил в доме, увитом виноградом, у самого моря, на окраине Феодосии. Он готов был проводить на берегу сутки напролет, жадно глядя, как волны вскипают пенными гребнями и развиваются о скалы. От красоты захватывало дух. И до слез обидно, что красота эта исчезает бесследно. Ведь море все время меняется, и того, каким оно было минуту назад, уже никогда не буд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 ты возьми да нарисуй, - подсказал однажды сосед, старый моряк, - вот красота людям и останет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Феодосийский архитектор Я. Х. Кох, первым обративший внимание на художественные способности мальчика, дал ему и первые уроки мастерства. Яков Христианович также всячески помогал юному Айвазовскому, периодически даря ему карандаши, бумагу, крас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-243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оре! До чего же оно красивое! В молочном предутреннем тумане и в золотых блестках солнца, в печальном свете заката и ночью, под звездами…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50920" y="3105000"/>
            <a:ext cx="5004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УЧЕ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окончания феодосийского уездного училища, он был зачислен в симферопольскую гимназию. Затем он был принят на казённый счёт в Академию художеств Санкт-Петербурга  и зачислен в пейзажный класс профессора Максима Воробьё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8 августа 1833 г. он приехал  в Петербург. В 1835 году за пейзажи «Вид на взморье в окрестностях Петербурга» и «Этюд воздуха над морем» получил серебряную медаль и был определён помощником к модному французскому пейзажисту Филиппу Танн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сь у Таннера, Айвазовский, несмотря на запрет последнего работать самостоятельно, продолжал писать пейзажи и выставил пять картин на осенней выставке Академии художеств 1836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ы Айвазовского получили благожелательные отзывы критики, выставленные же работы Таннера, наоборот, критиковались за манерность. Таннер пожаловался на Айвазовского Николаю I, и по распоряжению царя все картины Айвазовского были сняты с выста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удожник был прощён лишь через полгода и определён в класс батальной живописи к профессору Зауэрвейду для занятий морской военной живопис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учившись в классе Зауэрвейда всего несколько месяцев, в сентябре 1837 года Айвазовский получил Большую золотую медаль за картину «Штиль». Это дало ему право на двухлетнюю поездку в Крым и в Европу как пенсионеру Академ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0360" y="87480"/>
            <a:ext cx="16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Ш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604800"/>
            <a:ext cx="83516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ИТА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казочная страна. Серебро оливковых рощ, античные руины, беспечный смех и переливы чудесной музыки над пронзительно-синей водой Средиземного мо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362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ервым городом, где художник сделал остановку, была Венеция. Она покорила своей неповторимой красотой  и очарованием. Большой канал с величественными дворцами, переплетение малых каналов, на их скрещении – уютные тихие площади, а сердце Венеции – площадь Святого Марка с прекрасным собором. За площадью – знаменитая венецианская лагун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043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227640" y="26028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Венеция 1849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5075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лоренция поразила его величественными соборами, прекрасными коллекциями картин великих мастеров Возрождения в галереях Уффици и Питти. Художник объехал все Неаполитанское побережье, работал в Сорренто, Амальфи, Вико; В самом Неаполе ему не терпелось ощутить особенность ландшафта, увидеть прибрежные пейзажи, побывать в тех местах, где работал любимый и высокочтимый им Сильвестр Щедр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ОБЛ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уроках МХК мы знакомились с творчеством многих русских художников в том числе и И.К. Айвазовского, я получила задание  выяснить к какому направлению искусства можно отнести его живописные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Туманное утро в Неаполе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1847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909720"/>
            <a:ext cx="7704000" cy="57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КАВК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8064360" cy="58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 Кавказе шла война, и художник Айвазовский добился разрешения участвовать в боевом походе. Он доказал, что прекрасно умеет владеть не только кистью, но и оружием! Посмотрите на картину «Десант в Субаши». Представьте: все, что на ней изображено, было наяву. И среди храбрецов, рискующих жизнью  - он, Иван Айвазов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428760"/>
            <a:ext cx="8280360" cy="6126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4320" y="1196280"/>
            <a:ext cx="30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есант в Субаши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ХУДОЖНИК ГЛАВНОГО МОРСКОГО ШТА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842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ередине лета 1844 года завершилось четырехлетнее пребывание Айвазовского в Европе. Академия художеств в сентябре удостоила своего бывшего ученика званием академика, а через несколько дней последовало распоряжение Министерства Императорского двора о причислении его к этому ведомству со званием живописца Главного Морского штаба «с правом ношения мундира Морского Министерства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-1440"/>
            <a:ext cx="87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риг «Меркурий» после победы над двумя турецкими судами, 1848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144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почестями встретили живописца Главного Морского штаба в Петербурге. Однако его не прельщала беспримерная слава. Многие были изумлены решением молодого академика уехать в Феодосию. «Сколько волка ни корми, он все в лес смотрит», – заявил царь, узнав о его отъезде из столицы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ИНЦИПЫ РОМАНТИЗМА</a:t>
            </a:r>
            <a:br>
              <a:rPr sz="44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в произведениях Айвазов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 НЕПРИЯТИЕ РЕАЛЬНОЙ ЖИЗНИ, СТРЕМЛЕНИЕ ПОЗНАТЬ НЕПОЗНА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омантики, пережившие разочарование во Французской революции, не оправдавшей их надежд, обратили свои взоры к миру чувств и переживаний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Эти идеи возникли на почве неудовлетворенности действи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жизнь, когда в ней нет очарован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лаженство знать, к нему лететь душ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пропасть зреть меж ним и меж соб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лать всяк час и трепетать желань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.А.Жуковский «Пев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йвазовский верил в демократические идеалы, его сердце было с Россией, которую для него олицетворяли декабристы, Пушкин, Гоголь, Белинский, Глинка. С некоторыми из них художника связывали дружеские отнош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ГИПОТЕ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творчество И.К.Айвазовского относится к направлению в искусстве 18 века - романтиз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645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2852640"/>
            <a:ext cx="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29264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оказать, что в творчестве художника прослеживаются принципы романт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96000" y="691920"/>
            <a:ext cx="3348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Прощание А.С.Пушкина 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с мор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580000" y="907560"/>
            <a:ext cx="3106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77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512424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йвазовский работал не покладая рук. Бывали дни, когда он создавал по нескольку карт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«Иметь, чтобы помогать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аков девиз худож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льшую часть средств, которые приносили многочисленные полотна, тратил на благотворительные цел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сов отмечал, что всем следует помнить о патриотизме Айвазовского. Сыновняя любовь мастера к России была одновременно проявлением тех чувств, которые он питал к Армении. Эти чувства побудили его создать ряд полотен, изображающих победу русского оружия над турками в ожесточенных морских сражениях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800" y="-72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иноп» 185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0400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ЧЕСМЕНСКИЙ БОЙ. 1848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362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есменское сражение – одна из самых главных и героических страниц в истории российского флота. Взрываются  и горят корабли, взлетают к небу обломки матч, поднимается пламя, и ало-сизые дымы смешиваются с облаками, сквозь которые смотрит на происходящее луна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298440"/>
            <a:ext cx="8209080" cy="615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60360" y="9079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Чесменский бо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н был настоящим патриотом своей Роди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857 году он вместе с братом посетил Константинополь, где гостил у главного архитектора дворцовых сооружений С. Паляна. Айвазовский подарил ему один из своих пейзажей. Тот преподнес картину султану. Восхищенный султан попросил заказать мастеру несколько десятков полотен с видами Босфора. В надежде принести пользу живущим в Турции армянам Айвазовский выполнил заказ. В 1874 году его наградили высшим турецким орден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1895 году османские власти учинили резню, жертвами которой пали сотни тысяч армян. Разрушались и сжигались многочисленные памятники древней культуры. Старый художник написал и выставил в Москве, Одессе, других городах картины, посвященные этой траге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н швырнул в море полученный когда-то орден и заявил турецкому консулу: «Передайте своему кровавому хозяину – пусть и он выбросит мои картины, мне не жал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 ИСКЛЮЧИТЕЛЬНОСТЬ РОМАНТИЧЕСКОГО ГЕР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ероями романтических произведений становятся не обычные люди в их повседневной жизни, а исключительные характеры в исключительных обстоятельств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ДЕВЯТЫЙ ВАЛ. 18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ушует грозная морская стихия. Бездонную толщу воды, бурлящую пену морских волн окрашивает в синий, бирюзовый, розовый, красный, белый цвета просвечивающее сквозь марево облаков оранжево-желтое солнце. Утихнет ли океан? Придет ли спасение для люде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2602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ЗАДАЧИ:</a:t>
            </a:r>
            <a:br>
              <a:rPr sz="40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ыяс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6421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енные рамки существования на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вные принципы романтизм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слеживаются ли принципы направления в творчестве Айвазовск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ознакомиться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иографией художн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апами творческого разви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изведениями худож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00" y="11520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Девятый 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848720" cy="58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00" y="18828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пасённые 184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877160" cy="59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20" y="-720"/>
            <a:ext cx="17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пас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36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. ПРИРОДА КАК ВЫРАЖЕНИЕ СТИХИЙНОГО НАЧАЛА ЖИЗНИ, ПРООБРАЗ СВОБ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 жизни Природы герой – романтик всегда видит либо отражение своей собственной души, либо идеальной жизни, составляющей предмет его мечтаний. Перед стихией природы человек беспомощен и сла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3080" y="259560"/>
            <a:ext cx="298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Корабль в што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84872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917640"/>
            <a:ext cx="7920000" cy="594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40" y="-720"/>
            <a:ext cx="66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Пейзаж с ветряными мельниц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40" y="-72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реди вол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РЕДИ ВОЛН. 18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Взгляд погружается в хаос  водной стихии, но ему не скучно следить за изменениями цвета бушующего моря и тонко разработанным освещением волн и неба. В глухой черноте облаков вдруг возникает робкий луч света, и в центре картины, на гребнях рождающихся волн, в их глубине, на кружеве пены свет начинает разыгрывать сложную и богатую живописную симфонию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. КУЛЬТ ПРОШЛОГО: ИДЕАЛИЗАЦИЯ АНТИЧНОСТИ И СРЕДНЕВЕКОВЬЯ, ИНТЕРЕС К ФОЛЬКЛО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вно ушедшие исторические эпохи, «даль времен»стали художественной метафорой романтическ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далеком прошлом романтики надеялись найти гармонию и красоту, не существующие в современном ми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440" y="-720"/>
            <a:ext cx="66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крополь в Афинах в лунную ночь 188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ОМАНТИЗМ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дейное и художественное направление в европейской и американской живописи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н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18 века - начала 19 века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двигавшее на первый план индивидуальность, наделяя ее идеальными устремлениями. Романтизм выделял главенство воображения и чув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. ЭКЗОТИКА ДАЛЬНИХ СТР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удожников-романтиков привлекала экзотика дальн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ерой поэмы Дж.Байрона «Гяур» восклиц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, дивный край, где кругл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есна природе ласку ш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Когда же путник умил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 высот Колонны отдал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рит ту страну, то весе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Сердца ее счастливый ви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700360" y="0"/>
            <a:ext cx="644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Побережье в Амальф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00" y="11520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ыболовное судно в гав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йвазовский прошел академическую школу, оставаясь в душе поэтом. Уже в ранних вещах достиг удивительной жизненности, эмоциональности, не свойственных, пожалуй, никому в такой степени, выработал оригинальную живописную манеру. Палитра художника с годами становилась все более светлой, экономной. Умение видеть в самом прозаическом поэзию выдавало в нем личность романтическу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ТАК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 принципы романтизма присутствуют в произведениях Айвазовского, жил он именно в эпоху развития этого направления в искусстве, 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НАЧ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я гипотеза вер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ИВАН КОНСТАНТИНОВИЧ АЙВАЗОВСКИЙ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художник-роман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одной Феодосии живописец построил на берегу моря дом, где трудился до конца жизни, оставив потомкам около шести тысяч картин. Безусловно, не все из них равноценны. Главное в наследии Айвазовского – марины, где воплощен могучий образ моря. Почти ежегодно художник устраивал выставки произведений в различных городах России, Европы и Америки. Он прославил русскую школу живописи за границ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406-004" descr="И. Айвазовский. «Лунная ночь». Масло. 1840.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596880"/>
            <a:ext cx="9144000" cy="6261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Лунная н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20" y="-72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ид на Аю-Даг. Кры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0483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wiki/Файл:Aivazovsky_27-1-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ект «Энциклопедия малыш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ерия «Сказки о художника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йвазовский. Издательство «Белый горо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Романтизм - это не стиль, не живописная манера,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а определенный эмоциональный настр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Ш. Бод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ИНЦИПЫ РОМАНТИЗ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приятие реальной жизни, стремление познать непознанн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ключительность романтического геро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рода как выражение стихийного начала жизни, прообраз своб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льт прошлого: идеализация Античности и Средневековья, интерес к фольклор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зотика дальн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40360" y="2133360"/>
            <a:ext cx="55814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dwardian Script ITC"/>
              </a:rPr>
              <a:t>Айвазовский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Edwardian Script ITC"/>
              </a:rPr>
              <a:t>Иван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Edwardian Script ITC"/>
              </a:rPr>
              <a:t> Константинович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Edwardian Script ITC"/>
              </a:rPr>
              <a:t>29 июля 1817 —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Edwardian Script ITC"/>
              </a:rPr>
              <a:t>2 мая 19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43275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РОД АЙВАЗОВСК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3628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анес (Иван Константинович) Айвазовский родился в семье купца Константина (Геворг) и Рипсиме Гайвазовских. 17  июля 1817 года священник армянской церкви города Феодосии сделал запись о том, что у Константина Гайвазовского и его жены родился «Ованес, сын Геворга Айвазян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ки Айвазовского были из галицийских армян, переселившихся в Галицию из турецкой Армении в XVIII в. Известно, что его родственники владели крупной земельной собственностью в районе Львова, однако никаких документов, бросающих более подробный свет на происхождение Айвазовского, не сохранилось. Его отец Константин и после переселения в Феодосию писал фамилию на польский манер: «Гайвазовский» (фамилия — полонизированная форма армянской фамилии Айвазя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1:25:18Z</dcterms:created>
  <dc:creator>Елена</dc:creator>
  <dc:description/>
  <dc:language>en-US</dc:language>
  <cp:lastModifiedBy>UserXP</cp:lastModifiedBy>
  <dcterms:modified xsi:type="dcterms:W3CDTF">2012-06-23T07:03:12Z</dcterms:modified>
  <cp:revision>24</cp:revision>
  <dc:subject/>
  <dc:title>Айвазовский Иван Константинович</dc:title>
</cp:coreProperties>
</file>