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gif" ContentType="image/gif"/>
  <Override PartName="/ppt/media/image9.gif" ContentType="image/gif"/>
  <Override PartName="/ppt/media/image7.gif" ContentType="image/gif"/>
  <Override PartName="/ppt/media/image5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jpeg" ContentType="image/jpeg"/>
  <Override PartName="/ppt/media/image28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835-FE8A-4AC3-863C-7CC70A45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33C-BF18-44B6-B873-E2DC43F7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A23-A7EC-4051-8DF1-272E000C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88E-2499-4302-8D7A-C031DC47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49B-A777-47AC-918A-8545CA64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F5B-F690-4C0D-B53B-43B4B0E2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A64-1828-42D9-AF68-E9292E62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713-C9F3-40D1-A650-67CE4FF7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532-35B4-4566-9F2C-3628FA11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636-2DAC-4CFF-90D0-2EB7B961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A9A-3FE3-464C-8262-0B66F6AE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268-AAB3-4BFC-8A17-DD70AA86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1BDA-14DE-415A-9E2B-D271AB4B6A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ЭЛЕКТРИЧЕСТВО-</a:t>
            </a:r>
            <a:br>
              <a:rPr sz="4400"/>
            </a:b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друг или вра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obg_embl1"/>
          <p:cNvPicPr/>
          <p:nvPr/>
        </p:nvPicPr>
        <p:blipFill>
          <a:blip r:embed="rId1"/>
          <a:stretch/>
        </p:blipFill>
        <p:spPr>
          <a:xfrm>
            <a:off x="2627280" y="2565360"/>
            <a:ext cx="41608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элек ток"/>
          <p:cNvPicPr/>
          <p:nvPr/>
        </p:nvPicPr>
        <p:blipFill>
          <a:blip r:embed="rId1"/>
          <a:stretch/>
        </p:blipFill>
        <p:spPr>
          <a:xfrm>
            <a:off x="147636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ОСНОВЕНИЕ К ПРОВОДНИКАМ ЭЛЕКТРИЧЕСКОГО ТО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ОТРАВ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ИЧЕСКИЙ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556000" y="1989000"/>
            <a:ext cx="0" cy="201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iCASVJOQ7"/>
          <p:cNvPicPr/>
          <p:nvPr/>
        </p:nvPicPr>
        <p:blipFill>
          <a:blip r:embed="rId1"/>
          <a:stretch/>
        </p:blipFill>
        <p:spPr>
          <a:xfrm>
            <a:off x="5364000" y="2565360"/>
            <a:ext cx="3151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ЭЛЕКТРОТРАВ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травм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это повреждение, обусловленное прохождением электрического тока через участки тела при контакте с открытыми токонесущими предметами (неисправные электробытовые приборы, электропроводка, елочные гирлянды и т.п.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c4b652a2daae21f4dcdd33666a069a20"/>
          <p:cNvPicPr/>
          <p:nvPr/>
        </p:nvPicPr>
        <p:blipFill>
          <a:blip r:embed="rId1"/>
          <a:stretch/>
        </p:blipFill>
        <p:spPr>
          <a:xfrm>
            <a:off x="6227640" y="2708280"/>
            <a:ext cx="2627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Times New Roman"/>
              </a:rPr>
              <a:t>ПРИЗНАКИ ЭЛЕКТРОТРАВ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электротравме возможно обморочное состояние, остановка дыхания, судороги, паралич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же могут возникнуть термические ожоги, "знаки тока" или "знаки молнии" (участки кожи желтовато-бурого цвета или древовидные разветвленные красные полосы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сильных электроразрядах может наступить мгновенная смер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ервая помощь при ударе электрическим ток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ключите электрический то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94-1"/>
          <p:cNvPicPr/>
          <p:nvPr/>
        </p:nvPicPr>
        <p:blipFill>
          <a:blip r:embed="rId1"/>
          <a:stretch/>
        </p:blipFill>
        <p:spPr>
          <a:xfrm>
            <a:off x="4356000" y="2205000"/>
            <a:ext cx="4464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ервая помощь при ударе электрическим ток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4244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Если электрический ток отключить невозможно, оттащите человека от его источника с помощью не проводящего ток предмета (метла, стул, ковер, резиновый коври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95-2"/>
          <p:cNvPicPr/>
          <p:nvPr/>
        </p:nvPicPr>
        <p:blipFill>
          <a:blip r:embed="rId1"/>
          <a:stretch/>
        </p:blipFill>
        <p:spPr>
          <a:xfrm>
            <a:off x="4500720" y="2060640"/>
            <a:ext cx="431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эл ток"/>
          <p:cNvPicPr/>
          <p:nvPr/>
        </p:nvPicPr>
        <p:blipFill>
          <a:blip r:embed="rId1"/>
          <a:stretch/>
        </p:blipFill>
        <p:spPr>
          <a:xfrm>
            <a:off x="161928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ервая помощь при ударе электрическим ток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ВЫЗВА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«СКОРУЮ ПОМОЩ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телеф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c0000"/>
                </a:solidFill>
                <a:latin typeface="Times New Roman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70_sphoto70"/>
          <p:cNvPicPr/>
          <p:nvPr/>
        </p:nvPicPr>
        <p:blipFill>
          <a:blip r:embed="rId1"/>
          <a:stretch/>
        </p:blipFill>
        <p:spPr>
          <a:xfrm>
            <a:off x="4788000" y="2133720"/>
            <a:ext cx="37414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ервая помощь при ударе электрическим ток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580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пострадавший не дышит, сделайте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искусственное дых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отсутствии сердцебиения сделайте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непрямой массаж серд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ожите стерильную повязку на место электротравм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95-4"/>
          <p:cNvPicPr/>
          <p:nvPr/>
        </p:nvPicPr>
        <p:blipFill>
          <a:blip r:embed="rId1"/>
          <a:stretch/>
        </p:blipFill>
        <p:spPr>
          <a:xfrm>
            <a:off x="6156360" y="3933720"/>
            <a:ext cx="25668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чень хотелось бы, чтобы вышесказанное вам никогда не пригодилос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этого необходимо соблюдать следующи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ры предосторожности.</a:t>
            </a:r>
            <a:r>
              <a:rPr b="0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3851280" y="5013360"/>
            <a:ext cx="792000" cy="1368360"/>
          </a:xfrm>
          <a:prstGeom prst="downArrow">
            <a:avLst>
              <a:gd name="adj1" fmla="val 50000"/>
              <a:gd name="adj2" fmla="val 431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ГДЕ ИСПОЛЬЗУЕТСЯ ЭЛЕКТРИЧЕСТВ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" descr="DSCN1294_pf"/>
          <p:cNvPicPr/>
          <p:nvPr/>
        </p:nvPicPr>
        <p:blipFill>
          <a:blip r:embed="rId1"/>
          <a:stretch/>
        </p:blipFill>
        <p:spPr>
          <a:xfrm>
            <a:off x="1403280" y="4076640"/>
            <a:ext cx="1965240" cy="25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S6003675-2s"/>
          <p:cNvPicPr/>
          <p:nvPr/>
        </p:nvPicPr>
        <p:blipFill>
          <a:blip r:embed="rId2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bla"/>
          <p:cNvPicPr/>
          <p:nvPr/>
        </p:nvPicPr>
        <p:blipFill>
          <a:blip r:embed="rId3"/>
          <a:stretch/>
        </p:blipFill>
        <p:spPr>
          <a:xfrm>
            <a:off x="4932360" y="4437000"/>
            <a:ext cx="2925720" cy="219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17684"/>
          <p:cNvPicPr/>
          <p:nvPr/>
        </p:nvPicPr>
        <p:blipFill>
          <a:blip r:embed="rId4"/>
          <a:stretch/>
        </p:blipFill>
        <p:spPr>
          <a:xfrm>
            <a:off x="684360" y="1989000"/>
            <a:ext cx="288432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НЕ ДОТРАГИВАЙТЕС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ДО ОГОЛЕННЫХ ПРОВОДО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НЕ ДОТРАГИВАЙТЕС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ДО ВКЛЮЧЕННЫХ В СЕТЬ ПРИБОРОВ С НЕИСПРАВНОЙ ИЗОЛЯЦИ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НЕ ПРОВЕРЯЙТ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ПАЛЬЦАМИ,ЕСТЬ ЛИ НАПРЯЖЕНИЕ В РОЗЕТ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16"/>
          <p:cNvPicPr/>
          <p:nvPr/>
        </p:nvPicPr>
        <p:blipFill>
          <a:blip r:embed="rId1"/>
          <a:stretch/>
        </p:blipFill>
        <p:spPr>
          <a:xfrm>
            <a:off x="6804000" y="3933720"/>
            <a:ext cx="21528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7524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Меняя перегоревшую лампочку,предварительно выключите свет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ыключайте электроприборы из розет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l8"/>
          <p:cNvPicPr/>
          <p:nvPr/>
        </p:nvPicPr>
        <p:blipFill>
          <a:blip r:embed="rId1"/>
          <a:stretch/>
        </p:blipFill>
        <p:spPr>
          <a:xfrm>
            <a:off x="7275600" y="189000"/>
            <a:ext cx="1868400" cy="216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cademy_fire_ironing"/>
          <p:cNvPicPr/>
          <p:nvPr/>
        </p:nvPicPr>
        <p:blipFill>
          <a:blip r:embed="rId2"/>
          <a:stretch/>
        </p:blipFill>
        <p:spPr>
          <a:xfrm>
            <a:off x="7189920" y="3500280"/>
            <a:ext cx="1954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260280"/>
            <a:ext cx="74516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 ПРИКАСАЙТЕСЬ МОКРЫМИ РУКАМИ К ЭЛЕКТРОПРИБОРАМ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iCA7CPYZN"/>
          <p:cNvPicPr/>
          <p:nvPr/>
        </p:nvPicPr>
        <p:blipFill>
          <a:blip r:embed="rId1"/>
          <a:stretch/>
        </p:blipFill>
        <p:spPr>
          <a:xfrm>
            <a:off x="1979640" y="2997360"/>
            <a:ext cx="43927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П О М Н 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3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00"/>
                </a:solidFill>
                <a:latin typeface="Times New Roman"/>
              </a:rPr>
              <a:t>ОПАСНО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ИЧЕСКИЙ ТОК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iCABMMNZ0"/>
          <p:cNvPicPr/>
          <p:nvPr/>
        </p:nvPicPr>
        <p:blipFill>
          <a:blip r:embed="rId1"/>
          <a:stretch/>
        </p:blipFill>
        <p:spPr>
          <a:xfrm>
            <a:off x="6372360" y="4316400"/>
            <a:ext cx="23842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ГДЕ ИСПОЛЬЗУЕТСЯ ЭЛЕКТРИЧЕСТВ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1o1"/>
          <p:cNvPicPr/>
          <p:nvPr/>
        </p:nvPicPr>
        <p:blipFill>
          <a:blip r:embed="rId1"/>
          <a:stretch/>
        </p:blipFill>
        <p:spPr>
          <a:xfrm>
            <a:off x="900000" y="4365720"/>
            <a:ext cx="2665440" cy="21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sci-washing_machine"/>
          <p:cNvPicPr/>
          <p:nvPr/>
        </p:nvPicPr>
        <p:blipFill>
          <a:blip r:embed="rId2"/>
          <a:stretch/>
        </p:blipFill>
        <p:spPr>
          <a:xfrm>
            <a:off x="5940360" y="1989000"/>
            <a:ext cx="2079720" cy="2079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16T4"/>
          <p:cNvPicPr/>
          <p:nvPr/>
        </p:nvPicPr>
        <p:blipFill>
          <a:blip r:embed="rId3"/>
          <a:stretch/>
        </p:blipFill>
        <p:spPr>
          <a:xfrm>
            <a:off x="5796000" y="4724280"/>
            <a:ext cx="2663640" cy="168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l22"/>
          <p:cNvPicPr/>
          <p:nvPr/>
        </p:nvPicPr>
        <p:blipFill>
          <a:blip r:embed="rId4"/>
          <a:stretch/>
        </p:blipFill>
        <p:spPr>
          <a:xfrm>
            <a:off x="1187280" y="2133720"/>
            <a:ext cx="25210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лектрическая энергия может представлять опасность д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4764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изни и здоровья чело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200v"/>
          <p:cNvPicPr/>
          <p:nvPr/>
        </p:nvPicPr>
        <p:blipFill>
          <a:blip r:embed="rId1"/>
          <a:stretch/>
        </p:blipFill>
        <p:spPr>
          <a:xfrm>
            <a:off x="2700360" y="3716280"/>
            <a:ext cx="3889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рьезную угрозу здоровью и жизни людей представляет электрический ток напряжением 36 вольт и выш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а и на улице нас окружают провода и электрооборудование, находящиеся под напряжением 220 вольт и выш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к, который может протекать в бытовой электросети, во много раз превышает смертельны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Запрещается находиться вблизи территории подстанции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6069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рудование здесь находится под высоким напряжением (10 тысяч вольт и выше). Нельзя близко подходить к трансформаторным подстанциям, силовым щитам, трансформаторным будкам и опорам линии электропереда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2" descr="17684"/>
          <p:cNvPicPr/>
          <p:nvPr/>
        </p:nvPicPr>
        <p:blipFill>
          <a:blip r:embed="rId1"/>
          <a:stretch/>
        </p:blipFill>
        <p:spPr>
          <a:xfrm>
            <a:off x="6084720" y="220500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85_2054"/>
          <p:cNvPicPr/>
          <p:nvPr/>
        </p:nvPicPr>
        <p:blipFill>
          <a:blip r:embed="rId2"/>
          <a:stretch/>
        </p:blipFill>
        <p:spPr>
          <a:xfrm>
            <a:off x="5514840" y="4114800"/>
            <a:ext cx="27291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316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ртельно опасно прикасаться к любым провисшим или оборванным проводам, подходить ближе, чем на 8-10 метров к лежащим на земле оборванным проводам воздушных линий электропереда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020"/>
          <p:cNvPicPr/>
          <p:nvPr/>
        </p:nvPicPr>
        <p:blipFill>
          <a:blip r:embed="rId1"/>
          <a:stretch/>
        </p:blipFill>
        <p:spPr>
          <a:xfrm>
            <a:off x="4716360" y="2349360"/>
            <a:ext cx="377208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489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ертельно опасн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грать, раскачивая деревья вблизи линии электропередач. Сырое дерево служит проводником электрического ток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3"/>
          <p:cNvPicPr/>
          <p:nvPr/>
        </p:nvPicPr>
        <p:blipFill>
          <a:blip r:embed="rId1"/>
          <a:stretch/>
        </p:blipFill>
        <p:spPr>
          <a:xfrm>
            <a:off x="5219640" y="2708280"/>
            <a:ext cx="35434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495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рещается разводить костры под проводами линий электропередач, проникать в технические подвалы жилых домов, где находятся провода и коммуникации. Ни в коем случае не стоит запускать "воздушных змеев" вблизи воздушных линий электропереда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img_019632_main"/>
          <p:cNvPicPr/>
          <p:nvPr/>
        </p:nvPicPr>
        <p:blipFill>
          <a:blip r:embed="rId1"/>
          <a:stretch/>
        </p:blipFill>
        <p:spPr>
          <a:xfrm>
            <a:off x="5651640" y="162864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21282"/>
          <p:cNvPicPr/>
          <p:nvPr/>
        </p:nvPicPr>
        <p:blipFill>
          <a:blip r:embed="rId2"/>
          <a:stretch/>
        </p:blipFill>
        <p:spPr>
          <a:xfrm>
            <a:off x="5940360" y="3573360"/>
            <a:ext cx="198144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na</cp:lastModifiedBy>
  <dcterms:modified xsi:type="dcterms:W3CDTF">2012-07-24T17:35:04Z</dcterms:modified>
  <cp:revision>14</cp:revision>
  <dc:subject/>
  <dc:title>PowerPoint Presentation</dc:title>
</cp:coreProperties>
</file>