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4E0-2880-4AE5-A670-B191A414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2EB-7DDC-4F2B-9A04-77F622E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3B0-BBEC-4689-B91B-3B205CDA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0DC-E0E0-4818-8FCE-FD9D3975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6E0B-26B7-47D2-84BB-66BDD3AA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AB92-8AD1-45BA-A668-4000617D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4E71-6E1E-4966-B171-9F5EC82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3EC7-191C-43FE-9911-FBFF653E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2542-B103-4FEC-BE71-10A5060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3987-3004-4083-A16D-63EB530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F53C-6CC6-4D20-B06A-6185C55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F91-A878-4486-875F-C75BBDD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8E4-0123-4F40-A9A1-26ECDCD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3E17-8AF8-42D5-A1EF-EAB4C08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DAFC-D2B7-4624-A19D-37956EB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1661-97FD-4FDB-B949-1F410103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9600-1BEF-4F83-B265-2CF93D18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69D-6F07-495B-BE3B-8996AD12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73B-0115-4171-BC1F-7F4F7EA7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DC5-7769-41B6-9C41-5915DDE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31A-2DF4-4FCB-9974-594428F2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6F5-7589-45E3-90D8-60712BD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327-BC10-46CC-8CAB-0AEA34C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415-358B-4EB9-8290-4679B27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7E0B-16CF-4D71-BFF2-5A043FEC6F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C47-630E-42AC-AD7D-0141582FCD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990720" y="1219320"/>
            <a:ext cx="731520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РОЛИ,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ЕЗИДЕНТЫ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РАЖДАН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5800" y="4114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К ИСТОРИИ В 4 КЛАССЕ «Б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865880" y="1676520"/>
            <a:ext cx="554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СВОБОДА СЛОВ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975680" y="3276720"/>
            <a:ext cx="57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ПРАВА ЧЕЛОВЕК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90720" y="609480"/>
            <a:ext cx="7372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равь ошибки в определении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1631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ражданин 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это человек, который связан каким – то определённым государство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46040" y="2666880"/>
            <a:ext cx="56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признает это государство свои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54200" y="3429000"/>
            <a:ext cx="69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пользуется защитой своего государ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515960" y="41911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использует свои гражданские пра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342160" y="5029200"/>
            <a:ext cx="62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не может отказаться от выпол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ражданских обязан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2133720" y="457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олним схему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228600" y="1447920"/>
            <a:ext cx="4038480" cy="2666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4648320" y="1447920"/>
            <a:ext cx="4190760" cy="2666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2514600" y="3962520"/>
            <a:ext cx="4038480" cy="2666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осуда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ражд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3124080" y="2895480"/>
            <a:ext cx="2590920" cy="1524240"/>
          </a:xfrm>
          <a:prstGeom prst="ellipse">
            <a:avLst/>
          </a:prstGeom>
          <a:solidFill>
            <a:srgbClr val="e0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д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еловеч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делай надписи к рисункам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7760" y="35830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7" descr="gerbrossii"/>
          <p:cNvPicPr/>
          <p:nvPr/>
        </p:nvPicPr>
        <p:blipFill>
          <a:blip r:embed="rId3"/>
          <a:stretch/>
        </p:blipFill>
        <p:spPr>
          <a:xfrm>
            <a:off x="3733920" y="2133720"/>
            <a:ext cx="2320920" cy="243828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88" name="Text Box 8"/>
          <p:cNvSpPr/>
          <p:nvPr/>
        </p:nvSpPr>
        <p:spPr>
          <a:xfrm>
            <a:off x="4576320" y="4802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9" descr="img6826"/>
          <p:cNvPicPr/>
          <p:nvPr/>
        </p:nvPicPr>
        <p:blipFill>
          <a:blip r:embed="rId4"/>
          <a:stretch/>
        </p:blipFill>
        <p:spPr>
          <a:xfrm>
            <a:off x="6553080" y="2438280"/>
            <a:ext cx="2241720" cy="33530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90" name="Text Box 10"/>
          <p:cNvSpPr/>
          <p:nvPr/>
        </p:nvSpPr>
        <p:spPr>
          <a:xfrm>
            <a:off x="7222320" y="5869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1" descr="flag(fkz)_1"/>
          <p:cNvPicPr/>
          <p:nvPr/>
        </p:nvPicPr>
        <p:blipFill>
          <a:blip r:embed="rId5"/>
          <a:stretch/>
        </p:blipFill>
        <p:spPr>
          <a:xfrm>
            <a:off x="685800" y="1219320"/>
            <a:ext cx="2211480" cy="2361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делай надписи к рисункам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Picture 5" descr="858273_20060529162346"/>
          <p:cNvPicPr/>
          <p:nvPr/>
        </p:nvPicPr>
        <p:blipFill>
          <a:blip r:embed="rId3"/>
          <a:stretch/>
        </p:blipFill>
        <p:spPr>
          <a:xfrm>
            <a:off x="457200" y="1371600"/>
            <a:ext cx="2514600" cy="18860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94" name="Picture 6" descr="Gosduma"/>
          <p:cNvPicPr/>
          <p:nvPr/>
        </p:nvPicPr>
        <p:blipFill>
          <a:blip r:embed="rId4"/>
          <a:stretch/>
        </p:blipFill>
        <p:spPr>
          <a:xfrm>
            <a:off x="3276720" y="2362320"/>
            <a:ext cx="3066840" cy="20588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95" name="Picture 7" descr="constitution_1b"/>
          <p:cNvPicPr/>
          <p:nvPr/>
        </p:nvPicPr>
        <p:blipFill>
          <a:blip r:embed="rId5"/>
          <a:stretch/>
        </p:blipFill>
        <p:spPr>
          <a:xfrm>
            <a:off x="6629400" y="3276720"/>
            <a:ext cx="2133720" cy="266688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96" name="Text Box 8"/>
          <p:cNvSpPr/>
          <p:nvPr/>
        </p:nvSpPr>
        <p:spPr>
          <a:xfrm>
            <a:off x="1044720" y="34290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рм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169080" y="4495680"/>
            <a:ext cx="31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конодат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678720" y="60199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знай государство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0" name="Picture 5" descr="6f"/>
          <p:cNvPicPr/>
          <p:nvPr/>
        </p:nvPicPr>
        <p:blipFill>
          <a:blip r:embed="rId3"/>
          <a:stretch/>
        </p:blipFill>
        <p:spPr>
          <a:xfrm>
            <a:off x="685800" y="1371600"/>
            <a:ext cx="327672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959040" y="32767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ликобр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7" descr="15f"/>
          <p:cNvPicPr/>
          <p:nvPr/>
        </p:nvPicPr>
        <p:blipFill>
          <a:blip r:embed="rId4"/>
          <a:stretch/>
        </p:blipFill>
        <p:spPr>
          <a:xfrm>
            <a:off x="5410080" y="1295280"/>
            <a:ext cx="2743200" cy="1824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5931360" y="33526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ран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140200" y="6019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12" descr="show_flag_big"/>
          <p:cNvPicPr/>
          <p:nvPr/>
        </p:nvPicPr>
        <p:blipFill>
          <a:blip r:embed="rId5"/>
          <a:stretch/>
        </p:blipFill>
        <p:spPr>
          <a:xfrm>
            <a:off x="5410080" y="3962520"/>
            <a:ext cx="2819520" cy="1860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093360" y="5943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гип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4" descr="1"/>
          <p:cNvPicPr/>
          <p:nvPr/>
        </p:nvPicPr>
        <p:blipFill>
          <a:blip r:embed="rId6"/>
          <a:stretch/>
        </p:blipFill>
        <p:spPr>
          <a:xfrm>
            <a:off x="1066680" y="4114800"/>
            <a:ext cx="3276720" cy="1720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7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436536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209" name="WordArt 5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АРХИЯ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21280" y="5791320"/>
            <a:ext cx="80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ДЕМОКРАТИЧЕСКОЕ ГОСУДАР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8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53520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212" name="WordArt 5"/>
          <p:cNvSpPr txBox="1"/>
          <p:nvPr/>
        </p:nvSpPr>
        <p:spPr>
          <a:xfrm>
            <a:off x="1066680" y="533520"/>
            <a:ext cx="7315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А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66960" y="556272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МОКРАТИЧЕСКОЕ ГОСУДАР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514600" y="1219320"/>
            <a:ext cx="56386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   О   С   У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А   Р   С   Т   В   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3352680" y="16765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   Р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З   И   Д   Е   Н   Т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352680" y="2133720"/>
            <a:ext cx="24386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   И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Н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1447920" y="2590920"/>
            <a:ext cx="43434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Д   И   К   Т   А   Т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Р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533520" y="3048120"/>
            <a:ext cx="52578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Р   Е   С   П   У   Б   Л   И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3352680" y="35053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П   А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Л   А   М   Е   Н   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3352680" y="3962520"/>
            <a:ext cx="24386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Ф   Л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Г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1981080" y="44197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Д   И   К   Т   А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У   Р   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1143000" y="48769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Г   Р   А   Ж   Д   А   Н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990720" y="5334120"/>
            <a:ext cx="44193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  О   Н   А   Р   Х   И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WordArt 27"/>
          <p:cNvSpPr txBox="1"/>
          <p:nvPr/>
        </p:nvSpPr>
        <p:spPr>
          <a:xfrm>
            <a:off x="1066680" y="38088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ите кроссворд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и исправить ошибки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80880" y="1328760"/>
            <a:ext cx="875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Сегодня в нашем городе были выборы. В наш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коле устроили избирательный участок. Весь день вместо нас в школу ходили взрослые. Моя семья голосовала за одного человека, а выбрали другого. Значит, мама и папа зря голосовали. Их голоса всё равно ничего не значат. Лучше уж вообще отменить все эти выборы 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533520" y="3962520"/>
            <a:ext cx="8076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380880" y="502920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33520" y="4495680"/>
            <a:ext cx="8076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838080" y="6094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ЕДИНОЕ ЧЕЛОВЕЧЕСТ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СОСТОИТ ИЗ ГРАЖДАН РАЗНЫХ ГОСУДАРСТ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12520" y="685800"/>
            <a:ext cx="58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СИМВОЛЫ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ГОСУДАРСТ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59240" y="2590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ГИМ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77320" y="2743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ГЕР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192280" y="4724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ОНСТИТУ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058920" y="388620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ФЛА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0"/>
          <p:cNvSpPr/>
          <p:nvPr/>
        </p:nvSpPr>
        <p:spPr>
          <a:xfrm rot="6825600">
            <a:off x="2247840" y="179064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11"/>
          <p:cNvSpPr/>
          <p:nvPr/>
        </p:nvSpPr>
        <p:spPr>
          <a:xfrm rot="5688000">
            <a:off x="2704680" y="2400120"/>
            <a:ext cx="2438280" cy="380880"/>
          </a:xfrm>
          <a:prstGeom prst="rightArrow">
            <a:avLst>
              <a:gd name="adj1" fmla="val 50000"/>
              <a:gd name="adj2" fmla="val 16004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2"/>
          <p:cNvSpPr/>
          <p:nvPr/>
        </p:nvSpPr>
        <p:spPr>
          <a:xfrm rot="4572600">
            <a:off x="3924000" y="2857320"/>
            <a:ext cx="3048120" cy="380880"/>
          </a:xfrm>
          <a:prstGeom prst="rightArrow">
            <a:avLst>
              <a:gd name="adj1" fmla="val 50000"/>
              <a:gd name="adj2" fmla="val 2000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3"/>
          <p:cNvSpPr/>
          <p:nvPr/>
        </p:nvSpPr>
        <p:spPr>
          <a:xfrm rot="4390200">
            <a:off x="5981400" y="19429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56000" y="6094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НАЗОВИТЕ СТРА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1f"/>
          <p:cNvPicPr/>
          <p:nvPr/>
        </p:nvPicPr>
        <p:blipFill>
          <a:blip r:embed="rId1"/>
          <a:stretch/>
        </p:blipFill>
        <p:spPr>
          <a:xfrm>
            <a:off x="1219320" y="1600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f"/>
          <p:cNvPicPr/>
          <p:nvPr/>
        </p:nvPicPr>
        <p:blipFill>
          <a:blip r:embed="rId2"/>
          <a:stretch/>
        </p:blipFill>
        <p:spPr>
          <a:xfrm>
            <a:off x="5486400" y="1523880"/>
            <a:ext cx="330516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527840" y="35812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НА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45480" y="350532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9" descr="3f"/>
          <p:cNvPicPr/>
          <p:nvPr/>
        </p:nvPicPr>
        <p:blipFill>
          <a:blip r:embed="rId3"/>
          <a:stretch/>
        </p:blipFill>
        <p:spPr>
          <a:xfrm>
            <a:off x="762120" y="4267080"/>
            <a:ext cx="27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4f"/>
          <p:cNvPicPr/>
          <p:nvPr/>
        </p:nvPicPr>
        <p:blipFill>
          <a:blip r:embed="rId4"/>
          <a:stretch/>
        </p:blipFill>
        <p:spPr>
          <a:xfrm>
            <a:off x="5715000" y="4038480"/>
            <a:ext cx="2590920" cy="1722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004760" y="5867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РГЕНТ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27360" y="59436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ГАР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556000" y="6094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НАЗОВИТЕ СТРА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5f"/>
          <p:cNvPicPr/>
          <p:nvPr/>
        </p:nvPicPr>
        <p:blipFill>
          <a:blip r:embed="rId1"/>
          <a:stretch/>
        </p:blipFill>
        <p:spPr>
          <a:xfrm>
            <a:off x="762120" y="15238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f"/>
          <p:cNvPicPr/>
          <p:nvPr/>
        </p:nvPicPr>
        <p:blipFill>
          <a:blip r:embed="rId2"/>
          <a:stretch/>
        </p:blipFill>
        <p:spPr>
          <a:xfrm>
            <a:off x="4800600" y="1676520"/>
            <a:ext cx="3276720" cy="163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8f"/>
          <p:cNvPicPr/>
          <p:nvPr/>
        </p:nvPicPr>
        <p:blipFill>
          <a:blip r:embed="rId3"/>
          <a:stretch/>
        </p:blipFill>
        <p:spPr>
          <a:xfrm>
            <a:off x="5334120" y="4191120"/>
            <a:ext cx="2361960" cy="1558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000800" y="320040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РАЗИЛ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48400" y="34290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ЛИКОБРИТ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431320" y="59436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ЛЖИ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595520" y="5791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Д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13" descr="10f"/>
          <p:cNvPicPr/>
          <p:nvPr/>
        </p:nvPicPr>
        <p:blipFill>
          <a:blip r:embed="rId4"/>
          <a:stretch/>
        </p:blipFill>
        <p:spPr>
          <a:xfrm>
            <a:off x="1523880" y="3886200"/>
            <a:ext cx="2362320" cy="155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56000" y="6094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НАЗОВИТЕ СТРА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11f"/>
          <p:cNvPicPr/>
          <p:nvPr/>
        </p:nvPicPr>
        <p:blipFill>
          <a:blip r:embed="rId1"/>
          <a:stretch/>
        </p:blipFill>
        <p:spPr>
          <a:xfrm>
            <a:off x="990720" y="144792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12f"/>
          <p:cNvPicPr/>
          <p:nvPr/>
        </p:nvPicPr>
        <p:blipFill>
          <a:blip r:embed="rId2"/>
          <a:stretch/>
        </p:blipFill>
        <p:spPr>
          <a:xfrm>
            <a:off x="3657600" y="3581280"/>
            <a:ext cx="2362320" cy="15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4f"/>
          <p:cNvPicPr/>
          <p:nvPr/>
        </p:nvPicPr>
        <p:blipFill>
          <a:blip r:embed="rId3"/>
          <a:stretch/>
        </p:blipFill>
        <p:spPr>
          <a:xfrm>
            <a:off x="457200" y="373392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16f"/>
          <p:cNvPicPr/>
          <p:nvPr/>
        </p:nvPicPr>
        <p:blipFill>
          <a:blip r:embed="rId4"/>
          <a:stretch/>
        </p:blipFill>
        <p:spPr>
          <a:xfrm>
            <a:off x="6553080" y="373392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15f"/>
          <p:cNvPicPr/>
          <p:nvPr/>
        </p:nvPicPr>
        <p:blipFill>
          <a:blip r:embed="rId5"/>
          <a:stretch/>
        </p:blipFill>
        <p:spPr>
          <a:xfrm>
            <a:off x="5943600" y="129528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1082880" y="29718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ЗАХСТ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576600" y="5334120"/>
            <a:ext cx="14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ИТ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487200" y="54864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71480" y="5334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Д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257880" y="304812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560680" y="609480"/>
            <a:ext cx="50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ФОРМЫ ПРАВЛ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193200" y="129528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ahoma"/>
              </a:rPr>
              <a:t>МОНАРХ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399400" y="19810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ВА ГОСУД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36880" y="2666880"/>
            <a:ext cx="60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КОРОЛЬ, ЦАРЬ, ИМПЕРА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9" descr="корролева нидерландов v"/>
          <p:cNvPicPr/>
          <p:nvPr/>
        </p:nvPicPr>
        <p:blipFill>
          <a:blip r:embed="rId1"/>
          <a:stretch/>
        </p:blipFill>
        <p:spPr>
          <a:xfrm>
            <a:off x="1447920" y="411480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22fc"/>
          <p:cNvPicPr/>
          <p:nvPr/>
        </p:nvPicPr>
        <p:blipFill>
          <a:blip r:embed="rId2"/>
          <a:stretch/>
        </p:blipFill>
        <p:spPr>
          <a:xfrm>
            <a:off x="5257800" y="41911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438560" y="3429000"/>
            <a:ext cx="70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ВЛАСТЬ ПЕРЕДАЕТСЯ ПО НАСЛЕДСТВ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560680" y="609480"/>
            <a:ext cx="50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ФОРМЫ ПРАВЛ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6120" y="129528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ahoma"/>
              </a:rPr>
              <a:t>РЕСПУБЛ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51680" y="21337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ВА ГОСУД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304440" y="289548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ПРЕЗИДЕ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124000" y="350532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ДЕМОКРАТИЧЕСКИЕ ВЫБ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9" descr="17fb"/>
          <p:cNvPicPr/>
          <p:nvPr/>
        </p:nvPicPr>
        <p:blipFill>
          <a:blip r:embed="rId1"/>
          <a:stretch/>
        </p:blipFill>
        <p:spPr>
          <a:xfrm>
            <a:off x="609480" y="4495680"/>
            <a:ext cx="2286000" cy="152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9fc"/>
          <p:cNvPicPr/>
          <p:nvPr/>
        </p:nvPicPr>
        <p:blipFill>
          <a:blip r:embed="rId2"/>
          <a:stretch/>
        </p:blipFill>
        <p:spPr>
          <a:xfrm>
            <a:off x="3505320" y="4267080"/>
            <a:ext cx="2286000" cy="204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18fc"/>
          <p:cNvPicPr/>
          <p:nvPr/>
        </p:nvPicPr>
        <p:blipFill>
          <a:blip r:embed="rId3"/>
          <a:stretch/>
        </p:blipFill>
        <p:spPr>
          <a:xfrm>
            <a:off x="6400800" y="4495680"/>
            <a:ext cx="2362320" cy="163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2542320" y="60948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ГОСУДАРСТ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09680" y="1752480"/>
            <a:ext cx="38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ДЕМОКРАТ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708080" y="175248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НЕДЕМОКРАТ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272200" y="2438280"/>
            <a:ext cx="26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ДИКТА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60040" y="2438280"/>
            <a:ext cx="27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ПАРЛАМЕ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9" descr="25fc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5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20fc"/>
          <p:cNvPicPr/>
          <p:nvPr/>
        </p:nvPicPr>
        <p:blipFill>
          <a:blip r:embed="rId2"/>
          <a:stretch/>
        </p:blipFill>
        <p:spPr>
          <a:xfrm>
            <a:off x="5181480" y="3124080"/>
            <a:ext cx="2648160" cy="2882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7-24T10:26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