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7B2-4DEC-4A05-BD2F-D9670628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A94-2C5D-4F42-AEC6-8245027C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270-B0DA-4577-AFDB-BFD7F4E4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F51-1A44-4D8A-A90A-94A5059A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1CE-8BF1-4C26-8C4F-EB152280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159-8BC2-444E-ADDF-60F7F283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D12-4096-4E28-AD06-000BBC57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958-C543-48F8-AA5A-FCB416D9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0B2-364C-4E5B-A912-DF5521DD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116-FB38-47DD-9C26-1C14E0C9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993-CC7C-4397-93CC-3BF1DA6D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B1F-90D6-4312-82BE-51D5ED4C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9B7B-B0D2-418C-9816-6A1A610DB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en-US" sz="6000" spc="-1" strike="noStrike">
                <a:solidFill>
                  <a:srgbClr val="0033cc"/>
                </a:solidFill>
                <a:latin typeface="Times New Roman"/>
              </a:rPr>
              <a:t>« Моё Отечество »</a:t>
            </a: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0033cc"/>
                </a:solidFill>
                <a:latin typeface="Times New Roman"/>
              </a:rPr>
              <a:t>  2 «Б»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91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10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у Родину в разное время защищали разные люди 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-разному одевались , разным оружием владели ,но одно у них было общее- сильная любовь к стран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392720" y="0"/>
            <a:ext cx="47512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ы от свинцовых р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адали в снег с разб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о поднимались в ро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вонкие , как Победа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к продолженье дня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Шли тяжело и мощ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ожно убить мен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с убить невозможно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Жизнь пройдёт , а это не сотрётс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Присягают Родине сы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Пасмурно , но словно вышло солнц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Так глаза солдат просветлен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Я клянусь : без устали , повсю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Охранять родим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Я тебе достойным сыном буду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Мать солдата , Родина моя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5373720"/>
            <a:ext cx="91440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усть будет мир , чтоб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читься нам за партами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82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99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Чтоб наши знания пот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Отдать Отчизне , Родин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трана моя прекрасная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Легко любить е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Да здравствует , да здравствует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Отечество моё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9217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itstream Vera Sans"/>
              </a:rPr>
              <a:t>    </a:t>
            </a:r>
            <a:r>
              <a:rPr b="1" i="1" lang="en-US" sz="3600" spc="-1" strike="noStrike">
                <a:solidFill>
                  <a:srgbClr val="ffffff"/>
                </a:solidFill>
                <a:latin typeface="Bitstream Vera Sans"/>
              </a:rPr>
              <a:t>Для меня  Россия – белые берёз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96720" y="1484280"/>
            <a:ext cx="9540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entury Schoolbook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Для меня Россия – утренние росы</a:t>
            </a:r>
            <a:r>
              <a:rPr b="1" i="1" lang="en-US" sz="3600" spc="-1" strike="noStrike">
                <a:solidFill>
                  <a:srgbClr val="ffff00"/>
                </a:solidFill>
                <a:latin typeface="Century Schoolbook"/>
              </a:rPr>
              <a:t>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Для меня Россия -ты всего                              дороже</a:t>
            </a:r>
            <a:r>
              <a:rPr b="1" i="1" lang="en-US" sz="4000" spc="-1" strike="noStrike">
                <a:solidFill>
                  <a:srgbClr val="ff9933"/>
                </a:solidFill>
                <a:latin typeface="Georgia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!</a:t>
            </a: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04640"/>
            <a:ext cx="92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С этим чувством человек рождается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С ним живёт и умирает с ним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Всё пройдет ,  а  Родина     останется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Если мы , то чувство сохраним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3:56:32Z</dcterms:created>
  <dc:creator>Дамир</dc:creator>
  <dc:description/>
  <dc:language>en-US</dc:language>
  <cp:lastModifiedBy>Дамир</cp:lastModifiedBy>
  <dcterms:modified xsi:type="dcterms:W3CDTF">2012-07-24T16:22:42Z</dcterms:modified>
  <cp:revision>7</cp:revision>
  <dc:subject/>
  <dc:title>« Моё Отечество »  2 «Б» класс</dc:title>
</cp:coreProperties>
</file>