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9CC0-2677-4F35-9CBA-A20ED76DD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5928-15F5-431E-A655-18035FBE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F731-8555-460E-92B9-B5E5DF138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5D37-42E6-4030-80CA-F6E623DAD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FA78-B3A1-464C-83AB-243C84CBC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0E29-D246-4C58-A94A-0CEBD69F0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EC60-2226-417D-8DCE-FAFFC010F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B5C9-2983-4196-B725-DDDBF6690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1F92-AD3C-4ABC-87AC-47EE9E684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6260-B47F-4B62-83D3-02742F70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04DE-6B74-4B5C-85E7-9DE729E4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4C22-3F36-41FF-8BFF-F49741C6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3D8A3-88B9-4FDB-B1D3-30B6AC082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341000"/>
            <a:ext cx="91440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i="1" lang="en-US" sz="6000" spc="-1" strike="noStrike">
                <a:solidFill>
                  <a:srgbClr val="0033cc"/>
                </a:solidFill>
                <a:latin typeface="Times New Roman"/>
              </a:rPr>
              <a:t>« Моё Отечество »</a:t>
            </a:r>
            <a:br>
              <a:rPr sz="6000"/>
            </a:br>
            <a:br>
              <a:rPr sz="6000"/>
            </a:br>
            <a:r>
              <a:rPr b="1" i="1" lang="en-US" sz="6000" spc="-1" strike="noStrike">
                <a:solidFill>
                  <a:srgbClr val="0033cc"/>
                </a:solidFill>
                <a:latin typeface="Times New Roman"/>
              </a:rPr>
              <a:t>  2 «Б» клас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9152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6100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шу Родину в разное время защищали разные люди 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-разному одевались , разным оружием владели ,но одно у них было общее- сильная любовь к стране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392720" y="0"/>
            <a:ext cx="475128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356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716360" y="0"/>
            <a:ext cx="442764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539640" y="1052280"/>
            <a:ext cx="7570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Мы от свинцовых роз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адали в снег с разбе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Но поднимались в рос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Звонкие , как Победа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Как продолженье дня 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Шли тяжело и мощно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Можно убить меня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Нас убить невозможно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18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ccff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99ccff"/>
                </a:solidFill>
                <a:latin typeface="Arial"/>
              </a:rPr>
              <a:t>Жизнь пройдёт , а это не сотрётся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ccff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99ccff"/>
                </a:solidFill>
                <a:latin typeface="Arial"/>
              </a:rPr>
              <a:t>Присягают Родине сын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ccff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99ccff"/>
                </a:solidFill>
                <a:latin typeface="Arial"/>
              </a:rPr>
              <a:t>Пасмурно , но словно вышло солнце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ccff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99ccff"/>
                </a:solidFill>
                <a:latin typeface="Arial"/>
              </a:rPr>
              <a:t>Так глаза солдат просветлены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Я клянусь : без устали , повсю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Охранять родимые кр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Я тебе достойным сыном буду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Мать солдата , Родина моя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0" y="5373720"/>
            <a:ext cx="9144000" cy="19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Пусть будет мир , чтоб день за дн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учиться нам за партами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824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6699"/>
                </a:solidFill>
                <a:latin typeface="Arial"/>
              </a:rPr>
              <a:t>   </a:t>
            </a:r>
            <a:r>
              <a:rPr b="1" i="1" lang="en-US" sz="4000" spc="-1" strike="noStrike">
                <a:solidFill>
                  <a:srgbClr val="ff3300"/>
                </a:solidFill>
                <a:latin typeface="Arial"/>
              </a:rPr>
              <a:t>Чтоб наши знания пото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i="1" lang="en-US" sz="4000" spc="-1" strike="noStrike">
                <a:solidFill>
                  <a:srgbClr val="ff3300"/>
                </a:solidFill>
                <a:latin typeface="Arial"/>
              </a:rPr>
              <a:t>Отдать Отчизне , Родине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0" y="476280"/>
            <a:ext cx="91440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Страна моя прекрасная 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Легко любить её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Да здравствует , да здравствует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Отечество моё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78920" y="1844640"/>
            <a:ext cx="92170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Bitstream Vera Sans"/>
              </a:rPr>
              <a:t>    </a:t>
            </a:r>
            <a:r>
              <a:rPr b="1" i="1" lang="en-US" sz="3600" spc="-1" strike="noStrike">
                <a:solidFill>
                  <a:srgbClr val="ffffff"/>
                </a:solidFill>
                <a:latin typeface="Bitstream Vera Sans"/>
              </a:rPr>
              <a:t>Для меня  Россия – белые берёзы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-396720" y="1484280"/>
            <a:ext cx="954072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Century Schoolbook"/>
              </a:rPr>
              <a:t>   </a:t>
            </a:r>
            <a:r>
              <a:rPr b="1" i="1" lang="en-US" sz="3600" spc="-1" strike="noStrike">
                <a:solidFill>
                  <a:srgbClr val="ffff00"/>
                </a:solidFill>
                <a:latin typeface="Georgia"/>
              </a:rPr>
              <a:t>Для меня Россия – утренние росы</a:t>
            </a:r>
            <a:r>
              <a:rPr b="1" i="1" lang="en-US" sz="3600" spc="-1" strike="noStrike">
                <a:solidFill>
                  <a:srgbClr val="ffff00"/>
                </a:solidFill>
                <a:latin typeface="Century Schoolbook"/>
              </a:rPr>
              <a:t> 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105228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1" i="1" lang="en-US" sz="4000" spc="-1" strike="noStrike">
                <a:solidFill>
                  <a:srgbClr val="ffff00"/>
                </a:solidFill>
                <a:latin typeface="Georgia"/>
              </a:rPr>
              <a:t>Для меня Россия -ты всего                              дороже</a:t>
            </a:r>
            <a:r>
              <a:rPr b="1" i="1" lang="en-US" sz="4000" spc="-1" strike="noStrike">
                <a:solidFill>
                  <a:srgbClr val="ff9933"/>
                </a:solidFill>
                <a:latin typeface="Georgia"/>
              </a:rPr>
              <a:t> </a:t>
            </a:r>
            <a:r>
              <a:rPr b="1" i="1" lang="en-US" sz="4000" spc="-1" strike="noStrike">
                <a:solidFill>
                  <a:srgbClr val="ffff00"/>
                </a:solidFill>
                <a:latin typeface="Georgia"/>
              </a:rPr>
              <a:t>!</a:t>
            </a:r>
            <a:r>
              <a:rPr b="1" i="1" lang="en-US" sz="3600" spc="-1" strike="noStrike">
                <a:solidFill>
                  <a:srgbClr val="ffff00"/>
                </a:solidFill>
                <a:latin typeface="Georgia"/>
              </a:rPr>
              <a:t>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404640"/>
            <a:ext cx="92883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66ff"/>
                </a:solidFill>
                <a:latin typeface="Arial"/>
              </a:rPr>
              <a:t>С этим чувством человек рождается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Arial"/>
              </a:rPr>
              <a:t>С ним живёт и умирает с ним 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eorgia"/>
              </a:rPr>
              <a:t>     </a:t>
            </a:r>
            <a:r>
              <a:rPr b="1" i="1" lang="en-US" sz="4000" spc="-1" strike="noStrike">
                <a:solidFill>
                  <a:srgbClr val="ffffff"/>
                </a:solidFill>
                <a:latin typeface="Georgia"/>
              </a:rPr>
              <a:t>Всё пройдет ,  а  Родина     останется 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ff"/>
                </a:solidFill>
                <a:latin typeface="Arial"/>
              </a:rPr>
              <a:t>Если мы , то чувство сохраним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13:56:32Z</dcterms:created>
  <dc:creator>Дамир</dc:creator>
  <dc:description/>
  <dc:language>en-US</dc:language>
  <cp:lastModifiedBy>Дамир</cp:lastModifiedBy>
  <dcterms:modified xsi:type="dcterms:W3CDTF">2012-07-24T16:22:42Z</dcterms:modified>
  <cp:revision>7</cp:revision>
  <dc:subject/>
  <dc:title>« Моё Отечество »  2 «Б» класс</dc:title>
</cp:coreProperties>
</file>