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16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jpeg" ContentType="image/jpe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2C6-1DD1-4953-907A-3DA314FC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EDE-75AB-48AA-A3DD-A0814C9A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71B5B-4D74-4150-94C2-C0076611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9D844-41FA-4A06-A265-A3F6E8CF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543E7-F5CB-4709-ABF9-DCE36187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7D2FB-9685-41AB-AF98-5A1CF8B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4A91D-D3ED-4259-9242-9F676D52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DA1E5-E90B-4954-9AD7-62A3A761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8E40B-6392-4A24-A7FB-94F8FAD5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B01B0-D0BC-4B37-877A-59CB4B22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98C41-FD59-42C2-A821-BA08BABA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D47-B43E-4069-8BEC-F41C130F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074-F837-4747-9251-673FED60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05F7-7059-4A6B-A1A7-6677AC71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D764-B990-47D5-9E45-01B1C4D7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D23E-9112-488F-BDA1-A50F468B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DF5B-3174-442E-962A-7BC025E7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E867-67B8-4C18-A805-B83FB73D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A45F-B5CE-4FE7-A2BF-C292A1E4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35D4-53A2-470E-9B0B-019F7331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83D-43E0-4A67-A21A-CEC2CBD2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443A-6E0A-45A8-9830-3604432D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23C7-6AAF-4B20-ABCC-75D1B46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9992-2D7F-4D7B-9ABC-9D4E118A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FC97-1190-4A06-A8BB-F9AF18AB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4C18-C6F8-4E47-A597-58BA8190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A05D-AE7C-402F-BFD2-D245D82D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34BB-CCC8-4E0F-ADA2-70C74824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33CD7-CB47-4E75-A263-6688F950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8430-4121-4337-BE1B-A777A0BC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E2DE-CB7B-4D06-8F37-EB72045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BCA-F8A1-4154-9900-2F945290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D3C4-FBEB-4537-ACDC-740993C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1249-7B2F-4B7D-9EDA-A795D7CA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6B631-1264-4AE0-AB09-D472191C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338E-5229-4C3F-9C22-88162F0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D56DC-3792-49D7-9B9B-B8BB33A4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38FA-C220-4BC3-8C00-14213186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4D0D-181C-420D-823C-D81EC3FB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1D76B-6DF8-4163-A7EE-6427DFDF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7955-F328-4FCC-BD3D-24CC886A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23B6-A141-407E-A6C8-31F10185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403-8D4E-431C-9EF4-4537DEF2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C7383-9FF1-40C6-92FE-48A85462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73170-51A6-4651-AF05-92D1F275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51C14-8512-4963-9A72-F0701E7A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DB7A0-BF66-4091-822A-D362EED9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04A9-9292-4C0C-A853-4ADBB874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4922-F1D0-4306-96C1-E3696584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066B-5E5E-40F7-A401-BEBC186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B354-9859-4ADB-8565-6041421E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D750-F04F-4544-BF0B-76987AC1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6C86E-9012-4A60-958C-80D9B525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C21-E097-4964-9F85-DCB4BE87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A2E28-F237-4543-9892-38E92AC0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2C861-8B86-4D3A-A2B7-4C1532A5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D8973-B601-45C8-93E0-DAB793BB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7F65F-3FA3-46F4-BC06-99CA54BD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01B50-CF50-44EE-B45F-774BC2E8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2F3F-EC38-473C-ABAD-5695F0A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1EFE5-7639-4ED9-BEFF-0D86539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113C-374E-4EAD-8DBC-3113A8C6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F462-6D03-40FC-AE79-CBAACC3B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11D35-344F-4845-BCE4-28A4759A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171-2AFA-487F-8B71-4A651F8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F1969-F167-45FD-8D4C-AE372CA8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92AC6-58EB-4F43-A61F-14B9C779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D3E61-CD89-49BA-B491-C758CA77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FBE79-3E2C-45B8-963D-0C6470B5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5CAF9-F447-48CE-AF4F-336BDBFE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24845-1F70-407E-97E3-6A49B42D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37C2E-CFEA-4031-9D5D-4D130891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8C9B-37A3-4914-98D1-97D4DCA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ADD50-605A-490C-99BA-6C0D8842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20C37-DFD9-4D2E-AEDA-6AE9671B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B5C-1285-48AD-AFBC-D540EFC4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3AF16-777A-45D1-9C0B-B6ECF172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AF9F-D8C0-4BC0-97E1-11F872CD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08C0F-581D-4C05-9BA1-F102763B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D4F4C-DA28-4D8F-9391-7FEC6DA4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40EA1-6BA9-46E3-BD63-688DE468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BE02-F6B1-4895-BCFE-5C8C3DCB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A3BD-5993-4214-819C-7B0AE4A4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DB7BE-6BF1-40F0-B4B5-8C2AF927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AD35B-E3F1-4B90-8283-D6C662BB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9162B-BFCA-47EC-8408-3DDA306B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899-26A7-46E7-8B0C-0C6C208F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595AD-50BB-4B34-B935-44D41BF3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98073-BA1F-4DDF-B85F-90BFC3E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32ADF-732A-43C5-8091-649CA84B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7AD46-173C-497D-8166-2EC09379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252DB-512B-4371-B1E3-05CC149B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C1D1B-BCB4-47CC-802E-06996356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4DECE-5E2E-4053-A50B-823FF92B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16DCD-098F-4EA7-98F8-F460B398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6776-1CF0-4B04-A6BB-51855E37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C11E7-CC72-4FDA-B156-9EE1BD8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E3F-871A-4A61-A71E-8BEA558A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1EC73-E22D-40A1-AF70-4AAE1FDC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4FD12-A357-4D47-A59F-E2EA2B5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F67EF-A51F-4184-9CD9-6097D60C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EE65F-4CBE-42FC-AD6E-9BA2360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E315F-A4AD-4E57-9B64-54796347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6E33-6D25-44C4-8F2A-25ADFA4D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F1A27-25B4-49E6-BD9A-7D68EFD7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709E6-BA01-4D08-87C7-2C540228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FC588-F558-4CBE-B401-80C7DF64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8A479-3C57-4391-93E0-A0032300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EA16-8D16-4322-9FAE-E4375E03072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08D7-9E59-4881-A045-55B02707A7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E776-321D-4F3F-9413-AD9966567B2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FB60-B01F-4025-B4BC-6BFC4103A6B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EE36-C080-4FED-9D05-B0B8B1441B1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6301-2598-440D-A9C2-2BC0B88021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C2C5-7927-4364-AC81-D64B635B17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062C-AB36-4AE6-B29E-BB09842AF3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54B0-9BEE-465C-A619-F200212EF57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3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974880" y="1500120"/>
            <a:ext cx="7516800" cy="1517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6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Подготовила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Учитель английского язы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МКОУ «СОШ № 3» мкр. Сокольник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Гайтанова Инна Анатольевн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8" descr="Рисунок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214200" y="85716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THERE IS NO PLACE LIKE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42920" y="228600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EAST OR WEST HOME IS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857160" y="378612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MEN MAKE HOUSES, WOMEN MAKE H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Рисунок9"/>
          <p:cNvPicPr/>
          <p:nvPr/>
        </p:nvPicPr>
        <p:blipFill>
          <a:blip r:embed="rId1"/>
          <a:stretch/>
        </p:blipFill>
        <p:spPr>
          <a:xfrm>
            <a:off x="152280" y="228600"/>
            <a:ext cx="3057480" cy="2638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Рисунок10"/>
          <p:cNvPicPr/>
          <p:nvPr/>
        </p:nvPicPr>
        <p:blipFill>
          <a:blip r:embed="rId2"/>
          <a:stretch/>
        </p:blipFill>
        <p:spPr>
          <a:xfrm>
            <a:off x="152280" y="3505320"/>
            <a:ext cx="3070440" cy="246384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3"/>
          <p:cNvSpPr/>
          <p:nvPr/>
        </p:nvSpPr>
        <p:spPr>
          <a:xfrm>
            <a:off x="5429160" y="857160"/>
            <a:ext cx="264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My fla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5072040" y="2500200"/>
            <a:ext cx="314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Franklin Gothic Medium"/>
              </a:rPr>
              <a:t>My 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643280" y="423864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Franklin Gothic Medium"/>
              </a:rPr>
              <a:t>My h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Рисунок11"/>
          <p:cNvPicPr/>
          <p:nvPr/>
        </p:nvPicPr>
        <p:blipFill>
          <a:blip r:embed="rId1"/>
          <a:stretch/>
        </p:blipFill>
        <p:spPr>
          <a:xfrm>
            <a:off x="428760" y="500040"/>
            <a:ext cx="1427040" cy="1758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Рисунок5"/>
          <p:cNvPicPr/>
          <p:nvPr/>
        </p:nvPicPr>
        <p:blipFill>
          <a:blip r:embed="rId2"/>
          <a:stretch/>
        </p:blipFill>
        <p:spPr>
          <a:xfrm rot="183000">
            <a:off x="2185920" y="476280"/>
            <a:ext cx="1824120" cy="168120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357120" y="1429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2643120" y="14292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n arm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6" descr="Рисунок12"/>
          <p:cNvPicPr/>
          <p:nvPr/>
        </p:nvPicPr>
        <p:blipFill>
          <a:blip r:embed="rId3"/>
          <a:stretch/>
        </p:blipFill>
        <p:spPr>
          <a:xfrm>
            <a:off x="4500720" y="571680"/>
            <a:ext cx="2357280" cy="15714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8"/>
          <p:cNvSpPr/>
          <p:nvPr/>
        </p:nvSpPr>
        <p:spPr>
          <a:xfrm>
            <a:off x="5143680" y="2142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s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Рисунок8"/>
          <p:cNvPicPr/>
          <p:nvPr/>
        </p:nvPicPr>
        <p:blipFill>
          <a:blip r:embed="rId4"/>
          <a:stretch/>
        </p:blipFill>
        <p:spPr>
          <a:xfrm>
            <a:off x="7000920" y="714240"/>
            <a:ext cx="1643040" cy="1785960"/>
          </a:xfrm>
          <a:prstGeom prst="rect">
            <a:avLst/>
          </a:prstGeom>
          <a:ln w="0">
            <a:noFill/>
          </a:ln>
        </p:spPr>
      </p:pic>
      <p:sp>
        <p:nvSpPr>
          <p:cNvPr id="416" name="TextBox 10"/>
          <p:cNvSpPr/>
          <p:nvPr/>
        </p:nvSpPr>
        <p:spPr>
          <a:xfrm>
            <a:off x="6786720" y="2142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Рисунок6"/>
          <p:cNvPicPr/>
          <p:nvPr/>
        </p:nvPicPr>
        <p:blipFill>
          <a:blip r:embed="rId5"/>
          <a:stretch/>
        </p:blipFill>
        <p:spPr>
          <a:xfrm>
            <a:off x="285840" y="2857680"/>
            <a:ext cx="1571400" cy="1214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12"/>
          <p:cNvSpPr/>
          <p:nvPr/>
        </p:nvSpPr>
        <p:spPr>
          <a:xfrm>
            <a:off x="357120" y="2428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ar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Рисунок13"/>
          <p:cNvPicPr/>
          <p:nvPr/>
        </p:nvPicPr>
        <p:blipFill>
          <a:blip r:embed="rId6"/>
          <a:stretch/>
        </p:blipFill>
        <p:spPr>
          <a:xfrm>
            <a:off x="2428920" y="2571840"/>
            <a:ext cx="1566720" cy="15714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4"/>
          <p:cNvSpPr/>
          <p:nvPr/>
        </p:nvSpPr>
        <p:spPr>
          <a:xfrm>
            <a:off x="2928960" y="24289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p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Рисунок14"/>
          <p:cNvPicPr/>
          <p:nvPr/>
        </p:nvPicPr>
        <p:blipFill>
          <a:blip r:embed="rId7"/>
          <a:stretch/>
        </p:blipFill>
        <p:spPr>
          <a:xfrm>
            <a:off x="4929120" y="2786040"/>
            <a:ext cx="1428840" cy="13572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16"/>
          <p:cNvSpPr/>
          <p:nvPr/>
        </p:nvSpPr>
        <p:spPr>
          <a:xfrm>
            <a:off x="4714920" y="2428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Рисунок15"/>
          <p:cNvPicPr/>
          <p:nvPr/>
        </p:nvPicPr>
        <p:blipFill>
          <a:blip r:embed="rId8"/>
          <a:stretch/>
        </p:blipFill>
        <p:spPr>
          <a:xfrm>
            <a:off x="7143840" y="2786040"/>
            <a:ext cx="1428840" cy="13572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19"/>
          <p:cNvSpPr/>
          <p:nvPr/>
        </p:nvSpPr>
        <p:spPr>
          <a:xfrm>
            <a:off x="7072200" y="2500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Рисунок16"/>
          <p:cNvPicPr/>
          <p:nvPr/>
        </p:nvPicPr>
        <p:blipFill>
          <a:blip r:embed="rId9"/>
          <a:stretch/>
        </p:blipFill>
        <p:spPr>
          <a:xfrm>
            <a:off x="285840" y="4714920"/>
            <a:ext cx="1519200" cy="1992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Рисунок17"/>
          <p:cNvPicPr/>
          <p:nvPr/>
        </p:nvPicPr>
        <p:blipFill>
          <a:blip r:embed="rId10"/>
          <a:stretch/>
        </p:blipFill>
        <p:spPr>
          <a:xfrm>
            <a:off x="2643120" y="4786200"/>
            <a:ext cx="1428840" cy="1623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Рисунок18"/>
          <p:cNvPicPr/>
          <p:nvPr/>
        </p:nvPicPr>
        <p:blipFill>
          <a:blip r:embed="rId11"/>
          <a:stretch/>
        </p:blipFill>
        <p:spPr>
          <a:xfrm>
            <a:off x="5072040" y="471492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Рисунок19"/>
          <p:cNvPicPr/>
          <p:nvPr/>
        </p:nvPicPr>
        <p:blipFill>
          <a:blip r:embed="rId12"/>
          <a:stretch/>
        </p:blipFill>
        <p:spPr>
          <a:xfrm>
            <a:off x="7429680" y="4929120"/>
            <a:ext cx="1214280" cy="15717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24"/>
          <p:cNvSpPr/>
          <p:nvPr/>
        </p:nvSpPr>
        <p:spPr>
          <a:xfrm>
            <a:off x="428760" y="4286160"/>
            <a:ext cx="9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f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5"/>
          <p:cNvSpPr/>
          <p:nvPr/>
        </p:nvSpPr>
        <p:spPr>
          <a:xfrm>
            <a:off x="2571840" y="4357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6"/>
          <p:cNvSpPr/>
          <p:nvPr/>
        </p:nvSpPr>
        <p:spPr>
          <a:xfrm>
            <a:off x="5143680" y="4286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fi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9"/>
          <p:cNvSpPr/>
          <p:nvPr/>
        </p:nvSpPr>
        <p:spPr>
          <a:xfrm>
            <a:off x="7000920" y="4429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lamp\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Рисунок20"/>
          <p:cNvPicPr/>
          <p:nvPr/>
        </p:nvPicPr>
        <p:blipFill>
          <a:blip r:embed="rId1"/>
          <a:stretch/>
        </p:blipFill>
        <p:spPr>
          <a:xfrm>
            <a:off x="500040" y="571680"/>
            <a:ext cx="1714680" cy="1500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Рисунок21"/>
          <p:cNvPicPr/>
          <p:nvPr/>
        </p:nvPicPr>
        <p:blipFill>
          <a:blip r:embed="rId2"/>
          <a:stretch/>
        </p:blipFill>
        <p:spPr>
          <a:xfrm>
            <a:off x="3786120" y="500040"/>
            <a:ext cx="1857600" cy="19065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Рисунок22"/>
          <p:cNvPicPr/>
          <p:nvPr/>
        </p:nvPicPr>
        <p:blipFill>
          <a:blip r:embed="rId3"/>
          <a:srcRect l="3076" t="540" r="6166" b="1595"/>
          <a:stretch/>
        </p:blipFill>
        <p:spPr>
          <a:xfrm>
            <a:off x="6929280" y="500040"/>
            <a:ext cx="1214640" cy="1568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Рисунок23"/>
          <p:cNvPicPr/>
          <p:nvPr/>
        </p:nvPicPr>
        <p:blipFill>
          <a:blip r:embed="rId4"/>
          <a:stretch/>
        </p:blipFill>
        <p:spPr>
          <a:xfrm>
            <a:off x="214200" y="2786040"/>
            <a:ext cx="2214720" cy="1614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Рисунок24"/>
          <p:cNvPicPr/>
          <p:nvPr/>
        </p:nvPicPr>
        <p:blipFill>
          <a:blip r:embed="rId5"/>
          <a:srcRect l="9675" t="0" r="10398" b="4861"/>
          <a:stretch/>
        </p:blipFill>
        <p:spPr>
          <a:xfrm>
            <a:off x="6929280" y="2857680"/>
            <a:ext cx="1395720" cy="1900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Рисунок25"/>
          <p:cNvPicPr/>
          <p:nvPr/>
        </p:nvPicPr>
        <p:blipFill>
          <a:blip r:embed="rId6"/>
          <a:srcRect l="900" t="1850" r="1371" b="1526"/>
          <a:stretch/>
        </p:blipFill>
        <p:spPr>
          <a:xfrm>
            <a:off x="785880" y="4786200"/>
            <a:ext cx="1428840" cy="1857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6" descr="Рисунок26"/>
          <p:cNvPicPr/>
          <p:nvPr/>
        </p:nvPicPr>
        <p:blipFill>
          <a:blip r:embed="rId7"/>
          <a:srcRect l="2384" t="7120" r="2891" b="3578"/>
          <a:stretch/>
        </p:blipFill>
        <p:spPr>
          <a:xfrm>
            <a:off x="3571920" y="5072040"/>
            <a:ext cx="1382760" cy="16146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Рисунок27"/>
          <p:cNvPicPr/>
          <p:nvPr/>
        </p:nvPicPr>
        <p:blipFill>
          <a:blip r:embed="rId8"/>
          <a:stretch/>
        </p:blipFill>
        <p:spPr>
          <a:xfrm>
            <a:off x="3643200" y="2857680"/>
            <a:ext cx="2130480" cy="1753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Рисунок28"/>
          <p:cNvPicPr/>
          <p:nvPr/>
        </p:nvPicPr>
        <p:blipFill>
          <a:blip r:embed="rId9"/>
          <a:stretch/>
        </p:blipFill>
        <p:spPr>
          <a:xfrm>
            <a:off x="6215040" y="5072040"/>
            <a:ext cx="2214720" cy="16272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0"/>
          <p:cNvSpPr/>
          <p:nvPr/>
        </p:nvSpPr>
        <p:spPr>
          <a:xfrm>
            <a:off x="500040" y="142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up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2"/>
          <p:cNvSpPr/>
          <p:nvPr/>
        </p:nvSpPr>
        <p:spPr>
          <a:xfrm>
            <a:off x="3857760" y="214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TV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6786720" y="142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ward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4"/>
          <p:cNvSpPr/>
          <p:nvPr/>
        </p:nvSpPr>
        <p:spPr>
          <a:xfrm>
            <a:off x="428760" y="24289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5"/>
          <p:cNvSpPr/>
          <p:nvPr/>
        </p:nvSpPr>
        <p:spPr>
          <a:xfrm>
            <a:off x="392904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7786800" y="24289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6786720" y="23572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book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9"/>
          <p:cNvSpPr/>
          <p:nvPr/>
        </p:nvSpPr>
        <p:spPr>
          <a:xfrm>
            <a:off x="357120" y="45007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o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0"/>
          <p:cNvSpPr/>
          <p:nvPr/>
        </p:nvSpPr>
        <p:spPr>
          <a:xfrm>
            <a:off x="3357720" y="46432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1"/>
          <p:cNvSpPr/>
          <p:nvPr/>
        </p:nvSpPr>
        <p:spPr>
          <a:xfrm>
            <a:off x="6215040" y="47149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378000" y="4846680"/>
            <a:ext cx="8467560" cy="12366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304920"/>
            <a:ext cx="69724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                    is  gre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                     is br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                     is yel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                      is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Рисунок5"/>
          <p:cNvPicPr/>
          <p:nvPr/>
        </p:nvPicPr>
        <p:blipFill>
          <a:blip r:embed="rId2"/>
          <a:stretch/>
        </p:blipFill>
        <p:spPr>
          <a:xfrm>
            <a:off x="3214800" y="0"/>
            <a:ext cx="1427040" cy="1371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Рисунок6"/>
          <p:cNvPicPr/>
          <p:nvPr/>
        </p:nvPicPr>
        <p:blipFill>
          <a:blip r:embed="rId3"/>
          <a:stretch/>
        </p:blipFill>
        <p:spPr>
          <a:xfrm>
            <a:off x="2786040" y="1571760"/>
            <a:ext cx="2201760" cy="14810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1" descr="Рисунок7"/>
          <p:cNvPicPr/>
          <p:nvPr/>
        </p:nvPicPr>
        <p:blipFill>
          <a:blip r:embed="rId4"/>
          <a:stretch/>
        </p:blipFill>
        <p:spPr>
          <a:xfrm>
            <a:off x="3429000" y="3143160"/>
            <a:ext cx="920880" cy="1171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2" descr="Рисунок8"/>
          <p:cNvPicPr/>
          <p:nvPr/>
        </p:nvPicPr>
        <p:blipFill>
          <a:blip r:embed="rId5"/>
          <a:stretch/>
        </p:blipFill>
        <p:spPr>
          <a:xfrm>
            <a:off x="3000240" y="4572000"/>
            <a:ext cx="1932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2"/>
          <p:cNvSpPr/>
          <p:nvPr/>
        </p:nvSpPr>
        <p:spPr>
          <a:xfrm>
            <a:off x="142920" y="50004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                       is pin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6" descr="Рисунок15"/>
          <p:cNvPicPr/>
          <p:nvPr/>
        </p:nvPicPr>
        <p:blipFill>
          <a:blip r:embed="rId1"/>
          <a:stretch/>
        </p:blipFill>
        <p:spPr>
          <a:xfrm>
            <a:off x="3214800" y="142920"/>
            <a:ext cx="1428480" cy="1357200"/>
          </a:xfrm>
          <a:prstGeom prst="rect">
            <a:avLst/>
          </a:prstGeom>
          <a:ln w="0">
            <a:noFill/>
          </a:ln>
        </p:spPr>
      </p:pic>
      <p:sp>
        <p:nvSpPr>
          <p:cNvPr id="461" name="TextBox 4"/>
          <p:cNvSpPr/>
          <p:nvPr/>
        </p:nvSpPr>
        <p:spPr>
          <a:xfrm>
            <a:off x="1428840" y="164304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             is bla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Рисунок13"/>
          <p:cNvPicPr/>
          <p:nvPr/>
        </p:nvPicPr>
        <p:blipFill>
          <a:blip r:embed="rId2"/>
          <a:stretch/>
        </p:blipFill>
        <p:spPr>
          <a:xfrm>
            <a:off x="3143160" y="1500120"/>
            <a:ext cx="1567080" cy="15717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6"/>
          <p:cNvSpPr/>
          <p:nvPr/>
        </p:nvSpPr>
        <p:spPr>
          <a:xfrm>
            <a:off x="1000080" y="3357720"/>
            <a:ext cx="75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is n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1143000" y="521496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                       is b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Рисунок22"/>
          <p:cNvPicPr/>
          <p:nvPr/>
        </p:nvPicPr>
        <p:blipFill>
          <a:blip r:embed="rId3"/>
          <a:srcRect l="3076" t="540" r="6166" b="1595"/>
          <a:stretch/>
        </p:blipFill>
        <p:spPr>
          <a:xfrm>
            <a:off x="3500280" y="4714920"/>
            <a:ext cx="1214640" cy="1568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Рисунок12"/>
          <p:cNvPicPr/>
          <p:nvPr/>
        </p:nvPicPr>
        <p:blipFill>
          <a:blip r:embed="rId4"/>
          <a:stretch/>
        </p:blipFill>
        <p:spPr>
          <a:xfrm>
            <a:off x="2786040" y="307188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4"/>
          <p:cNvSpPr/>
          <p:nvPr/>
        </p:nvSpPr>
        <p:spPr>
          <a:xfrm>
            <a:off x="571680" y="57168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5"/>
          <p:cNvSpPr/>
          <p:nvPr/>
        </p:nvSpPr>
        <p:spPr>
          <a:xfrm>
            <a:off x="1857240" y="57168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3"/>
          <p:cNvSpPr/>
          <p:nvPr/>
        </p:nvSpPr>
        <p:spPr>
          <a:xfrm>
            <a:off x="2571840" y="78588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n the right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с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>
            <a:off x="642960" y="164304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785960" y="1500120"/>
            <a:ext cx="914400" cy="8384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2786040" y="18572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n the left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-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571680" y="2643120"/>
            <a:ext cx="914400" cy="8384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714240" y="278604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1500120" y="30718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in the middle of –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в се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642960" y="450072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785880" y="385776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5"/>
          <p:cNvSpPr/>
          <p:nvPr/>
        </p:nvSpPr>
        <p:spPr>
          <a:xfrm>
            <a:off x="785880" y="535788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1500120" y="39290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n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4"/>
          <p:cNvSpPr/>
          <p:nvPr/>
        </p:nvSpPr>
        <p:spPr>
          <a:xfrm>
            <a:off x="1428840" y="55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under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7"/>
          <p:cNvSpPr/>
          <p:nvPr/>
        </p:nvSpPr>
        <p:spPr>
          <a:xfrm>
            <a:off x="4572000" y="4214880"/>
            <a:ext cx="2819520" cy="228600"/>
          </a:xfrm>
          <a:prstGeom prst="leftRightArrow">
            <a:avLst>
              <a:gd name="adj1" fmla="val 50000"/>
              <a:gd name="adj2" fmla="val 245535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4000680" y="407196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7358040" y="400068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8"/>
          <p:cNvSpPr/>
          <p:nvPr/>
        </p:nvSpPr>
        <p:spPr>
          <a:xfrm>
            <a:off x="4357800" y="485784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pposite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на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500800" y="64296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5"/>
          <p:cNvSpPr/>
          <p:nvPr/>
        </p:nvSpPr>
        <p:spPr>
          <a:xfrm>
            <a:off x="5715000" y="1214280"/>
            <a:ext cx="60948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1"/>
          <p:cNvSpPr/>
          <p:nvPr/>
        </p:nvSpPr>
        <p:spPr>
          <a:xfrm>
            <a:off x="6500880" y="9288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in front of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"/>
          <p:cNvSpPr/>
          <p:nvPr/>
        </p:nvSpPr>
        <p:spPr>
          <a:xfrm>
            <a:off x="4643280" y="2357280"/>
            <a:ext cx="60984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5286240" y="221472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4"/>
          <p:cNvSpPr/>
          <p:nvPr/>
        </p:nvSpPr>
        <p:spPr>
          <a:xfrm>
            <a:off x="6286680" y="235728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near, at –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рядом,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ик 3"/>
          <p:cNvSpPr/>
          <p:nvPr/>
        </p:nvSpPr>
        <p:spPr>
          <a:xfrm>
            <a:off x="500040" y="2143080"/>
            <a:ext cx="75722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fireplace… the mirror... of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n armchair … the fire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coffee table …. the sof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carpet … 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sofa … the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cat … the carpet... the fire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1857240" y="1285920"/>
            <a:ext cx="492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Franklin Gothic Medium"/>
              </a:rPr>
              <a:t>on the right          in the middle                 on           </a:t>
            </a:r>
            <a:br>
              <a:rPr sz="1800"/>
            </a:br>
            <a:r>
              <a:rPr b="1" lang="en-US" sz="1800" spc="-1" strike="noStrike">
                <a:solidFill>
                  <a:srgbClr val="7030a0"/>
                </a:solidFill>
                <a:latin typeface="Franklin Gothic Medium"/>
              </a:rPr>
              <a:t> at                        under                       in front of  </a:t>
            </a:r>
            <a:br>
              <a:rPr sz="1800"/>
            </a:br>
            <a:r>
              <a:rPr b="1" lang="en-US" sz="1800" spc="-1" strike="noStrike">
                <a:solidFill>
                  <a:srgbClr val="7030a0"/>
                </a:solidFill>
                <a:latin typeface="Franklin Gothic Medium"/>
              </a:rPr>
              <a:t>near                     op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1500120" y="285840"/>
            <a:ext cx="600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Franklin Gothic Medium"/>
              </a:rPr>
              <a:t>Look at the picture. Complete the sentences with a pre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8:59:15Z</dcterms:created>
  <dc:creator>Admin</dc:creator>
  <dc:description/>
  <dc:language>en-US</dc:language>
  <cp:lastModifiedBy>Admin</cp:lastModifiedBy>
  <dcterms:modified xsi:type="dcterms:W3CDTF">2012-04-22T18:46:26Z</dcterms:modified>
  <cp:revision>33</cp:revision>
  <dc:subject/>
  <dc:title>«MY HOME IS MY CASTLE»</dc:title>
</cp:coreProperties>
</file>