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7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12.gif" ContentType="image/gif"/>
  <Override PartName="/ppt/media/image15.png" ContentType="image/png"/>
  <Override PartName="/ppt/media/image3.gif" ContentType="image/gif"/>
  <Override PartName="/ppt/media/image6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834-F082-420F-9F2A-046F5C2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53B-705A-4DCD-9AC3-0A6F070D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74C-C6C0-4533-81B0-EEFC0868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239B-341C-4B25-B5D8-FFD354D4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AC85-6244-45F5-8338-B7133F44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DB58-82C8-4C06-BE99-421081DE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D50A-CC63-4A80-BD2D-E9E15A75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3D21-BBB5-44A1-B709-7BAD9DFB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C41F-8465-4B89-ABD3-F3D2D755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E720-94DA-4AB3-ADEE-3B3C7142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8EEC-BF09-4C07-9E3B-AA4D660E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B22F-D8D8-4257-8D5D-1E161D06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AAAA-21A7-4A1F-AA2C-3B2BF0E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D5F5-901C-442D-80BD-B4BEDC71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5919-0338-4135-889C-E7591B2C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6415-BB66-4282-9696-DD7FE42B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84DE-BC9A-4E9B-8A1D-1420B796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961-8B88-4114-BA5D-813535D7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42DE-C1C9-4D30-9B53-F325E8B0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139-1362-4C9B-A2BC-584B248E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19E-1DBF-49CE-ACA8-53DB054B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E69-818B-483D-97F3-A80B081B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266-9DE5-4DCC-8F59-9500AE85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4F0-8D11-4227-B034-FC64C0C8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4567-092C-4BC0-84C5-5A4024948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920B-00B2-48FE-8898-4C89972C55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450475281"/>
          <p:cNvPicPr/>
          <p:nvPr/>
        </p:nvPicPr>
        <p:blipFill>
          <a:blip r:embed="rId1"/>
          <a:stretch/>
        </p:blipFill>
        <p:spPr>
          <a:xfrm>
            <a:off x="5810400" y="3840120"/>
            <a:ext cx="976320" cy="731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-28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6858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ндерный подход в сексуально- гигиеническом просвещении учащихся 5-11 клас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едагог- психолог МАОУ гимназия  г. Нытва Латышева Валентина Алексе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1205854137_1b8cdd7fcc28"/>
          <p:cNvPicPr/>
          <p:nvPr/>
        </p:nvPicPr>
        <p:blipFill>
          <a:blip r:embed="rId1"/>
          <a:stretch/>
        </p:blipFill>
        <p:spPr>
          <a:xfrm>
            <a:off x="8001000" y="3286080"/>
            <a:ext cx="857160" cy="7542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ФОРМЫ ПРОВЕД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15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Уро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Индивидуальные и групповые консульт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Бесе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.Тренин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. Просмотр и обсуждение учебных, документальных фильм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15707889_f_4884103"/>
          <p:cNvPicPr/>
          <p:nvPr/>
        </p:nvPicPr>
        <p:blipFill>
          <a:blip r:embed="rId1"/>
          <a:stretch/>
        </p:blipFill>
        <p:spPr>
          <a:xfrm>
            <a:off x="142920" y="6072120"/>
            <a:ext cx="904680" cy="6778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ЖИДАЕМЫЕ РЕЗУЛЬТА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1.Уважительное отношение к противоположному пол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2.Развитие рефлексивного мыш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3.Соблюдение гигиенических навы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4.Формирование устойчивой нравственной пози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5.Умение самостоятельно принимать  правильные решения в сложных ситуациях нравственного выб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СЛОВИЯ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нятия проводятся  в  рамках обязательных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факультатив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« Этика»  для пятых классов и «Психология» для 10-х классов, уроков ОБЖ в 8-х и 11-х классах,  факультатив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 Воспитай себя сам», «Как стать уверенным в себе» для 8-х  и  9-х  клас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темам программы беседую с детьми на 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классных часа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По необходимости  встречи  проходят  отдельно с группами мальчиков и девоч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запросам детей и родителей проводятся индивидуальные и групповые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консульт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ИТЕРАТУРА</a:t>
            </a:r>
            <a:br>
              <a:rPr sz="32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69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Крутецкий.  В. А.  "Психология обучения и воспитания школьников""Просвещение", Москва, 197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Смирнова А.Т. Основы медицинских знаний и здорового образа жизни: Учеб. Для учащихся 10-11 кл. общеобразоват. учреждений. -М.: Просвещение, 20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Сексуально- гигиеническое просвещение детей и подростков: учеб. пособ./Главное упр. Образ, ПГУ кафедра охраны здоровья детей, обл. центр мед. профил.: Пермь, 199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Ровесник, № 5.-май 2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езолюция конференции «О нравственно-половом воспитании подрастающего поколения»г. Екатеринбург 28-29 апреля 1998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Воспитание школьников, № 4, 1999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Воспитание школьников,№1,1998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Воспитание школьников,№3,19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 Формирование здорового образа жизни и профилактика социально значимых заболеваний. -   Пермь:ПОИПКРО,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ГРАММА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5 клас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Анатомо-физиологические особенности девочек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 лет.  Правила гиги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7 клас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Анатомо-физиологические особенности мальчиков 12-13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гиена подрост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Дружба, влюбленность, любовь (девочки).  Проблемы переходного возра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8 клас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Дружба, влюбленность, любовь (мальчики).  Проблемы переходного возра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Просмотр и обсуждение  учебного фильма «Девочка будущая мама» (девочк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Понятие о венерических заболеваниях, аборте и контрацеп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9 класс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О вреде ранней половой жизни  9 кл. ( девоч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 вреде ранней половой жизни 9кл.(мальчи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Детородная функция женского организма.  Беременность и роды (юноши и девушк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Современные представления о венерических заболеваниях и контрацептивных средств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Влияние алкоголя и курения на половую систему и потомство. « Письмо курящей девушке» Ф.Уг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Последствия абортов. Что такое телегония? (мальчики и девочки 9-10кл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10 кла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Портрет современных юношей и девуш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ружба- школа любви. Чему учит  друж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К чему стремится любовь. Взгляды З. Фрейда, Франк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 чему стремится любовь. Взгляды А. Маслоу, Э. Фром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Итоговый урок- размышление «Чем ценна любовь для человека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Аборт и его осложнения. Воспалительные заболевания мочеполовой системы у женщин. Причины бесплодия (девушки 10 кл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Как не стать жертвой насильника? (девочки и мальчики 9-10 кл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d302675b1ca9 - копия"/>
          <p:cNvPicPr/>
          <p:nvPr/>
        </p:nvPicPr>
        <p:blipFill>
          <a:blip r:embed="rId1"/>
          <a:stretch/>
        </p:blipFill>
        <p:spPr>
          <a:xfrm>
            <a:off x="7254720" y="4286160"/>
            <a:ext cx="1889280" cy="2422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2560" y="333360"/>
            <a:ext cx="9001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11 класс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Брак и семья. Культура брачных отношений. Функции семь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Понятие о брачном клирин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сновы семейного права в Российской федер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рава и обязанности родителей, Конвенция  «О правах ребен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Здоровье родителей и здоровье будущего ребенка. Резус- факто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Планирование семьи. Физиология репродуктивной системы челове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собы контрацеп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Рисунок5"/>
          <p:cNvPicPr/>
          <p:nvPr/>
        </p:nvPicPr>
        <p:blipFill>
          <a:blip r:embed="rId1"/>
          <a:stretch/>
        </p:blipFill>
        <p:spPr>
          <a:xfrm>
            <a:off x="0" y="0"/>
            <a:ext cx="1455840" cy="9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Рисунок42"/>
          <p:cNvPicPr/>
          <p:nvPr/>
        </p:nvPicPr>
        <p:blipFill>
          <a:blip r:embed="rId2"/>
          <a:stretch/>
        </p:blipFill>
        <p:spPr>
          <a:xfrm>
            <a:off x="8404200" y="3143160"/>
            <a:ext cx="739800" cy="7146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Родительские встречи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1. Половое созревание подростков 12-13 л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2. Какие мы родител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3.Ребенок - это праздник, который пока со мн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4.Нужна ли нежность детям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Анкетирование учащихс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136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оверки эффективности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жу анкетир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хся в 8-х и 11-х  класс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других школах опрашива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ей только в 8-х класс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сравнительном анали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ов анкеты учащихся 8-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имназии и других школ го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енных различий н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снование ведение кур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ополагающие принци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ы пр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ловия пр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держание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Друзья! Ответьте, пожалуйста, на предложенные  вопросы, варианты ответов « не знаю» не приним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1. Как ты считаешь,  можно дружить с мальчиком (девочкой) если они тебе не нравятся ради того, чтоб доказать другим, что ты не хуже других?  (ДА;   Н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2. С какого возраста можно жить половой жизнью?  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3. При каких условиях допустима половая жизнь? Подчеркните  вариан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ильное влечени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наличие образова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налич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професс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наличие жиль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хорошо оплачиваем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рабо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одобрение дружбы со стороны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езультаты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24000" y="836640"/>
          <a:ext cx="8569080" cy="5937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просы анкеты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классы (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й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2009г.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 классы (апрель 2009г.)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к ты считаешь,  можно дружить с мальчиком (девочкой) если они тебе не нравятся ради того, чтоб доказать другим, что ты не хуже других?  (ДА;   НЕ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-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-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- 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- 86%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какого возраста можно жить половой жизнью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,5 л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-20 л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каких условиях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пустима половая жизнь? Подчеркните  вариант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ое влечение;  наличие образования;  наличие профессии;  наличие жилья; хорошо оплачиваемая работа; одобрение дружбы со стороны родител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лечение - 8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%- влечение + 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% - одобрение родител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 - наличие образ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 - хорошо оплачиваемая раб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лечение - 47%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% - влечение + 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 - влечение + хорошо оплачиваемая раб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2356e94ba6701"/>
          <p:cNvPicPr/>
          <p:nvPr/>
        </p:nvPicPr>
        <p:blipFill>
          <a:blip r:embed="rId1"/>
          <a:stretch/>
        </p:blipFill>
        <p:spPr>
          <a:xfrm>
            <a:off x="6000840" y="3143160"/>
            <a:ext cx="428400" cy="6638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0"/>
            <a:ext cx="507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Результатом работы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о данной программе считаю следующие сформированные компетентности: </a:t>
            </a:r>
            <a:r>
              <a:rPr b="1" lang="ru-RU" sz="2800" spc="-1" strike="noStrike">
                <a:solidFill>
                  <a:srgbClr val="99ff99"/>
                </a:solidFill>
                <a:latin typeface="Arial"/>
              </a:rPr>
              <a:t>расширенная осведомлённость старшеклассников о культуре взаимоотношений полов</a:t>
            </a: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; </a:t>
            </a: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ответственное отношение к созданию семьи</a:t>
            </a: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ccff66"/>
                </a:solidFill>
                <a:latin typeface="Arial"/>
              </a:rPr>
              <a:t>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7071840" y="2714760"/>
            <a:ext cx="16146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476280"/>
            <a:ext cx="8928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вое просвещение- это ознакомление детей и подростков с анатомо- физиологическими особенностями пола, половой гигиеной и психогигиеной, с вопросами  планирования сем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омощи различных методов контрацепции, понятие о беременности, родах, аборте, о профилактике венерических заболе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ПВ  должно помочь развивающейся личности освоить роль мальчика или девочки, юноши или девушки, а в дальнейшем роли не только мужчины или женщины, но и мужа или жены, отца или матер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я программа рассчитана на 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5 л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этапной работы с детьми (с 5 по 11 класс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программа  постоянно дополняется  новой информацией, расширяется по содержанию, меняются формы работы с дет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оследние годы активно использую презентации,  учебные, документальные фильмы из Интерн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и 10-11 классов по темам урока сами предлагают сделать презентации. Например: о любви выполнено 6 презентаций о дружбе- 4; современной семье-2; наркомании-2. Дети активно  ищут демонстрационный материал по темам уроков, что облегчает работу психолога, способствует активному усвоению материала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грамма составлена в зависимости от  имеющихся условий, т.е. психолог специально берет учебную нагрузку, чтоб иметь возможность  регулярно встречаться с детьми  на уроках, что  позволяет  реализовать программу в полном объеме и обучить всех учащихся гимназии. На данный момент  я работаю в 5, 8,10,11-х класс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1"/>
          <p:cNvPicPr/>
          <p:nvPr/>
        </p:nvPicPr>
        <p:blipFill>
          <a:blip r:embed="rId1"/>
          <a:stretch/>
        </p:blipFill>
        <p:spPr>
          <a:xfrm>
            <a:off x="7929720" y="652320"/>
            <a:ext cx="928440" cy="97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1225957816_2155435592"/>
          <p:cNvPicPr/>
          <p:nvPr/>
        </p:nvPicPr>
        <p:blipFill>
          <a:blip r:embed="rId1"/>
          <a:stretch/>
        </p:blipFill>
        <p:spPr>
          <a:xfrm>
            <a:off x="7572240" y="5597640"/>
            <a:ext cx="857520" cy="1065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запросам классных руководителей- предметников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школ города и райо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ыхожу на классные часы с темами: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«Анатомо-физиологические особенности девочек 10-11 лет», «Анатомо-физиологические особенности мальчиков 12-13 лет», «Дружба, влюбленность, любовь», «О вреде ранней половой жизни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т. д.  Всего за год - от 8 до 10 встреч с учащимися 7,8,9-х клас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0000000023"/>
          <p:cNvPicPr/>
          <p:nvPr/>
        </p:nvPicPr>
        <p:blipFill>
          <a:blip r:embed="rId1"/>
          <a:stretch/>
        </p:blipFill>
        <p:spPr>
          <a:xfrm>
            <a:off x="428760" y="0"/>
            <a:ext cx="1393560" cy="857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f3073ccb68d8"/>
          <p:cNvPicPr/>
          <p:nvPr/>
        </p:nvPicPr>
        <p:blipFill>
          <a:blip r:embed="rId2"/>
          <a:stretch/>
        </p:blipFill>
        <p:spPr>
          <a:xfrm>
            <a:off x="8217000" y="3448080"/>
            <a:ext cx="927000" cy="909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ЦЕЛЬ ПРОГРАММЫ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ексуально гигиеническое просвещ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Воспитание поло - ролевой ориентации подрос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Формироване нравственности в отношениях юношей и девуш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оказать последствия неправильного отношения к своему здоров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Формирование условий для создания крепкой семь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Профилактика венерических заболев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Профилактика ранних беремен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aerobics_lady_ab_legb_ha"/>
          <p:cNvPicPr/>
          <p:nvPr/>
        </p:nvPicPr>
        <p:blipFill>
          <a:blip r:embed="rId1"/>
          <a:stretch/>
        </p:blipFill>
        <p:spPr>
          <a:xfrm>
            <a:off x="7261200" y="6340320"/>
            <a:ext cx="811080" cy="517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swimmer_butterfly_str_a_ha"/>
          <p:cNvPicPr/>
          <p:nvPr/>
        </p:nvPicPr>
        <p:blipFill>
          <a:blip r:embed="rId2"/>
          <a:stretch/>
        </p:blipFill>
        <p:spPr>
          <a:xfrm>
            <a:off x="0" y="452520"/>
            <a:ext cx="714240" cy="647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guy_giving_valentines_a_hc"/>
          <p:cNvPicPr/>
          <p:nvPr/>
        </p:nvPicPr>
        <p:blipFill>
          <a:blip r:embed="rId3"/>
          <a:stretch/>
        </p:blipFill>
        <p:spPr>
          <a:xfrm>
            <a:off x="8286840" y="0"/>
            <a:ext cx="857160" cy="10717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ДАЧИ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8208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Формирование потребности к ведению здорового образа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Побуждение к необходимости соблюдения  гигиенических навы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Укрепление физического и духовного здоров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Воспитание чувства социальной ответственности человека - ребенка, подростка, юноши и девушки - за каждый свой поступ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Воспитание стремления иметь прочную, здоровую, дружную семью, потребность иметь детей, способность сознательно относиться к их воспита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Формирование чувства уважения к другим людям - не только как к людям вообще, но и как к представителям мужского или женского пола, способности учитывать и уважать их специфические интере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сновополагающие принципы создания программы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Нравственно – половое воспитание  проводится как составная часть общего комплекса учебно- воспитательной  работы в шко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Последовательность подачи материала с учетом динамики полового взрос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Учет большого разрыва в половом созревании юноши и девуш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росветительская работа с родител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7:18:57Z</dcterms:created>
  <dc:creator>Учитель</dc:creator>
  <dc:description/>
  <dc:language>en-US</dc:language>
  <cp:lastModifiedBy>Xaoc</cp:lastModifiedBy>
  <dcterms:modified xsi:type="dcterms:W3CDTF">2012-07-24T11:30:39Z</dcterms:modified>
  <cp:revision>98</cp:revision>
  <dc:subject/>
  <dc:title>Слайд 1</dc:title>
</cp:coreProperties>
</file>