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7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12.gif" ContentType="image/gif"/>
  <Override PartName="/ppt/media/image15.png" ContentType="image/png"/>
  <Override PartName="/ppt/media/image3.gif" ContentType="image/gif"/>
  <Override PartName="/ppt/media/image6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5BB0-FE47-4BA8-8798-A8928A7E5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CA5A-CBC5-4860-B705-789BE053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6ADB-0A48-43D1-B3C4-B3EF21297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DC63-E2ED-4805-AC0F-E7302A76F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1C225-BC04-440D-8CD6-6A49DC39A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593FE-0547-4353-A5E3-7F58163A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A533-999A-46A1-AFC5-92F2EC25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4B5F-9D6C-4EA5-9860-6B6A8FDE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2934-5580-4EFA-97EC-DD421543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EC97-6FAE-4C6A-9640-36D1B8A7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85F0-23A2-4734-859A-733D5260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4181-5C0A-4690-B815-87B24173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FF00-9655-4C3C-90F7-C5A689E3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D642-147D-4FD7-A7C9-F8144EB6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BE02E-3A29-45D0-862E-9E69698F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45E9-B956-4CD4-B901-32A375248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CD19C-DC47-4B50-B302-71C5CEE52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E3D1-5A88-426B-B65D-AB4B00C0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2587-31F8-487F-A012-D7050B0D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0F00-7811-43A7-AFD5-62E9729C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2E6A-F831-4707-9378-1D4DFA58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2A86-F22B-4520-81AB-0A4F2C37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3746-AA6D-4A09-9054-81BCFCB7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60D9-9B37-4A67-9E86-BB710487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A360-E7D5-4098-A949-5078CF49F5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6CD4-38C2-4C1A-90F7-3F3FAA19B62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8" descr="450475281"/>
          <p:cNvPicPr/>
          <p:nvPr/>
        </p:nvPicPr>
        <p:blipFill>
          <a:blip r:embed="rId1"/>
          <a:stretch/>
        </p:blipFill>
        <p:spPr>
          <a:xfrm>
            <a:off x="5810400" y="3840120"/>
            <a:ext cx="976320" cy="7318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-28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68580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ендерный подход в сексуально- гигиеническом просвещении учащихся 5-11 класс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Педагог- психолог МАОУ гимназия  г. Нытва Латышева Валентина Алексее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1205854137_1b8cdd7fcc28"/>
          <p:cNvPicPr/>
          <p:nvPr/>
        </p:nvPicPr>
        <p:blipFill>
          <a:blip r:embed="rId1"/>
          <a:stretch/>
        </p:blipFill>
        <p:spPr>
          <a:xfrm>
            <a:off x="8001000" y="3286080"/>
            <a:ext cx="857160" cy="7542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ФОРМЫ ПРОВЕД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615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.Уро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.Индивидуальные и групповые консульт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3.Бесе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4.Тренинг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5. Просмотр и обсуждение учебных, документальных фильм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6" descr="15707889_f_4884103"/>
          <p:cNvPicPr/>
          <p:nvPr/>
        </p:nvPicPr>
        <p:blipFill>
          <a:blip r:embed="rId1"/>
          <a:stretch/>
        </p:blipFill>
        <p:spPr>
          <a:xfrm>
            <a:off x="142920" y="6072120"/>
            <a:ext cx="904680" cy="67788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ОЖИДАЕМЫЕ РЕЗУЛЬТАТЫ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1.Уважительное отношение к противоположному пол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2.Развитие рефлексивного мыш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3.Соблюдение гигиенических навы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4.Формирование устойчивой нравственной позиц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5.Умение самостоятельно принимать  правильные решения в сложных ситуациях нравственного выбо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УСЛОВИЯ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нятия проводятся  в  рамках обязательных </a:t>
            </a: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факультативо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« Этика»  для пятых классов и «Психология» для 10-х классов, уроков ОБЖ в 8-х и 11-х классах,  факультатив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 Воспитай себя сам», «Как стать уверенным в себе» для 8-х  и  9-х  класс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темам программы беседую с детьми на </a:t>
            </a: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классных часах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По необходимости  встречи  проходят  отдельно с группами мальчиков и девочек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запросам детей и родителей проводятся индивидуальные и групповые</a:t>
            </a: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 консультац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ЛИТЕРАТУРА</a:t>
            </a:r>
            <a:br>
              <a:rPr sz="32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23640" y="692280"/>
            <a:ext cx="856908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Крутецкий.  В. А.  "Психология обучения и воспитания школьников""Просвещение", Москва, 1976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Смирнова А.Т. Основы медицинских знаний и здорового образа жизни: Учеб. Для учащихся 10-11 кл. общеобразоват. учреждений. -М.: Просвещение, 200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Сексуально- гигиеническое просвещение детей и подростков: учеб. пособ./Главное упр. Образ, ПГУ кафедра охраны здоровья детей, обл. центр мед. профил.: Пермь, 1994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Ровесник, № 5.-май 2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Резолюция конференции «О нравственно-половом воспитании подрастающего поколения»г. Екатеринбург 28-29 апреля 1998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Воспитание школьников, № 4, 1999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Воспитание школьников,№1,1998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.Воспитание школьников,№3,1998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8. Формирование здорового образа жизни и профилактика социально значимых заболеваний. -   Пермь:ПОИПКРО, 200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РОГРАММА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6600"/>
                </a:solidFill>
                <a:latin typeface="Arial"/>
              </a:rPr>
              <a:t>5 класс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Анатомо-физиологические особенности девочек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1 лет.  Правила гигие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6600"/>
                </a:solidFill>
                <a:latin typeface="Arial"/>
              </a:rPr>
              <a:t>7 класс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Анатомо-физиологические особенности мальчиков 12-13 л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игиена подрост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Дружба, влюбленность, любовь (девочки).  Проблемы переходного возрас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6600"/>
                </a:solidFill>
                <a:latin typeface="Arial"/>
              </a:rPr>
              <a:t>8 класс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Дружба, влюбленность, любовь (мальчики).  Проблемы переходного возрас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Просмотр и обсуждение  учебного фильма «Девочка будущая мама» (девочк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Понятие о венерических заболеваниях, аборте и контрацеп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50920" y="549000"/>
            <a:ext cx="86421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00"/>
                </a:solidFill>
                <a:latin typeface="Arial"/>
              </a:rPr>
              <a:t>9 класс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О вреде ранней половой жизни  9 кл. ( девочк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О вреде ранней половой жизни 9кл.(мальчик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Детородная функция женского организма.  Беременность и роды (юноши и девушк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Современные представления о венерических заболеваниях и контрацептивных средства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Влияние алкоголя и курения на половую систему и потомство. « Письмо курящей девушке» Ф.Угл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Последствия абортов. Что такое телегония? (мальчики и девочки 9-10кл.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50560" y="620640"/>
            <a:ext cx="8713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00"/>
                </a:solidFill>
                <a:latin typeface="Arial"/>
              </a:rPr>
              <a:t>10 клас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Портрет современных юношей и девуш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Дружба- школа любви. Чему учит  дружб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К чему стремится любовь. Взгляды З. Фрейда, Франк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К чему стремится любовь. Взгляды А. Маслоу, Э. Фром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Итоговый урок- размышление «Чем ценна любовь для человека?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Аборт и его осложнения. Воспалительные заболевания мочеполовой системы у женщин. Причины бесплодия (девушки 10 кл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. Как не стать жертвой насильника? (девочки и мальчики 9-10 кл.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d302675b1ca9 - копия"/>
          <p:cNvPicPr/>
          <p:nvPr/>
        </p:nvPicPr>
        <p:blipFill>
          <a:blip r:embed="rId1"/>
          <a:stretch/>
        </p:blipFill>
        <p:spPr>
          <a:xfrm>
            <a:off x="7254720" y="4286160"/>
            <a:ext cx="1889280" cy="24224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2560" y="333360"/>
            <a:ext cx="90010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00"/>
                </a:solidFill>
                <a:latin typeface="Arial"/>
              </a:rPr>
              <a:t>11 класс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Брак и семья. Культура брачных отношений. Функции семь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Понятие о брачном клиринг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Основы семейного права в Российской федер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Права и обязанности родителей, Конвенция  «О правах ребенк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Здоровье родителей и здоровье будущего ребенка. Резус- фактор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Планирование семьи. Физиология репродуктивной системы человек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. Способы контрацеп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5" descr="Рисунок5"/>
          <p:cNvPicPr/>
          <p:nvPr/>
        </p:nvPicPr>
        <p:blipFill>
          <a:blip r:embed="rId1"/>
          <a:stretch/>
        </p:blipFill>
        <p:spPr>
          <a:xfrm>
            <a:off x="0" y="0"/>
            <a:ext cx="1455840" cy="9288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Рисунок42"/>
          <p:cNvPicPr/>
          <p:nvPr/>
        </p:nvPicPr>
        <p:blipFill>
          <a:blip r:embed="rId2"/>
          <a:stretch/>
        </p:blipFill>
        <p:spPr>
          <a:xfrm>
            <a:off x="8404200" y="3143160"/>
            <a:ext cx="739800" cy="7146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Родительские встречи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1. Половое созревание подростков 12-13 лет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2. Какие мы родители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3.Ребенок - это праздник, который пока со мной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4.Нужна ли нежность детям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Анкетирование учащихся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81360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проверки эффективности програм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ожу анкетиро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щихся в 8-х и 11-х  класса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других школах опрашива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тей только в 8-х класса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сравнительном анализ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зультатов анкеты учащихся 8- клас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мназии и других школ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ущественных различий н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основание ведение кур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ль програм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ополагающие принцип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ы провед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словия провед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держание програм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зульта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Друзья! Ответьте, пожалуйста, на предложенные  вопросы, варианты ответов « не знаю» не принимают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1. Как ты считаешь,  можно дружить с мальчиком (девочкой) если они тебе не нравятся ради того, чтоб доказать другим, что ты не хуже других?  (ДА;   НЕ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2. С какого возраста можно жить половой жизнью?  _________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3. При каких условиях допустима половая жизнь? Подчеркните  вариант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сильное влечени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наличие образовани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налич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професси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наличие жиль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хорошо оплачиваем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работ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одобрение дружбы со стороны роди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Результаты 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324000" y="836640"/>
          <a:ext cx="8569080" cy="5937120"/>
        </p:xfrm>
        <a:graphic>
          <a:graphicData uri="http://schemas.openxmlformats.org/drawingml/2006/table">
            <a:tbl>
              <a:tblPr/>
              <a:tblGrid>
                <a:gridCol w="2855880"/>
                <a:gridCol w="2857320"/>
                <a:gridCol w="2855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опросы анкеты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классы (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й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2009г.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 классы (апрель 2009г.)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ак ты считаешь,  можно дружить с мальчиком (девочкой) если они тебе не нравятся ради того, чтоб доказать другим, что ты не хуже других?  (ДА;   НЕТ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-3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Т-7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- 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- 86%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 какого возраста можно жить половой жизнью?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,5 лет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-20 лет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4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 каких условиях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пустима половая жизнь? Подчеркните  варианты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льное влечение;  наличие образования;  наличие профессии;  наличие жилья; хорошо оплачиваемая работа; одобрение дружбы со стороны родителей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лечение - 8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%- влечение + образ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% - одобрение родителе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% - наличие образ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% - хорошо оплачиваемая рабо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лечение - 47%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% - влечение + образ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% - влечение + хорошо оплачиваемая рабо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4" descr="2356e94ba6701"/>
          <p:cNvPicPr/>
          <p:nvPr/>
        </p:nvPicPr>
        <p:blipFill>
          <a:blip r:embed="rId1"/>
          <a:stretch/>
        </p:blipFill>
        <p:spPr>
          <a:xfrm>
            <a:off x="6000840" y="3143160"/>
            <a:ext cx="428400" cy="66384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0" y="0"/>
            <a:ext cx="5076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Результатом работы</a:t>
            </a:r>
            <a:r>
              <a:rPr b="1" lang="ru-RU" sz="2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ff33"/>
                </a:solidFill>
                <a:latin typeface="Arial"/>
              </a:rPr>
              <a:t>по данной программе считаю следующие сформированные компетентности: </a:t>
            </a:r>
            <a:r>
              <a:rPr b="1" lang="ru-RU" sz="2800" spc="-1" strike="noStrike">
                <a:solidFill>
                  <a:srgbClr val="99ff99"/>
                </a:solidFill>
                <a:latin typeface="Arial"/>
              </a:rPr>
              <a:t>расширенная осведомлённость старшеклассников о культуре взаимоотношений полов</a:t>
            </a:r>
            <a:r>
              <a:rPr b="1" lang="ru-RU" sz="2800" spc="-1" strike="noStrike">
                <a:solidFill>
                  <a:srgbClr val="66ff33"/>
                </a:solidFill>
                <a:latin typeface="Arial"/>
              </a:rPr>
              <a:t>; </a:t>
            </a:r>
            <a:r>
              <a:rPr b="1" lang="ru-RU" sz="2800" spc="-1" strike="noStrike">
                <a:solidFill>
                  <a:srgbClr val="99cc00"/>
                </a:solidFill>
                <a:latin typeface="Arial"/>
              </a:rPr>
              <a:t>ответственное отношение к созданию семьи</a:t>
            </a:r>
            <a:r>
              <a:rPr b="1" lang="ru-RU" sz="2800" spc="-1" strike="noStrike">
                <a:solidFill>
                  <a:srgbClr val="66ff33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ccff66"/>
                </a:solidFill>
                <a:latin typeface="Arial"/>
              </a:rPr>
              <a:t>здоровый образ жиз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7071840" y="2714760"/>
            <a:ext cx="1614600" cy="34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8000" y="476280"/>
            <a:ext cx="89280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овое просвещение- это ознакомление детей и подростков с анатомо- физиологическими особенностями пола, половой гигиеной и психогигиеной, с вопросами  планирования семь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помощи различных методов контрацепции, понятие о беременности, родах, аборте, о профилактике венерических заболева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ПВ  должно помочь развивающейся личности освоить роль мальчика или девочки, юноши или девушки, а в дальнейшем роли не только мужчины или женщины, но и мужа или жены, отца или матер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8920" y="0"/>
            <a:ext cx="8713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я программа рассчитана на </a:t>
            </a:r>
            <a:r>
              <a:rPr b="0" lang="ru-RU" sz="2800" spc="-1" strike="noStrike">
                <a:solidFill>
                  <a:srgbClr val="33cc33"/>
                </a:solidFill>
                <a:latin typeface="Arial"/>
              </a:rPr>
              <a:t>5 ле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оэтапной работы с детьми (с 5 по 11 классы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а программа  постоянно дополняется  новой информацией, расширяется по содержанию, меняются формы работы с деть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последние годы активно использую презентации,  учебные, документальные фильмы из Интернет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ики 10-11 классов по темам урока сами предлагают сделать презентации. Например: о любви выполнено 6 презентаций о дружбе- 4; современной семье-2; наркомании-2. Дети активно  ищут демонстрационный материал по темам уроков, что облегчает работу психолога, способствует активному усвоению материала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ограмма составлена в зависимости от  имеющихся условий, т.е. психолог специально берет учебную нагрузку, чтоб иметь возможность  регулярно встречаться с детьми  на уроках, что  позволяет  реализовать программу в полном объеме и обучить всех учащихся гимназии. На данный момент  я работаю в 5, 8,10,11-х класса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4" descr="1"/>
          <p:cNvPicPr/>
          <p:nvPr/>
        </p:nvPicPr>
        <p:blipFill>
          <a:blip r:embed="rId1"/>
          <a:stretch/>
        </p:blipFill>
        <p:spPr>
          <a:xfrm>
            <a:off x="7929720" y="652320"/>
            <a:ext cx="928440" cy="9763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5" descr="1225957816_2155435592"/>
          <p:cNvPicPr/>
          <p:nvPr/>
        </p:nvPicPr>
        <p:blipFill>
          <a:blip r:embed="rId1"/>
          <a:stretch/>
        </p:blipFill>
        <p:spPr>
          <a:xfrm>
            <a:off x="7572240" y="5597640"/>
            <a:ext cx="857520" cy="1065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9280" y="404280"/>
            <a:ext cx="85075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запросам классных руководителей- предметников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школ города и район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ыхожу на классные часы с темами: </a:t>
            </a:r>
            <a:r>
              <a:rPr b="0" lang="ru-RU" sz="3200" spc="-1" strike="noStrike">
                <a:solidFill>
                  <a:srgbClr val="66ff33"/>
                </a:solidFill>
                <a:latin typeface="Arial"/>
              </a:rPr>
              <a:t>«Анатомо-физиологические особенности девочек 10-11 лет», «Анатомо-физиологические особенности мальчиков 12-13 лет», «Дружба, влюбленность, любовь», «О вреде ранней половой жизни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и т. д.  Всего за год - от 8 до 10 встреч с учащимися 7,8,9-х класс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5" descr="0000000023"/>
          <p:cNvPicPr/>
          <p:nvPr/>
        </p:nvPicPr>
        <p:blipFill>
          <a:blip r:embed="rId1"/>
          <a:stretch/>
        </p:blipFill>
        <p:spPr>
          <a:xfrm>
            <a:off x="428760" y="0"/>
            <a:ext cx="1393560" cy="8571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f3073ccb68d8"/>
          <p:cNvPicPr/>
          <p:nvPr/>
        </p:nvPicPr>
        <p:blipFill>
          <a:blip r:embed="rId2"/>
          <a:stretch/>
        </p:blipFill>
        <p:spPr>
          <a:xfrm>
            <a:off x="8217000" y="3448080"/>
            <a:ext cx="927000" cy="9097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ЦЕЛЬ ПРОГРАММЫ</a:t>
            </a:r>
            <a:br>
              <a:rPr sz="40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Сексуально гигиеническое просвещ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Воспитание поло - ролевой ориентации подрост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Формироване нравственности в отношениях юношей и девуш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Показать последствия неправильного отношения к своему здоровь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Формирование условий для создания крепкой семь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Профилактика венерических заболева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. Профилактика ранних беременност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aerobics_lady_ab_legb_ha"/>
          <p:cNvPicPr/>
          <p:nvPr/>
        </p:nvPicPr>
        <p:blipFill>
          <a:blip r:embed="rId1"/>
          <a:stretch/>
        </p:blipFill>
        <p:spPr>
          <a:xfrm>
            <a:off x="7261200" y="6340320"/>
            <a:ext cx="811080" cy="517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swimmer_butterfly_str_a_ha"/>
          <p:cNvPicPr/>
          <p:nvPr/>
        </p:nvPicPr>
        <p:blipFill>
          <a:blip r:embed="rId2"/>
          <a:stretch/>
        </p:blipFill>
        <p:spPr>
          <a:xfrm>
            <a:off x="0" y="452520"/>
            <a:ext cx="714240" cy="6476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guy_giving_valentines_a_hc"/>
          <p:cNvPicPr/>
          <p:nvPr/>
        </p:nvPicPr>
        <p:blipFill>
          <a:blip r:embed="rId3"/>
          <a:stretch/>
        </p:blipFill>
        <p:spPr>
          <a:xfrm>
            <a:off x="8286840" y="0"/>
            <a:ext cx="857160" cy="107172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ЗАДАЧИ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765000"/>
            <a:ext cx="82087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Формирование потребности к ведению здорового образа жи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Побуждение к необходимости соблюдения  гигиенических навык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Укрепление физического и духовного здоровь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Воспитание чувства социальной ответственности человека - ребенка, подростка, юноши и девушки - за каждый свой поступок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Воспитание стремления иметь прочную, здоровую, дружную семью, потребность иметь детей, способность сознательно относиться к их воспитани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 Формирование чувства уважения к другим людям - не только как к людям вообще, но и как к представителям мужского или женского пола, способности учитывать и уважать их специфические интерес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сновополагающие принципы создания программы: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Нравственно – половое воспитание  проводится как составная часть общего комплекса учебно- воспитательной  работы в школ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Последовательность подачи материала с учетом динамики полового взросл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Учет большого разрыва в половом созревании юноши и девуш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Просветительская работа с родителя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7:18:57Z</dcterms:created>
  <dc:creator>Учитель</dc:creator>
  <dc:description/>
  <dc:language>en-US</dc:language>
  <cp:lastModifiedBy>Xaoc</cp:lastModifiedBy>
  <dcterms:modified xsi:type="dcterms:W3CDTF">2012-07-24T11:30:39Z</dcterms:modified>
  <cp:revision>98</cp:revision>
  <dc:subject/>
  <dc:title>Слайд 1</dc:title>
</cp:coreProperties>
</file>