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2C7-583B-4F85-BD97-93C31547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665-86AF-440F-8B3B-3E239FB5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469-8831-446E-AF90-5CF95E50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E30-F5DF-4E6D-8C89-3969ADA0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954-7865-4BB2-993B-8E65258A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83D-0D68-4483-8E34-30C48F8B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1E2-8175-4450-B97F-B3715139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416-16EE-4DA4-A152-99538CBE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7F5-578D-487F-BE61-02FAB946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51A-963B-4E61-82EC-F4C3681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165-2F8D-4198-B724-AADBFBC0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0B8-47AD-4702-9002-1EF1AE2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67C7-0034-4F74-8C61-AE978D536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62;&#1080;&#1074;&#1080;&#1083;&#1080;&#1079;&#1072;&#1094;&#1080;&#1103;_&#1076;&#1086;&#1083;&#1080;&#1085;&#1099;_&#1088;&#1077;&#1082;&#1080;_&#1048;&#1085;&#1076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48;&#1085;&#1076;&#1091;&#1080;&#1079;&#1084;" TargetMode="External"/><Relationship Id="rId3" Type="http://schemas.openxmlformats.org/officeDocument/2006/relationships/hyperlink" Target="http://ru.wikipedia.org/wiki/&#1041;&#1091;&#1076;&#1076;&#1080;&#1079;&#1084;" TargetMode="External"/><Relationship Id="rId4" Type="http://schemas.openxmlformats.org/officeDocument/2006/relationships/hyperlink" Target="http://ru.wikipedia.org/wiki/&#1057;&#1080;&#1082;&#1093;&#1080;&#1079;&#1084;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00000"/>
                </a:solidFill>
                <a:latin typeface="Calibri"/>
              </a:rPr>
              <a:t>«</a:t>
            </a:r>
            <a:r>
              <a:rPr b="0" lang="ru-RU" sz="5100" spc="-1" strike="noStrike">
                <a:solidFill>
                  <a:srgbClr val="ff0000"/>
                </a:solidFill>
                <a:latin typeface="Calibri"/>
              </a:rPr>
              <a:t>Древней</a:t>
            </a:r>
            <a:r>
              <a:rPr b="0" lang="ru-RU" sz="5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100" spc="-1" strike="noStrike">
                <a:solidFill>
                  <a:srgbClr val="ff0000"/>
                </a:solidFill>
                <a:latin typeface="Calibri"/>
              </a:rPr>
              <a:t>Индии</a:t>
            </a:r>
            <a:r>
              <a:rPr b="0" lang="ru-RU" sz="5100" spc="-1" strike="noStrike">
                <a:solidFill>
                  <a:srgbClr val="c00000"/>
                </a:solidFill>
                <a:latin typeface="Calibri"/>
              </a:rPr>
              <a:t>»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300"/>
            </a:b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евнеиндийское искусство теснейшим образом было связано с религией и философией. Кроме того, оно было всегда обращено к низшей касте - крестьянам, с целью донести до них законы кармы, требования дхармы и т.д. В поэзии, прозе, драме, музыке индийский художник</a:t>
            </a:r>
            <a:r>
              <a:rPr b="0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ождествлял себя с природой во всех ее настроениях, откликался на связь человека и вселенной. И, наконец, значительное влияние на развитие индийского искусства оказал религиозный предрассудок, направленный против изваяний богов. Веды были против изображения божества, и образ Будды появился в скульптуре и живописи лишь в поздний период развития буддизма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2bd8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2bd8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2bd8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ff2bd8"/>
                </a:solidFill>
                <a:latin typeface="Calibri"/>
              </a:rPr>
              <a:t>	</a:t>
            </a:r>
            <a:r>
              <a:rPr b="0" i="1" lang="ru-RU" sz="6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6100" spc="-1" strike="noStrike">
                <a:solidFill>
                  <a:srgbClr val="000000"/>
                </a:solidFill>
                <a:latin typeface="Calibri"/>
              </a:rPr>
              <a:t>конец 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Calibri"/>
              </a:rPr>
              <a:t>Презентацию подготовила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ff0000"/>
                </a:solidFill>
                <a:latin typeface="Calibri"/>
              </a:rPr>
              <a:t>Шорникова Юл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ff0000"/>
                </a:solidFill>
                <a:latin typeface="Calibri"/>
              </a:rPr>
              <a:t>Ученица 11 Б класса 23 школы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я является родиной </a:t>
            </a:r>
            <a:r>
              <a:rPr b="0" lang="ru-RU" sz="23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"/>
              </a:rPr>
              <a:t>Цивилизации долины реки Инд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х древних цивилизаций. На протяжении большей части своей истории, Индия выступала как центр важных торговых маршрутов и славилась своими богатствами и высокой культуро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100560" y="1285560"/>
            <a:ext cx="3043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В Индии зародились такие религии как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"/>
              </a:rPr>
              <a:t>инду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3"/>
              </a:rPr>
              <a:t>будд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4"/>
              </a:rPr>
              <a:t>сикх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джайн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. В первом тысячелетии нашей эры на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индийский субконтинент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 также пришли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зороастр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иудаиз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христианство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000" spc="-1" strike="noStrike" u="sng">
                <a:solidFill>
                  <a:srgbClr val="00449e"/>
                </a:solidFill>
                <a:uFillTx/>
                <a:latin typeface="Times New Roman"/>
                <a:ea typeface="Times New Roman"/>
              </a:rPr>
              <a:t>ислам</a:t>
            </a:r>
            <a:r>
              <a:rPr b="1" i="1" lang="ru-RU" sz="2000" spc="-1" strike="noStrike">
                <a:solidFill>
                  <a:srgbClr val="00449e"/>
                </a:solidFill>
                <a:latin typeface="Times New Roman"/>
                <a:ea typeface="Times New Roman"/>
              </a:rPr>
              <a:t>, которые оказали большое влияние на формирование разнообразной культуры реги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Культура Древней Инд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Verdana"/>
                <a:ea typeface="Times New Roman"/>
              </a:rPr>
              <a:t>Культура Древней Индии</a:t>
            </a:r>
            <a:r>
              <a:rPr b="0" lang="ru-RU" sz="1400" spc="-1" strike="noStrike">
                <a:solidFill>
                  <a:srgbClr val="002060"/>
                </a:solidFill>
                <a:latin typeface="Verdana"/>
                <a:ea typeface="Times New Roman"/>
              </a:rPr>
              <a:t> в своём истоке, неразрывно связанна с Арапской цивилизацией предшествовавшей арийской. В III—II тысячелетии до н. э., а возможно, и раньше в долине Инда существовала одна из величайших цивилизаций древности. Наука узнала об этой малоизвестной культуре Древней Индии намного позже, чем о других цивилизациях, — в 20-х гг. XX в., — и вписать её в мировую историю оказалось не легко: слишком много трудных и неразрешимых вопросов задала она исследователя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итературные памят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ительная часть первоисточников по истории древней Индии безвозвратно погибла. Многие произведения древнеиндийской литературы были написаны на берёзовой коре или на пальмовых листьях и не выдержали неблагоприятных условий климата, более влажного, чем в Египте (где мог сохраниться такой хрупкий материал, как папирус). С другой стороны пожары, которые не могли уничтожить собрания глиняных книг в Передней Азии, оказались губительными для архивов древней Индии. Уцелели в подлиннике лишь те тексты, которые были вырезаны на камне, а их было обнаружено сравнительно немного. К счастью, санскрит, в отличие от большинства древневосточных языков никогда не забывался, литературная традиция на протяжении тысячелетий не прерывалась. Те произведения, которые считались ценными, систематически переписывались и дошли до нас в поздних копиях с дополнениями и искажениям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Хозяин\Рабочий стол\ЮЛЬЧИК\1227949442_india-010.jpg"/>
          <p:cNvPicPr/>
          <p:nvPr/>
        </p:nvPicPr>
        <p:blipFill>
          <a:blip r:embed="rId1"/>
          <a:stretch/>
        </p:blipFill>
        <p:spPr>
          <a:xfrm>
            <a:off x="3571920" y="285840"/>
            <a:ext cx="514332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апы Древнеиндийской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50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ю древнеиндийской литературы принято подразделять на несколько этапов: ведийский, эпический, период классической санскритской литературы. Для первых двух этапов характерно преобладание устной традиции передачи текста. Подлинными энциклопедиями индийской жизни являются две великие эпические поэмы Древней Индии "Махабхарата" и "Рамаяна". В них запечатлены все стороны жизни древних индийцев. Эпос вобрал в себя материал, который, складываясь из устной поэтической традиции, приобретал дидактический характер, включал в себя религиозно-философские произведения и идеи. В последующие эпохи многие видные художники Индии, в числе которых был и знаменитый Калидас, черпали свое вдохновение из этих сокровищ мудрости своего народа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поху классической санскритской литературы особую популярность приобрел сборник рассказов и притч “Панчатантра”, основанный на фольклоре. Он был переведен на многие языки, достаточно рано с ним познакомились и в Росси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Хозяин\Рабочий стол\ЮЛЬЧИК\content_countries_21.jpg"/>
          <p:cNvPicPr/>
          <p:nvPr/>
        </p:nvPicPr>
        <p:blipFill>
          <a:blip r:embed="rId2"/>
          <a:stretch/>
        </p:blipFill>
        <p:spPr>
          <a:xfrm>
            <a:off x="3571920" y="291960"/>
            <a:ext cx="5143320" cy="58518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920" y="3071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Calibri"/>
              </a:rPr>
              <a:t>Отношение к ми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6760" y="4357440"/>
            <a:ext cx="800100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7bbff"/>
                </a:solidFill>
                <a:latin typeface="Times New Roman"/>
                <a:ea typeface="Times New Roman"/>
              </a:rPr>
              <a:t>В области этики в Упанишадах преобладает проповедь пассивно-созерцательного отношения к миру: высшим счастьем провозглашается избавление души от всяких мирских привязанностей и забот. В Упанишадах проводится различие между материальными и духовными ценностями, между благом, как спокойным состоянием души, и низменной погоней за чувственными удовольствиями. Кстати, именно в Упанишадах впервые высказывается концепция переселения душ (сансара) и воздаяния за прошлые действия (карма). Здесь выражено стремление определить причинно-следственную связь в цепи человеческих поступков. Делается также попытка с помощью нравственных принципов (дхармы) скорректировать поведение человека на каждой стадии его существования. Упанишады по существу являются фундаментом для всех или почти всех последующих философских течений, появившихся в Индии, так как в них были поставлены или разрабатывались идеи, которые длительное время "питали" философскую мысль в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лигиозный культ в Древней Инд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ысячелетняя культурная традиция Индии сложилась в тесной связи с развитием религиозных представлений ее народа. Главным религиозным течением был индуизм. Корни этой религии уходят в глубокую древность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 религиозных и мифологических представлениях племен ведийской эпохи можно судить по памятникам того периода - ведам, содержащим богатый материал по мифологии, религии, ритуалу. Ведийские гимны считались и считаются в Индии священными текстами, их изустно передавали из поколения в поколение, бережно сохраняли. Совокупность этих верований называют ведизмом. Ведизм не был общеиндийской религией, а процветал лишь в Восточном Пенджабе. Именно она и явилась создателем “Ригвед” и других ведийских сборников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рхитектура и живопис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Первые по времени памятники архитектуры и изобразительного искусства Древней Индии относятся к эпохе Арапской цивилизации, но наиболее яркие образцы были созданы в Кушано-Гуптскую эпоху. Высокими художественными достоинствами отличались памятники как религиозного, так и светского характе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b0043"/>
                </a:solidFill>
                <a:latin typeface="Times New Roman"/>
                <a:ea typeface="Times New Roman"/>
              </a:rPr>
              <a:t>В эпоху древности большинство сооружений возводилось из дерева, а потому не сохранилос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1-06-24T18:20:46Z</dcterms:modified>
  <cp:revision>25</cp:revision>
  <dc:subject/>
  <dc:title>Презентация</dc:title>
</cp:coreProperties>
</file>