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6DB3A-F3EA-4A1D-A5D3-B8AE09CD6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20BAE-0594-4DF7-B7EF-950B08CB0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1382C-F27E-4E13-B435-C3D26F996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1195C-B57F-4320-9D3A-335E3A32F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3DC3A-5810-4663-B4CB-935C7342C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849C4-FF70-4D99-BEE7-A84B01656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BFD67-793E-46B4-8AE2-9816664C2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57933-A563-4351-A326-0DB8BCE12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87363-B932-4B70-B924-E7AA858AA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09500-90B1-4D80-8E90-48486E897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F10BB-BEB9-4ED9-9806-C4BA4EB15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EEA0C-A031-416B-9978-7C41F441B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886A0-0C2D-4829-B2C2-61E8187C10E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ru.wikipedia.org/wiki/&#1062;&#1080;&#1074;&#1080;&#1083;&#1080;&#1079;&#1072;&#1094;&#1080;&#1103;_&#1076;&#1086;&#1083;&#1080;&#1085;&#1099;_&#1088;&#1077;&#1082;&#1080;_&#1048;&#1085;&#1076;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ru.wikipedia.org/wiki/&#1048;&#1085;&#1076;&#1091;&#1080;&#1079;&#1084;" TargetMode="External"/><Relationship Id="rId3" Type="http://schemas.openxmlformats.org/officeDocument/2006/relationships/hyperlink" Target="http://ru.wikipedia.org/wiki/&#1041;&#1091;&#1076;&#1076;&#1080;&#1079;&#1084;" TargetMode="External"/><Relationship Id="rId4" Type="http://schemas.openxmlformats.org/officeDocument/2006/relationships/hyperlink" Target="http://ru.wikipedia.org/wiki/&#1057;&#1080;&#1082;&#1093;&#1080;&#1079;&#1084;" TargetMode="External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Истор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100" spc="-1" strike="noStrike">
                <a:solidFill>
                  <a:srgbClr val="c00000"/>
                </a:solidFill>
                <a:latin typeface="Calibri"/>
              </a:rPr>
              <a:t>«</a:t>
            </a:r>
            <a:r>
              <a:rPr b="0" lang="ru-RU" sz="5100" spc="-1" strike="noStrike">
                <a:solidFill>
                  <a:srgbClr val="ff0000"/>
                </a:solidFill>
                <a:latin typeface="Calibri"/>
              </a:rPr>
              <a:t>Древней</a:t>
            </a:r>
            <a:r>
              <a:rPr b="0" lang="ru-RU" sz="5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5100" spc="-1" strike="noStrike">
                <a:solidFill>
                  <a:srgbClr val="ff0000"/>
                </a:solidFill>
                <a:latin typeface="Calibri"/>
              </a:rPr>
              <a:t>Индии</a:t>
            </a:r>
            <a:r>
              <a:rPr b="0" lang="ru-RU" sz="5100" spc="-1" strike="noStrike">
                <a:solidFill>
                  <a:srgbClr val="c00000"/>
                </a:solidFill>
                <a:latin typeface="Calibri"/>
              </a:rPr>
              <a:t>»</a:t>
            </a:r>
            <a:endParaRPr b="0" lang="en-US" sz="5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br>
              <a:rPr sz="1300"/>
            </a:br>
            <a:r>
              <a:rPr b="0" lang="ru-RU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ревнеиндийское искусство теснейшим образом было связано с религией и философией. Кроме того, оно было всегда обращено к низшей касте - крестьянам, с целью донести до них законы кармы, требования дхармы и т.д. В поэзии, прозе, драме, музыке индийский художник</a:t>
            </a:r>
            <a:r>
              <a:rPr b="0" i="1" lang="ru-RU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тождествлял себя с природой во всех ее настроениях, откликался на связь человека и вселенной. И, наконец, значительное влияние на развитие индийского искусства оказал религиозный предрассудок, направленный против изваяний богов. Веды были против изображения божества, и образ Будды появился в скульптуре и живописи лишь в поздний период развития буддизма.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hecker dir="horz"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5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2bd8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ff2bd8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ff2bd8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ff2bd8"/>
                </a:solidFill>
                <a:latin typeface="Calibri"/>
              </a:rPr>
              <a:t>	</a:t>
            </a:r>
            <a:r>
              <a:rPr b="0" i="1" lang="ru-RU" sz="6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6100" spc="-1" strike="noStrike">
                <a:solidFill>
                  <a:srgbClr val="000000"/>
                </a:solidFill>
                <a:latin typeface="Calibri"/>
              </a:rPr>
              <a:t>конец </a:t>
            </a:r>
            <a:endParaRPr b="0" lang="en-US" sz="6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400" spc="-1" strike="noStrike">
                <a:solidFill>
                  <a:srgbClr val="ffffff"/>
                </a:solidFill>
                <a:latin typeface="Calibri"/>
              </a:rPr>
              <a:t>Презентацию подготовила: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400" spc="-1" strike="noStrike">
                <a:solidFill>
                  <a:srgbClr val="ff0000"/>
                </a:solidFill>
                <a:latin typeface="Calibri"/>
              </a:rPr>
              <a:t>Шорникова Юля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400" spc="-1" strike="noStrike">
                <a:solidFill>
                  <a:srgbClr val="ff0000"/>
                </a:solidFill>
                <a:latin typeface="Calibri"/>
              </a:rPr>
              <a:t>Ученица 11 Б класса 23 школы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comb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дия является родиной </a:t>
            </a:r>
            <a:r>
              <a:rPr b="0" lang="ru-RU" sz="2300" spc="-1" strike="noStrike" u="sng">
                <a:solidFill>
                  <a:srgbClr val="17bbfd"/>
                </a:solidFill>
                <a:uFillTx/>
                <a:latin typeface="Times New Roman"/>
                <a:ea typeface="Times New Roman"/>
                <a:hlinkClick r:id="rId2"/>
              </a:rPr>
              <a:t>Цивилизации долины реки Инд</a:t>
            </a:r>
            <a:r>
              <a:rPr b="1" i="1" lang="ru-RU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и других древних цивилизаций. На протяжении большей части своей истории, Индия выступала как центр важных торговых маршрутов и славилась своими богатствами и высокой культурой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6100560" y="1285560"/>
            <a:ext cx="30430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449e"/>
                </a:solidFill>
                <a:latin typeface="Times New Roman"/>
                <a:ea typeface="Times New Roman"/>
              </a:rPr>
              <a:t>В Индии зародились такие религии как </a:t>
            </a:r>
            <a:r>
              <a:rPr b="0" lang="ru-RU" sz="2000" spc="-1" strike="noStrike" u="sng">
                <a:solidFill>
                  <a:srgbClr val="17bbfd"/>
                </a:solidFill>
                <a:uFillTx/>
                <a:latin typeface="Times New Roman"/>
                <a:ea typeface="Times New Roman"/>
                <a:hlinkClick r:id="rId2"/>
              </a:rPr>
              <a:t>индуизм</a:t>
            </a:r>
            <a:r>
              <a:rPr b="1" i="1" lang="ru-RU" sz="2000" spc="-1" strike="noStrike">
                <a:solidFill>
                  <a:srgbClr val="00449e"/>
                </a:solidFill>
                <a:latin typeface="Times New Roman"/>
                <a:ea typeface="Times New Roman"/>
              </a:rPr>
              <a:t>, </a:t>
            </a:r>
            <a:r>
              <a:rPr b="0" lang="ru-RU" sz="2000" spc="-1" strike="noStrike" u="sng">
                <a:solidFill>
                  <a:srgbClr val="17bbfd"/>
                </a:solidFill>
                <a:uFillTx/>
                <a:latin typeface="Times New Roman"/>
                <a:ea typeface="Times New Roman"/>
                <a:hlinkClick r:id="rId3"/>
              </a:rPr>
              <a:t>буддизм</a:t>
            </a:r>
            <a:r>
              <a:rPr b="1" i="1" lang="ru-RU" sz="2000" spc="-1" strike="noStrike">
                <a:solidFill>
                  <a:srgbClr val="00449e"/>
                </a:solidFill>
                <a:latin typeface="Times New Roman"/>
                <a:ea typeface="Times New Roman"/>
              </a:rPr>
              <a:t>, </a:t>
            </a:r>
            <a:r>
              <a:rPr b="0" lang="ru-RU" sz="2000" spc="-1" strike="noStrike" u="sng">
                <a:solidFill>
                  <a:srgbClr val="17bbfd"/>
                </a:solidFill>
                <a:uFillTx/>
                <a:latin typeface="Times New Roman"/>
                <a:ea typeface="Times New Roman"/>
                <a:hlinkClick r:id="rId4"/>
              </a:rPr>
              <a:t>сикхизм</a:t>
            </a:r>
            <a:r>
              <a:rPr b="1" i="1" lang="ru-RU" sz="2000" spc="-1" strike="noStrike">
                <a:solidFill>
                  <a:srgbClr val="00449e"/>
                </a:solidFill>
                <a:latin typeface="Times New Roman"/>
                <a:ea typeface="Times New Roman"/>
              </a:rPr>
              <a:t> и </a:t>
            </a:r>
            <a:r>
              <a:rPr b="1" i="1" lang="ru-RU" sz="2000" spc="-1" strike="noStrike" u="sng">
                <a:solidFill>
                  <a:srgbClr val="00449e"/>
                </a:solidFill>
                <a:uFillTx/>
                <a:latin typeface="Times New Roman"/>
                <a:ea typeface="Times New Roman"/>
              </a:rPr>
              <a:t>джайнизм</a:t>
            </a:r>
            <a:r>
              <a:rPr b="1" i="1" lang="ru-RU" sz="2000" spc="-1" strike="noStrike">
                <a:solidFill>
                  <a:srgbClr val="00449e"/>
                </a:solidFill>
                <a:latin typeface="Times New Roman"/>
                <a:ea typeface="Times New Roman"/>
              </a:rPr>
              <a:t>. В первом тысячелетии нашей эры на </a:t>
            </a:r>
            <a:r>
              <a:rPr b="1" i="1" lang="ru-RU" sz="2000" spc="-1" strike="noStrike" u="sng">
                <a:solidFill>
                  <a:srgbClr val="00449e"/>
                </a:solidFill>
                <a:uFillTx/>
                <a:latin typeface="Times New Roman"/>
                <a:ea typeface="Times New Roman"/>
              </a:rPr>
              <a:t>индийский субконтинент</a:t>
            </a:r>
            <a:r>
              <a:rPr b="1" i="1" lang="ru-RU" sz="2000" spc="-1" strike="noStrike">
                <a:solidFill>
                  <a:srgbClr val="00449e"/>
                </a:solidFill>
                <a:latin typeface="Times New Roman"/>
                <a:ea typeface="Times New Roman"/>
              </a:rPr>
              <a:t> также пришли </a:t>
            </a:r>
            <a:r>
              <a:rPr b="1" i="1" lang="ru-RU" sz="2000" spc="-1" strike="noStrike" u="sng">
                <a:solidFill>
                  <a:srgbClr val="00449e"/>
                </a:solidFill>
                <a:uFillTx/>
                <a:latin typeface="Times New Roman"/>
                <a:ea typeface="Times New Roman"/>
              </a:rPr>
              <a:t>зороастризм</a:t>
            </a:r>
            <a:r>
              <a:rPr b="1" i="1" lang="ru-RU" sz="2000" spc="-1" strike="noStrike">
                <a:solidFill>
                  <a:srgbClr val="00449e"/>
                </a:solidFill>
                <a:latin typeface="Times New Roman"/>
                <a:ea typeface="Times New Roman"/>
              </a:rPr>
              <a:t>, </a:t>
            </a:r>
            <a:r>
              <a:rPr b="1" i="1" lang="ru-RU" sz="2000" spc="-1" strike="noStrike" u="sng">
                <a:solidFill>
                  <a:srgbClr val="00449e"/>
                </a:solidFill>
                <a:uFillTx/>
                <a:latin typeface="Times New Roman"/>
                <a:ea typeface="Times New Roman"/>
              </a:rPr>
              <a:t>иудаизм</a:t>
            </a:r>
            <a:r>
              <a:rPr b="1" i="1" lang="ru-RU" sz="2000" spc="-1" strike="noStrike">
                <a:solidFill>
                  <a:srgbClr val="00449e"/>
                </a:solidFill>
                <a:latin typeface="Times New Roman"/>
                <a:ea typeface="Times New Roman"/>
              </a:rPr>
              <a:t>, </a:t>
            </a:r>
            <a:r>
              <a:rPr b="1" i="1" lang="ru-RU" sz="2000" spc="-1" strike="noStrike" u="sng">
                <a:solidFill>
                  <a:srgbClr val="00449e"/>
                </a:solidFill>
                <a:uFillTx/>
                <a:latin typeface="Times New Roman"/>
                <a:ea typeface="Times New Roman"/>
              </a:rPr>
              <a:t>христианство</a:t>
            </a:r>
            <a:r>
              <a:rPr b="1" i="1" lang="ru-RU" sz="2000" spc="-1" strike="noStrike">
                <a:solidFill>
                  <a:srgbClr val="00449e"/>
                </a:solidFill>
                <a:latin typeface="Times New Roman"/>
                <a:ea typeface="Times New Roman"/>
              </a:rPr>
              <a:t> и </a:t>
            </a:r>
            <a:r>
              <a:rPr b="1" i="1" lang="ru-RU" sz="2000" spc="-1" strike="noStrike" u="sng">
                <a:solidFill>
                  <a:srgbClr val="00449e"/>
                </a:solidFill>
                <a:uFillTx/>
                <a:latin typeface="Times New Roman"/>
                <a:ea typeface="Times New Roman"/>
              </a:rPr>
              <a:t>ислам</a:t>
            </a:r>
            <a:r>
              <a:rPr b="1" i="1" lang="ru-RU" sz="2000" spc="-1" strike="noStrike">
                <a:solidFill>
                  <a:srgbClr val="00449e"/>
                </a:solidFill>
                <a:latin typeface="Times New Roman"/>
                <a:ea typeface="Times New Roman"/>
              </a:rPr>
              <a:t>, которые оказали большое влияние на формирование разнообразной культуры регион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ru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28760" y="21420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Calibri"/>
              </a:rPr>
              <a:t>Культура Древней Инди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434960"/>
            <a:ext cx="3008160" cy="513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Verdana"/>
                <a:ea typeface="Times New Roman"/>
              </a:rPr>
              <a:t>Культура Древней Индии</a:t>
            </a:r>
            <a:r>
              <a:rPr b="0" lang="ru-RU" sz="1400" spc="-1" strike="noStrike">
                <a:solidFill>
                  <a:srgbClr val="002060"/>
                </a:solidFill>
                <a:latin typeface="Verdana"/>
                <a:ea typeface="Times New Roman"/>
              </a:rPr>
              <a:t> в своём истоке, неразрывно связанна с Арапской цивилизацией предшествовавшей арийской. В III—II тысячелетии до н. э., а возможно, и раньше в долине Инда существовала одна из величайших цивилизаций древности. Наука узнала об этой малоизвестной культуре Древней Индии намного позже, чем о других цивилизациях, — в 20-х гг. XX в., — и вписать её в мировую историю оказалось не легко: слишком много трудных и неразрешимых вопросов задала она исследователям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strips dir="lu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f7f7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Литературные памятник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3574800" y="27252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434960"/>
            <a:ext cx="3008160" cy="513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начительная часть первоисточников по истории древней Индии безвозвратно погибла. Многие произведения древнеиндийской литературы были написаны на берёзовой коре или на пальмовых листьях и не выдержали неблагоприятных условий климата, более влажного, чем в Египте (где мог сохраниться такой хрупкий материал, как папирус). С другой стороны пожары, которые не могли уничтожить собрания глиняных книг в Передней Азии, оказались губительными для архивов древней Индии. Уцелели в подлиннике лишь те тексты, которые были вырезаны на камне, а их было обнаружено сравнительно немного. К счастью, санскрит, в отличие от большинства древневосточных языков никогда не забывался, литературная традиция на протяжении тысячелетий не прерывалась. Те произведения, которые считались ценными, систематически переписывались и дошли до нас в поздних копиях с дополнениями и искажениями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C:\Documents and Settings\Хозяин\Рабочий стол\ЮЛЬЧИК\1227949442_india-010.jpg"/>
          <p:cNvPicPr/>
          <p:nvPr/>
        </p:nvPicPr>
        <p:blipFill>
          <a:blip r:embed="rId1"/>
          <a:stretch/>
        </p:blipFill>
        <p:spPr>
          <a:xfrm>
            <a:off x="3571920" y="285840"/>
            <a:ext cx="5143320" cy="585792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Этапы Древнеиндийской литератур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3574800" y="27252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434960"/>
            <a:ext cx="3008160" cy="506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орию древнеиндийской литературы принято подразделять на несколько этапов: ведийский, эпический, период классической санскритской литературы. Для первых двух этапов характерно преобладание устной традиции передачи текста. Подлинными энциклопедиями индийской жизни являются две великие эпические поэмы Древней Индии "Махабхарата" и "Рамаяна". В них запечатлены все стороны жизни древних индийцев. Эпос вобрал в себя материал, который, складываясь из устной поэтической традиции, приобретал дидактический характер, включал в себя религиозно-философские произведения и идеи. В последующие эпохи многие видные художники Индии, в числе которых был и знаменитый Калидас, черпали свое вдохновение из этих сокровищ мудрости своего народа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эпоху классической санскритской литературы особую популярность приобрел сборник рассказов и притч “Панчатантра”, основанный на фольклоре. Он был переведен на многие языки, достаточно рано с ним познакомились и в России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C:\Documents and Settings\Хозяин\Рабочий стол\ЮЛЬЧИК\content_countries_21.jpg"/>
          <p:cNvPicPr/>
          <p:nvPr/>
        </p:nvPicPr>
        <p:blipFill>
          <a:blip r:embed="rId2"/>
          <a:stretch/>
        </p:blipFill>
        <p:spPr>
          <a:xfrm>
            <a:off x="3571920" y="291960"/>
            <a:ext cx="5143320" cy="5851800"/>
          </a:xfrm>
          <a:prstGeom prst="rect">
            <a:avLst/>
          </a:prstGeom>
          <a:ln w="0">
            <a:noFill/>
          </a:ln>
        </p:spPr>
      </p:pic>
    </p:spTree>
  </p:cSld>
  <p:transition spd="med">
    <p:plus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2920" y="3071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449e"/>
                </a:solidFill>
                <a:latin typeface="Calibri"/>
              </a:rPr>
              <a:t>Отношение к мир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56760" y="4357440"/>
            <a:ext cx="8001000" cy="213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7bbff"/>
                </a:solidFill>
                <a:latin typeface="Times New Roman"/>
                <a:ea typeface="Times New Roman"/>
              </a:rPr>
              <a:t>В области этики в Упанишадах преобладает проповедь пассивно-созерцательного отношения к миру: высшим счастьем провозглашается избавление души от всяких мирских привязанностей и забот. В Упанишадах проводится различие между материальными и духовными ценностями, между благом, как спокойным состоянием души, и низменной погоней за чувственными удовольствиями. Кстати, именно в Упанишадах впервые высказывается концепция переселения душ (сансара) и воздаяния за прошлые действия (карма). Здесь выражено стремление определить причинно-следственную связь в цепи человеческих поступков. Делается также попытка с помощью нравственных принципов (дхармы) скорректировать поведение человека на каждой стадии его существования. Упанишады по существу являются фундаментом для всех или почти всех последующих философских течений, появившихся в Индии, так как в них были поставлены или разрабатывались идеи, которые длительное время "питали" философскую мысль в Инд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heel spokes="8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Религиозный культ в Древней Инди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Тысячелетняя культурная традиция Индии сложилась в тесной связи с развитием религиозных представлений ее народа. Главным религиозным течением был индуизм. Корни этой религии уходят в глубокую древность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 религиозных и мифологических представлениях племен ведийской эпохи можно судить по памятникам того периода - ведам, содержащим богатый материал по мифологии, религии, ритуалу. Ведийские гимны считались и считаются в Индии священными текстами, их изустно передавали из поколения в поколение, бережно сохраняли. Совокупность этих верований называют ведизмом. Ведизм не был общеиндийской религией, а процветал лишь в Восточном Пенджабе. Именно она и явилась создателем “Ригвед” и других ведийских сборников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circle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Архитектура и живопис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ab0043"/>
                </a:solidFill>
                <a:latin typeface="Times New Roman"/>
                <a:ea typeface="Times New Roman"/>
              </a:rPr>
              <a:t>Первые по времени памятники архитектуры и изобразительного искусства Древней Индии относятся к эпохе Арапской цивилизации, но наиболее яркие образцы были созданы в Кушано-Гуптскую эпоху. Высокими художественными достоинствами отличались памятники как религиозного, так и светского характера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ab0043"/>
                </a:solidFill>
                <a:latin typeface="Times New Roman"/>
                <a:ea typeface="Times New Roman"/>
              </a:rPr>
              <a:t>В эпоху древности большинство сооружений возводилось из дерева, а потому не сохранилось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newsflash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2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Александр</cp:lastModifiedBy>
  <dcterms:modified xsi:type="dcterms:W3CDTF">2011-06-24T18:20:46Z</dcterms:modified>
  <cp:revision>25</cp:revision>
  <dc:subject/>
  <dc:title>Презентация</dc:title>
</cp:coreProperties>
</file>