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D9AD-8C34-4CF8-A772-2BEEBC011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4374-8CAC-4776-9458-C8BA8CCCB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758-0DAA-4CB6-B6B5-3B7B7778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4E0-B571-47C2-BE13-9768FDB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6B3-DC02-482F-B15E-98179632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1ED-49C5-436E-A61D-E89031B8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195-6D9E-45E7-9828-9C612AC9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5E2-C12E-4E8D-B088-8B3A88D8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830-0408-438D-94D2-ADCFAADF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DBC-FAB6-4EA5-9AB7-DA9999E3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CDB-655D-4E40-995F-0C9D9A7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8B1-F919-494F-A2D2-3813D7DF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D8A-06A7-414B-9E9A-84A0FDF8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3EA-9ECF-43D0-B4CE-9C08273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5DC8-F8DD-4074-A4DC-93FA339B8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«Знание только тогда знание, когда оно приобретено усилиями своей мысли, а не память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Monotype Corsiva"/>
              </a:rPr>
              <a:t>Л.Н.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устный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словесно-графический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наглядный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практический.</a:t>
            </a: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Documents and Settings\Admin\Рабочий стол\Новая папка\100_1183.jpg"/>
          <p:cNvPicPr/>
          <p:nvPr/>
        </p:nvPicPr>
        <p:blipFill>
          <a:blip r:embed="rId2"/>
          <a:stretch/>
        </p:blipFill>
        <p:spPr>
          <a:xfrm>
            <a:off x="4857840" y="3286080"/>
            <a:ext cx="407016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Устные контрольные работы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атематические и геометрические диктан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ес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Практические рабо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Задачи по готовым чертеж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аблицы, учебник, схемы, модели фигур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Чертёжные инструмен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Карточки для устной и письменной рабо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Дополнительную и справочную литерату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самостоятельных раб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обучающ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ренировочны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закрепляющи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повторительны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развивающи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вор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D:\Documents and Settings\Admin\Рабочий стол\Новая папка\внуча Дарина 160.jpg"/>
          <p:cNvPicPr/>
          <p:nvPr/>
        </p:nvPicPr>
        <p:blipFill>
          <a:blip r:embed="rId2"/>
          <a:stretch/>
        </p:blipFill>
        <p:spPr>
          <a:xfrm>
            <a:off x="5286240" y="2643120"/>
            <a:ext cx="328320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785880" y="26640"/>
            <a:ext cx="79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предварительна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текуща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периодическа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итогова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Documents and Settings\Admin\Рабочий стол\Новая папка\внуча Дарина 116.jpg"/>
          <p:cNvPicPr/>
          <p:nvPr/>
        </p:nvPicPr>
        <p:blipFill>
          <a:blip r:embed="rId2"/>
          <a:stretch/>
        </p:blipFill>
        <p:spPr>
          <a:xfrm>
            <a:off x="5000760" y="31431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входных срез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09-2010 учебного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Monotype Corsiv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5840" y="1397160"/>
          <a:ext cx="8572320" cy="4603680"/>
        </p:xfrm>
        <a:graphic>
          <a:graphicData uri="http://schemas.openxmlformats.org/drawingml/2006/table">
            <a:tbl>
              <a:tblPr/>
              <a:tblGrid>
                <a:gridCol w="857160"/>
                <a:gridCol w="642960"/>
                <a:gridCol w="785880"/>
                <a:gridCol w="785880"/>
                <a:gridCol w="785520"/>
                <a:gridCol w="785880"/>
                <a:gridCol w="785880"/>
                <a:gridCol w="785880"/>
                <a:gridCol w="785880"/>
                <a:gridCol w="785520"/>
                <a:gridCol w="78588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ходной срез 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й  срезы 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о знаний 2-4 четверт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08-2010 учебн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Monotype Corsiv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57120" y="1397160"/>
          <a:ext cx="8286840" cy="43178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авнительный анализ качества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1397160"/>
          <a:ext cx="8572320" cy="4103640"/>
        </p:xfrm>
        <a:graphic>
          <a:graphicData uri="http://schemas.openxmlformats.org/drawingml/2006/table">
            <a:tbl>
              <a:tblPr/>
              <a:tblGrid>
                <a:gridCol w="779400"/>
                <a:gridCol w="779400"/>
                <a:gridCol w="779400"/>
                <a:gridCol w="779400"/>
                <a:gridCol w="779760"/>
                <a:gridCol w="777600"/>
                <a:gridCol w="779760"/>
                <a:gridCol w="779400"/>
                <a:gridCol w="779400"/>
                <a:gridCol w="779400"/>
                <a:gridCol w="779400"/>
              </a:tblGrid>
              <a:tr h="684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а степени с натуральным показа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400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уравнений второй 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о знаний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2008-2010 учебные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760" y="1857240"/>
          <a:ext cx="8429400" cy="3571920"/>
        </p:xfrm>
        <a:graphic>
          <a:graphicData uri="http://schemas.openxmlformats.org/drawingml/2006/table">
            <a:tbl>
              <a:tblPr/>
              <a:tblGrid>
                <a:gridCol w="2108160"/>
                <a:gridCol w="2106360"/>
                <a:gridCol w="2108520"/>
                <a:gridCol w="2106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Проектирование собственной деятельности по самообраз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99920" y="713880"/>
            <a:ext cx="52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ма самообразования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на 2008-2012 учебные го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2857680"/>
            <a:ext cx="8358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«Самостоятельная рабо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как эффективное средство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 обуч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математ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:\Documents and Settings\Admin\Рабочий стол\Новая папка\100_1241.JPG"/>
          <p:cNvPicPr/>
          <p:nvPr/>
        </p:nvPicPr>
        <p:blipFill>
          <a:blip r:embed="rId2"/>
          <a:stretch/>
        </p:blipFill>
        <p:spPr>
          <a:xfrm>
            <a:off x="5429160" y="457200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:\Documents and Settings\Admin\Рабочий стол\Новая папка\100_1242.JPG"/>
          <p:cNvPicPr/>
          <p:nvPr/>
        </p:nvPicPr>
        <p:blipFill>
          <a:blip r:embed="rId3"/>
          <a:stretch/>
        </p:blipFill>
        <p:spPr>
          <a:xfrm>
            <a:off x="571680" y="500040"/>
            <a:ext cx="283176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98400" indent="-69840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етить открытые уроки и внеклассные мероприятия у коллег шко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йти переподготовку при АКИПК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тупить с обменом опыта на МО учителей математ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785880" y="5400"/>
            <a:ext cx="792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 №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Опытно-экспериментальная апробация собственных проектов само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856800"/>
            <a:ext cx="82868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ть открытый урок, применяя организацию самостоятельной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делать обобщение своего опыта по данной теме самообразования и выставить на сайт «Творческий учитель» в 2011-2012 учебном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856800"/>
            <a:ext cx="82868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Самостоятельность – это качество человека, которое характеризуется сознательным выбором действия и решительностью в его осуществлении. Оно присуще в той или иной степени каждому из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само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ть условия для успешного обучения учащихся на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работать с учащимися технологию самостоятельной работы с учебником при подготовке домашнего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имулирование интереса к самостоя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атическое проведение самостоятельных работ на этапах повторения и закрепления изучаем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нообразить методы обучения с внедрением элементов самостоятельной работы учащихся на уро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вершенствовать формы, методы контроля и оценку знаний, умений и навыков учащихс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уществлять индивидуальный подход к учащим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дея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литературы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состояния избранной темы в практике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ирование собственной деятельности по самообраз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но- экспериментальная апробация собственных проектов само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зучение литературы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71680" y="1714680"/>
          <a:ext cx="8024760" cy="3857400"/>
        </p:xfrm>
        <a:graphic>
          <a:graphicData uri="http://schemas.openxmlformats.org/drawingml/2006/table">
            <a:tbl>
              <a:tblPr/>
              <a:tblGrid>
                <a:gridCol w="1604880"/>
                <a:gridCol w="1604880"/>
                <a:gridCol w="1604880"/>
                <a:gridCol w="1604880"/>
                <a:gridCol w="16052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зучение состояния избранной темы в практик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еспечение каждому ученику условий для максимального развития способнос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Составление самостоятельных и контрольных рабо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Valued Acer Customer</cp:lastModifiedBy>
  <dcterms:modified xsi:type="dcterms:W3CDTF">2010-12-06T05:16:40Z</dcterms:modified>
  <cp:revision>48</cp:revision>
  <dc:subject/>
  <dc:title>Слайд 1</dc:title>
</cp:coreProperties>
</file>