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65AB-8B45-4345-ADB5-A50D0A3884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BDDB-4073-476F-9559-19561FB692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15F6-4E4D-4D24-8068-C7D8B51B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ED1E-A7F6-4031-998F-30F0956B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61FE-C282-40A3-BCD1-B8E674C8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9F89-D63A-479B-8CAF-F92ED345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1D98-28DD-4DF5-82D2-E3E85E63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82AB-77E9-4099-B7EE-BB5E3CB2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B292-1963-4160-A261-D4AB1B58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3861-A69B-4994-8CF3-C5FAC56F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B556-6B1B-4086-962A-9983477B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0C4F-1418-4EE0-BE5B-4D49C529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A0B6-A93F-4E18-91BE-001D2400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CC96-1C6F-49B5-9567-5F1199A1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4BB5-F2CB-4C96-B18A-56921C5FE6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70c0"/>
              </a:solidFill>
              <a:latin typeface="Times New Roman"/>
              <a:ea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Monotype Corsiva"/>
              </a:rPr>
              <a:t>«Знание только тогда знание, когда оно приобретено усилиями своей мысли, а не памятью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99"/>
                </a:solidFill>
                <a:latin typeface="Monotype Corsiva"/>
              </a:rPr>
              <a:t>Л.Н.Толст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1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Monotype Corsiva"/>
              </a:rPr>
              <a:t>устный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Monotype Corsiva"/>
              </a:rPr>
              <a:t>словесно-графический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Monotype Corsiva"/>
              </a:rPr>
              <a:t>наглядный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Monotype Corsiva"/>
              </a:rPr>
              <a:t>практический.</a:t>
            </a:r>
            <a:r>
              <a:rPr b="0" lang="ru-RU" sz="60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5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0c0"/>
                </a:solidFill>
                <a:latin typeface="Arial"/>
              </a:rPr>
              <a:t>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D:\Documents and Settings\Admin\Рабочий стол\Новая папка\100_1183.jpg"/>
          <p:cNvPicPr/>
          <p:nvPr/>
        </p:nvPicPr>
        <p:blipFill>
          <a:blip r:embed="rId2"/>
          <a:stretch/>
        </p:blipFill>
        <p:spPr>
          <a:xfrm>
            <a:off x="4857840" y="3286080"/>
            <a:ext cx="4070160" cy="30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ё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Устные контрольные работы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Математические и геометрические диктанты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Тесты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Практические работы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Задачи по готовым чертеж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едства обуч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Таблицы, учебник, схемы, модели фигур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Чертёжные инструменты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Карточки для устной и письменной работы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Дополнительную и справочную литератур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ды самостоятельных рабо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обучающие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тренировочные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закрепляющие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повторительные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развивающие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</a:rPr>
              <a:t>творче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D:\Documents and Settings\Admin\Рабочий стол\Новая папка\внуча Дарина 160.jpg"/>
          <p:cNvPicPr/>
          <p:nvPr/>
        </p:nvPicPr>
        <p:blipFill>
          <a:blip r:embed="rId2"/>
          <a:stretch/>
        </p:blipFill>
        <p:spPr>
          <a:xfrm>
            <a:off x="5286240" y="2643120"/>
            <a:ext cx="3283200" cy="24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ды провер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0040" y="128592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c00000"/>
              </a:solidFill>
              <a:latin typeface="Monotype Corsiva"/>
            </a:endParaRPr>
          </a:p>
        </p:txBody>
      </p:sp>
      <p:sp>
        <p:nvSpPr>
          <p:cNvPr id="81" name="Rectangle 1"/>
          <p:cNvSpPr/>
          <p:nvPr/>
        </p:nvSpPr>
        <p:spPr>
          <a:xfrm>
            <a:off x="785880" y="26640"/>
            <a:ext cx="7929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  <a:ea typeface="Calibri"/>
              </a:rPr>
              <a:t>предварительная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  <a:ea typeface="Calibri"/>
              </a:rPr>
              <a:t>текущая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  <a:ea typeface="Calibri"/>
              </a:rPr>
              <a:t>периодическая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Monotype Corsiva"/>
                <a:ea typeface="Calibri"/>
              </a:rPr>
              <a:t>итогова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D:\Documents and Settings\Admin\Рабочий стол\Новая папка\внуча Дарина 116.jpg"/>
          <p:cNvPicPr/>
          <p:nvPr/>
        </p:nvPicPr>
        <p:blipFill>
          <a:blip r:embed="rId2"/>
          <a:stretch/>
        </p:blipFill>
        <p:spPr>
          <a:xfrm>
            <a:off x="5000760" y="3143160"/>
            <a:ext cx="371448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зультаты входных срезов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009-2010 учебного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c00000"/>
              </a:solidFill>
              <a:latin typeface="Monotype Corsiv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85840" y="1397160"/>
          <a:ext cx="8572320" cy="4603680"/>
        </p:xfrm>
        <a:graphic>
          <a:graphicData uri="http://schemas.openxmlformats.org/drawingml/2006/table">
            <a:tbl>
              <a:tblPr/>
              <a:tblGrid>
                <a:gridCol w="857160"/>
                <a:gridCol w="642960"/>
                <a:gridCol w="785880"/>
                <a:gridCol w="785880"/>
                <a:gridCol w="785520"/>
                <a:gridCol w="785880"/>
                <a:gridCol w="785880"/>
                <a:gridCol w="785880"/>
                <a:gridCol w="785880"/>
                <a:gridCol w="785520"/>
                <a:gridCol w="785880"/>
              </a:tblGrid>
              <a:tr h="92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ходной срез 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вый  срезы 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2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чество знаний 2-4 четверти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008-2010 учебных г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c00000"/>
              </a:solidFill>
              <a:latin typeface="Monotype Corsiv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57120" y="1397160"/>
          <a:ext cx="8286840" cy="4317840"/>
        </p:xfrm>
        <a:graphic>
          <a:graphicData uri="http://schemas.openxmlformats.org/drawingml/2006/table">
            <a:tbl>
              <a:tblPr/>
              <a:tblGrid>
                <a:gridCol w="1657440"/>
                <a:gridCol w="1657440"/>
                <a:gridCol w="1657080"/>
                <a:gridCol w="1657440"/>
                <a:gridCol w="165744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твер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б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б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14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авнительный анализ качества зна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0040" y="2000160"/>
            <a:ext cx="8229600" cy="40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85840" y="1397160"/>
          <a:ext cx="8572320" cy="4103640"/>
        </p:xfrm>
        <a:graphic>
          <a:graphicData uri="http://schemas.openxmlformats.org/drawingml/2006/table">
            <a:tbl>
              <a:tblPr/>
              <a:tblGrid>
                <a:gridCol w="779400"/>
                <a:gridCol w="779400"/>
                <a:gridCol w="779400"/>
                <a:gridCol w="779400"/>
                <a:gridCol w="779760"/>
                <a:gridCol w="777600"/>
                <a:gridCol w="779760"/>
                <a:gridCol w="779400"/>
                <a:gridCol w="779400"/>
                <a:gridCol w="779400"/>
                <a:gridCol w="779400"/>
              </a:tblGrid>
              <a:tr h="684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н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йства степени с натуральным показател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2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2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84000">
                <a:tc gridSpan="11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уравнений второй степ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чество знаний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 2008-2010 учебные г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0040" y="128592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785880" y="11160"/>
            <a:ext cx="7929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28760" y="1857240"/>
          <a:ext cx="8429400" cy="3571920"/>
        </p:xfrm>
        <a:graphic>
          <a:graphicData uri="http://schemas.openxmlformats.org/drawingml/2006/table">
            <a:tbl>
              <a:tblPr/>
              <a:tblGrid>
                <a:gridCol w="2108160"/>
                <a:gridCol w="2106360"/>
                <a:gridCol w="2108520"/>
                <a:gridCol w="2106360"/>
              </a:tblGrid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о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-200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о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-20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дел№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0040" y="128592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Проектирование собственной деятельности по самообразован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785880" y="11160"/>
            <a:ext cx="7929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99920" y="713880"/>
            <a:ext cx="52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ема самообразования 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Monotype Corsiva"/>
                <a:ea typeface="Times New Roman"/>
              </a:rPr>
              <a:t>на 2008-2012 учебные год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5480" y="2857680"/>
            <a:ext cx="83581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«Самостоятельная работ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     </a:t>
            </a: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как эффективное средство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        </a:t>
            </a: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в обучен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       </a:t>
            </a: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математик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D:\Documents and Settings\Admin\Рабочий стол\Новая папка\100_1241.JPG"/>
          <p:cNvPicPr/>
          <p:nvPr/>
        </p:nvPicPr>
        <p:blipFill>
          <a:blip r:embed="rId2"/>
          <a:stretch/>
        </p:blipFill>
        <p:spPr>
          <a:xfrm>
            <a:off x="5429160" y="4572000"/>
            <a:ext cx="2643120" cy="1982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D:\Documents and Settings\Admin\Рабочий стол\Новая папка\100_1242.JPG"/>
          <p:cNvPicPr/>
          <p:nvPr/>
        </p:nvPicPr>
        <p:blipFill>
          <a:blip r:embed="rId3"/>
          <a:stretch/>
        </p:blipFill>
        <p:spPr>
          <a:xfrm>
            <a:off x="571680" y="500040"/>
            <a:ext cx="2831760" cy="21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0040" y="128592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698400" indent="-698400">
              <a:lnSpc>
                <a:spcPct val="100000"/>
              </a:lnSpc>
              <a:spcBef>
                <a:spcPts val="110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сетить открытые уроки и внеклассные мероприятия у коллег школ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100000"/>
              </a:lnSpc>
              <a:spcBef>
                <a:spcPts val="110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ойти переподготовку при АКИПКР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100000"/>
              </a:lnSpc>
              <a:spcBef>
                <a:spcPts val="110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ыступить с обменом опыта на МО учителей математи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785880" y="5400"/>
            <a:ext cx="792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indent="2286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дел №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0040" y="128592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Monotype Corsiva"/>
                <a:ea typeface="Times New Roman"/>
              </a:rPr>
              <a:t>Опытно-экспериментальная апробация собственных проектов самообраз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"/>
          <p:cNvSpPr/>
          <p:nvPr/>
        </p:nvSpPr>
        <p:spPr>
          <a:xfrm>
            <a:off x="785880" y="11160"/>
            <a:ext cx="7929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9680" y="856800"/>
            <a:ext cx="828684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ать открытый урок, применяя организацию самостоятельной рабо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делать обобщение своего опыта по данной теме самообразования и выставить на сайт «Творческий учитель» в 2011-2012 учебном го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785880" y="11160"/>
            <a:ext cx="7929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9680" y="856800"/>
            <a:ext cx="828684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333399"/>
                </a:solidFill>
                <a:latin typeface="Monotype Corsiva"/>
                <a:ea typeface="Times New Roman"/>
              </a:rPr>
              <a:t>Самостоятельность – это качество человека, которое характеризуется сознательным выбором действия и решительностью в его осуществлении. Оно присуще в той или иной степени каждому из н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785880" y="11160"/>
            <a:ext cx="7929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 самообразо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9680" y="1571760"/>
            <a:ext cx="835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здать условия для успешного обучения учащихся на уроках матема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тработать с учащимися технологию самостоятельной работы с учебником при подготовке домашнего зад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тимулирование интереса к самостоятель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стематическое проведение самостоятельных работ на этапах повторения и закрепления изучаемого матери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нообразить методы обучения с внедрением элементов самостоятельной работы учащихся на урок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вершенствовать формы, методы контроля и оценку знаний, умений и навыков учащихс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существлять индивидуальный подход к учащим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держание деятельно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зучение литературы по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зучение состояния избранной темы в практике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ектирование собственной деятельности по самообразова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ытно- экспериментальная апробация собственных проектов самообра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дел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Изучение литературы по те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овень разви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71680" y="1714680"/>
          <a:ext cx="8024760" cy="3857400"/>
        </p:xfrm>
        <a:graphic>
          <a:graphicData uri="http://schemas.openxmlformats.org/drawingml/2006/table">
            <a:tbl>
              <a:tblPr/>
              <a:tblGrid>
                <a:gridCol w="1604880"/>
                <a:gridCol w="1604880"/>
                <a:gridCol w="1604880"/>
                <a:gridCol w="1604880"/>
                <a:gridCol w="160524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-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ий уров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уров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ий уров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6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6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дел№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Monotype Corsiva"/>
              </a:rPr>
              <a:t>Изучение состояния избранной темы в практике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00040" y="1285560"/>
            <a:ext cx="82296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110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еспечение каждому ученику условий для максимального развития способност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. Составление самостоятельных и контрольных рабо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4:57:21Z</dcterms:created>
  <dc:creator>Admin</dc:creator>
  <dc:description/>
  <dc:language>en-US</dc:language>
  <cp:lastModifiedBy>Valued Acer Customer</cp:lastModifiedBy>
  <dcterms:modified xsi:type="dcterms:W3CDTF">2010-12-06T05:16:40Z</dcterms:modified>
  <cp:revision>48</cp:revision>
  <dc:subject/>
  <dc:title>Слайд 1</dc:title>
</cp:coreProperties>
</file>