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9.jpeg" ContentType="image/jpeg"/>
  <Override PartName="/ppt/media/image10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B9823-0DF2-4998-B0AF-8F9D221BD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8D435-80E3-4A95-B5FA-0B2033505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19261-C840-4DCC-9E43-6D704883D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FCDEC-6D57-4E6E-8504-808ACCCDC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F5475-A1D0-4960-8F1D-41B126517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34D5A-2A9C-4349-B67E-77D9A4681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F5043-2FC5-453B-9931-F128ABB81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18DB8-F923-4640-85C9-A7DF772CE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CCB7A-09D6-4B9B-9AC2-081E7A1CC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AC058-1B29-446C-BC10-21836B200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0B815-04FD-462A-9201-3F5DCA74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FC900-ED56-4EE0-ADDC-B291F5EE8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96E7B-E11C-46E6-B5AB-5C5483B8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DD5DD-98EF-4F8E-B81C-5AAE8304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B9749-2C70-40A7-9B39-851EA76F2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02A3C-7164-400D-80EE-67D3E182B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B31DF-3F05-4F99-A24D-58D15666D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CAF88-CE22-46B0-AB5C-B04795AAA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F5A91-1376-4484-8D22-73FAF887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9DD80-3958-47AD-A25D-A18996B1C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3EA29-16FD-4040-B8AE-13756EBCC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9A9DB-F40A-487D-AECC-4A5F3FA0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768B6-992E-4321-A072-D701B5A2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95D2B-ADBB-4C86-9A3C-3B60A13A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010F6-8D64-4AD3-962C-2893E075EB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bfa673"/>
                  </a:gs>
                  <a:gs pos="100000">
                    <a:srgbClr val="ae976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bfa673"/>
                  </a:gs>
                  <a:gs pos="100000">
                    <a:srgbClr val="ae976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9d885e"/>
                  </a:gs>
                  <a:gs pos="100000">
                    <a:srgbClr val="bfa6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bfa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a89265"/>
                  </a:gs>
                  <a:gs pos="100000">
                    <a:srgbClr val="bfa67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a28d61"/>
                </a:gs>
                <a:gs pos="100000">
                  <a:srgbClr val="bfa67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7f6737"/>
                </a:gs>
                <a:gs pos="100000">
                  <a:srgbClr val="bfa6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6e3a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bfa673"/>
                  </a:gs>
                  <a:gs pos="100000">
                    <a:srgbClr val="ae976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bfa673"/>
                  </a:gs>
                  <a:gs pos="100000">
                    <a:srgbClr val="ae976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9d885e"/>
                  </a:gs>
                  <a:gs pos="100000">
                    <a:srgbClr val="bfa6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bfa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a89265"/>
                  </a:gs>
                  <a:gs pos="100000">
                    <a:srgbClr val="bfa67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a28d61"/>
                </a:gs>
                <a:gs pos="100000">
                  <a:srgbClr val="bfa67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7f6737"/>
                </a:gs>
                <a:gs pos="100000">
                  <a:srgbClr val="bfa6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6e3a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D14B8-6704-43C6-91A8-65E63890365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35344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6e3aa"/>
                </a:solidFill>
                <a:latin typeface="Garamond"/>
              </a:rPr>
              <a:t>Муниципальное дошкольное образовательное учреждение детский сад комбинированного вида № </a:t>
            </a:r>
            <a:r>
              <a:rPr b="1" lang="en-US" sz="2800" spc="-1" strike="noStrike">
                <a:solidFill>
                  <a:srgbClr val="e6e3aa"/>
                </a:solidFill>
                <a:latin typeface="Garamond"/>
              </a:rPr>
              <a:t>51</a:t>
            </a:r>
            <a:r>
              <a:rPr b="1" lang="ru-RU" sz="2800" spc="-1" strike="noStrike">
                <a:solidFill>
                  <a:srgbClr val="e6e3aa"/>
                </a:solidFill>
                <a:latin typeface="Garamond"/>
              </a:rPr>
              <a:t> «Красная Шапочка»</a:t>
            </a:r>
            <a:endParaRPr b="1" lang="en-US" sz="28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95280" y="5013360"/>
            <a:ext cx="835344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оспитатель: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Людмила  Александровна Козлов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Тамбов 201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6e3aa"/>
                </a:solidFill>
                <a:latin typeface="Garamond"/>
              </a:rPr>
              <a:t>Заключительный и аналитический  этапы проекта</a:t>
            </a:r>
            <a:endParaRPr b="1" lang="en-US" sz="40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онтрольное диагностическое обследование дете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оведение сравнительного анализ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опоставление имеющихся результатов с прогнозируемым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5" descr="an335"/>
          <p:cNvPicPr/>
          <p:nvPr/>
        </p:nvPicPr>
        <p:blipFill>
          <a:blip r:embed="rId1"/>
          <a:stretch/>
        </p:blipFill>
        <p:spPr>
          <a:xfrm>
            <a:off x="5867280" y="3860640"/>
            <a:ext cx="2160720" cy="27370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6e3aa"/>
                </a:solidFill>
                <a:latin typeface="Garamond"/>
              </a:rPr>
              <a:t>ВЫВОДЫ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а данный момент анализ педагогического процесса по реализации проекта позволяет сделать следующие выводы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1. У детей появился интерес к творческой и конструктивной деятельности из бумаг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2. Повысилась активность и заинтересованность детей в выполнении задани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3. У детей улучшаются показатели по сформированности двигательных умени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4" descr="book_9"/>
          <p:cNvPicPr/>
          <p:nvPr/>
        </p:nvPicPr>
        <p:blipFill>
          <a:blip r:embed="rId1"/>
          <a:stretch/>
        </p:blipFill>
        <p:spPr>
          <a:xfrm>
            <a:off x="7164360" y="5157720"/>
            <a:ext cx="1728720" cy="1511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6e3aa"/>
                </a:solidFill>
                <a:latin typeface="Garamond"/>
              </a:rPr>
              <a:t>РЕСУРСЫ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Трохимчук Л.В., Шквирина О.И., Бабенко Т.И. Физиологи-педагогическая коррекция моторики кисти ведущей руки ребенка. – Ростов-на-Дону, 1994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Матицын В.П. Готовь руку к школе. – Тверь, 1993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Гаврина С.Е., Кутявина Н.Л., Топоркова И.Г., Щербина С.В. Развиваем руки – чтоб учиться и писать и красиво рисовать. – Ярославль, 1998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Кольцова М.М. Ребенок учится говорить. – С-Пб, 1998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З.А. Боготеева Чудесные поделки из бумаги. М., 1992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.С. Цуканова Развивающие занятия по моделированию в начальной школе. - Ростов-на-Дону, 2003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.А. Кайе Занятия по конструированию и экспериментированию с детьми 5-8 лет. – М., 2008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ttp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//mdou 35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narod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ru/hudojestvkonstruir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html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«Художественное конструирование из бумаги. Детский сад № 35 «Незабудочка»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5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5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5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5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5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5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5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5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5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5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5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5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50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50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50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50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48428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6e3aa"/>
                </a:solidFill>
                <a:latin typeface="Garamond"/>
              </a:rPr>
              <a:t>Благодарю за внимание!</a:t>
            </a:r>
            <a:endParaRPr b="1" lang="en-US" sz="5400" spc="-1" strike="noStrike">
              <a:solidFill>
                <a:srgbClr val="e6e3aa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6e3aa"/>
                </a:solidFill>
                <a:latin typeface="Garamond"/>
              </a:rPr>
              <a:t>ПРОБЛЕМА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ети дошкольного возраста недостаточно качественно выполняют графические упражнения и изготовляют поделки из мелкого материала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Это вызывает затруднения при обучении письму в школ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4" descr="1star"/>
          <p:cNvPicPr/>
          <p:nvPr/>
        </p:nvPicPr>
        <p:blipFill>
          <a:blip r:embed="rId1"/>
          <a:stretch/>
        </p:blipFill>
        <p:spPr>
          <a:xfrm>
            <a:off x="395280" y="2050920"/>
            <a:ext cx="431640" cy="432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1star"/>
          <p:cNvPicPr/>
          <p:nvPr/>
        </p:nvPicPr>
        <p:blipFill>
          <a:blip r:embed="rId2"/>
          <a:stretch/>
        </p:blipFill>
        <p:spPr>
          <a:xfrm>
            <a:off x="324000" y="4076640"/>
            <a:ext cx="431640" cy="432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000" y="1125000"/>
            <a:ext cx="8218440" cy="23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6e3aa"/>
                </a:solidFill>
                <a:latin typeface="Garamond"/>
              </a:rPr>
              <a:t>ОСНОВОПОЛАГАЮЩИЙ ВОПРОС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e6e3aa"/>
                </a:solidFill>
                <a:latin typeface="Garamond"/>
              </a:rPr>
              <a:t>Что будет способствовать подготовки руки дошкольников к письму ?</a:t>
            </a:r>
            <a:endParaRPr b="1" lang="en-US" sz="4000" spc="-1" strike="noStrike">
              <a:solidFill>
                <a:srgbClr val="e6e3aa"/>
              </a:solidFill>
              <a:latin typeface="Garamond"/>
            </a:endParaRPr>
          </a:p>
        </p:txBody>
      </p:sp>
      <p:pic>
        <p:nvPicPr>
          <p:cNvPr id="107" name="Picture 4" descr="1star"/>
          <p:cNvPicPr/>
          <p:nvPr/>
        </p:nvPicPr>
        <p:blipFill>
          <a:blip r:embed="rId1"/>
          <a:stretch/>
        </p:blipFill>
        <p:spPr>
          <a:xfrm>
            <a:off x="1042920" y="2349360"/>
            <a:ext cx="432000" cy="432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689044"/>
          <p:cNvPicPr/>
          <p:nvPr/>
        </p:nvPicPr>
        <p:blipFill>
          <a:blip r:embed="rId1"/>
          <a:stretch/>
        </p:blipFill>
        <p:spPr>
          <a:xfrm>
            <a:off x="468360" y="1413000"/>
            <a:ext cx="8207280" cy="4895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6e3aa"/>
                </a:solidFill>
                <a:latin typeface="Garamond"/>
              </a:rPr>
              <a:t>ПРОЕКТ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Garamond"/>
              </a:rPr>
              <a:t>«Конструирование из бумаги – технология развития тонко-моторных функций рук дошкольников»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6e3aa"/>
                </a:solidFill>
                <a:latin typeface="Garamond"/>
              </a:rPr>
              <a:t>ЦЕЛЬ ПРОЕКТА</a:t>
            </a:r>
            <a:endParaRPr b="1" lang="en-US" sz="32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Формирование тонко-моторных функций рук дошкольников посредством конструктивной деятельности из бумаги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5" descr="yhg"/>
          <p:cNvPicPr/>
          <p:nvPr/>
        </p:nvPicPr>
        <p:blipFill>
          <a:blip r:embed="rId1"/>
          <a:stretch/>
        </p:blipFill>
        <p:spPr>
          <a:xfrm>
            <a:off x="2843280" y="4292640"/>
            <a:ext cx="3025800" cy="216072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6e3aa"/>
                </a:solidFill>
                <a:latin typeface="Garamond"/>
              </a:rPr>
              <a:t>Задачи проекта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ыявить особенности сформированности тонко-моторных функций рук детей среднего дошкольного возраст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азработать систему коррекционно-педагогического воздействия на развитие имеющихся возможностей детей по проблем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рганизовать и осуществить работу по формированию тонкой моторики дошкольников с использованием конструирования из бумаг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6e3aa"/>
                </a:solidFill>
                <a:latin typeface="Garamond"/>
              </a:rPr>
              <a:t>Организационно-подготовительный этап проекта</a:t>
            </a:r>
            <a:endParaRPr b="1" lang="en-US" sz="40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оставление плана реализации проект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дбор методического и дидактического материал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оставление перспективных планов по работе с детьми, родителями, педагогам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азработка специальных заняти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дбор диагностического материал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S7001337"/>
          <p:cNvPicPr/>
          <p:nvPr/>
        </p:nvPicPr>
        <p:blipFill>
          <a:blip r:embed="rId2"/>
          <a:srcRect l="0" t="0" r="0" b="14833"/>
          <a:stretch/>
        </p:blipFill>
        <p:spPr>
          <a:xfrm>
            <a:off x="4356000" y="2565360"/>
            <a:ext cx="4535640" cy="2906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6e3aa"/>
                </a:solidFill>
                <a:latin typeface="Garamond"/>
              </a:rPr>
              <a:t>Диагностический этап проекта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ндивидуальное  тестирование с целью выявления имеющегося двигательно-моторного потенциал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Анализ конструктивной деятельности из бумаги у дошкольников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6" descr="S7001325"/>
          <p:cNvPicPr/>
          <p:nvPr/>
        </p:nvPicPr>
        <p:blipFill>
          <a:blip r:embed="rId1"/>
          <a:srcRect l="0" t="0" r="0" b="14665"/>
          <a:stretch/>
        </p:blipFill>
        <p:spPr>
          <a:xfrm>
            <a:off x="539640" y="3573360"/>
            <a:ext cx="3961080" cy="2808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S7001331"/>
          <p:cNvPicPr/>
          <p:nvPr/>
        </p:nvPicPr>
        <p:blipFill>
          <a:blip r:embed="rId2"/>
          <a:stretch/>
        </p:blipFill>
        <p:spPr>
          <a:xfrm>
            <a:off x="4716360" y="3284640"/>
            <a:ext cx="4103640" cy="3132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6e3aa"/>
                </a:solidFill>
                <a:latin typeface="Garamond"/>
              </a:rPr>
              <a:t>Практический этап проекта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рганизация предметно-развивающей среды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оведение фронтальных и индивидуальных заняти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рганизация работы с родителям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овместное проведение занятий с воспитателем по художественно-эстетической деятельност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едставление опыта работы в рамках МДОУ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№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51 «Красная Шапочка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Picture 13" descr="S7001334"/>
          <p:cNvPicPr/>
          <p:nvPr/>
        </p:nvPicPr>
        <p:blipFill>
          <a:blip r:embed="rId1"/>
          <a:srcRect l="0" t="0" r="0" b="12047"/>
          <a:stretch/>
        </p:blipFill>
        <p:spPr>
          <a:xfrm>
            <a:off x="4572000" y="1197000"/>
            <a:ext cx="4103640" cy="2663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4" descr="Светик 279"/>
          <p:cNvPicPr/>
          <p:nvPr/>
        </p:nvPicPr>
        <p:blipFill>
          <a:blip r:embed="rId2"/>
          <a:stretch/>
        </p:blipFill>
        <p:spPr>
          <a:xfrm>
            <a:off x="5003640" y="3938760"/>
            <a:ext cx="3240360" cy="2658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5:30:42Z</dcterms:created>
  <dc:creator>лариса</dc:creator>
  <dc:description/>
  <dc:language>en-US</dc:language>
  <cp:lastModifiedBy>Admin</cp:lastModifiedBy>
  <dcterms:modified xsi:type="dcterms:W3CDTF">2011-03-31T17:20:02Z</dcterms:modified>
  <cp:revision>50</cp:revision>
  <dc:subject/>
  <dc:title>Муниципальное дошкольное образовательное учреждение детский сад комбинированного вида № 51 «Красная Шапочка»</dc:title>
</cp:coreProperties>
</file>