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5F7E5-C68C-4E26-AE00-C5251432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27B4B-951A-4098-823C-180078EE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BA82E-6F81-4921-BD00-7AAE4517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C7C54-3ABA-4925-A31C-AEAC1301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2B1E-E578-49B4-878B-3611DA73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345B-C93C-4B30-9AB3-44500F02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923F-B400-45ED-9DB9-170A8E8C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1F86-7A87-4A5F-BB7E-38D94238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3E1E-952E-4D93-BF23-EC80D2B6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FA50-14F6-45B2-B416-D58DA3FF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48BF-427F-4E5C-95F6-58C2A02A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280D4-C825-40FB-8D65-C8AD437E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C438-AB27-407B-9645-62C4F68F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14A8-7555-4209-A395-AC1EAECC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0089-D04C-48F0-AA2F-0CBECF12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B877-4BE6-44BB-992F-363D5498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E504-C106-48D0-AC21-27ADB078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9BF65-22CD-4B76-897D-3CE0E554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BCC48-43CE-4F87-999C-6254CDD1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E26F-B6F6-416D-BC4E-953EFE67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DD6B5-B0FE-4B38-B00C-34B806BE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83D89-774E-438E-9AF7-1C97A098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07B54-AFA6-416F-AF75-D0A8A986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6C086-876A-468D-8788-90A1C416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4C1B-EBF8-42E5-A0E7-9F02338CEA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bfa673"/>
                  </a:gs>
                  <a:gs pos="100000">
                    <a:srgbClr val="ae976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9d885e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a89265"/>
                  </a:gs>
                  <a:gs pos="100000">
                    <a:srgbClr val="bfa67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a28d61"/>
                </a:gs>
                <a:gs pos="100000">
                  <a:srgbClr val="bfa67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0C85-D156-4718-A7A4-3D92D22328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534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Муниципальное дошкольное образовательное учреждение детский сад комбинированного вида № </a:t>
            </a:r>
            <a:r>
              <a:rPr b="1" lang="en-US" sz="2800" spc="-1" strike="noStrike">
                <a:solidFill>
                  <a:srgbClr val="e6e3aa"/>
                </a:solidFill>
                <a:latin typeface="Garamond"/>
              </a:rPr>
              <a:t>51</a:t>
            </a:r>
            <a:r>
              <a:rPr b="1" lang="ru-RU" sz="2800" spc="-1" strike="noStrike">
                <a:solidFill>
                  <a:srgbClr val="e6e3aa"/>
                </a:solidFill>
                <a:latin typeface="Garamond"/>
              </a:rPr>
              <a:t> «Красная Шапочка»</a:t>
            </a:r>
            <a:endParaRPr b="1" lang="en-US" sz="28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5280" y="5013360"/>
            <a:ext cx="83534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спитатель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Людмила  Александровна Козло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мбов 20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6e3aa"/>
                </a:solidFill>
                <a:latin typeface="Garamond"/>
              </a:rPr>
              <a:t>Заключительный и аналитический  этапы проекта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нтрольное диагностическое обследование де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ведение сравнительного анализ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поставление имеющихся результатов с прогнозируемы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5" descr="an335"/>
          <p:cNvPicPr/>
          <p:nvPr/>
        </p:nvPicPr>
        <p:blipFill>
          <a:blip r:embed="rId1"/>
          <a:stretch/>
        </p:blipFill>
        <p:spPr>
          <a:xfrm>
            <a:off x="5867280" y="3860640"/>
            <a:ext cx="216072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 данный момент анализ педагогического процесса по реализации проекта позволяет сделать следующие выводы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. У детей появился интерес к творческой и конструктивной деятельности из бумаг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. Повысилась активность и заинтересованность детей в выполнении зада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. У детей улучшаются показатели по сформированности двигательных уме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book_9"/>
          <p:cNvPicPr/>
          <p:nvPr/>
        </p:nvPicPr>
        <p:blipFill>
          <a:blip r:embed="rId1"/>
          <a:stretch/>
        </p:blipFill>
        <p:spPr>
          <a:xfrm>
            <a:off x="7164360" y="5157720"/>
            <a:ext cx="172872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РЕСУРСЫ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рохимчук Л.В., Шквирина О.И., Бабенко Т.И. Физиологи-педагогическая коррекция моторики кисти ведущей руки ребенка. – Ростов-на-Дону, 199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атицын В.П. Готовь руку к школе. – Тверь, 199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аврина С.Е., Кутявина Н.Л., Топоркова И.Г., Щербина С.В. Развиваем руки – чтоб учиться и писать и красиво рисовать. – Ярославль, 199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ольцова М.М. Ребенок учится говорить. – С-Пб, 199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.А. Боготеева Чудесные поделки из бумаги. М., 1992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.С. Цуканова Развивающие занятия по моделированию в начальной школе. - Ростов-на-Дону, 200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.А. Кайе Занятия по конструированию и экспериментированию с детьми 5-8 лет. – М., 200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//mdou 35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narod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ru/hudojestvkonstruir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html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«Художественное конструирование из бумаги. Детский сад № 35 «Незабудочка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5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5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6e3aa"/>
                </a:solidFill>
                <a:latin typeface="Garamond"/>
              </a:rPr>
              <a:t>Благодарю за внимание!</a:t>
            </a:r>
            <a:endParaRPr b="1" lang="en-US" sz="5400" spc="-1" strike="noStrike">
              <a:solidFill>
                <a:srgbClr val="e6e3aa"/>
              </a:solidFill>
              <a:latin typeface="Garamond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ПРОБЛЕМА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ти дошкольного возраста недостаточно качественно выполняют графические упражнения и изготовляют поделки из мелкого материал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 вызывает затруднения при обучении письму в школ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1star"/>
          <p:cNvPicPr/>
          <p:nvPr/>
        </p:nvPicPr>
        <p:blipFill>
          <a:blip r:embed="rId1"/>
          <a:stretch/>
        </p:blipFill>
        <p:spPr>
          <a:xfrm>
            <a:off x="395280" y="205092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1star"/>
          <p:cNvPicPr/>
          <p:nvPr/>
        </p:nvPicPr>
        <p:blipFill>
          <a:blip r:embed="rId2"/>
          <a:stretch/>
        </p:blipFill>
        <p:spPr>
          <a:xfrm>
            <a:off x="324000" y="407664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1844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6e3aa"/>
                </a:solidFill>
                <a:latin typeface="Garamond"/>
              </a:rPr>
              <a:t>ОСНОВОПОЛАГАЮЩИЙ ВОПРОС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6e3aa"/>
                </a:solidFill>
                <a:latin typeface="Garamond"/>
              </a:rPr>
              <a:t>Что будет способствовать подготовки руки дошкольников к письму ?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pic>
        <p:nvPicPr>
          <p:cNvPr id="107" name="Picture 4" descr="1star"/>
          <p:cNvPicPr/>
          <p:nvPr/>
        </p:nvPicPr>
        <p:blipFill>
          <a:blip r:embed="rId1"/>
          <a:stretch/>
        </p:blipFill>
        <p:spPr>
          <a:xfrm>
            <a:off x="1042920" y="2349360"/>
            <a:ext cx="432000" cy="432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689044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48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ПРОЕКТ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«Конструирование из бумаги – технология развития тонко-моторных функций рук дошкольников»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6e3aa"/>
                </a:solidFill>
                <a:latin typeface="Garamond"/>
              </a:rPr>
              <a:t>ЦЕЛЬ ПРОЕКТА</a:t>
            </a:r>
            <a:endParaRPr b="1" lang="en-US" sz="32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Формирование тонко-моторных функций рук дошкольников посредством конструктивной деятельности из бумаг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yhg"/>
          <p:cNvPicPr/>
          <p:nvPr/>
        </p:nvPicPr>
        <p:blipFill>
          <a:blip r:embed="rId1"/>
          <a:stretch/>
        </p:blipFill>
        <p:spPr>
          <a:xfrm>
            <a:off x="2843280" y="4292640"/>
            <a:ext cx="302580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Задачи проекта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явить особенности сформированности тонко-моторных функций рук детей среднего дошкольного возрас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работать систему коррекционно-педагогического воздействия на развитие имеющихся возможностей детей по проблем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рганизовать и осуществить работу по формированию тонкой моторики дошкольников с использованием конструирования из бумаг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6e3aa"/>
                </a:solidFill>
                <a:latin typeface="Garamond"/>
              </a:rPr>
              <a:t>Организационно-подготовительный этап проекта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ставление плана реализации проек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дбор методического и дидактического материа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ставление перспективных планов по работе с детьми, родителями, педагог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работка специальных занят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дбор диагностического материа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S7001337"/>
          <p:cNvPicPr/>
          <p:nvPr/>
        </p:nvPicPr>
        <p:blipFill>
          <a:blip r:embed="rId2"/>
          <a:srcRect l="0" t="0" r="0" b="14833"/>
          <a:stretch/>
        </p:blipFill>
        <p:spPr>
          <a:xfrm>
            <a:off x="4356000" y="2565360"/>
            <a:ext cx="4535640" cy="2906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Диагностический этап проекта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дивидуальное  тестирование с целью выявления имеющегося двигательно-моторного потенциа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нализ конструктивной деятельности из бумаги у дошкольник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6" descr="S7001325"/>
          <p:cNvPicPr/>
          <p:nvPr/>
        </p:nvPicPr>
        <p:blipFill>
          <a:blip r:embed="rId1"/>
          <a:srcRect l="0" t="0" r="0" b="14665"/>
          <a:stretch/>
        </p:blipFill>
        <p:spPr>
          <a:xfrm>
            <a:off x="539640" y="3573360"/>
            <a:ext cx="3961080" cy="2808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S7001331"/>
          <p:cNvPicPr/>
          <p:nvPr/>
        </p:nvPicPr>
        <p:blipFill>
          <a:blip r:embed="rId2"/>
          <a:stretch/>
        </p:blipFill>
        <p:spPr>
          <a:xfrm>
            <a:off x="4716360" y="3284640"/>
            <a:ext cx="4103640" cy="3132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e3aa"/>
                </a:solidFill>
                <a:latin typeface="Garamond"/>
              </a:rPr>
              <a:t>Практический этап проекта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рганизация предметно-развивающей сред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ведение фронтальных и индивидуальных занят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рганизация работы с родителя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вместное проведение занятий с воспитателем по художественно-эстетической деятельн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ставление опыта работы в рамках МДО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№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1 «Красная Шапочка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13" descr="S7001334"/>
          <p:cNvPicPr/>
          <p:nvPr/>
        </p:nvPicPr>
        <p:blipFill>
          <a:blip r:embed="rId1"/>
          <a:srcRect l="0" t="0" r="0" b="12047"/>
          <a:stretch/>
        </p:blipFill>
        <p:spPr>
          <a:xfrm>
            <a:off x="4572000" y="1197000"/>
            <a:ext cx="4103640" cy="26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Светик 279"/>
          <p:cNvPicPr/>
          <p:nvPr/>
        </p:nvPicPr>
        <p:blipFill>
          <a:blip r:embed="rId2"/>
          <a:stretch/>
        </p:blipFill>
        <p:spPr>
          <a:xfrm>
            <a:off x="5003640" y="3938760"/>
            <a:ext cx="3240360" cy="2658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5:30:42Z</dcterms:created>
  <dc:creator>лариса</dc:creator>
  <dc:description/>
  <dc:language>en-US</dc:language>
  <cp:lastModifiedBy>Admin</cp:lastModifiedBy>
  <dcterms:modified xsi:type="dcterms:W3CDTF">2011-03-31T17:20:02Z</dcterms:modified>
  <cp:revision>50</cp:revision>
  <dc:subject/>
  <dc:title>Муниципальное дошкольное образовательное учреждение детский сад комбинированного вида № 51 «Красная Шапочка»</dc:title>
</cp:coreProperties>
</file>