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4CE-C2CC-421B-B967-94A00C99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4C6-6811-4A7C-953D-2CF8B86B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BEA-7E82-4045-B8DE-3B3D56F0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7EA-71E6-4D8A-BC28-87332CD1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B8A-7648-481F-B55F-AAD2E33D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E3F-A0FB-474E-8470-3D2ABEA9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2B8-7498-4E66-8163-2EC2F26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BFF-8220-4215-A50B-7A26F3E3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765A-82CA-435A-8478-46848A8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D98-F8A9-487F-9F93-E6D5127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ACE-34E8-4017-B76E-03AAFF6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350-E388-4637-AFFF-3414465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879C-F65B-4E5C-856A-2C6D37864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Documents and Settings\St._ Ann\Мои документы\Мои рисунки\pic20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Заголовок 1"/>
          <p:cNvSpPr/>
          <p:nvPr/>
        </p:nvSpPr>
        <p:spPr>
          <a:xfrm rot="1132200">
            <a:off x="864720" y="1025280"/>
            <a:ext cx="77724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 u="sng">
                <a:solidFill>
                  <a:srgbClr val="ffc000"/>
                </a:solidFill>
                <a:uFillTx/>
                <a:latin typeface="Calibri"/>
              </a:rPr>
              <a:t>Мастера русского авангарда</a:t>
            </a:r>
            <a:r>
              <a:rPr b="0" lang="ru-RU" sz="55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Documents and Settings\St._ Ann\Мои документы\Мои рисунки\normal_1909_%20%C4%E0%EC%FB%20%E2%20%EA%F0%E8%ED%EE%EB%E8%ED%E0%F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с двумя скругленными противолежащими углами 3"/>
          <p:cNvSpPr/>
          <p:nvPr/>
        </p:nvSpPr>
        <p:spPr>
          <a:xfrm>
            <a:off x="3143160" y="6143760"/>
            <a:ext cx="2928960" cy="5713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Дамы в криноли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Documents and Settings\St._ Ann\Мои документы\Мои рисунки\1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Documents and Settings\St._ Ann\Мои документы\Мои рисунки\2429375560029216634S600x600Q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Documents and Settings\St._ Ann\Мои документы\Мои рисунки\0297133461.gif"/>
          <p:cNvPicPr/>
          <p:nvPr/>
        </p:nvPicPr>
        <p:blipFill>
          <a:blip r:embed="rId1"/>
          <a:stretch/>
        </p:blipFill>
        <p:spPr>
          <a:xfrm>
            <a:off x="2214720" y="142920"/>
            <a:ext cx="4214520" cy="5572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скругленными противолежащими углами 3"/>
          <p:cNvSpPr/>
          <p:nvPr/>
        </p:nvSpPr>
        <p:spPr>
          <a:xfrm>
            <a:off x="2286000" y="6072120"/>
            <a:ext cx="428616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равюра. Обложка альманаха "Синий всадник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ркий и стремительный представитель русского авангарда </a:t>
            </a:r>
            <a:r>
              <a:rPr b="0" lang="ru-RU" sz="3000" spc="-1" strike="noStrike">
                <a:solidFill>
                  <a:srgbClr val="fac090"/>
                </a:solidFill>
                <a:latin typeface="Calibri"/>
              </a:rPr>
              <a:t>Казимир Северинович Малеви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D:\Documents and Settings\St._ Ann\Мои документы\Мои рисунки\39385424_Malevich_portret_2.jpg"/>
          <p:cNvPicPr/>
          <p:nvPr/>
        </p:nvPicPr>
        <p:blipFill>
          <a:blip r:embed="rId1"/>
          <a:stretch/>
        </p:blipFill>
        <p:spPr>
          <a:xfrm>
            <a:off x="2428920" y="1785960"/>
            <a:ext cx="3933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Documents and Settings\St._ Ann\Мои документы\Мои рисунки\r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с двумя скругленными противолежащими углами 5"/>
          <p:cNvSpPr/>
          <p:nvPr/>
        </p:nvSpPr>
        <p:spPr>
          <a:xfrm>
            <a:off x="2786040" y="6357960"/>
            <a:ext cx="285768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На бульв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D:\Documents and Settings\St._ Ann\Мои документы\Мои рисунки\run_man.jpg"/>
          <p:cNvPicPr/>
          <p:nvPr/>
        </p:nvPicPr>
        <p:blipFill>
          <a:blip r:embed="rId1"/>
          <a:stretch/>
        </p:blipFill>
        <p:spPr>
          <a:xfrm>
            <a:off x="2286000" y="0"/>
            <a:ext cx="4429080" cy="5643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с двумя скругленными противолежащими углами 3"/>
          <p:cNvSpPr/>
          <p:nvPr/>
        </p:nvSpPr>
        <p:spPr>
          <a:xfrm>
            <a:off x="2286000" y="6143760"/>
            <a:ext cx="421488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Бегущий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Documents and Settings\St._ Ann\Мои документы\Мои рисунки\kmalevich90-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с двумя скругленными противолежащими углами 3"/>
          <p:cNvSpPr/>
          <p:nvPr/>
        </p:nvSpPr>
        <p:spPr>
          <a:xfrm>
            <a:off x="2428920" y="6357960"/>
            <a:ext cx="40003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Красный квад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Documents and Settings\St._ Ann\Мои документы\Мои рисунки\r_pi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с двумя скругленными противолежащими углами 3"/>
          <p:cNvSpPr/>
          <p:nvPr/>
        </p:nvSpPr>
        <p:spPr>
          <a:xfrm>
            <a:off x="2643120" y="6286680"/>
            <a:ext cx="3357720" cy="428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Девушки в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Documents and Settings\St._ Ann\Мои документы\Мои рисунки\letyaschii_aeroplan_1000_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с двумя скругленными противолежащими углами 3"/>
          <p:cNvSpPr/>
          <p:nvPr/>
        </p:nvSpPr>
        <p:spPr>
          <a:xfrm>
            <a:off x="2643120" y="6215040"/>
            <a:ext cx="35719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Летящий аэро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St._ Ann\Рабочий стол\gmtr350-ee03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2876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Феномен искусства 20 в., определяемый термином «русский авангард», не соотносится с какой-либо конкретной художественной программой или стилем. Этот термин окончательно закрепляется за радикал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ьными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 новаторскими течениям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и, складывающимися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в русском искусстве в п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редвоенные – 1907–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1914 гг., выходящие на 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авансцену в годы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революции и достигаю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щие зрелости в первое </a:t>
            </a:r>
            <a:r>
              <a:rPr b="0" lang="ru-RU" sz="3000" spc="-1" strike="noStrike">
                <a:solidFill>
                  <a:srgbClr val="007fde"/>
                </a:solidFill>
                <a:latin typeface="Calibri"/>
              </a:rPr>
              <a:t>послереволюционное </a:t>
            </a:r>
            <a:r>
              <a:rPr b="0" lang="ru-RU" sz="3000" spc="-1" strike="noStrike">
                <a:solidFill>
                  <a:srgbClr val="4f6228"/>
                </a:solidFill>
                <a:latin typeface="Calibri"/>
              </a:rPr>
              <a:t>десятилет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D:\Documents and Settings\St._ Ann\Мои документы\Мои рисунки\08_06_01.jpg"/>
          <p:cNvPicPr/>
          <p:nvPr/>
        </p:nvPicPr>
        <p:blipFill>
          <a:blip r:embed="rId2"/>
          <a:stretch/>
        </p:blipFill>
        <p:spPr>
          <a:xfrm rot="2082600">
            <a:off x="2417400" y="358920"/>
            <a:ext cx="3782880" cy="5662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D:\Documents and Settings\St._ Ann\Мои документы\Мои рисунки\2bbb948072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с двумя скругленными противолежащими углами 3"/>
          <p:cNvSpPr/>
          <p:nvPr/>
        </p:nvSpPr>
        <p:spPr>
          <a:xfrm>
            <a:off x="2214720" y="6286680"/>
            <a:ext cx="37861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варде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Documents and Settings\St._ Ann\Мои документы\Мои рисунки\14554036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двумя скругленными противолежащими углами 3"/>
          <p:cNvSpPr/>
          <p:nvPr/>
        </p:nvSpPr>
        <p:spPr>
          <a:xfrm>
            <a:off x="2357280" y="6215040"/>
            <a:ext cx="378648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Голова крестьянской деву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вел Николаевич Филон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1883 - 1941)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Documents and Settings\St._ Ann\Мои документы\Мои рисунки\54069312_Filonov_AutoPortrait.jpg"/>
          <p:cNvPicPr/>
          <p:nvPr/>
        </p:nvPicPr>
        <p:blipFill>
          <a:blip r:embed="rId1"/>
          <a:stretch/>
        </p:blipFill>
        <p:spPr>
          <a:xfrm>
            <a:off x="2571840" y="1785960"/>
            <a:ext cx="3429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D:\Documents and Settings\St._ Ann\Мои документы\Мои рисунки\34.jpg"/>
          <p:cNvPicPr/>
          <p:nvPr/>
        </p:nvPicPr>
        <p:blipFill>
          <a:blip r:embed="rId1"/>
          <a:stretch/>
        </p:blipFill>
        <p:spPr>
          <a:xfrm>
            <a:off x="1857240" y="0"/>
            <a:ext cx="5072040" cy="600084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с двумя скругленными противолежащими углами 3"/>
          <p:cNvSpPr/>
          <p:nvPr/>
        </p:nvSpPr>
        <p:spPr>
          <a:xfrm>
            <a:off x="2357280" y="6215040"/>
            <a:ext cx="435780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Цветы мирового процве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St._ Ann\Мои документы\Мои рисунки\x_e5d12ab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с двумя скругленными противолежащими углами 3"/>
          <p:cNvSpPr/>
          <p:nvPr/>
        </p:nvSpPr>
        <p:spPr>
          <a:xfrm>
            <a:off x="2643120" y="6072120"/>
            <a:ext cx="335772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Белая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Documents and Settings\St._ Ann\Мои документы\Мои рисунки\filonov_work_200712070115071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Documents and Settings\St._ Ann\Мои документы\Мои рисунки\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с двумя скругленными противолежащими углами 3"/>
          <p:cNvSpPr/>
          <p:nvPr/>
        </p:nvSpPr>
        <p:spPr>
          <a:xfrm>
            <a:off x="3071880" y="6215040"/>
            <a:ext cx="3000240" cy="428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Жив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Documents and Settings\St._ Ann\Мои документы\Мои рисунки\pic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Documents and Settings\St._ Ann\Мои документы\Мои рисунки\41770529_1238352604_risun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280" y="475920"/>
            <a:ext cx="8147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3333ff"/>
                </a:solidFill>
                <a:latin typeface="Calibri"/>
              </a:rPr>
              <a:t>В истории мирового искусства русский авангард являет собой последнюю ступень, которой достигла классическая изобразительная традиция. Культурно исторические рамки русского авангарда отмечены от завершения стиля модерн до утверждения в нашей стране социалистического реализма. Однако, даже сейчас можно увидеть развитие этого искусства вплоть до современных форм художественного твор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боту выполнил Павел Пронькин 11б к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St._ Ann\Мои документы\Мои рисунки\image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2876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щим для русского авангарда был радикальный отказ от культурного наследия, полное отрицание преемственности в художественном творчестве и сочетание деструктивного и созидательного начал: духа нигилизма и революционной агрессии с творческой энергией, направленной на создание принципиально нового в искусстве и в иных сферах жизни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712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оположником абстракционизма в изобразительном искусстве по праву считают </a:t>
            </a:r>
            <a:r>
              <a:rPr b="0" lang="ru-RU" sz="2700" spc="-1" strike="noStrike">
                <a:solidFill>
                  <a:srgbClr val="fac090"/>
                </a:solidFill>
                <a:latin typeface="Calibri"/>
              </a:rPr>
              <a:t>Василия Васильевича Кандинского (1866 – 1944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Documents and Settings\St._ Ann\Мои документы\Мои рисунки\Wassily%20Kandinsky-01.jpg"/>
          <p:cNvPicPr/>
          <p:nvPr/>
        </p:nvPicPr>
        <p:blipFill>
          <a:blip r:embed="rId1"/>
          <a:stretch/>
        </p:blipFill>
        <p:spPr>
          <a:xfrm>
            <a:off x="928800" y="1785960"/>
            <a:ext cx="2643120" cy="40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Documents and Settings\St._ Ann\Мои документы\Мои рисунки\portret_kandinsky.jpg"/>
          <p:cNvPicPr/>
          <p:nvPr/>
        </p:nvPicPr>
        <p:blipFill>
          <a:blip r:embed="rId2"/>
          <a:stretch/>
        </p:blipFill>
        <p:spPr>
          <a:xfrm>
            <a:off x="4786200" y="1785960"/>
            <a:ext cx="2571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Documents and Settings\St._ Ann\Мои документы\Мои рисунки\f3116.jpg"/>
          <p:cNvPicPr/>
          <p:nvPr/>
        </p:nvPicPr>
        <p:blipFill>
          <a:blip r:embed="rId1"/>
          <a:stretch/>
        </p:blipFill>
        <p:spPr>
          <a:xfrm>
            <a:off x="1785960" y="142920"/>
            <a:ext cx="5143320" cy="5572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28520" y="5714640"/>
            <a:ext cx="47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. В. Кандинский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Озеро», 1910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Documents and Settings\St._ Ann\Мои документы\Мои рисунки\0_cafd_a669a5e8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Documents and Settings\St._ Ann\Мои документы\Мои рисунки\%20%20~2.JPG"/>
          <p:cNvPicPr/>
          <p:nvPr/>
        </p:nvPicPr>
        <p:blipFill>
          <a:blip r:embed="rId1"/>
          <a:stretch/>
        </p:blipFill>
        <p:spPr>
          <a:xfrm>
            <a:off x="712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Documents and Settings\St._ Ann\Мои документы\Мои рисунки\image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с двумя скругленными противолежащими углами 2"/>
          <p:cNvSpPr/>
          <p:nvPr/>
        </p:nvSpPr>
        <p:spPr>
          <a:xfrm>
            <a:off x="2857680" y="6143760"/>
            <a:ext cx="285732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Синий вса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St._ Ann\Мои документы\Мои рисунки\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с двумя скругленными противолежащими углами 3"/>
          <p:cNvSpPr/>
          <p:nvPr/>
        </p:nvSpPr>
        <p:spPr>
          <a:xfrm>
            <a:off x="3071880" y="6072120"/>
            <a:ext cx="2786040" cy="500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Песня Вол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Calibri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06:48:37Z</dcterms:created>
  <dc:creator>Учитель</dc:creator>
  <dc:description/>
  <dc:language>en-US</dc:language>
  <cp:lastModifiedBy>Александр</cp:lastModifiedBy>
  <dcterms:modified xsi:type="dcterms:W3CDTF">2011-06-24T18:23:04Z</dcterms:modified>
  <cp:revision>2</cp:revision>
  <dc:subject/>
  <dc:title>Слайд 1</dc:title>
</cp:coreProperties>
</file>