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189-F28C-4086-AD32-9E4CADD6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D57-A7A9-4EAE-9F1C-F63F031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04A-099C-42C6-8286-E9CAB2E5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BF0-AA74-4EA9-BD95-2A780513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5DA-E35E-40AE-A148-AFAD8706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8E3-363A-46BB-B6AD-239C7DD4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A2A-D839-4C35-A1CA-36DE213A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DED-0C8F-4BC9-B09F-3752E77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BCD-4BCD-40C6-BB17-8A0CA1F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99F2-DD87-4438-AF45-934FD2C6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05F-493B-4E66-924B-3895F2B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493-F369-4855-930C-D575FE36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5304-FE77-437F-AE51-CA942E2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94F-573F-4C51-BBEB-F39209B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4E0-C25D-4B7C-AA4F-60EBB32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3019-E266-4B2E-A5B8-18AC24D5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B642-22D8-46BA-A048-11097F4B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66C-66C1-4C3A-BF3C-8BEC13C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700-4480-45C3-A6F3-A87D406C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EF7-D1E1-4F15-AD7D-B29E50A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C6A-C919-4379-96A1-F8A2186D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BAD-4DF1-46DF-8C35-8E66BC9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500-B86B-43EC-95DD-84935BC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7A2-12FA-46F9-8671-8E1A2A6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D4DE-7B08-47E1-807D-93DCE5FF90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AA1-CE7E-4759-B9C1-141788FBBA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457200" y="205740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Ы И НАРОДЫ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РА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1523880" y="53352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нарушения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оправия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Picture 5" descr="2"/>
          <p:cNvPicPr/>
          <p:nvPr/>
        </p:nvPicPr>
        <p:blipFill>
          <a:blip r:embed="rId5"/>
          <a:stretch/>
        </p:blipFill>
        <p:spPr>
          <a:xfrm>
            <a:off x="533520" y="1981080"/>
            <a:ext cx="3733560" cy="27813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1" name="Picture 6" descr="3"/>
          <p:cNvPicPr/>
          <p:nvPr/>
        </p:nvPicPr>
        <p:blipFill>
          <a:blip r:embed="rId6"/>
          <a:stretch/>
        </p:blipFill>
        <p:spPr>
          <a:xfrm>
            <a:off x="4648320" y="2666880"/>
            <a:ext cx="3967200" cy="30322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4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4"/>
          <p:cNvSpPr txBox="1"/>
          <p:nvPr/>
        </p:nvSpPr>
        <p:spPr>
          <a:xfrm>
            <a:off x="14479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нарушения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оправия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3" name="Picture 5" descr="4"/>
          <p:cNvPicPr/>
          <p:nvPr/>
        </p:nvPicPr>
        <p:blipFill>
          <a:blip r:embed="rId5"/>
          <a:stretch/>
        </p:blipFill>
        <p:spPr>
          <a:xfrm>
            <a:off x="533520" y="1600200"/>
            <a:ext cx="3047760" cy="23367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4" name="Picture 6" descr="5"/>
          <p:cNvPicPr/>
          <p:nvPr/>
        </p:nvPicPr>
        <p:blipFill>
          <a:blip r:embed="rId6"/>
          <a:stretch/>
        </p:blipFill>
        <p:spPr>
          <a:xfrm>
            <a:off x="3124080" y="4191120"/>
            <a:ext cx="3048120" cy="22525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5" name="Picture 7" descr="6"/>
          <p:cNvPicPr/>
          <p:nvPr/>
        </p:nvPicPr>
        <p:blipFill>
          <a:blip r:embed="rId7"/>
          <a:stretch/>
        </p:blipFill>
        <p:spPr>
          <a:xfrm>
            <a:off x="5562720" y="1676520"/>
            <a:ext cx="3047760" cy="22986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00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000" autoRev="1" fill="hold"/>
                                        <p:tgtEl>
                                          <p:spTgt spid="4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4"/>
          <p:cNvSpPr txBox="1"/>
          <p:nvPr/>
        </p:nvSpPr>
        <p:spPr>
          <a:xfrm>
            <a:off x="1143000" y="45720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те верное утверждение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90720" y="170964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по чертам характера, по привычкам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отличается от других своей культурой, историей и языком, на котором люди думают и говоря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по внешним признакам, принадлежащим только ей,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80880" y="5334120"/>
            <a:ext cx="5335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>
            <a:off x="2133720" y="457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лним схему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Oval 3"/>
          <p:cNvSpPr/>
          <p:nvPr/>
        </p:nvSpPr>
        <p:spPr>
          <a:xfrm>
            <a:off x="228600" y="1447920"/>
            <a:ext cx="403848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Европеоидная 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Негроидная 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Монголоид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Oval 4"/>
          <p:cNvSpPr/>
          <p:nvPr/>
        </p:nvSpPr>
        <p:spPr>
          <a:xfrm>
            <a:off x="4648320" y="1447920"/>
            <a:ext cx="419076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5"/>
          <p:cNvSpPr/>
          <p:nvPr/>
        </p:nvSpPr>
        <p:spPr>
          <a:xfrm>
            <a:off x="2514600" y="3962520"/>
            <a:ext cx="403848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3124080" y="2895480"/>
            <a:ext cx="2590920" cy="1524240"/>
          </a:xfrm>
          <a:prstGeom prst="ellipse">
            <a:avLst/>
          </a:prstGeom>
          <a:solidFill>
            <a:srgbClr val="e0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д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и исправить ошибк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746280" y="1405080"/>
            <a:ext cx="794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 нашем классе учится чернокожий мальчик. Сегодня он дежурил в классе, и у меня на парте появились чернильные пятна. Когда я спросил его, зачем он испачкал мне парту, он сказал, что этого не делал. Но, по-моему, кроме него в классе никого не было. Значит, испачкать мог только он. Вот они какие эти чернокожие – лгуны и грязнули. Ни одному чернокожему нельзя верит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590920" y="5105520"/>
            <a:ext cx="487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914400" y="5638680"/>
            <a:ext cx="6781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8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40" name="WordArt 5"/>
          <p:cNvSpPr txBox="1"/>
          <p:nvPr/>
        </p:nvSpPr>
        <p:spPr>
          <a:xfrm>
            <a:off x="609480" y="685800"/>
            <a:ext cx="8153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ди всех рас и всех народов 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ы между собой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4"/>
          <p:cNvSpPr txBox="1"/>
          <p:nvPr/>
        </p:nvSpPr>
        <p:spPr>
          <a:xfrm>
            <a:off x="609480" y="685800"/>
            <a:ext cx="8153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ое человечество состоит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разных рас и 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 Земли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6" name="Picture 5" descr="8"/>
          <p:cNvPicPr/>
          <p:nvPr/>
        </p:nvPicPr>
        <p:blipFill>
          <a:blip r:embed="rId7"/>
          <a:stretch/>
        </p:blipFill>
        <p:spPr>
          <a:xfrm>
            <a:off x="320040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6"/>
          <p:cNvSpPr/>
          <p:nvPr/>
        </p:nvSpPr>
        <p:spPr>
          <a:xfrm>
            <a:off x="533520" y="685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СЫ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8000"/>
                </a:solidFill>
                <a:latin typeface="Tahoma"/>
              </a:rPr>
              <a:t>– особые группы людей которые по внешним признакам отличаются от друг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2986560" y="19051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НЕГР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593640" y="2471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ёмная кожа, курчавые волосы. Они защищают организм от солнечных ожогов и перегре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12" descr="5"/>
          <p:cNvPicPr/>
          <p:nvPr/>
        </p:nvPicPr>
        <p:blipFill>
          <a:blip r:embed="rId1"/>
          <a:stretch/>
        </p:blipFill>
        <p:spPr>
          <a:xfrm>
            <a:off x="914400" y="3809880"/>
            <a:ext cx="3333600" cy="20671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1" name="Picture 13" descr="n_502i"/>
          <p:cNvPicPr/>
          <p:nvPr/>
        </p:nvPicPr>
        <p:blipFill>
          <a:blip r:embed="rId2"/>
          <a:stretch/>
        </p:blipFill>
        <p:spPr>
          <a:xfrm>
            <a:off x="5410080" y="3429000"/>
            <a:ext cx="2532240" cy="28195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2882160" y="762120"/>
            <a:ext cx="34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ОНГОЛ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609480" y="170964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зкий разрез глаз и смуглая кожа. Они защищают организм от резких ветров, песка и п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6" descr="asuka"/>
          <p:cNvPicPr/>
          <p:nvPr/>
        </p:nvPicPr>
        <p:blipFill>
          <a:blip r:embed="rId1"/>
          <a:stretch/>
        </p:blipFill>
        <p:spPr>
          <a:xfrm>
            <a:off x="2133720" y="2895480"/>
            <a:ext cx="2144520" cy="32004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5" name="Picture 7" descr="img1669"/>
          <p:cNvPicPr/>
          <p:nvPr/>
        </p:nvPicPr>
        <p:blipFill>
          <a:blip r:embed="rId2"/>
          <a:stretch/>
        </p:blipFill>
        <p:spPr>
          <a:xfrm>
            <a:off x="5105520" y="3276720"/>
            <a:ext cx="3124080" cy="23320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2920680" y="76212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ЕВРОПЕ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609480" y="16002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стые волосы, брови, ресницы, борода и усы. Они защищают лицо от капель частых дождей и горло – от холодно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10" descr="Копия Изображение 084"/>
          <p:cNvPicPr/>
          <p:nvPr/>
        </p:nvPicPr>
        <p:blipFill>
          <a:blip r:embed="rId1"/>
          <a:stretch/>
        </p:blipFill>
        <p:spPr>
          <a:xfrm>
            <a:off x="609480" y="3352680"/>
            <a:ext cx="4114800" cy="2062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9" name="Picture 12" descr="Копия Изображение 064"/>
          <p:cNvPicPr/>
          <p:nvPr/>
        </p:nvPicPr>
        <p:blipFill>
          <a:blip r:embed="rId2"/>
          <a:stretch/>
        </p:blipFill>
        <p:spPr>
          <a:xfrm>
            <a:off x="5181480" y="2819520"/>
            <a:ext cx="3189240" cy="32763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974880" y="717480"/>
            <a:ext cx="771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аро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8000"/>
                </a:solidFill>
                <a:latin typeface="Tahoma"/>
              </a:rPr>
              <a:t>– большая общность людей, сложившаяся на определенной территории из разных плем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2339280" y="236232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СОБАЯ КУЛЬ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3080520" y="3048120"/>
            <a:ext cx="200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С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СТЮ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АЗ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373480" y="5486400"/>
            <a:ext cx="42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НАЦИОНА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5" name="Picture 5" descr="001"/>
          <p:cNvPicPr/>
          <p:nvPr/>
        </p:nvPicPr>
        <p:blipFill>
          <a:blip r:embed="rId5"/>
          <a:stretch/>
        </p:blipFill>
        <p:spPr>
          <a:xfrm>
            <a:off x="838080" y="2057400"/>
            <a:ext cx="3810240" cy="2989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06" name="Picture 6" descr="23big"/>
          <p:cNvPicPr/>
          <p:nvPr/>
        </p:nvPicPr>
        <p:blipFill>
          <a:blip r:embed="rId6"/>
          <a:stretch/>
        </p:blipFill>
        <p:spPr>
          <a:xfrm>
            <a:off x="5562720" y="1981080"/>
            <a:ext cx="3089160" cy="3124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07" name="Text Box 7"/>
          <p:cNvSpPr/>
          <p:nvPr/>
        </p:nvSpPr>
        <p:spPr>
          <a:xfrm>
            <a:off x="1603800" y="54100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ПОН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5787360" y="5410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РАИН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4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0" name="Picture 5" descr="02"/>
          <p:cNvPicPr/>
          <p:nvPr/>
        </p:nvPicPr>
        <p:blipFill>
          <a:blip r:embed="rId5"/>
          <a:stretch/>
        </p:blipFill>
        <p:spPr>
          <a:xfrm>
            <a:off x="762120" y="2057400"/>
            <a:ext cx="3657600" cy="24382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1" name="Text Box 6"/>
          <p:cNvSpPr/>
          <p:nvPr/>
        </p:nvSpPr>
        <p:spPr>
          <a:xfrm>
            <a:off x="1369800" y="48340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АТЫШ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7" descr="2007-03-03-02-001"/>
          <p:cNvPicPr/>
          <p:nvPr/>
        </p:nvPicPr>
        <p:blipFill>
          <a:blip r:embed="rId6"/>
          <a:stretch/>
        </p:blipFill>
        <p:spPr>
          <a:xfrm>
            <a:off x="4952880" y="2209680"/>
            <a:ext cx="3657600" cy="27432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3" name="Text Box 8"/>
          <p:cNvSpPr/>
          <p:nvPr/>
        </p:nvSpPr>
        <p:spPr>
          <a:xfrm>
            <a:off x="5796000" y="51814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С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5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5" name="Picture 6" descr="mong-people"/>
          <p:cNvPicPr/>
          <p:nvPr/>
        </p:nvPicPr>
        <p:blipFill>
          <a:blip r:embed="rId5"/>
          <a:stretch/>
        </p:blipFill>
        <p:spPr>
          <a:xfrm>
            <a:off x="990720" y="2133720"/>
            <a:ext cx="3546360" cy="26604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6" name="Text Box 7"/>
          <p:cNvSpPr/>
          <p:nvPr/>
        </p:nvSpPr>
        <p:spPr>
          <a:xfrm>
            <a:off x="1500120" y="50626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НГОЛЬ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8" descr="387p_drum12"/>
          <p:cNvPicPr/>
          <p:nvPr/>
        </p:nvPicPr>
        <p:blipFill>
          <a:blip r:embed="rId6"/>
          <a:stretch/>
        </p:blipFill>
        <p:spPr>
          <a:xfrm>
            <a:off x="5105520" y="2286000"/>
            <a:ext cx="3733560" cy="24717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5990400" y="498636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О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7-24T11:47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