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913-F951-489B-BD91-30C1A3E9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DB7-4E4B-4657-8CE2-E5771DC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17D-DC6B-44D5-8148-91FAFC62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0B9-451E-47B9-9774-60F41FF8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DE23-E129-4EBE-8C8D-2303266E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26D4-E63F-4824-A11A-AC1948C9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0803-B153-4295-A15A-FDEB3F5D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DC75-9AC1-47B4-A5EE-91CE197A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9060-609F-4110-B7B5-86AEE11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399-894C-4E38-AD7E-31B8E89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DF8-B004-4C54-8089-8B7125E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938-CCE4-45D0-91FD-DD5F05E3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EB7-D9D9-431E-A413-C86453A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3C4-73FB-459F-AF77-963CEDA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DA3-761C-402B-AE17-86C7E641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360D-0EA0-47F9-9425-DE24D61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0314-1042-4399-B9A8-6994C48A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C7A-E696-4DBB-A5FE-D4CFC4D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E77-BE48-40D5-BADA-88DA302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75F-9A67-4880-A2FC-EE3A088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D9B-54B5-4647-BAE5-14BB8F5A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AC6-0C07-4E46-B360-BD35522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9A9-C96E-46C2-999D-38116EF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70F-278B-4605-9B76-1E0BC5C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6A2-EB62-4477-86D0-4F83853E4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704-4677-4858-B1B0-C9CC773E1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троевая композиция с флагам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етские классы МБОУ СОШ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о.Железнодорожный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стоевой подготовки – Кученов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вижение «Триколор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кончание композиц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перед выходо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02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ход отряда барабанщ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630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ход отряда флагоносце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пражнение «Гребёнк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168560"/>
            <a:ext cx="75834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хождение в стр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675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в три луч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344600"/>
            <a:ext cx="769644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вижение по кругу шеренгам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912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в колонн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488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4T16:12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