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679-651D-4CAC-AC70-CD1FED27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059-E88B-4591-89E3-5D7CDD65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4C1-0842-4093-AE9F-4CAB056D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05E-BF14-414F-80BE-74D1A242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D0B8-ECB7-40D0-BF91-E298A8F8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CEC2-6AD2-444B-BBBB-6341BDDC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7AE0-0C34-48EC-BC95-642949EB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FDA3-F9F6-4D5B-891A-A6A62495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01DE-63B4-4CDE-B214-2C38C3A2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5D95-D13B-49CF-9F0A-4365D348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8F37-1C01-48B6-85CC-60FBD08E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01A-9362-464C-BBEA-9950BFEF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6122-ED42-4E4B-AC2F-B9D64B37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75C4-D739-4FF9-8B08-EA47073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5B94-3323-4538-9A94-123E6650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14E0-67E1-4306-B985-A78DAA0C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723F-21F0-4912-ACD9-3B10FD77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31D-6F47-40A6-AA7F-8F208A82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260-9856-4C90-A99C-A645D1BD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468-BF42-4199-86A8-CAD21F73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1E1-6667-4343-A700-9F71D57F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184-3D7E-4A86-A8F1-1EFF857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05D-E0F8-4A4C-9198-51D7C5CF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6DD-78BD-4E75-A88F-931A5330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F366-0486-44A9-A3C0-482AF996E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B43F-53D8-44C8-B70E-B5744F70C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троевая композиция с флагам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детские классы МБОУ СОШ 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о.Железнодорожный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стоевой подготовки – Кученов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вижение «Триколор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05560" cy="55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кончание композици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2296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строение перед выходом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0240" cy="55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ыход отряда барабанщик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76304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ход отряда флагоносце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пражнение «Гребёнка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168560"/>
            <a:ext cx="75834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хождение в стр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6756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строение в три луч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1344600"/>
            <a:ext cx="769644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вижение по кругу шеренгам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912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остроение в колонну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4884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4T16:12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