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6E5C-92D3-418B-B0AB-55EF3FF7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CD4-814F-4343-8584-D361E738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4EB-F60C-4CE0-860F-CF6EFA5D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D85-C80C-4812-A63C-E776FA8E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A1EC-3DE8-4EB6-A726-0D0A31C0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CEDE-3971-430B-94C0-19C3990E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5F9E-DFF0-4154-9D9D-48799E99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70C0-5DE7-4A39-B95A-5AEEAD84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40DE-4B55-40B7-9ECB-B4D4D463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CF58-AB3F-44D3-B6F6-954FC8B7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12CE-2547-4734-87C1-3A89225A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67B-FFAC-4B2A-AC7D-B55FAE86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9C75-D952-486D-B40E-80FC23B9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5B13-27A5-4EEF-9B68-A527AFEC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02B6-C09D-444F-8E46-5E663BDE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6F0D-76F3-4440-A471-6654F4F2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C6CC-5AF3-4250-B433-F3A6B897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02E0-0B8D-4D56-8540-5BE10CF3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FC992-3967-4830-B193-636B7869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4EDF6-DA1A-45D9-98E1-9BB5BFA0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0329C-382B-40E0-85C4-A0284EAE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C5A1B-F5A1-44ED-AC58-EA1F9354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830-8713-4B08-B815-670E5EC0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02FC6-FF09-4C1E-8EE8-E4B2EF4F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03AE7-ADE5-4BDF-9E9D-AAA547BB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72DD4-CFA4-4857-A9FF-49D528DF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174C-704D-411A-AA75-C107EF14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3652F-9403-4E8E-ADAF-204CFA55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6748-5388-42FF-8840-D7FE9FCC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F1F36-5934-412C-93E9-541FA4D7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AD8E3-B163-4CE9-91A7-4C3D67B4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4AAB8-0740-4998-BD6E-9158D5E7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48DB9-2889-4799-B048-DC93C03B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495-0C83-4177-85EC-09E778A7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C98B4-E989-43B7-A946-30915252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57B35-9B1A-4166-9B04-7C459177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1A470-EBD8-4A7F-8268-1790085D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83D66-6DC3-453E-870D-07DDB2A8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6D17B-7382-4E37-872C-900B3C4C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55F84-97AA-4C77-83A6-7EC88704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29800-4A3F-4395-A40C-9B1AA7F2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95E00-6C56-46A6-AA48-A495CDF3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90842-7B56-459B-9CEA-7FA36628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98756-018E-46A1-84FA-CEAB559D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103-87C8-4736-9FCC-39301687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778FF-8DC4-4E70-A7DB-4FF8ABD5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7B49E-AD25-4F12-9D4F-57E0D366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B8D77-08BA-4E3D-BF96-F14FB83D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A25ED-13A3-41E6-8D97-53B0F2B6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4FC7B-B9C2-4683-BF4F-A4D5A97F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B0D1C-A1DD-411E-A247-48875C4A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9963F-F0E1-4FA6-B34D-CBFB0E4B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5C47A-9B44-4780-9DCC-DA4C2CD3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0015F-38D7-446A-85D2-4E5C50E6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F1CAA-15E8-4917-B692-8566B1F7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79E-D491-41A6-90AC-2CC79AE4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24113-197C-4E9F-874A-400645A8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2FF-419D-4F92-A0D0-FBF65CAB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ACEB-A666-4C10-89AB-3FB05DBD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F93-8665-48BF-9C43-D6468F1C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CDAA-5FB9-40D4-B9E6-909B1254BE62}" type="slidenum">
              <a:rPr b="0" lang="ru-RU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B850-1EF8-4214-A3D6-B0E33E338D08}" type="slidenum">
              <a:rPr b="0" lang="ru-RU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19FF-934E-4819-8795-66CA75A62FAF}" type="slidenum">
              <a:rPr b="0" lang="ru-RU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C91E-9A16-4B00-A6D3-9A2EA65AA540}" type="slidenum">
              <a:rPr b="0" lang="ru-RU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1b4b7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4FA5-9545-48B2-9736-A64F29D5D295}" type="slidenum">
              <a:rPr b="0" lang="ru-RU" sz="1000" spc="-1" strike="noStrike">
                <a:solidFill>
                  <a:srgbClr val="a1b4b7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885e9"/>
                </a:solidFill>
                <a:latin typeface="Times New Roman"/>
                <a:ea typeface="Times New Roman"/>
              </a:rPr>
              <a:t>Традиции и история японского театра</a:t>
            </a:r>
            <a:endParaRPr b="1" lang="en-US" sz="48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57160" y="3643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8386"/>
                </a:solidFill>
                <a:latin typeface="Times New Roman"/>
                <a:ea typeface="Times New Roman"/>
              </a:rPr>
              <a:t>Презентация  для учащихся 10 класса подготовлен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8386"/>
                </a:solidFill>
                <a:latin typeface="Times New Roman"/>
                <a:ea typeface="Times New Roman"/>
              </a:rPr>
              <a:t>Ивановой Н.С., учителем МХ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8386"/>
                </a:solidFill>
                <a:latin typeface="Times New Roman"/>
                <a:ea typeface="Times New Roman"/>
              </a:rPr>
              <a:t>МБОУ «Юркинская средня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атр Дзёрури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8000"/>
          </a:bodyPr>
          <a:p>
            <a:pPr marL="17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и кукольного театра в Японии восходят к кугуцуси, охотникам, которые в свободное время развлекались тем, что делали кукол и экспромтом устраивали кукольные представления. Кукольные представления позже стали устраивать последователи буддийской секты дзёдо, используя для кукольных сцен буддистские. У некоторых из этих странствующих монахов-актёров к шее на шнурках была подвешена миниатюрная сцена, так называемая кубикакэ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2022480" cy="2771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1500120" y="3500280"/>
            <a:ext cx="3427560" cy="2273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3"/>
          <a:stretch/>
        </p:blipFill>
        <p:spPr>
          <a:xfrm>
            <a:off x="3071880" y="690480"/>
            <a:ext cx="19620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атр Ёсэ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9000"/>
          </a:bodyPr>
          <a:p>
            <a:pPr marL="17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сэ - традиционный камерный театр комед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акли этого театра относятся в основном к жанру ракуго (дословно — «рассказы с комической концовкой») — комические, а иногда и сатирические рассказы, полные острот и каламбуров, с неожиданной концовкой. Они развивались из анекдотов, которые создавали профессиональные рассказчики — ракугока. Исполнитель, по обычаю одетый в кимоно, усаживается на сцене на подушке для сидения. Из реквизита у него в руках только веер и полотенц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41846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Кукольный театр Бунраку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нраку - самый крупный кукольный театр Японии, являющийся хранителем традиций, названный по имени организатора и постановщика первых спектаклей Уэмура Бунракукэн (1737–1810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ие кукольного представления с народным песенным сказом дзёрури,    исполняемым под аккомпанемент сямисэна, относится к концу ХVI - началу ХVII век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ы для представлений Бунраку изготавливаются в размере 1/2 – 2/3 человеческого роста. Каждую куклу, как правило, ведут три оператор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1357200" y="1035000"/>
            <a:ext cx="32148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атр Японии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3000"/>
          </a:bodyPr>
          <a:p>
            <a:pPr marL="16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и и история японского театра уходит корнями в очень далёкое прошлое. Прямая преемственность традиции прослеживается чуть ли не полтора тысячелетия, к эпохе, когда в Японию с материка проник буддизм, а вместе с ним - музыка и танцы из Китая, Индии, Коре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6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е атрибуты традиционного японского театра: маски и танцы использовались ещё в добуддийском, напоминающем шаманские пляски лицедействе Кагура , входившем в синтоиский ритуал богопочит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285920" y="1006560"/>
            <a:ext cx="32796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атр Японии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й японский театр - это сложный и многоцветный ми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видности японского театр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атр Н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атр Кёгэн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атр Кабук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атр Дзёрур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атр Ёсэ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атр Бунра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214280" y="1000080"/>
            <a:ext cx="34848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885e9"/>
                </a:solidFill>
                <a:latin typeface="Times New Roman"/>
                <a:ea typeface="Times New Roman"/>
              </a:rPr>
              <a:t>Важнейшие атрибуты традиционного японского театра: маски</a:t>
            </a:r>
            <a:endParaRPr b="1" lang="en-US" sz="28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131840" y="773280"/>
            <a:ext cx="2695680" cy="3904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5143680" y="857160"/>
            <a:ext cx="3319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атр Но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Но зародился в 14-м веке и быстро стал "модным" среди самураев и высшей аристократии сёгуната Токугава. То есть, театр Но изначально был ориентирован на высшее сословие и недоступен для широких масс населения. В наши дни, конечно же, представление театра Но может посетить любой желающ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428840" y="830160"/>
            <a:ext cx="29322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85e9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4885e9"/>
                </a:solidFill>
                <a:latin typeface="Times New Roman"/>
                <a:ea typeface="Times New Roman"/>
              </a:rPr>
              <a:t>Под аккомпанемент хора, барабанов и флейт основное действующее лицо или Ситэ повествует истории из жизни смертных и духов, богов и демонов, сражений выигранных и проигранных, убийцах и Буддийских монахах архаичной Японии. Архаичный язык, на котором ведётся повествование, углубляет "великую загадку" масок.</a:t>
            </a:r>
            <a:endParaRPr b="1" lang="en-US" sz="1400" spc="-1" strike="noStrike">
              <a:solidFill>
                <a:srgbClr val="4885e9"/>
              </a:solidFill>
              <a:latin typeface="Verdan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192320" y="785880"/>
            <a:ext cx="2611440" cy="3929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5072040" y="819000"/>
            <a:ext cx="25718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атр Кёгэн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тр Кёгэн возник примерно в одно и то же время с театром Но и до сих пор эти два вида японского традиционного театрального искусства мирно соседствуют в рамках одного десятилетия, однако по стилистике и содержанию два эти жанра разительно непохожи. Театр Но - это драма возвышенных переживаний и титанических страстей, по духу это высокая трагедия, хотя содержание пьес далеко не всегда трагично. Кёгэн же - незатейливая комедия, грубоватый фарс, построенный на незатейливой шутке, шумной возне, даже скабрезности. Но элегантен, поэтичен, Кёгэн прозаичен и простонароден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857160" y="785880"/>
            <a:ext cx="2084400" cy="3119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2"/>
          <a:stretch/>
        </p:blipFill>
        <p:spPr>
          <a:xfrm>
            <a:off x="3000240" y="2452680"/>
            <a:ext cx="22384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Театр Кабуки</a:t>
            </a:r>
            <a:endParaRPr b="1" lang="en-US" sz="32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эпохи Токугава, наконец, родился, расцвел и принёс плоды демократический театр Японии. Это была драма Кабу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уальные танцы часто исполнялись для развлечения прихожан при синтоиском храме в Идзумо. Они и по сей день исполняются при синтоиских храмах в Нара и других местах. Юные девушки в тонких накидках поверх белых кимоно и алых хакама, с распущенными волосами и красиво загримированными лицами танцуют в зале храм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2143080" y="3571920"/>
            <a:ext cx="2881440" cy="1940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892080" y="928800"/>
            <a:ext cx="30146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0f6fc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6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о время представлений помещения всегда были переполнены, и популярность Кабуки была столь головокружительной, что самураи Эдо до безумия влюблялись в танцовщиц и устраивали поединки, дабы завоевать их симпатии. Властям это показалось уже излишним, и они решили запретить выступления труппы, хотя запрет был скорее вызван поведение эдоских кавалеров, чем деятельностью самого Кабуки. правительство третьего сёгуна Иэмицу издало в 1629 году строгий указ, запрещающий любые представления с участием женщин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500120" y="1000080"/>
            <a:ext cx="28576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12-07-24T16:10:55Z</dcterms:modified>
  <cp:revision>9</cp:revision>
  <dc:subject/>
  <dc:title>Традиции и история японского театра</dc:title>
</cp:coreProperties>
</file>