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8DC-B4B8-46EF-B64B-89227DA9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EEF-853B-4468-9753-ECBF3B8D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C12-7313-4659-B04E-1FF8FC3E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880-DCB7-4781-A052-D3DBB137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FDA5-C507-43B0-B0EF-D165AC6C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3B33-C31C-40B8-BB74-AD9507F2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CE72-6D40-4B0B-9D1E-6D07E7B3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8DC7-89BA-46FD-8309-E433DBDA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1D6C-0D00-43F6-9D13-70C371B0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4653-0E83-4AF5-9102-7F5AEA15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9247-6D8F-4B12-8A48-E5E31DDD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1AD-AF43-4DCC-8916-5458B56B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1790-1846-4AAB-AEDC-3BE51909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8341-AD75-4CF8-864A-718C47EE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8EE8-259D-4359-94EA-A57F0524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FFD3-69FC-4287-898E-56CDEBFF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CF4D-8FF3-46C4-86AC-700C9F0F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45E8-4583-4EF0-AD3C-FA4DCF45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3242-3FFA-49C3-BF9E-375B7504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31E5-7D44-4C0C-B522-E4810089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ACBB-8E0B-4BFA-A3A7-B40B59AA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621B-7248-4081-AEB3-2953D3F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4CB-94E3-4718-BEEF-042D2D01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EEFF-9CD2-4168-8EDE-49D84E68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C8B4-3A29-4DCE-9C6C-E2E5B72C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2578-AA1C-4D16-88CE-BEE8749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8EB5-E013-4288-B927-9DD7C193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9A94-B978-4596-B822-B09D28DD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1C7D-B96E-4AEB-9F35-EFE635F7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CD43-5DF9-482B-86D5-F0C95157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AFC3-CC1F-47EC-800F-B2CB7F87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5D16-CD82-4195-898C-B9CD54C5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830ED-F3D6-44DF-9FF6-6E65BCEE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000-4B48-4373-BD76-94D49DAC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0E339-B7FA-44F8-ADE1-70DE430D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574F-BEE9-4D94-AE71-8FC64871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45F3-9107-4A1C-9E49-D59E09EE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C21D-8061-4BF2-831E-6A2A5ABA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2381-3452-4CAB-96FC-19417BB0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E766-6DB9-449C-B170-0800CAF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2CFE-5318-4E1B-BEC0-4CB45E91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EFD7-B3C1-4879-866A-6CBB80FB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67E04-3CC2-48FD-83B3-D3DB2693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3EA7D-0832-4A3F-BD2D-45ED583E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B35-8893-41B2-8982-650BB295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FC6ED-72CD-44D5-82DE-061948F6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814AB-0876-42EC-870B-7626113B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2296-CA22-4121-9B74-91866997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3006C-7689-4F9A-B68C-DB099165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E406B-131E-40DA-A2B7-BFBE5ECD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47DCA-2A4A-401A-B938-513D20C5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437EC-BD2B-4754-BB4C-C564275B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03733-B7D9-433F-8F0B-35859BEE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E358-9D83-4B49-BF66-2EB19B95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3F50A-D03F-46D4-A9BA-EF55A5BD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311-8831-4B5D-AE3A-9B4CB185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246DF-FE53-4372-BFD5-F7D28F84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B65-806E-440A-9AD4-341DE10C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FBE-C25E-4E33-BEBB-948644B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C29-0127-44C3-A9C6-6D926221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AFE2-033A-41ED-92E9-37E3320CCFFE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BCF6-1F9E-47A3-9304-B0693118BE2E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8A5B-81EA-4641-B105-0E12AF99B453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5559-BDD4-4651-8D61-00B4B86CD4D7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0851-6439-4C5A-B64F-4BF72F447EFB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Традиции и история японского театра</a:t>
            </a:r>
            <a:endParaRPr b="1" lang="en-US" sz="4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57160" y="36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Times New Roman"/>
                <a:ea typeface="Times New Roman"/>
              </a:rPr>
              <a:t>Презентация  для учащихся 10 класса подготовле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Times New Roman"/>
                <a:ea typeface="Times New Roman"/>
              </a:rPr>
              <a:t>Ивановой Н.С., учителем МХ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Times New Roman"/>
                <a:ea typeface="Times New Roman"/>
              </a:rPr>
              <a:t>МБОУ «Юркин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Дзёрури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8000"/>
          </a:bodyPr>
          <a:p>
            <a:pPr marL="1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и кукольного театра в Японии восходят к кугуцуси, охотникам, которые в свободное время развлекались тем, что делали кукол и экспромтом устраивали кукольные представления. Кукольные представления позже стали устраивать последователи буддийской секты дзёдо, используя для кукольных сцен буддистские. У некоторых из этих странствующих монахов-актёров к шее на шнурках была подвешена миниатюрная сцена, так называемая кубикакэ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2022480" cy="277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1500120" y="3500280"/>
            <a:ext cx="3427560" cy="2273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3"/>
          <a:stretch/>
        </p:blipFill>
        <p:spPr>
          <a:xfrm>
            <a:off x="3071880" y="690480"/>
            <a:ext cx="1962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Ёсэ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9000"/>
          </a:bodyPr>
          <a:p>
            <a:pPr marL="1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сэ - традиционный камерный театр комед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кли этого театра относятся в основном к жанру ракуго (дословно — «рассказы с комической концовкой») — комические, а иногда и сатирические рассказы, полные острот и каламбуров, с неожиданной концовкой. Они развивались из анекдотов, которые создавали профессиональные рассказчики — ракугока. Исполнитель, по обычаю одетый в кимоно, усаживается на сцене на подушке для сидения. Из реквизита у него в руках только веер и полотенц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184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Кукольный театр Бунраку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нраку - самый крупный кукольный театр Японии, являющийся хранителем традиций, названный по имени организатора и постановщика первых спектаклей Уэмура Бунракукэн (1737–1810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е кукольного представления с народным песенным сказом дзёрури,    исполняемым под аккомпанемент сямисэна, относится к концу ХVI - началу ХVII ве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для представлений Бунраку изготавливаются в размере 1/2 – 2/3 человеческого роста. Каждую куклу, как правило, ведут три операто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357200" y="1035000"/>
            <a:ext cx="32148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Японии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3000"/>
          </a:bodyPr>
          <a:p>
            <a:pPr marL="16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и и история японского театра уходит корнями в очень далёкое прошлое. Прямая преемственность традиции прослеживается чуть ли не полтора тысячелетия, к эпохе, когда в Японию с материка проник буддизм, а вместе с ним - музыка и танцы из Китая, Индии, Коре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е атрибуты традиционного японского театра: маски и танцы использовались ещё в добуддийском, напоминающем шаманские пляски лицедействе Кагура , входившем в синтоиский ритуал богопочит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285920" y="1006560"/>
            <a:ext cx="3279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Японии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японский театр - это сложный и многоцветный ми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идности японского театр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Н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Кёгэ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Кабу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Дзёрур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Ёсэ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Бунра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34848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Важнейшие атрибуты традиционного японского театра: маски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131840" y="773280"/>
            <a:ext cx="2695680" cy="390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5143680" y="857160"/>
            <a:ext cx="331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Но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Но зародился в 14-м веке и быстро стал "модным" среди самураев и высшей аристократии сёгуната Токугава. То есть, театр Но изначально был ориентирован на высшее сословие и недоступен для широких масс населения. В наши дни, конечно же, представление театра Но может посетить любой желающ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428840" y="830160"/>
            <a:ext cx="29322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Под аккомпанемент хора, барабанов и флейт основное действующее лицо или Ситэ повествует истории из жизни смертных и духов, богов и демонов, сражений выигранных и проигранных, убийцах и Буддийских монахах архаичной Японии. Архаичный язык, на котором ведётся повествование, углубляет "великую загадку" масок.</a:t>
            </a:r>
            <a:endParaRPr b="1" lang="en-US" sz="14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192320" y="785880"/>
            <a:ext cx="2611440" cy="392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5072040" y="819000"/>
            <a:ext cx="25718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Кёгэн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Кёгэн возник примерно в одно и то же время с театром Но и до сих пор эти два вида японского традиционного театрального искусства мирно соседствуют в рамках одного десятилетия, однако по стилистике и содержанию два эти жанра разительно непохожи. Театр Но - это драма возвышенных переживаний и титанических страстей, по духу это высокая трагедия, хотя содержание пьес далеко не всегда трагично. Кёгэн же - незатейливая комедия, грубоватый фарс, построенный на незатейливой шутке, шумной возне, даже скабрезности. Но элегантен, поэтичен, Кёгэн прозаичен и простонароден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2084400" cy="311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3000240" y="2452680"/>
            <a:ext cx="22384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Кабуки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эпохи Токугава, наконец, родился, расцвел и принёс плоды демократический театр Японии. Это была драма Кабу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ьные танцы часто исполнялись для развлечения прихожан при синтоиском храме в Идзумо. Они и по сей день исполняются при синтоиских храмах в Нара и других местах. Юные девушки в тонких накидках поверх белых кимоно и алых хакама, с распущенными волосами и красиво загримированными лицами танцуют в зале храм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143080" y="3571920"/>
            <a:ext cx="2881440" cy="1940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892080" y="928800"/>
            <a:ext cx="3014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о время представлений помещения всегда были переполнены, и популярность Кабуки была столь головокружительной, что самураи Эдо до безумия влюблялись в танцовщиц и устраивали поединки, дабы завоевать их симпатии. Властям это показалось уже излишним, и они решили запретить выступления труппы, хотя запрет был скорее вызван поведение эдоских кавалеров, чем деятельностью самого Кабуки. правительство третьего сёгуна Иэмицу издало в 1629 году строгий указ, запрещающий любые представления с участием женщин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500120" y="1000080"/>
            <a:ext cx="28576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2-07-24T16:10:55Z</dcterms:modified>
  <cp:revision>9</cp:revision>
  <dc:subject/>
  <dc:title>Традиции и история японского театра</dc:title>
</cp:coreProperties>
</file>