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A79-B8EE-4BC2-8D2E-03AD767E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AB8-D62B-4BE5-BE63-BAA2F2D2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119-9614-44FA-9D6D-418AF55E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BD3-1401-45C0-B635-0592ADAD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AA9-C745-45D0-82E7-95B374F4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AA9-B731-4029-BE40-A13A6B70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ED4-BCE1-4016-8E87-EBD54B3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2B7-3C5A-4002-B4A9-8FE04A1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6B8-906C-42DB-A2DA-70EE2DD1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ECA-AF5C-4D37-9D93-07386A05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5C4-3B4B-4E09-8EA5-15FF8A9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72B-9088-40C5-B606-A18C4939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5FA9-2689-4637-BC19-084B1F146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74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14440" y="1447920"/>
            <a:ext cx="684360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Застывша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en-US" sz="8800" spc="-1" strike="noStrike">
                <a:solidFill>
                  <a:srgbClr val="cc0000"/>
                </a:solidFill>
                <a:latin typeface="Monotype Corsiva"/>
              </a:rPr>
              <a:t>музы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3049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ельн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Германия, Х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70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5520" y="307440"/>
            <a:ext cx="4038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 Святых Петра и Марии, известная во всем мире как Кёльнский собор – памятник христианства, готической архитектуры, памятник вере и настойчивости людей города, в котором он стоит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ор – часть всемирного культурного наследия, один из самых известных архитектурных памятников в Германии, и самый известный символ К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яя легенда гласит, что город Кёльн простоит столько, сколько будет строиться Кёльнский собор. Неизвестно, так это или нет, так как строительство собора, начавшееся в 1248 году, продолжается и по сей день. И хотя официальная дата окончания многовековой стройки – 1880 год, до сих пор проводятся работы по отделке и реставрации со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1437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  чувства  вызывает  у  вас  созерцание  этих  храмов?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авните  свои  впечатления с  приведенными  выше  высказыван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храм  Покрова  на  Нерли  вызывает  ассоциацию  со  свеч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архитектуру  часто  называют  застывшей  музы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  знакомые  вам  музыкальные  произведения  созвучны  образа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рам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ушайте фрагменты  русской  и  западноевропейской  духовной музыки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  в  них  общего, а  что  их  различ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  эти  памятники  архитектуры  и  музыки  можно  отнест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  неоспоримым  шедеврам, представляющим  идеалы  красо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9880"/>
            <a:ext cx="8229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Символами красоты являются и многие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памятники  архитектуры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Двигаясь вокруг  архитектурного  сооружения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и внутри  его,  сопоставляя  внешний  вид и  характер  интерьера,  человек  глубже воспринимает  его  жизненное  и  духовное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Monotype Corsiva"/>
              </a:rPr>
              <a:t>предназнач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1143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  зеркалом  спокойной  глади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и  Нерли  стоит  белокаменный храм,  словно  любуясь  свои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ражением  в  воде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мой,  запечатленной в  камне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ют  церковь  Покр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ерли  (1165  г.)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  совершенно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ворение  владимирских  зодч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вящен  этот  храм  религиозному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зднику  Покрова  Богородицы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достоинством  встречал  он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оземцев у  ворот  Владимирск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ли,  говоря языком  камня  о  ее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е  и  крас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08560" y="0"/>
            <a:ext cx="4735440" cy="579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ерковь  Покр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 Нерли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1165 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5489640"/>
            <a:ext cx="5638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дная гл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дь, заливные луга и, словно башн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овно свеча, сверкающий ослепительной белиз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т легкий одноглавый храм, так чудесно выраст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 их простором во всем своем бесконечном изяществ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 всей своей чарующей ясности… и крас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.Люби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74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81560" y="2590920"/>
            <a:ext cx="4762440" cy="39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95680" y="3049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ая  печаль  русского  князя Андрея  Боголюбского  по  погибшему сыну  воплотилась  в  светло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е этого  храма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  созерцание  вызывает у  нас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вство  тихой  грусти  и  умиротво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рков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ро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рл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едевр древнерусской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4419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979640"/>
            <a:ext cx="3962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рковь  Вознесения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  Коломенском  (XVI  в.)  —один  из  немногих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хранившихся  памя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похи  Ивана  Грозного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Москве, один из первых каменных шатровых  храмов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оссии. Коломенское  было  символом  Елеонской  горы,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  которой  совершилось Вознесение  Господ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08600" y="152280"/>
            <a:ext cx="3525840" cy="409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03720" y="0"/>
            <a:ext cx="4940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572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Церковь  Вознесения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  Коломенском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XVI  в.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228600"/>
            <a:ext cx="2819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  Вознесения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 Коломенском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VI  в.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00160" y="0"/>
            <a:ext cx="5037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Ничто меня так не порази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как памятник древнерус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зодчества в селе Коломенском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Во мне все дрогну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Это была таинственная тиш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Гармония красоты законченны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Я видел какой-то новый вид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Я видел стремление ввысь, и я долго стоя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ошеломле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   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Monotype Corsiva"/>
              </a:rPr>
              <a:t>Г.Берл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38480" cy="392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8006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ймсский соб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Франции,  XIII  в.)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70480" y="0"/>
            <a:ext cx="46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05320" y="30600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 менее  глубокое  впечатление  оставляе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  Реймсского  собора  во Франции  —архитектурного  памятника  XIII  в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ая  ажурная  громада  собора,  его  строгая композиция,  величественный  интерьер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яние  архитектурных  форм  в  едином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и ввысь порождают ощущение бесконечного  развит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  зодчества  и  ваяния восприним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аздничная симфония  стрельчатых  арок,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онн и  цветущего,  сказочно  великолепного скульптурного убран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м ощутимо  живое  биение  творческой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с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4772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451476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4245120"/>
            <a:ext cx="5410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241560"/>
            <a:ext cx="409428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девром зрелой готики и настоящей «Академией искусств» для средневековых мастеров стал соб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Реймс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город в сердце Шампани издавна служил местом коронации французских королей, а с 1179 года этот обряд совершался там постоя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м королем, короновавшимся в Реймсе, стал вождь франков Хлодвиг. Это произошло в 481 го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ание рассказывает, что накануне коронации случилось чудо: посла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неба голубь принес в клюве фиал, полный елея, необходимого для помазания короля на ца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ор был построен около 817 года. Несколько раз перестраивавшийся собор погиб в пожаре в ночь на 6 мая 1210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 нового здания началось уже в следующем, 1211 году, и продолжалось до 1481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ства на строительство поступали от духовенства и част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7-24T18:42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