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272-B187-4F9E-8F2F-FFFBD0E3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4C2-1A84-45AF-87A6-968458B8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7EC-49D4-4D57-92E9-2D6CDDB6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A5E-CB49-4718-9449-FE273086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584-B423-490C-96B7-671D74C3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C6E-4B9C-493A-94B7-DD10F6E9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054-D868-496A-B9B0-ED314D4F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15A-D39D-467C-97D4-7112D7E8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410-915F-4392-9168-68646D96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927-A724-40FC-B6C9-6754BA16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0A2-3E64-4AF4-84A2-0B30BBE6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F49-AA24-402C-A5B8-2A00300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C2F-A604-434B-A413-AD6FB74BA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74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4440" y="1447920"/>
            <a:ext cx="6843600" cy="27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00"/>
                </a:solidFill>
                <a:latin typeface="Monotype Corsiva"/>
              </a:rPr>
              <a:t>Застывша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en-US" sz="8800" spc="-1" strike="noStrike">
                <a:solidFill>
                  <a:srgbClr val="cc0000"/>
                </a:solidFill>
                <a:latin typeface="Monotype Corsiva"/>
              </a:rPr>
              <a:t>музы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049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ельнский со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Германия, Х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70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5520" y="307440"/>
            <a:ext cx="4038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рковь Святых Петра и Марии, известная во всем мире как Кёльнский собор – памятник христианства, готической архитектуры, памятник вере и настойчивости людей города, в котором он стоит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ор – часть всемирного культурного наследия, один из самых известных архитектурных памятников в Германии, и самый известный символ К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евняя легенда гласит, что город Кёльн простоит столько, сколько будет строиться Кёльнский собор. Неизвестно, так это или нет, так как строительство собора, начавшееся в 1248 году, продолжается и по сей день. И хотя официальная дата окончания многовековой стройки – 1880 год, до сих пор проводятся работы по отделке и реставрации со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14372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  чувства  вызывает  у  вас  созерцание  этих  храмов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авните  свои  впечатления с  приведенными  выше  высказыван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  храм  Покрова  на  Нерли  вызывает  ассоциацию  со  свеч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  архитектуру  часто  называют  застывшей  музы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  знакомые  вам  музыкальные  произведения  созвучны  образам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ам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ушайте фрагменты  русской  и  западноевропейской  духовной музык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  в  них  общего, а  что  их  различа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  эти  памятники  архитектуры  и  музыки  можно  отнест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  неоспоримым  шедеврам, представляющим  идеалы  крас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9880"/>
            <a:ext cx="8229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Символами красоты являются и многие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памятники  архитектуры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Двигаясь вокруг  архитектурного  сооружения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и внутри  его,  сопоставляя  внешний  вид и  характер  интерьера,  человек  глубже воспринимает  его  жизненное  и  духовное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предназнач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43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д  зеркалом  спокойной  глад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и  Нерли  стоит  белокаменный храм,  словно  любуясь  своим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ажением  в  воде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мой,  запечатленной в  камне,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ют  церковь  Покр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Нерли  (1165  г.)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более  совершенно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ение  владимирских  зодч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вящен  этот  храм  религиозному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ку  Покрова  Богородицы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достоинством  встречал  он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земцев у  ворот  Владимирской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ли,  говоря языком  камня  о  е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е  и  крас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08560" y="0"/>
            <a:ext cx="4735440" cy="579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Церковь  Покр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Нерли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1165 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489640"/>
            <a:ext cx="5638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дная гл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дь, заливные луга и, словно башн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вно свеча, сверкающий ослепительной белиз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т легкий одноглавый храм, так чудесно выраст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 их простором во всем своем бесконечном изяществ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 всей своей чарующей ясности… и крас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.Люби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974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81560" y="2590920"/>
            <a:ext cx="4762440" cy="39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304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окая  печаль  русского  князя Андрея  Боголюбского  по  погибшему сыну  воплотилась  в  светлом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е этого  храма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  созерцание  вызывает у  нас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о  тихой  грусти  и  умиротво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638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рков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кров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р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едевр древнерусской архите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4419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79640"/>
            <a:ext cx="396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рковь  Вознесения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  Коломенском  (XVI  в.)  —один  из  немногих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хранившихся  памя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похи  Ивана  Грозного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скве, один из первых каменных шатровых  храмов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оссии. Коломенское  было  символом  Елеонской  горы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  которой  совершилось Вознесение  Господн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08600" y="152280"/>
            <a:ext cx="3525840" cy="409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03720" y="0"/>
            <a:ext cx="4940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57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Церковь  Вознесения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  Коломенском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XVI  в.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228600"/>
            <a:ext cx="2819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рковь  Вознесения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 Коломенско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VI  в.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00160" y="0"/>
            <a:ext cx="503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Ничто меня так не пораз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как памятник древнерус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зодчества в селе Коломенском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Во мне все дрогну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Это была таинственная тиш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Гармония красоты законченны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Я видел какой-то новый вид архите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Я видел стремление ввысь, и я долго сто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ошеломл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      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Г.Берли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392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8006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ймсский собо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Франции,  XIII  в.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70480" y="0"/>
            <a:ext cx="46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05320" y="30600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 менее  глубокое  впечатление  оставляе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  Реймсского  собора  во Франции  —архитектурного  памятника  XIII  в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ая  ажурная  громада  собора,  его  строгая композиция,  величественный  интерьер,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ияние  архитектурных  форм  в  едином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и ввысь порождают ощущение бесконечного  развит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  зодчества  и  ваяния восприним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аздничная симфония  стрельчатых  арок,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нн и  цветущего,  сказочно  великолепного скульптурного убра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м ощутимо  живое  биение  творческой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с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4772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451476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4245120"/>
            <a:ext cx="5410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241560"/>
            <a:ext cx="4094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девром зрелой готики и настоящей «Академией искусств» для средневековых мастеров стал соб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еймс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город в сердце Шампани издавна служил местом коронации французских королей, а с 1179 года этот обряд совершался там постоя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м королем, короновавшимся в Реймсе, стал вождь франков Хлодвиг. Это произошло в 481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ание рассказывает, что накануне коронации случилось чудо: посла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неба голубь принес в клюве фиал, полный елея, необходимого для помазания короля на цар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ор был построен около 817 года. Несколько раз перестраивавшийся собор погиб в пожаре в ночь на 6 мая 1210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 нового здания началось уже в следующем, 1211 году, и продолжалось до 1481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на строительство поступали от духовенства и част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7-24T18:42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