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691-2600-41CD-96CC-BB864939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1C8-CA9A-42D9-984A-4F15DDA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F6B-85AD-4645-BB10-0F21104C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47B-9467-4666-B0A9-39A1CC3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1DCB-FA79-4915-B65D-A1F063C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FC8-793C-44E1-9EC9-2A1B9EC2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916-5D97-4E1B-A1A8-F36ACED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BFD-3879-46E4-966D-81092BC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194B-510D-4C98-BC02-16AC409C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8D6-A46E-4FA5-8B5D-4C04B17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89C-51E0-4034-8DC7-350040A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C1E-FD6B-4A47-B077-F25CFA01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4DD-271F-4D0A-90F5-A2A015E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50C-4E8D-4C75-AAB6-F0B9C84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2C35-3641-4CE5-8EB2-5E3E020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6EB2-6598-4269-ACA4-77495E87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1D80-D965-4264-BA46-A9B750D2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EE7-936D-4665-9BEC-4336008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58B-D1D2-41C5-A348-BDF3F58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F94-61CB-4CA7-8E58-3214F09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CB4-A2ED-4C96-8F96-FD39786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8E6-CB08-4F6B-A0E5-A0B44D1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22F-D3BF-428B-B883-2DCD726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111-F4C1-44C2-9BCE-B7245A1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D61C-82CB-4020-8CF3-969B9DC5B71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1E4-6377-4C09-AD88-CF3CAD3FAC1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103;&#1085;&#1074;&#1072;&#1088;&#1103;" TargetMode="External"/><Relationship Id="rId2" Type="http://schemas.openxmlformats.org/officeDocument/2006/relationships/hyperlink" Target="http://ru.wikipedia.org/wiki/1942" TargetMode="External"/><Relationship Id="rId3" Type="http://schemas.openxmlformats.org/officeDocument/2006/relationships/hyperlink" Target="http://ru.wikipedia.org/wiki/&#1050;&#1091;&#1073;&#1072;&#1085;&#1089;&#1082;&#1080;&#1077;_&#1082;&#1072;&#1079;&#1072;&#1082;&#1080;" TargetMode="External"/><Relationship Id="rId4" Type="http://schemas.openxmlformats.org/officeDocument/2006/relationships/hyperlink" Target="http://ru.wikipedia.org/wiki/27_&#1072;&#1074;&#1075;&#1091;&#1089;&#1090;&#1072;" TargetMode="External"/><Relationship Id="rId5" Type="http://schemas.openxmlformats.org/officeDocument/2006/relationships/hyperlink" Target="http://ru.wikipedia.org/wiki/1942" TargetMode="External"/><Relationship Id="rId6" Type="http://schemas.openxmlformats.org/officeDocument/2006/relationships/hyperlink" Target="http://ru.wikipedia.org/wiki/&#1057;&#1086;&#1074;&#1077;&#1090;&#1089;&#1082;&#1072;&#1103;_&#1075;&#1074;&#1072;&#1088;&#1076;&#1080;&#1103;" TargetMode="External"/><Relationship Id="rId7" Type="http://schemas.openxmlformats.org/officeDocument/2006/relationships/hyperlink" Target="http://ru.wikipedia.org/wiki/4-&#1081;_&#1075;&#1074;&#1072;&#1088;&#1076;&#1077;&#1081;&#1089;&#1082;&#1080;&#1081;_&#1082;&#1072;&#1079;&#1072;&#1095;&#1080;&#1081;_&#1082;&#1072;&#1074;&#1072;&#1083;&#1077;&#1088;&#1080;&#1081;&#1089;&#1082;&#1080;&#1081;_&#1082;&#1086;&#1088;&#1087;&#1091;&#1089;" TargetMode="External"/><Relationship Id="rId8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1;&#1097;&#1105;&#1074;&#1089;&#1082;&#1072;&#1103;_(&#1089;&#1090;&#1072;&#1085;&#1080;&#1094;&#1072;)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ru.wikipedia.org/wiki/&#1050;&#1091;&#1097;&#1105;&#1074;&#1089;&#1082;&#1072;&#1103;" TargetMode="External"/><Relationship Id="rId4" Type="http://schemas.openxmlformats.org/officeDocument/2006/relationships/hyperlink" Target="http://ru.wikipedia.org/wiki/&#1050;&#1091;&#1097;&#1105;&#1074;&#1089;&#1082;&#1072;&#1103;_&#1072;&#1090;&#1072;&#1082;&#1072;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hyperlink" Target="http://stat8.blog.ru/lr/0a0dc060d78f7706222cb2e2f19edd55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gallery.timashevsk.ru/albums/userpics/10003/normal_1116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_&#1085;&#1086;&#1103;&#1073;&#1088;&#1103;" TargetMode="External"/><Relationship Id="rId2" Type="http://schemas.openxmlformats.org/officeDocument/2006/relationships/hyperlink" Target="http://ru.wikipedia.org/wiki/1874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вгений Петрович Игнатов (1915 - 1942)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ений Петрович Игнатов (1925 - 1942)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ерои Советского Союз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Указом Президиум Верховного СоветаССС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от 7 марта 1943 года братья Евгений и Гений Игнатовы были посмертно удостоены звания Героев Советского Союз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image002"/>
          <p:cNvPicPr/>
          <p:nvPr/>
        </p:nvPicPr>
        <p:blipFill>
          <a:blip r:embed="rId2"/>
          <a:stretch/>
        </p:blipFill>
        <p:spPr>
          <a:xfrm>
            <a:off x="684360" y="1700280"/>
            <a:ext cx="367164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Александр Иванович Покрышкин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рижды Герой Советского Союз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годы войны совершил 550 боевых вылетов и в 137 воздушных боях сбил 59 самоле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 В августе 1944 года А.И. Покрышкину вручают третью Золотую Звезду Геро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6" descr="pokrishkin_o"/>
          <p:cNvPicPr/>
          <p:nvPr/>
        </p:nvPicPr>
        <p:blipFill>
          <a:blip r:embed="rId2"/>
          <a:stretch/>
        </p:blipFill>
        <p:spPr>
          <a:xfrm>
            <a:off x="611280" y="162864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12" descr="img_1145_a"/>
          <p:cNvPicPr/>
          <p:nvPr/>
        </p:nvPicPr>
        <p:blipFill>
          <a:blip r:embed="rId1"/>
          <a:stretch/>
        </p:blipFill>
        <p:spPr>
          <a:xfrm>
            <a:off x="468360" y="404640"/>
            <a:ext cx="4103640" cy="3240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4149360"/>
            <a:ext cx="74995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целью увековечения памяти трижды Героя Советского Союза маршала авиации Покрышкина Александра Ивановича, в городе Новосибирске создан муз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15" descr="img_3232_a"/>
          <p:cNvPicPr/>
          <p:nvPr/>
        </p:nvPicPr>
        <p:blipFill>
          <a:blip r:embed="rId3"/>
          <a:stretch/>
        </p:blipFill>
        <p:spPr>
          <a:xfrm>
            <a:off x="5219640" y="0"/>
            <a:ext cx="3419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17-й Кубанский казачий кавалерийский корпус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ован 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1 январ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194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Формирование происходило на казачьи средства из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кубанских казак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добровольцев. За боевые заслуги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27 авгу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194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года присвоено почётное наименование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"Гвардейский"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ереименован в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4-й гвардейск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Десятки тысяч его воинов награждены орденами и медалями, впоследствии 22-м присвоено знание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Героя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6" descr="17-й казачий кавалерийский корпус&#10;Первым командиром корпуса стал генерал-майор М. Ф. Малеев, а 29 мая 1942 года на эту должность был назначен генерал-майор Н. Я. Кириченко. К этому времени он был уже достаточно зрелым, состоявшимся командиром, имевшим немалый опыт руководства различными кавалерийскими и стрелковыми частями и соединениями в годы Гражданской войны и межвоенный период, шесть боевых ранений, правительственные награды."/>
          <p:cNvPicPr/>
          <p:nvPr/>
        </p:nvPicPr>
        <p:blipFill>
          <a:blip r:embed="rId9"/>
          <a:stretch/>
        </p:blipFill>
        <p:spPr>
          <a:xfrm>
            <a:off x="1547640" y="981000"/>
            <a:ext cx="626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 въезде в станицу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Кущёвскую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установлен памятник казакам корпуса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1412640"/>
            <a:ext cx="525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таницей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ущёвско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а несколько дней задержал продвижение немецко-фашистских войск, неоднократно нанося контрудары в пешем и конном строю, и сам понеся значительные потер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памятник 17 казачий корпус ст"/>
          <p:cNvPicPr/>
          <p:nvPr/>
        </p:nvPicPr>
        <p:blipFill>
          <a:blip r:embed="rId5"/>
          <a:stretch/>
        </p:blipFill>
        <p:spPr>
          <a:xfrm>
            <a:off x="5219640" y="1268280"/>
            <a:ext cx="360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узей семьи Степановы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28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ственный мемориальный музей, посвященный памяти простой крестьянской семьи. Он является центром героико-патриотического воспитания учащихся и молодежи Краснодарского края. В 2009 году музей стал шестой жемчужиной Куба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крыт в 1982 на хуторе 1-го Мая Тимашевского рай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3" descr="i?id=210296634-27-72"/>
          <p:cNvPicPr/>
          <p:nvPr/>
        </p:nvPicPr>
        <p:blipFill>
          <a:blip r:embed="rId5"/>
          <a:stretch/>
        </p:blipFill>
        <p:spPr>
          <a:xfrm>
            <a:off x="395280" y="907920"/>
            <a:ext cx="2951280" cy="201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Картинка 32 из 10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4508640"/>
            <a:ext cx="2951280" cy="208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Картинка 62 из 1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79640" y="2924280"/>
            <a:ext cx="27352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921708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пистини́я Фёдоровна Степа́нова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18 ноября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1874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 — 7 февраля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1969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) — мать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9 сыновей, которые погибли в войнах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граждена орденом Отечественной войны 1-й степен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посмертно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5" descr="600px-Stepanova"/>
          <p:cNvPicPr/>
          <p:nvPr/>
        </p:nvPicPr>
        <p:blipFill>
          <a:blip r:embed="rId4"/>
          <a:stretch/>
        </p:blipFill>
        <p:spPr>
          <a:xfrm>
            <a:off x="179280" y="2708280"/>
            <a:ext cx="6408720" cy="3346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6"/>
          <p:cNvSpPr/>
          <p:nvPr/>
        </p:nvSpPr>
        <p:spPr>
          <a:xfrm>
            <a:off x="5580000" y="5210640"/>
            <a:ext cx="356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 солдатской матери, сидящей на лавочке, запечатлён герб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имашёвского рай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20" descr="герб Тимаш"/>
          <p:cNvPicPr/>
          <p:nvPr/>
        </p:nvPicPr>
        <p:blipFill>
          <a:blip r:embed="rId5"/>
          <a:stretch/>
        </p:blipFill>
        <p:spPr>
          <a:xfrm>
            <a:off x="6659640" y="2708280"/>
            <a:ext cx="2266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34:44Z</dcterms:created>
  <dc:creator>Admin</dc:creator>
  <dc:description/>
  <dc:language>en-US</dc:language>
  <cp:lastModifiedBy>User</cp:lastModifiedBy>
  <dcterms:modified xsi:type="dcterms:W3CDTF">2012-07-25T05:42:06Z</dcterms:modified>
  <cp:revision>3</cp:revision>
  <dc:subject/>
  <dc:title>Евгений Петрович Игнатов (1915 - 1942) Гений Петрович Игнатов (1925 - 1942) Герои Советского Союза</dc:title>
</cp:coreProperties>
</file>