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BF4-17E6-4A9B-9375-7C1FA81D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E64-DD7C-4769-8A5C-572CB7EC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072-4DDA-4D6F-BB9C-B98AD405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C47-6B92-4709-8D50-000F6926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FFCC-EC63-4BEE-BAEE-401907DE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1AE5-5AF8-4BEC-A9B3-6DE80A32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ABA3-4C7F-4177-BB51-F90E412D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9446-DCA3-4C27-B484-B9BE8515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32D8-B564-455E-821A-CECEEFD5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ADE8-C10A-4F1B-8AD7-D6C7713A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9874-1345-4084-9C5C-658C09CD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9E0-BB0B-411A-89ED-280AD48D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3679-75B1-44E3-85CD-ABF27334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1904-098A-4DFB-8DD0-EDB4C5C6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CD7C-0343-4D48-AE0C-9CE735A8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504A-0505-4416-9638-C9F3B5ED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ABE9-B3C4-4AAB-BDEB-43B34399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4572-AFAF-48CE-BAEF-308EF1CF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E81-4A84-4C42-8D6F-A5DA09AE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FA8-FBB4-47E8-8C1B-705647B1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64F-B627-4013-B9BA-7A57CD79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BAE-E92D-4B44-AE66-A219C228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2E0-F6A8-453D-B1A2-872694F5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6D7-C079-4AAA-AD78-40189DDC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2BED-E62F-4EC4-9198-A69594A0F31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1B4C-5AD7-419C-85FF-17FD969B07D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_&#1103;&#1085;&#1074;&#1072;&#1088;&#1103;" TargetMode="External"/><Relationship Id="rId2" Type="http://schemas.openxmlformats.org/officeDocument/2006/relationships/hyperlink" Target="http://ru.wikipedia.org/wiki/1942" TargetMode="External"/><Relationship Id="rId3" Type="http://schemas.openxmlformats.org/officeDocument/2006/relationships/hyperlink" Target="http://ru.wikipedia.org/wiki/&#1050;&#1091;&#1073;&#1072;&#1085;&#1089;&#1082;&#1080;&#1077;_&#1082;&#1072;&#1079;&#1072;&#1082;&#1080;" TargetMode="External"/><Relationship Id="rId4" Type="http://schemas.openxmlformats.org/officeDocument/2006/relationships/hyperlink" Target="http://ru.wikipedia.org/wiki/27_&#1072;&#1074;&#1075;&#1091;&#1089;&#1090;&#1072;" TargetMode="External"/><Relationship Id="rId5" Type="http://schemas.openxmlformats.org/officeDocument/2006/relationships/hyperlink" Target="http://ru.wikipedia.org/wiki/1942" TargetMode="External"/><Relationship Id="rId6" Type="http://schemas.openxmlformats.org/officeDocument/2006/relationships/hyperlink" Target="http://ru.wikipedia.org/wiki/&#1057;&#1086;&#1074;&#1077;&#1090;&#1089;&#1082;&#1072;&#1103;_&#1075;&#1074;&#1072;&#1088;&#1076;&#1080;&#1103;" TargetMode="External"/><Relationship Id="rId7" Type="http://schemas.openxmlformats.org/officeDocument/2006/relationships/hyperlink" Target="http://ru.wikipedia.org/wiki/4-&#1081;_&#1075;&#1074;&#1072;&#1088;&#1076;&#1077;&#1081;&#1089;&#1082;&#1080;&#1081;_&#1082;&#1072;&#1079;&#1072;&#1095;&#1080;&#1081;_&#1082;&#1072;&#1074;&#1072;&#1083;&#1077;&#1088;&#1080;&#1081;&#1089;&#1082;&#1080;&#1081;_&#1082;&#1086;&#1088;&#1087;&#1091;&#1089;" TargetMode="External"/><Relationship Id="rId8" Type="http://schemas.openxmlformats.org/officeDocument/2006/relationships/hyperlink" Target="http://ru.wikipedia.org/wiki/&#1043;&#1077;&#1088;&#1086;&#1081;_&#1057;&#1086;&#1074;&#1077;&#1090;&#1089;&#1082;&#1086;&#1075;&#1086;_&#1057;&#1086;&#1102;&#1079;&#1072;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91;&#1097;&#1105;&#1074;&#1089;&#1082;&#1072;&#1103;_(&#1089;&#1090;&#1072;&#1085;&#1080;&#1094;&#1072;)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ru.wikipedia.org/wiki/&#1050;&#1091;&#1097;&#1105;&#1074;&#1089;&#1082;&#1072;&#1103;" TargetMode="External"/><Relationship Id="rId4" Type="http://schemas.openxmlformats.org/officeDocument/2006/relationships/hyperlink" Target="http://ru.wikipedia.org/wiki/&#1050;&#1091;&#1097;&#1105;&#1074;&#1089;&#1082;&#1072;&#1103;_&#1072;&#1090;&#1072;&#1082;&#1072;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1.jpeg"/><Relationship Id="rId6" Type="http://schemas.openxmlformats.org/officeDocument/2006/relationships/hyperlink" Target="http://stat8.blog.ru/lr/0a0dc060d78f7706222cb2e2f19edd55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www.gallery.timashevsk.ru/albums/userpics/10003/normal_1116.jpg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_&#1085;&#1086;&#1103;&#1073;&#1088;&#1103;" TargetMode="External"/><Relationship Id="rId2" Type="http://schemas.openxmlformats.org/officeDocument/2006/relationships/hyperlink" Target="http://ru.wikipedia.org/wiki/1874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Евгений Петрович Игнатов (1915 - 1942)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Гений Петрович Игнатов (1925 - 1942)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Герои Советского Союза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356000" y="1600200"/>
            <a:ext cx="47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Указом Президиум Верховного СоветаССС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от 7 марта 1943 года братья Евгений и Гений Игнатовы были посмертно удостоены звания Героев Советского Союз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4" descr="image002"/>
          <p:cNvPicPr/>
          <p:nvPr/>
        </p:nvPicPr>
        <p:blipFill>
          <a:blip r:embed="rId2"/>
          <a:stretch/>
        </p:blipFill>
        <p:spPr>
          <a:xfrm>
            <a:off x="684360" y="1700280"/>
            <a:ext cx="367164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Александр Иванович Покрышкин</a:t>
            </a:r>
            <a:br>
              <a:rPr sz="3200"/>
            </a:b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Трижды Герой Советского Союза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48320" y="1599840"/>
            <a:ext cx="40384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 годы войны совершил 550 боевых вылетов и в 137 воздушных боях сбил 59 самолетов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  В августе 1944 года А.И. Покрышкину вручают третью Золотую Звезду Геро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6" descr="pokrishkin_o"/>
          <p:cNvPicPr/>
          <p:nvPr/>
        </p:nvPicPr>
        <p:blipFill>
          <a:blip r:embed="rId2"/>
          <a:stretch/>
        </p:blipFill>
        <p:spPr>
          <a:xfrm>
            <a:off x="611280" y="1628640"/>
            <a:ext cx="3744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514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8" name="Picture 12" descr="img_1145_a"/>
          <p:cNvPicPr/>
          <p:nvPr/>
        </p:nvPicPr>
        <p:blipFill>
          <a:blip r:embed="rId1"/>
          <a:stretch/>
        </p:blipFill>
        <p:spPr>
          <a:xfrm>
            <a:off x="468360" y="404640"/>
            <a:ext cx="4103640" cy="3240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57200" y="4149360"/>
            <a:ext cx="749952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 целью увековечения памяти трижды Героя Советского Союза маршала авиации Покрышкина Александра Ивановича, в городе Новосибирске создан музе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15" descr="img_3232_a"/>
          <p:cNvPicPr/>
          <p:nvPr/>
        </p:nvPicPr>
        <p:blipFill>
          <a:blip r:embed="rId3"/>
          <a:stretch/>
        </p:blipFill>
        <p:spPr>
          <a:xfrm>
            <a:off x="5219640" y="0"/>
            <a:ext cx="3419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889308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17-й Кубанский казачий кавалерийский корпус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4292640"/>
            <a:ext cx="9144000" cy="2565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разован 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1 января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1942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Формирование происходило на казачьи средства из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кубанских казаков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- добровольцев. За боевые заслуги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27 август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1942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года присвоено почётное наименование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"Гвардейский"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переименован в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4-й гвардейский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Десятки тысяч его воинов награждены орденами и медалями, впоследствии 22-м присвоено знание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Героя Советского Союза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6" descr="17-й казачий кавалерийский корпус&#10;Первым командиром корпуса стал генерал-майор М. Ф. Малеев, а 29 мая 1942 года на эту должность был назначен генерал-майор Н. Я. Кириченко. К этому времени он был уже достаточно зрелым, состоявшимся командиром, имевшим немалый опыт руководства различными кавалерийскими и стрелковыми частями и соединениями в годы Гражданской войны и межвоенный период, шесть боевых ранений, правительственные награды."/>
          <p:cNvPicPr/>
          <p:nvPr/>
        </p:nvPicPr>
        <p:blipFill>
          <a:blip r:embed="rId9"/>
          <a:stretch/>
        </p:blipFill>
        <p:spPr>
          <a:xfrm>
            <a:off x="1547640" y="981000"/>
            <a:ext cx="6264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На въезде в станицу </a:t>
            </a:r>
            <a:r>
              <a:rPr b="0" lang="ru-RU" sz="32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Кущёвскую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 установлен памятник казакам корпуса </a:t>
            </a:r>
            <a:br>
              <a:rPr sz="3200"/>
            </a:b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1412640"/>
            <a:ext cx="5256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д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станицей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Кущёвской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на несколько дней задержал продвижение немецко-фашистских войск, неоднократно нанося контрудары в пешем и конном строю, и сам понеся значительные потер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" descr="памятник 17 казачий корпус ст"/>
          <p:cNvPicPr/>
          <p:nvPr/>
        </p:nvPicPr>
        <p:blipFill>
          <a:blip r:embed="rId5"/>
          <a:stretch/>
        </p:blipFill>
        <p:spPr>
          <a:xfrm>
            <a:off x="5219640" y="1268280"/>
            <a:ext cx="3600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877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Музей семьи Степановых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427280" y="1125360"/>
            <a:ext cx="4716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Единственный мемориальный музей, посвященный памяти простой крестьянской семьи. Он является центром героико-патриотического воспитания учащихся и молодежи Краснодарского края. В 2009 году музей стал шестой жемчужиной Кубан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ткрыт в 1982 на хуторе 1-го Мая Тимашевского райо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23" descr="i?id=210296634-27-72"/>
          <p:cNvPicPr/>
          <p:nvPr/>
        </p:nvPicPr>
        <p:blipFill>
          <a:blip r:embed="rId5"/>
          <a:stretch/>
        </p:blipFill>
        <p:spPr>
          <a:xfrm>
            <a:off x="395280" y="907920"/>
            <a:ext cx="2951280" cy="2016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5" descr="Картинка 32 из 10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5280" y="4508640"/>
            <a:ext cx="2951280" cy="2087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7" descr="Картинка 62 из 12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979640" y="2924280"/>
            <a:ext cx="273528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921708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Епистини́я Фёдоровна Степа́нова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18 ноября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Arial"/>
                <a:hlinkClick r:id="rId2"/>
              </a:rPr>
              <a:t>1874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 — 7 февраля </a:t>
            </a:r>
            <a:r>
              <a:rPr b="0" i="1" lang="ru-RU" sz="2800" spc="-1" strike="noStrike">
                <a:solidFill>
                  <a:srgbClr val="ffff99"/>
                </a:solidFill>
                <a:latin typeface="Arial"/>
              </a:rPr>
              <a:t>1969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 ) — мать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9 сыновей, которые погибли в войнах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граждена орденом Отечественной войны 1-й степен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(посмертно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15" descr="600px-Stepanova"/>
          <p:cNvPicPr/>
          <p:nvPr/>
        </p:nvPicPr>
        <p:blipFill>
          <a:blip r:embed="rId4"/>
          <a:stretch/>
        </p:blipFill>
        <p:spPr>
          <a:xfrm>
            <a:off x="179280" y="2708280"/>
            <a:ext cx="6408720" cy="33465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6"/>
          <p:cNvSpPr/>
          <p:nvPr/>
        </p:nvSpPr>
        <p:spPr>
          <a:xfrm>
            <a:off x="5580000" y="5210640"/>
            <a:ext cx="3564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з солдатской матери, сидящей на лавочке, запечатлён герб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имашёвского райо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Picture 20" descr="герб Тимаш"/>
          <p:cNvPicPr/>
          <p:nvPr/>
        </p:nvPicPr>
        <p:blipFill>
          <a:blip r:embed="rId5"/>
          <a:stretch/>
        </p:blipFill>
        <p:spPr>
          <a:xfrm>
            <a:off x="6659640" y="2708280"/>
            <a:ext cx="2266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8:34:44Z</dcterms:created>
  <dc:creator>Admin</dc:creator>
  <dc:description/>
  <dc:language>en-US</dc:language>
  <cp:lastModifiedBy>User</cp:lastModifiedBy>
  <dcterms:modified xsi:type="dcterms:W3CDTF">2012-07-25T05:42:06Z</dcterms:modified>
  <cp:revision>3</cp:revision>
  <dc:subject/>
  <dc:title>Евгений Петрович Игнатов (1915 - 1942) Гений Петрович Игнатов (1925 - 1942) Герои Советского Союза</dc:title>
</cp:coreProperties>
</file>