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646B8-B98C-48CD-B3DE-03A7C9251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B0D13-ED65-41CF-B77C-9768C4FA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3E081-3F43-4F85-B6A9-1117D67E1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13B70-9ACD-4B73-B5BB-4BFD6249B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EDF3-AD45-4535-95D9-E86256D81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848F8-1E61-443C-B209-A9FB9CC5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1F81-8609-4936-A87C-7B4BCEF7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EA60-BE37-41F9-84C0-D8373862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398D-DF05-41DB-A121-12FD1BA8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6437A-A101-4BEC-87B3-7C90F495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4715-EE39-44C9-900B-B9FD25BC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C1545-2283-432B-A1DC-5F77FC19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70AEF-F9E9-4F3E-8D90-4E8224C5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CF3B-38D0-47F1-B021-042C3C44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DE43-503E-477A-BE6E-3C6E9CB2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77D0-04D7-47DE-9E01-DC9F51325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6CD8-D81C-4A71-98A3-FD5EFD9E3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F9CBF-71B3-4657-A664-DC7B0F3B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DB76C-502D-40E4-8831-48B97E40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DA968-BD54-469B-8FE2-2766EEEF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9394F-767B-4594-B6FA-E24A3449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901AB-3FF1-4963-9438-EF5D2453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7F4E7-2CE2-4218-9A1A-FEA15323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27D8E-22F2-4B58-81CF-3BFE1C78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CD0C-7D27-4454-A7B2-6D27D39AD41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4E47-9BB6-43F9-9DF9-43CFC0F1F0B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820728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5e5ff"/>
                </a:solidFill>
                <a:latin typeface="Garamond"/>
              </a:rPr>
              <a:t>«Информационная </a:t>
            </a:r>
            <a:br>
              <a:rPr sz="6600"/>
            </a:br>
            <a:r>
              <a:rPr b="1" lang="en-US" sz="6600" spc="-1" strike="noStrike">
                <a:solidFill>
                  <a:srgbClr val="e5e5ff"/>
                </a:solidFill>
                <a:latin typeface="Garamond"/>
              </a:rPr>
              <a:t>культура»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144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Изобретение в конце 19 века телеграфа, телефона и радио открыло возможность передачи информации на любые расстояние со скоростью света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203640" y="3789360"/>
            <a:ext cx="2485800" cy="2808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11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Изобретение телевидения дало возможность следить за событиями в мире и смотреть у себя дома спектакли, кино и учебные программы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003640" y="3429000"/>
            <a:ext cx="3081600" cy="3002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9144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Новые возможности для поиска и обработки информации открыло перед людьми изобретение в середине 20 века электронных вычислительных машин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203640" y="4005360"/>
            <a:ext cx="3816360" cy="2346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Из истории ЭВМ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Первоначально ЭВМ создавались для автоматизации вычислений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2. Затем люди научились записывать и хранить информацию, печатать ее на бумаге и выводить на экран ЭВМ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0920" y="4410000"/>
            <a:ext cx="2289240" cy="244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3. По мере развития ЭВМ стали использоваться для создания архивов, подготовки и редактирования текстов, выполнения различных чертежных и графических работ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4. В 70-х годах началось массовое производство персональных компьютеров. Их можно использовать для учебы, работы и многих других целей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Что такое компьютерная грамотность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Компьютерная грамотность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– это умение читать и писать, считать и рисовать, а так же искать информацию, применяя для этого компьютер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168960" y="4076640"/>
            <a:ext cx="2359080" cy="2409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Умение эффективно использовать компьютер в работе предполагает информационную культуру, которая включает в себя: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1. Знание определенных возможностей компьютера;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2. Умение четко ставить перед собой задачи, составлять планы их решения и записывать их форме понятной компьютеру;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3. Умение выделять данные для решения задач и анализировать полученные результаты.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Информационная культура опирается на знание законов информатики.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Что такое информатика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Информатика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– это наука, изучающая законы и методы накопления, обработки и предоставления информации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012000" y="4040280"/>
            <a:ext cx="2589120" cy="2457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052280"/>
            <a:ext cx="86868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5e5ff"/>
                </a:solidFill>
                <a:latin typeface="Garamond"/>
              </a:rPr>
              <a:t>«Информация </a:t>
            </a:r>
            <a:br>
              <a:rPr sz="6600"/>
            </a:br>
            <a:r>
              <a:rPr b="1" lang="en-US" sz="6600" spc="-1" strike="noStrike">
                <a:solidFill>
                  <a:srgbClr val="e5e5ff"/>
                </a:solidFill>
                <a:latin typeface="Garamond"/>
              </a:rPr>
              <a:t>и мы»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580000" y="3429000"/>
            <a:ext cx="2960640" cy="3024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Информация, что это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Слово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«информация»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 происходит от латинского слова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informatio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, означающее разъяснение, изложение, осведомленность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144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Получение информации – это в конечном счете получение фактов, сведений и данных о свойствах, структуре или взаимодействии объектов и явлений окружающего нас мира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514840" y="3645000"/>
            <a:ext cx="2581560" cy="2603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Свойства информации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1. Достоверность - информация должна отражать истинное положение дел.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2. Полнота – информации должно быть достаточно для понимания и принятия решений.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292720" y="3800520"/>
            <a:ext cx="3273480" cy="2801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3. Ценность – зависит от того какие задачи мы можем решать с помощью неё.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4. Актуальность – новая информация при работе в изменяющихся условиях.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5. Ясность – информация должна быть понятной тому для кого она предназначена.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59920"/>
            <a:ext cx="79930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Как может передаваться информация?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. С раннего детства человек вовлечен в процесс обмена информацией: вопросы, ответы, просьбы и даже улыбки- все это передача информации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350040" y="3716280"/>
            <a:ext cx="2498760" cy="3141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8200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2. С возникновением письменности стало возможным выражение мыслей и чувств человека в письменной форме и стало возможным не только передавать                                                                                                               сведения и сообщения, но и     накапливать человеческие знания в форме рукописей и рукописных книг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771640" y="4340160"/>
            <a:ext cx="2378160" cy="2517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В какой форме может передаваться информация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. Изобретение печатных станков в 14 веке открыло возможность издания книг и широкого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распространения шедевров человеческой мысли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156360" y="4076640"/>
            <a:ext cx="2684520" cy="2602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14:34:57Z</dcterms:created>
  <dc:creator>COMP_1</dc:creator>
  <dc:description/>
  <dc:language>en-US</dc:language>
  <cp:lastModifiedBy>COMP_1</cp:lastModifiedBy>
  <dcterms:modified xsi:type="dcterms:W3CDTF">2008-09-27T13:12:44Z</dcterms:modified>
  <cp:revision>4</cp:revision>
  <dc:subject/>
  <dc:title>«Информационная  культура»</dc:title>
</cp:coreProperties>
</file>