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52394-960D-4BA2-BA86-3058579A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8359C-EBF1-4151-9938-C237201C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B56E7-5EB7-40A6-AB01-C6E46B00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99F86-D771-4E68-9051-A8BCA8D5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FC33-C993-421C-96CD-FEC93512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3CBE-535A-442A-9695-6A6DAE4D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A954-C666-4FB1-B0BE-47A6AC73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44B3-5DFD-4021-814C-A2BE4F8F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A41A-7CC1-4B0E-916F-2EB44F3C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939F-FB9B-45E7-97AA-61A9E16A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E3D2-B11B-45EA-B0A4-87474017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1C3B9-189D-4E1B-8ADC-3ED7B674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2396-A40F-434C-8B86-EF6454C2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6CEE-A686-4672-B0C5-E48A95D6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2CBF-766B-4CD8-A38C-F6CE36A8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431B-C664-42FE-A773-F824E4A9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D897-901E-41E5-BFFB-EB0F3411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7911D-FCB4-4106-BFB5-624DF5F9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9A278-D991-41CA-ADE2-3D4BD290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FF8A1-E172-4CF6-BA5D-AA787A69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62628-B595-43F7-9428-C14B5C05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34BC-C256-47BE-BCF4-E613D2DB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95C8D-EFD5-419E-9909-A04614B9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DF5EC-C710-46F3-B1F1-1511F173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8783-7279-40A0-8C3F-1C0572D0731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9381-2640-4BC2-95B5-6753541FEAB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820728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«Информационная </a:t>
            </a:r>
            <a:br>
              <a:rPr sz="6600"/>
            </a:b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культура»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4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Изобретение в конце 19 века телеграфа, телефона и радио открыло возможность передачи информации на любые расстояние со скоростью свет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03640" y="3789360"/>
            <a:ext cx="2485800" cy="28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Изобретение телевидения дало возможность следить за событиями в мире и смотреть у себя дома спектакли, кино и учебные программы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003640" y="3429000"/>
            <a:ext cx="3081600" cy="300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Новые возможности для поиска и обработки информации открыло перед людьми изобретение в середине 20 века электронных вычислительных маши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03640" y="4005360"/>
            <a:ext cx="3816360" cy="2346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з истории ЭВМ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ервоначально ЭВМ создавались для автоматизации вычислений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2. Затем люди научились записывать и хранить информацию, печатать ее на бумаге и выводить на экран ЭВМ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4410000"/>
            <a:ext cx="2289240" cy="244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3. По мере развития ЭВМ стали использоваться для создания архивов, подготовки и редактирования текстов, выполнения различных чертежных и графических работ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4. В 70-х годах началось массовое производство персональных компьютеров. Их можно использовать для учебы, работы и многих других целей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Что такое компьютерная грамотность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Компьютерная грамотность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– это умение читать и писать, считать и рисовать, а так же искать информацию, применяя для этого компьютер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68960" y="4076640"/>
            <a:ext cx="2359080" cy="2409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Умение эффективно использовать компьютер в работе предполагает информационную культуру, которая включает в себя: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1. Знание определенных возможностей компьютера;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2. Умение четко ставить перед собой задачи, составлять планы их решения и записывать их форме понятной компьютеру;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3. Умение выделять данные для решения задач и анализировать полученные результаты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Информационная культура опирается на знание законов информатики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Что такое информатика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Информатика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– это наука, изучающая законы и методы накопления, обработки и предоставления информаци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12000" y="4040280"/>
            <a:ext cx="2589120" cy="245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686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«Информация </a:t>
            </a:r>
            <a:br>
              <a:rPr sz="6600"/>
            </a:b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и мы»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580000" y="3429000"/>
            <a:ext cx="2960640" cy="302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нформация, что это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Слово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«информация»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происходит от латинского слова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nformatio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, означающее разъяснение, изложение, осведомленность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олучение информации – это в конечном счете получение фактов, сведений и данных о свойствах, структуре или взаимодействии объектов и явлений окружающего нас мир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514840" y="3645000"/>
            <a:ext cx="2581560" cy="260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войства информаци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1. Достоверность - информация должна отражать истинное положение дел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2. Полнота – информации должно быть достаточно для понимания и принятия решений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92720" y="3800520"/>
            <a:ext cx="3273480" cy="280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3. Ценность – зависит от того какие задачи мы можем решать с помощью неё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4. Актуальность – новая информация при работе в изменяющихся условиях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5. Ясность – информация должна быть понятной тому для кого она предназначена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59920"/>
            <a:ext cx="7993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Как может передаваться информация?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 С раннего детства человек вовлечен в процесс обмена информацией: вопросы, ответы, просьбы и даже улыбки- все это передача информаци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350040" y="3716280"/>
            <a:ext cx="2498760" cy="3141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8200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2. С возникновением письменности стало возможным выражение мыслей и чувств человека в письменной форме и стало возможным не только передавать                                                                                                               сведения и сообщения, но и     накапливать человеческие знания в форме рукописей и рукописных книг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4340160"/>
            <a:ext cx="2378160" cy="2517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 какой форме может передаваться информация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 Изобретение печатных станков в 14 веке открыло возможность издания книг и широког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распространения шедевров человеческой мысл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56360" y="4076640"/>
            <a:ext cx="2684520" cy="2602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4:34:57Z</dcterms:created>
  <dc:creator>COMP_1</dc:creator>
  <dc:description/>
  <dc:language>en-US</dc:language>
  <cp:lastModifiedBy>COMP_1</cp:lastModifiedBy>
  <dcterms:modified xsi:type="dcterms:W3CDTF">2008-09-27T13:12:44Z</dcterms:modified>
  <cp:revision>4</cp:revision>
  <dc:subject/>
  <dc:title>«Информационная  культура»</dc:title>
</cp:coreProperties>
</file>