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D66-EFB6-44B8-B22C-3B52EA72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A6F-9E6F-4AC8-BF40-3097441F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E6C-B003-49A9-B9AC-42E3910B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BCC-CBE2-45BD-ABDE-7A0E3C88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EA0-2550-4BA9-B6BD-49C7CB5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F57-7A02-4714-A12E-F60E8A9C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394-6D9F-4102-BFB6-7F209B4C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347-C84C-49AE-94D3-5A31474E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FF5-F3DA-41EB-81BA-8EAB5029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EA8-29CC-4FC1-BAFD-B22CE1CC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E74-02FC-485B-AA92-F0F947C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640-C74A-440A-9CB3-F26927E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AEAE-145A-49AC-B295-BBFD9412D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одирование информации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воичное кодирование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формации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едставление числовой информации с помощью систем счисл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84360" y="333360"/>
            <a:ext cx="4392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ы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708280"/>
            <a:ext cx="331164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2781360"/>
            <a:ext cx="331164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0920" y="1628640"/>
            <a:ext cx="1657440" cy="129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1628640"/>
            <a:ext cx="1295280" cy="136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позиционная система сч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начение цифры не зависит от ее положения в чис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имская непозиционная систем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(1), V(5), X(10), L(50), C(100), D(500), M(1000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XX =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CDXXXIV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зиционная система сч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начение цифры зависит от ее положения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нование системы равно количеству цифр  в ее алфави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476280"/>
          <a:ext cx="8229600" cy="567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емы счис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фав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 1, 2, 3, 4, 5, 6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сят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 1, 2, 3, 4, 5, 6, 7, 8, 9, А(10), В(11), С(12),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(13), E(14), F(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есятичная система счис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един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деся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сот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55=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55,5=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=а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…+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воичная система счис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сла в двоичной системе записываются в виде суммы степеней с основанием 2 с коэффициентами, в качестве которых выступают цифры о или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1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0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1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0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1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101,01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…+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71640" y="549360"/>
            <a:ext cx="33116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2781360"/>
            <a:ext cx="3889440" cy="30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усск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глийск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итай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2781360"/>
            <a:ext cx="3889440" cy="30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орма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ы счис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зык алгеб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195640" y="2133720"/>
            <a:ext cx="172872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133720"/>
            <a:ext cx="208764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пределе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едставление информации может осуществляться с помощью языков, которые являются знаковыми системами. Каждая знаковая система строится на основе определенного алфавита и правил выполнения операций над зн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пределе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дирование – это операция преобразования знаков или групп знаков одной знаковой системы в знаки или группу знаков другой знаковой систем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кодирования – это обратный проце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780000" y="476280"/>
          <a:ext cx="5051160" cy="3584520"/>
        </p:xfrm>
        <a:graphic>
          <a:graphicData uri="http://schemas.openxmlformats.org/drawingml/2006/table">
            <a:tbl>
              <a:tblPr/>
              <a:tblGrid>
                <a:gridCol w="2601720"/>
                <a:gridCol w="2449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знаковая 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знаковая 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258920" y="4797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то здесь зашифрова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566100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♥ ▲ ☼ ▲ □ 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0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7415280" cy="390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404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мер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4360" y="2565360"/>
            <a:ext cx="94428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"/>
              </a:rPr>
              <a:t>?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"/>
              <a:ea typeface="comic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565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ведите примеры кодирования и декод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воичное кодиров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формация в компьютере представлена в двоичном коде, алфавит которого состоит из двух цифр 0 и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ждая цифра машинного двоичного кода несет количество информации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б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 знаковая система, в которой числа записываются по определенным правилам  с помощью символов некоторого алфавита, называемых цифра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истемы счис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48:41Z</dcterms:created>
  <dc:creator>ИВТ 1</dc:creator>
  <dc:description/>
  <dc:language>en-US</dc:language>
  <cp:lastModifiedBy>ИВТ 1</cp:lastModifiedBy>
  <dcterms:modified xsi:type="dcterms:W3CDTF">2008-09-17T13:52:50Z</dcterms:modified>
  <cp:revision>3</cp:revision>
  <dc:subject/>
  <dc:title>Кодирование информации. Двоичное кодирование информации. Представление числовой информации с помощью систем счисления.</dc:title>
</cp:coreProperties>
</file>