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FB2-B18C-4250-B709-C08585E5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37E-B0C4-4A81-984E-5B662F2C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3BA-A29F-446C-BC2C-F0EBE36A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9C00-4D96-4B36-889F-BBA1F3BE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7CDF-9F08-4903-8E08-BAF583AF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D91-1F9C-4748-B607-8475539D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37E-1751-43F9-9BEF-B8E36993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4F8-D2C1-4771-8D00-82D79B2C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0565-F2F3-4241-BCCD-58F6AE08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1289-E33D-4061-9B22-1E740463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33C-9C84-44D0-9906-CC5805A8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1B9-8526-4C70-B72D-9E82144A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558C-5199-4AC1-81B8-F5DB6703E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одирование информации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Двоичное кодирование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формации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едставление числовой информации с помощью систем счисл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84360" y="333360"/>
            <a:ext cx="4392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ы с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708280"/>
            <a:ext cx="3311640" cy="12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и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2781360"/>
            <a:ext cx="3311640" cy="12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пози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50920" y="1628640"/>
            <a:ext cx="1657440" cy="129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1628640"/>
            <a:ext cx="1295280" cy="136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епозиционная система счис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начение цифры не зависит от ее положения в чис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имская непозиционная систем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(1), V(5), X(10), L(50), C(100), D(500), M(1000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XX =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CDXXXIV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зиционная система счис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Значение цифры зависит от ее положения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снование системы равно количеству цифр  в ее алфавит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8360" y="476280"/>
          <a:ext cx="8229600" cy="5670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стемы счис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фав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ич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ьмерич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 1, 2, 3, 4, 5, 6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сятич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 1, 2, 3, 4, 5, 6, 7, 8,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естнадцатерич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 1, 2, 3, 4, 5, 6, 7, 8, 9, А(10), В(11), С(12),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(13), E(14), F(1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есятичная система счис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 един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 десят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 сот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55=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+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+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55,5=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+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+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+5*10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=а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…+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*1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+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воичная система счис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сла в двоичной системе записываются в виде суммы степеней с основанием 2 с коэффициентами, в качестве которых выступают цифры о или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1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0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1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0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1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101,01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…+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a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71640" y="549360"/>
            <a:ext cx="331164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Язы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2781360"/>
            <a:ext cx="3889440" cy="30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ы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усск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нглийск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итай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2781360"/>
            <a:ext cx="3889440" cy="30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Формаль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истемы счисл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зык алгеб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зы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195640" y="2133720"/>
            <a:ext cx="1728720" cy="57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2133720"/>
            <a:ext cx="2087640" cy="574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пределе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едставление информации может осуществляться с помощью языков, которые являются знаковыми системами. Каждая знаковая система строится на основе определенного алфавита и правил выполнения операций над зна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Определе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одирование – это операция преобразования знаков или групп знаков одной знаковой системы в знаки или группу знаков другой знаковой систем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екодирования – это обратный процес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780000" y="476280"/>
          <a:ext cx="5051160" cy="3584520"/>
        </p:xfrm>
        <a:graphic>
          <a:graphicData uri="http://schemas.openxmlformats.org/drawingml/2006/table">
            <a:tbl>
              <a:tblPr/>
              <a:tblGrid>
                <a:gridCol w="2601720"/>
                <a:gridCol w="2449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знаковая 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знаковая 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  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258920" y="4797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Что здесь зашифрова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566100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♥ ▲ ☼ ▲ □ 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0464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мер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7415280" cy="3906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404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мер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4360" y="2565360"/>
            <a:ext cx="94428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"/>
              </a:rPr>
              <a:t>?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"/>
              <a:ea typeface="comic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56536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ведите примеры кодирования и декод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Двоичное кодиров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нформация в компьютере представлена в двоичном коде, алфавит которого состоит из двух цифр 0 и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ждая цифра машинного двоичного кода несет количество информации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 б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 знаковая система, в которой числа записываются по определенным правилам  с помощью символов некоторого алфавита, называемых цифрам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истемы счис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2:48:41Z</dcterms:created>
  <dc:creator>ИВТ 1</dc:creator>
  <dc:description/>
  <dc:language>en-US</dc:language>
  <cp:lastModifiedBy>ИВТ 1</cp:lastModifiedBy>
  <dcterms:modified xsi:type="dcterms:W3CDTF">2008-09-17T13:52:50Z</dcterms:modified>
  <cp:revision>3</cp:revision>
  <dc:subject/>
  <dc:title>Кодирование информации. Двоичное кодирование информации. Представление числовой информации с помощью систем счисления.</dc:title>
</cp:coreProperties>
</file>