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3C9-2152-4100-902C-DFAE21D7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11B-AB49-46CE-8795-8080B72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DECB-95F0-4EE5-B1A9-67DCF415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04C2-FE6A-46D3-A7D7-1A5C216B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0B7-D320-4693-84A4-3F9B83A1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59E-C95D-4D32-8DB4-A7E0191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007-DDF0-48F6-BCD9-DECA4E5D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634-F664-4DF2-AF2F-2C187FC5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F16-DBA8-4D35-A586-E3F8F35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8D6-1A3A-46E9-9B91-2E9BA86A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164-73D3-4308-A3F1-07B2D470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B5E-A1AE-45AA-806B-1B3E517B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9D24-7A41-4A4D-A96E-C414A92D3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agworld.narod.ru/Bogi.html" TargetMode="External"/><Relationship Id="rId3" Type="http://schemas.openxmlformats.org/officeDocument/2006/relationships/hyperlink" Target="http://magworld.narod.ru/Bogi.html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4520" y="960480"/>
            <a:ext cx="66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Arial Black"/>
              </a:rPr>
              <a:t>Откров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Arial Black"/>
              </a:rPr>
              <a:t>вечной крас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1840" y="227520"/>
            <a:ext cx="8678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Афродита – Греческая богиня любви, красоты, женственности.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     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9440" y="609840"/>
            <a:ext cx="84945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Афроди́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р.-греч. Ἀφροδίτη, в древности истолковывалось как производное от ἀφρός — «пена») —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ече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ифологии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огиня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красоты и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любви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, включавшаяся в число двенадцати великих олимпийских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огов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038480" y="175248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88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8600" y="15156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фродита из Ар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228960"/>
            <a:ext cx="349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51 г. в античном театре в Арле (Франция) была найдена прелестная статуя греческой богини любви Афродиты. Как выяснилось позднее, это была копия римского времени с работы знаменитого греческого скульптора IV в. до н. э. Пракс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283644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кситель изобразил юную красавицу, занятую своим туалетом. Слегка склонив голову, она смотрит в зеркало, которое держит в левой руке. Её одежды, окутывающие бедра, ниспадают вниз, закрывая ноги.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Чистота линий лица и контура фигуры, плавные ритмы складок подчеркивают физическое совершенство образа, к передаче которого всегда стремился скульп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03480"/>
            <a:ext cx="8520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именем Праксителя открывается новый период в греческом искусстве.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На смену мужественным, возвышенным и прекрасным героя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лассической Греции V в. до н. э. приходят столь же прекрасные, но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более индивидуальные и более человечные образ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акс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славляет физическую красоту человека, юношескую нежность, женскую грацию. Изображая богов, он выбирает не главных героев Олимпа, а тех,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кто ближе людя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Его любимым образом была богиня красоты Афрод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275280"/>
            <a:ext cx="8431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уя Афродиты, найденная в Арле, повторяет нам одну из ранних работ Праксителя, в которой он предстает перед зрителем как мастер, великолепно владеющий материалом, тонкий и чуткий художник, преклоняющийся перед красот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едполагают, что прообразом многих женских статуй скульптора была его возлюбленная Фр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0" y="532080"/>
            <a:ext cx="4343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БОГОМА́ТЕР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ЛАДИ́МИР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кона, написанная в нача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XII в. в Константинопо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из древнейших святынь Русской зем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 византийскому тип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леусы (греч. Eleusa — \"Милующая\"), или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Уми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лосердна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1200" y="855000"/>
            <a:ext cx="55314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C  XI  в.  известна  молитва  «Аве, Мария». 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йся, Мария,  благодати  полная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подь  с  Тобо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словенна  Ты  между  женами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 благословен  плод  чрева  Твоего — Иисус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ая  Мария,  Матерь  Божия,  молись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нас,  грешных,  ныне  и  в  час  смерт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ей.  Аминь. </a:t>
            </a: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Аве,  Мария»  (лат.  Ave,  Maria),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«Радуйся, Мария»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католическая молитва к Богороди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56160" y="152280"/>
            <a:ext cx="3687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45864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литву называют  также  ангельским приветств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или  angelico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alutatio,  так  как  ее первая  фраза  представляет  собой  приветстви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хангела  Гавриила,  обращенное  им  к Пресвятой  Деве  в  момен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ве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а  текст  молитвы  написано  много  музыкальных  произведений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и  авторов  музыки:  Палестрина,  И.-С.  Баха  – Дж.  Каччини, Ш.  Гуно,  А.  Дворжак,  Дж.  Вер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  известно произведение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«Аве, Мария» Ф. Шуберта на  слова  В. Скот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  православии  молитве  «Ave,  Maria»  соответствует  Песнь  Пресвятой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Богородиц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городице  Дево,  радуй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тная Марие,  Господь  с  Тобою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словенна  Ты  в  женах 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словен  Плод  чрева  Твоего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о  Спаса  родила  еси  душ  наш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3124080"/>
            <a:ext cx="2237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09880" y="228600"/>
            <a:ext cx="5124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992160"/>
            <a:ext cx="8991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григорианское пение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сходит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т имени Григория I Вели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апа Римский в 590—604 годах),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оторому средневековая трад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приписывала авторство большинства песнопений римской литург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горианское пение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дноголос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хотя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 ходе исторического развития григорианский хорал лёг в основу многоголосной европейской музыки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органума и дисканта вплоть до мессы высокого Возрожд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горианский хорал нельзя воспринимать как абсолютную музы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его — распев молитвословного текста, омузыкал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ли даже «озвученная») моли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но текст обусловливает ритмику хорала, включая тончай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тмические нюансы (например, небольшое удлинение или умень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тельностей, легкие акценты внутри групп из кратких звуков и т.д.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730080"/>
            <a:ext cx="810900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снь Пресвятой Богородиц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итвословие, составленное из приветствий, обращённых к Богородице архангелом Гавриилом (при Благовещении — Лк.1:28) и праведной Елисаветой (во время её встречи с Девой Марией — Лк.1:42). В богослужении — тропарь вечерни в составе воскресного всенощного бд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"Богородице Дево,радуйся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одатная Марие, Господь с Тобою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ословенна Ты в женах и благословен плод чрева Твоего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ко Спаса родила еси душ наших"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ет хор братии Валаамского монасты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505800"/>
            <a:ext cx="8242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«Ave Maria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кст молитвы написано много музыкальных произведений. Среди авторов музыки И. С. Бах, Палестрина, Шарль Гуно, Антонин Дворжак, Джузеппе Верди, Пьетро Масканьи, Джулио Каччи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Произведение Франца Шуберта «Третья песня Эллен» часто неточно называют «Ave Maria Шуберта», хотя в действительности текст, на который написана эта музыка, взят из немецкого перевода поэмы Вальтера Скотта о кельтской Владычице Озера («Дева Озера», 1810) и включает только первые два слова молитвы. Впоследствии Ave Maria целиком стали петь на музыку этой песни Шуберта, хотя композитор и не имел этого в вид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В произведении Ave Maria Шпилевского поются только первые два слова молитв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временной музыке «Ave Maria» звучала в исполнении множества певцов и групп, среди которых Tarja Turunen, Beyonce, Милен Фармер, Blondie, Ногу Свело!, The Cranberries, Александр Грин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2384280" cy="4038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86400" y="457200"/>
            <a:ext cx="2522520" cy="403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480024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Человеческая куль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снована 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на единстве  истины,  добра  и  красо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нято  считать, что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тина —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дел на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обро — религ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расота  принадлежит  искусст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ко в  искусстве  их  неразрывная  связь  выступает особенно  отчетли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121788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те  репродукции,  прочитайте  молитвы,  послушайте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  исполните  старинные  песнопения,  романсы,  в  которых  воплощен образ  Девы Ма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ушайте  и  сравните  григорианский  хорал  (молитву)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Ave, Maria»  с  музыкой  разных  композиторов. Что  их  объединяет? Каковы  особенности  воплощения  этой молитвы  в музыке  каждого из  композитор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ушайте  молитву  Песнь  Пресвятой  Богородиц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  она  звучит  во  «Всенощной» П. Чайковского  и  С.  Рахманин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18600"/>
            <a:ext cx="891540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В  художественных  произведен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люди издавна  воплощали  свое 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представление  об идеальной  красо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  века  дошли  до  нас  прекрасные 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женские  обра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еферти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жены  египетского  фарао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 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фроди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 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еческой  богини люб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полненное  скорби,  одухотворенное лиц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огоматери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  таинственно  улыбающей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жокон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  они  разны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 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каждый  из них  представляет  собой  образ -символ  красоты  на  все  вре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77120" y="2286000"/>
            <a:ext cx="2334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06800" y="0"/>
            <a:ext cx="5137200" cy="670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533520"/>
            <a:ext cx="4013280" cy="5031720"/>
          </a:xfrm>
          <a:prstGeom prst="rect">
            <a:avLst/>
          </a:prstGeom>
          <a:solidFill>
            <a:srgbClr val="f8e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льянский ученый и искусствовед Джузеппе Палланти раскрыл все оставшиеся тайны, связанные с Джокон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Флоренции он нашел д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ом прожила жизнь самая знаменитая и таинственная модель Леонардо да Вин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за Герардини, ставшая музой художника, родилась 15 июня 1479 года в аристократической семье. Так же стало известно, что она была женой купца Франчес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ь Джоконд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но он заказал у Винчи портрет супруги, тем самым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делав ее красоту бессмерт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3400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9440" y="228600"/>
            <a:ext cx="5254560" cy="6129000"/>
          </a:xfrm>
          <a:prstGeom prst="rect">
            <a:avLst/>
          </a:prstGeom>
          <a:solidFill>
            <a:srgbClr val="f8e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смерти мужа Лиза, следуя традициям, ушла в монастырь, где провела последние годы жизни и скончалась в возрасте 63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ее похоронах собрался весь церковный приход, что говорит о всеобщем уваж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ей. Ходят так же слухи, что будучи соседями, Леонардо и Лизу связывали гораздо более глубокие отношения, нежели просто дружб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узеппе Палланти, одержимый биографией музы художника, выяснил, что она имела необычный, совершенно несвойственный женщинам, низкий голос. Так же она позировала Леонардо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удучи беремен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когда мастер писал улыбку, которая и сейчас вызывает восхищение, Лиза пребывала не в самом лучшем расположении духа. Именно поэтому он считает, что даже раскрыв все аспекты ее жизни мы все равно не разгадаем, какую загадку прячет улыбка Моны Лиз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59480" y="1447920"/>
            <a:ext cx="448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фертити - Нефер-Неферу-Атон, что означает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«Прекрасны совершенства солнечного диска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главная супруга древнеегипетского фараона XVIII династии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хнатон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я правления которого ознаменовалось религиозной реформой и утверждением единобож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6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40040"/>
            <a:ext cx="78660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хнатон называл свою жену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«усладой своего сердца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дном из рельефов, обнаруженных в Ахетатоне, запечатлен поцелуй Эхнатона и Неферти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Это первое изображение любви в истории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ждой сцене обязательно присутствует Атон - солнечный диск с многочисленными руками, протягивающими царственной чете символы вечной жизн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о наших дней дошло любовное письмо Эхнатона, написанное фараоном своей супруге: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«Любовь моя, Королева Юга и Севера, Возлюбленная моя, Нефертити, я бы хотел, чтобы ты жила вечно...»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38397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фертити, мать шести дочер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казалась в опале и провела остаток дней в одном из дворцов Ахета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89120" y="4572000"/>
            <a:ext cx="8354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ятно,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сновной проблем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царственной четы было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сутствие сы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очери Нефертити не обеспечивали надежность продолжения династической смены власти. Эхнатон вступал в браки даже со своими дочерьми, но старшая и младшая дочери родили собственному отц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ё двух дочер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763200"/>
            <a:ext cx="829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912 году в скульптурной мастерской художника Тутмоса в эль-Амарне археологом Людвигом Борхардтом был обнаружен уникальный бюст царицы Нефертити, которая с тех пор стала одним из символов красоты и изысканности древнеегипетской культуры. В своем дневнике Борхардт сделал знаменательную надпись: «Описывать бесцельно, - смотреть!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ый портрет царицы Нефертити: нежный овал лица, красиво очерченный небольшой рот, прямой нос, прекрасные миндалевидные глаза, слегка прикрытые широкими тяжелыми веками. В правом глазу сохранилась вставка из горного хрусталя со зрачком из черного дерева. Высокий синий парик обвит «золотой» повязкой, украшенной «самоцветами». На лбу когда-то находился урей - священная змея, считавшаяся в Египте символом царской в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03120"/>
            <a:ext cx="5486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у Нефертити на скульптурном изображении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дин глаз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 из предположений исходит 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из древнеегипетской мифолог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в глазницу скульптурного изображения вставляют второй глаз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уже не изображение, а душа, переселившаяся в иной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гипотеза: отсутствие зрачка в одном из глаз Нефертити связано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 религиозными верованиями древних фараонов в их будущее возрождени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39000" y="0"/>
            <a:ext cx="3105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Гробница и мумия Нефертити до сих пор не найде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ногие загадки, связанные с жизнью Нефертити еще не раскры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известно, откуда «прекрасная пришла», неизвестно, когда и куда она уш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594216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сказал древний философ: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«Одни приходят и уходят, другие также приходят – и оставляют след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7-24T21:08:3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