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EC3A-4E3E-45AB-854E-42DFD4E6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513B-EB73-4797-BB1E-5006FC75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113A-3F91-426E-A32F-30A80B21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DBA7-4E45-4E9B-8638-287A1CB6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54FF-BDA4-4F81-899B-DC433C62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4FEF-F2A9-4C24-BCDF-B9DA249C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60F3-0052-4315-A1CE-552465C8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D15C-2A75-46CA-8A05-02ADEAF3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3BF0-49FA-415A-B0BB-0011229A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C84C-CCDF-41BA-B848-BBD30CDF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08EF-E6B7-4F38-AE09-15991529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6A6-AB89-4264-A379-C23BBF64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4F8B-589C-4F7B-9AB6-D3484879C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agworld.narod.ru/Bogi.html" TargetMode="External"/><Relationship Id="rId3" Type="http://schemas.openxmlformats.org/officeDocument/2006/relationships/hyperlink" Target="http://magworld.narod.ru/Bogi.html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24520" y="960480"/>
            <a:ext cx="66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00"/>
                </a:solidFill>
                <a:latin typeface="Arial Black"/>
              </a:rPr>
              <a:t>Откровен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00"/>
                </a:solidFill>
                <a:latin typeface="Arial Black"/>
              </a:rPr>
              <a:t>вечной красо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1840" y="227520"/>
            <a:ext cx="8678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Афродита – Греческая богиня любви, красоты, женственности.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     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9440" y="609840"/>
            <a:ext cx="84945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Афроди́т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р.-греч. Ἀφροδίτη, в древности истолковывалось как производное от ἀφρός — «пена») —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еческ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ифологии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богиня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красоты и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любви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, включавшаяся в число двенадцати великих олимпийских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богов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038480" y="175248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88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" y="15156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фродита из Ар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228960"/>
            <a:ext cx="349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651 г. в античном театре в Арле (Франция) была найдена прелестная статуя греческой богини любви Афродиты. Как выяснилось позднее, это была копия римского времени с работы знаменитого греческого скульптора IV в. до н. э. Пракси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2836440"/>
            <a:ext cx="3657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кситель изобразил юную красавицу, занятую своим туалетом. Слегка склонив голову, она смотрит в зеркало, которое держит в левой руке. Её одежды, окутывающие бедра, ниспадают вниз, закрывая ноги.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Чистота линий лица и контура фигуры, плавные ритмы складок подчеркивают физическое совершенство образа, к передаче которого всегда стремился скульпт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303480"/>
            <a:ext cx="8520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именем Праксителя открывается новый период в греческом искусстве.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На смену мужественным, возвышенным и прекрасным героя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лассической Греции V в. до н. э. приходят столь же прекрасные, но 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более индивидуальные и более человечные образы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аксите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ославляет физическую красоту человека, юношескую нежность, женскую грацию. Изображая богов, он выбирает не главных героев Олимпа, а тех,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кто ближе людя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Его любимым образом была богиня красоты Афроди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275280"/>
            <a:ext cx="8431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уя Афродиты, найденная в Арле, повторяет нам одну из ранних работ Праксителя, в которой он предстает перед зрителем как мастер, великолепно владеющий материалом, тонкий и чуткий художник, преклоняющийся перед красот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едполагают, что прообразом многих женских статуй скульптора была его возлюбленная Фр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0" y="532080"/>
            <a:ext cx="4343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БОГОМА́ТЕР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ЛАДИ́МИР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икона, написанная в нача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XII в. в Константинопол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 из древнейших святынь Русской зем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сится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 византийскому тип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леусы (греч. Eleusa — \"Милующая\"), или 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Умил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илосердна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1200" y="855000"/>
            <a:ext cx="55314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C  XI  в.  известна  молитва  «Аве, Мария». 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уйся, Мария,  благодати  полная!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подь  с  Тобою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словенна  Ты  между  женами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  благословен  плод  чрева  Твоего — Иисус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тая  Мария,  Матерь  Божия,  молись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нас,  грешных,  ныне  и  в  час  смерти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ей.  Аминь. </a:t>
            </a:r>
            <a:br>
              <a:rPr sz="1800"/>
            </a:br>
            <a:br>
              <a:rPr sz="1800"/>
            </a:b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«Аве,  Мария»  (лат.  Ave,  Maria),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«Радуйся, Мария» 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католическая молитва к Богороди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56160" y="152280"/>
            <a:ext cx="36878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45864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у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молитву называют  также  ангельским приветстви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или  angelico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alutatio,  так  как  ее первая  фраза  представляет  собой  приветствие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хангела  Гавриила,  обращенное  им  к Пресвятой  Деве  в  момент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вещ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а  текст  молитвы  написано  много  музыкальных  произведений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реди  авторов  музыки:  Палестрина,  И.-С.  Баха  – Дж.  Каччини, Ш.  Гуно,  А.  Дворжак,  Дж.  Верд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роко  известно произведение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«Аве, Мария» Ф. Шуберта на  слова  В. Скот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  православии  молитве  «Ave,  Maria»  соответствует  Песнь  Пресвятой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Богородице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городице  Дево,  радуйс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тная Марие,  Господь  с  Тобою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словенна  Ты  в  женах  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словен  Плод  чрева  Твоего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ко  Спаса  родила  еси  душ  наш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867280" y="3124080"/>
            <a:ext cx="22370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009880" y="228600"/>
            <a:ext cx="5124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992160"/>
            <a:ext cx="8991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мин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«григорианское пение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исходит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т имени Григория I Велик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апа Римский в 590—604 годах),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оторому средневековая тради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приписывала авторство большинства песнопений римской литурги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игорианское пение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дноголос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хотя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 ходе исторического развития григорианский хорал лёг в основу многоголосной европейской музыки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органума и дисканта вплоть до мессы высокого Возрождени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игорианский хорал нельзя воспринимать как абсолютную музы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ность его — распев молитвословного текста, омузыкал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ли даже «озвученная») моли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нно текст обусловливает ритмику хорала, включая тончайш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тмические нюансы (например, небольшое удлинение или умень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тельностей, легкие акценты внутри групп из кратких звуков и т.д.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730080"/>
            <a:ext cx="810900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еснь Пресвятой Богородиц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итвословие, составленное из приветствий, обращённых к Богородице архангелом Гавриилом (при Благовещении — Лк.1:28) и праведной Елисаветой (во время её встречи с Девой Марией — Лк.1:42). В богослужении — тропарь вечерни в составе воскресного всенощного бден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"Богородице Дево,радуйся,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лагодатная Марие, Господь с Тобою,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лагословенна Ты в женах и благословен плод чрева Твоего,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Яко Спаса родила еси душ наших".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ет хор братии Валаамского монасты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505800"/>
            <a:ext cx="8242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«Ave Maria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екст молитвы написано много музыкальных произведений. Среди авторов музыки И. С. Бах, Палестрина, Шарль Гуно, Антонин Дворжак, Джузеппе Верди, Пьетро Масканьи, Джулио Каччи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 Произведение Франца Шуберта «Третья песня Эллен» часто неточно называют «Ave Maria Шуберта», хотя в действительности текст, на который написана эта музыка, взят из немецкого перевода поэмы Вальтера Скотта о кельтской Владычице Озера («Дева Озера», 1810) и включает только первые два слова молитвы. Впоследствии Ave Maria целиком стали петь на музыку этой песни Шуберта, хотя композитор и не имел этого в вид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 В произведении Ave Maria Шпилевского поются только первые два слова молитв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временной музыке «Ave Maria» звучала в исполнении множества певцов и групп, среди которых Tarja Turunen, Beyonce, Милен Фармер, Blondie, Ногу Свело!, The Cranberries, Александр Грин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76520" y="533520"/>
            <a:ext cx="2384280" cy="4038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486400" y="457200"/>
            <a:ext cx="2522520" cy="403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480024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Человеческая куль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снована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на единстве  истины,  добра  и  красо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нято  считать, что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стина —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удел нау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добро — религ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расота  принадлежит  искусств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ако в  искусстве  их  неразрывная  связь  выступает особенно  отчетли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8600" y="1217880"/>
            <a:ext cx="8763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те  репродукции,  прочитайте  молитвы,  послушайте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  исполните  старинные  песнопения,  романсы,  в  которых  воплощен образ  Девы Ма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ушайте  и  сравните  григорианский  хорал  (молитву)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Ave, Maria»  с  музыкой  разных  композиторов. Что  их  объединяет? Каковы  особенности  воплощения  этой молитвы  в музыке  каждого из  композиторов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ушайте  молитву  Песнь  Пресвятой  Богородиц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  она  звучит  во  «Всенощной» П. Чайковского  и  С.  Рахманин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18600"/>
            <a:ext cx="891540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В  художественных  произведения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люди издавна  воплощали  свое  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представление  об идеальной  красо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  века  дошли  до  нас  прекрасные 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женские  образ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ферти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жены  египетского  фара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 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фроди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реческой  богини любв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сполненное  скорби,  одухотворенное лиц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огоматери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  таинственно  улыбающей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жоко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  они  разны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  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каждый  из них  представляет  собой  образ -символ  красоты  на  все  вре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477120" y="2286000"/>
            <a:ext cx="2334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006800" y="0"/>
            <a:ext cx="5137200" cy="6705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533520"/>
            <a:ext cx="4013280" cy="5031720"/>
          </a:xfrm>
          <a:prstGeom prst="rect">
            <a:avLst/>
          </a:prstGeom>
          <a:solidFill>
            <a:srgbClr val="f8ec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тальянский ученый и искусствовед Джузеппе Палланти раскрыл все оставшиеся тайны, связанные с Джоконд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Флоренции он нашел д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тором прожила жизнь самая знаменитая и таинственная модель Леонардо да Вин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за Герардини, ставшая музой художника, родилась 15 июня 1479 года в аристократической семье. Так же стало известно, что она была женой купца Франчес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ь Джоконд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нно он заказал у Винчи портрет супруги, тем самым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делав ее красоту бессмерт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3400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89440" y="228600"/>
            <a:ext cx="5254560" cy="6129000"/>
          </a:xfrm>
          <a:prstGeom prst="rect">
            <a:avLst/>
          </a:prstGeom>
          <a:solidFill>
            <a:srgbClr val="f8ec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смерти мужа Лиза, следуя традициям, ушла в монастырь, где провела последние годы жизни и скончалась в возрасте 63 л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ее похоронах собрался весь церковный приход, что говорит о всеобщем уваж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ней. Ходят так же слухи, что будучи соседями, Леонардо и Лизу связывали гораздо более глубокие отношения, нежели просто дружба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узеппе Палланти, одержимый биографией музы художника, выяснил, что она имела необычный, совершенно несвойственный женщинам, низкий голос. Так же она позировала Леонардо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будучи беремен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когда мастер писал улыбку, которая и сейчас вызывает восхищение, Лиза пребывала не в самом лучшем расположении духа. Именно поэтому он считает, что даже раскрыв все аспекты ее жизни мы все равно не разгадаем, какую загадку прячет улыбка Моны Лизы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59480" y="1447920"/>
            <a:ext cx="448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фертити - Нефер-Неферу-Атон, что означает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«Прекрасны совершенства солнечного диска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главная супруга древнеегипетского фараона XVIII династии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хнатона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я правления которого ознаменовалось религиозной реформой и утверждением единобож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6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140040"/>
            <a:ext cx="78660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хнатон называл свою жену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«усладой своего сердца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дном из рельефов, обнаруженных в Ахетатоне, запечатлен поцелуй Эхнатона и Неферти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Это первое изображение любви в истории искус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аждой сцене обязательно присутствует Атон - солнечный диск с многочисленными руками, протягивающими царственной чете символы вечной жизн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о наших дней дошло любовное письмо Эхнатона, написанное фараоном своей супруге: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«Любовь моя, Королева Юга и Севера, Возлюбленная моя, Нефертити, я бы хотел, чтобы ты жила вечно...»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383976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ефертити, мать шести дочер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казалась в опале и провела остаток дней в одном из дворцов Ахетат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89120" y="4572000"/>
            <a:ext cx="8354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оятно,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сновной проблем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царственной четы было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тсутствие сы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дочери Нефертити не обеспечивали надежность продолжения династической смены власти. Эхнатон вступал в браки даже со своими дочерьми, но старшая и младшая дочери родили собственному отц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ё двух дочер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763200"/>
            <a:ext cx="8298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12 году в скульптурной мастерской художника Тутмоса в эль-Амарне археологом Людвигом Борхардтом был обнаружен уникальный бюст царицы Нефертити, которая с тех пор стала одним из символов красоты и изысканности древнеегипетской культуры. В своем дневнике Борхардт сделал знаменательную надпись: «Описывать бесцельно, - смотреть!»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лепный портрет царицы Нефертити: нежный овал лица, красиво очерченный небольшой рот, прямой нос, прекрасные миндалевидные глаза, слегка прикрытые широкими тяжелыми веками. В правом глазу сохранилась вставка из горного хрусталя со зрачком из черного дерева. Высокий синий парик обвит «золотой» повязкой, украшенной «самоцветами». На лбу когда-то находился урей - священная змея, считавшаяся в Египте символом царской в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303120"/>
            <a:ext cx="5486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у Нефертити на скульптурном изображении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один глаз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 из предположений исходит 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из древнеегипетской мифолог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в глазницу скульптурного изображения вставляют второй глаз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уже не изображение, а душа, переселившаяся в иной ми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гипотеза: отсутствие зрачка в одном из глаз Нефертити связано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 религиозными верованиями древних фараонов в их будущее возрожд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39000" y="0"/>
            <a:ext cx="3105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4191120"/>
            <a:ext cx="541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Гробница и мумия Нефертити до сих пор не найде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многие загадки, связанные с жизнью Нефертити еще не раскры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известно, откуда «прекрасная пришла», неизвестно, когда и куда она уш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594216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сказал древний философ: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«Одни приходят и уходят, другие также приходят – и оставляют след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7-24T21:08:3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